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45.wmf" ContentType="image/x-wmf"/>
  <Override PartName="/ppt/media/image10.wmf" ContentType="image/x-wmf"/>
  <Override PartName="/ppt/media/image46.png" ContentType="image/png"/>
  <Override PartName="/ppt/media/image29.wmf" ContentType="image/x-wmf"/>
  <Override PartName="/ppt/media/image49.png" ContentType="image/png"/>
  <Override PartName="/ppt/media/image12.png" ContentType="image/png"/>
  <Override PartName="/ppt/media/image47.png" ContentType="image/png"/>
  <Override PartName="/ppt/media/image50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56.xml.rels" ContentType="application/vnd.openxmlformats-package.relationships+xml"/>
  <Override PartName="/ppt/slides/_rels/slide132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2.xml.rels" ContentType="application/vnd.openxmlformats-package.relationships+xml"/>
  <Override PartName="/ppt/slides/_rels/slide17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20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8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170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50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30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0.xml" ContentType="application/vnd.openxmlformats-officedocument.presentationml.slide+xml"/>
  <Override PartName="/ppt/slides/slide149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138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33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8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3640" y="338040"/>
            <a:ext cx="598860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3640" y="338040"/>
            <a:ext cx="598860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348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3480" y="38786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3640" y="338040"/>
            <a:ext cx="598860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5920" y="13712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4280" y="13712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5920" y="38786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4280" y="38786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3640" y="338040"/>
            <a:ext cx="598860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3640" y="338040"/>
            <a:ext cx="598860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3640" y="338040"/>
            <a:ext cx="598860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712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3640" y="338040"/>
            <a:ext cx="598860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3640" y="338040"/>
            <a:ext cx="5988600" cy="39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3640" y="338040"/>
            <a:ext cx="598860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3712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3640" y="338040"/>
            <a:ext cx="598860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3480" y="38786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3640" y="338040"/>
            <a:ext cx="5988600" cy="8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480" y="13712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6364440"/>
            <a:ext cx="8002800" cy="279360"/>
          </a:xfrm>
          <a:custGeom>
            <a:avLst/>
            <a:gdLst/>
            <a:ahLst/>
            <a:rect l="l" t="t" r="r" b="b"/>
            <a:pathLst>
              <a:path w="5041" h="176">
                <a:moveTo>
                  <a:pt x="5040" y="175"/>
                </a:moveTo>
                <a:lnTo>
                  <a:pt x="0" y="175"/>
                </a:lnTo>
                <a:lnTo>
                  <a:pt x="0" y="0"/>
                </a:lnTo>
                <a:lnTo>
                  <a:pt x="5040" y="0"/>
                </a:lnTo>
                <a:lnTo>
                  <a:pt x="5040" y="175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520560"/>
            <a:ext cx="77724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63680" y="222120"/>
            <a:ext cx="8292960" cy="59580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524800" y="6326280"/>
            <a:ext cx="185760" cy="349200"/>
          </a:xfrm>
          <a:custGeom>
            <a:avLst/>
            <a:gdLst/>
            <a:ahLst/>
            <a:rect l="l" t="t" r="r" b="b"/>
            <a:pathLst>
              <a:path w="117" h="220">
                <a:moveTo>
                  <a:pt x="93" y="219"/>
                </a:moveTo>
                <a:lnTo>
                  <a:pt x="97" y="218"/>
                </a:lnTo>
                <a:lnTo>
                  <a:pt x="102" y="217"/>
                </a:lnTo>
                <a:lnTo>
                  <a:pt x="105" y="214"/>
                </a:lnTo>
                <a:lnTo>
                  <a:pt x="110" y="212"/>
                </a:lnTo>
                <a:lnTo>
                  <a:pt x="112" y="207"/>
                </a:lnTo>
                <a:lnTo>
                  <a:pt x="114" y="203"/>
                </a:lnTo>
                <a:lnTo>
                  <a:pt x="115" y="199"/>
                </a:lnTo>
                <a:lnTo>
                  <a:pt x="116" y="194"/>
                </a:lnTo>
                <a:lnTo>
                  <a:pt x="116" y="190"/>
                </a:lnTo>
                <a:lnTo>
                  <a:pt x="116" y="183"/>
                </a:lnTo>
                <a:lnTo>
                  <a:pt x="116" y="173"/>
                </a:lnTo>
                <a:lnTo>
                  <a:pt x="116" y="163"/>
                </a:lnTo>
                <a:lnTo>
                  <a:pt x="116" y="151"/>
                </a:lnTo>
                <a:lnTo>
                  <a:pt x="116" y="138"/>
                </a:lnTo>
                <a:lnTo>
                  <a:pt x="116" y="124"/>
                </a:lnTo>
                <a:lnTo>
                  <a:pt x="116" y="109"/>
                </a:lnTo>
                <a:lnTo>
                  <a:pt x="116" y="95"/>
                </a:lnTo>
                <a:lnTo>
                  <a:pt x="116" y="82"/>
                </a:lnTo>
                <a:lnTo>
                  <a:pt x="116" y="68"/>
                </a:lnTo>
                <a:lnTo>
                  <a:pt x="116" y="56"/>
                </a:lnTo>
                <a:lnTo>
                  <a:pt x="116" y="46"/>
                </a:lnTo>
                <a:lnTo>
                  <a:pt x="116" y="36"/>
                </a:lnTo>
                <a:lnTo>
                  <a:pt x="116" y="30"/>
                </a:lnTo>
                <a:lnTo>
                  <a:pt x="116" y="26"/>
                </a:lnTo>
                <a:lnTo>
                  <a:pt x="115" y="20"/>
                </a:lnTo>
                <a:lnTo>
                  <a:pt x="114" y="16"/>
                </a:lnTo>
                <a:lnTo>
                  <a:pt x="112" y="12"/>
                </a:lnTo>
                <a:lnTo>
                  <a:pt x="110" y="8"/>
                </a:lnTo>
                <a:lnTo>
                  <a:pt x="105" y="5"/>
                </a:lnTo>
                <a:lnTo>
                  <a:pt x="102" y="2"/>
                </a:lnTo>
                <a:lnTo>
                  <a:pt x="97" y="1"/>
                </a:lnTo>
                <a:lnTo>
                  <a:pt x="93" y="0"/>
                </a:lnTo>
                <a:lnTo>
                  <a:pt x="87" y="0"/>
                </a:lnTo>
                <a:lnTo>
                  <a:pt x="78" y="0"/>
                </a:lnTo>
                <a:lnTo>
                  <a:pt x="68" y="0"/>
                </a:lnTo>
                <a:lnTo>
                  <a:pt x="58" y="0"/>
                </a:lnTo>
                <a:lnTo>
                  <a:pt x="47" y="0"/>
                </a:lnTo>
                <a:lnTo>
                  <a:pt x="37" y="0"/>
                </a:lnTo>
                <a:lnTo>
                  <a:pt x="29" y="0"/>
                </a:lnTo>
                <a:lnTo>
                  <a:pt x="23" y="0"/>
                </a:lnTo>
                <a:lnTo>
                  <a:pt x="19" y="1"/>
                </a:lnTo>
                <a:lnTo>
                  <a:pt x="14" y="2"/>
                </a:lnTo>
                <a:lnTo>
                  <a:pt x="10" y="5"/>
                </a:lnTo>
                <a:lnTo>
                  <a:pt x="6" y="8"/>
                </a:lnTo>
                <a:lnTo>
                  <a:pt x="4" y="12"/>
                </a:lnTo>
                <a:lnTo>
                  <a:pt x="2" y="16"/>
                </a:lnTo>
                <a:lnTo>
                  <a:pt x="0" y="20"/>
                </a:lnTo>
                <a:lnTo>
                  <a:pt x="0" y="26"/>
                </a:lnTo>
                <a:lnTo>
                  <a:pt x="0" y="30"/>
                </a:lnTo>
                <a:lnTo>
                  <a:pt x="0" y="36"/>
                </a:lnTo>
                <a:lnTo>
                  <a:pt x="0" y="46"/>
                </a:lnTo>
                <a:lnTo>
                  <a:pt x="0" y="56"/>
                </a:lnTo>
                <a:lnTo>
                  <a:pt x="0" y="68"/>
                </a:lnTo>
                <a:lnTo>
                  <a:pt x="0" y="82"/>
                </a:lnTo>
                <a:lnTo>
                  <a:pt x="0" y="95"/>
                </a:lnTo>
                <a:lnTo>
                  <a:pt x="0" y="110"/>
                </a:lnTo>
                <a:lnTo>
                  <a:pt x="0" y="124"/>
                </a:lnTo>
                <a:lnTo>
                  <a:pt x="0" y="138"/>
                </a:lnTo>
                <a:lnTo>
                  <a:pt x="0" y="151"/>
                </a:lnTo>
                <a:lnTo>
                  <a:pt x="0" y="163"/>
                </a:lnTo>
                <a:lnTo>
                  <a:pt x="0" y="173"/>
                </a:lnTo>
                <a:lnTo>
                  <a:pt x="0" y="183"/>
                </a:lnTo>
                <a:lnTo>
                  <a:pt x="0" y="190"/>
                </a:lnTo>
                <a:lnTo>
                  <a:pt x="0" y="194"/>
                </a:lnTo>
                <a:lnTo>
                  <a:pt x="0" y="199"/>
                </a:lnTo>
                <a:lnTo>
                  <a:pt x="2" y="203"/>
                </a:lnTo>
                <a:lnTo>
                  <a:pt x="4" y="207"/>
                </a:lnTo>
                <a:lnTo>
                  <a:pt x="7" y="212"/>
                </a:lnTo>
                <a:lnTo>
                  <a:pt x="11" y="214"/>
                </a:lnTo>
                <a:lnTo>
                  <a:pt x="15" y="217"/>
                </a:lnTo>
                <a:lnTo>
                  <a:pt x="19" y="218"/>
                </a:lnTo>
                <a:lnTo>
                  <a:pt x="25" y="219"/>
                </a:lnTo>
                <a:lnTo>
                  <a:pt x="93" y="219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559720" y="6364440"/>
            <a:ext cx="117720" cy="117360"/>
          </a:xfrm>
          <a:custGeom>
            <a:avLst/>
            <a:gdLst/>
            <a:ahLst/>
            <a:rect l="l" t="t" r="r" b="b"/>
            <a:pathLst>
              <a:path w="74" h="74">
                <a:moveTo>
                  <a:pt x="16" y="49"/>
                </a:moveTo>
                <a:lnTo>
                  <a:pt x="16" y="0"/>
                </a:lnTo>
                <a:lnTo>
                  <a:pt x="0" y="0"/>
                </a:lnTo>
                <a:lnTo>
                  <a:pt x="0" y="49"/>
                </a:lnTo>
                <a:lnTo>
                  <a:pt x="1" y="57"/>
                </a:lnTo>
                <a:lnTo>
                  <a:pt x="4" y="64"/>
                </a:lnTo>
                <a:lnTo>
                  <a:pt x="9" y="68"/>
                </a:lnTo>
                <a:lnTo>
                  <a:pt x="15" y="71"/>
                </a:lnTo>
                <a:lnTo>
                  <a:pt x="21" y="73"/>
                </a:lnTo>
                <a:lnTo>
                  <a:pt x="27" y="72"/>
                </a:lnTo>
                <a:lnTo>
                  <a:pt x="33" y="71"/>
                </a:lnTo>
                <a:lnTo>
                  <a:pt x="36" y="68"/>
                </a:lnTo>
                <a:lnTo>
                  <a:pt x="41" y="71"/>
                </a:lnTo>
                <a:lnTo>
                  <a:pt x="46" y="72"/>
                </a:lnTo>
                <a:lnTo>
                  <a:pt x="52" y="73"/>
                </a:lnTo>
                <a:lnTo>
                  <a:pt x="58" y="71"/>
                </a:lnTo>
                <a:lnTo>
                  <a:pt x="64" y="68"/>
                </a:lnTo>
                <a:lnTo>
                  <a:pt x="69" y="65"/>
                </a:lnTo>
                <a:lnTo>
                  <a:pt x="72" y="57"/>
                </a:lnTo>
                <a:lnTo>
                  <a:pt x="73" y="49"/>
                </a:lnTo>
                <a:lnTo>
                  <a:pt x="73" y="0"/>
                </a:lnTo>
                <a:lnTo>
                  <a:pt x="56" y="0"/>
                </a:lnTo>
                <a:lnTo>
                  <a:pt x="56" y="49"/>
                </a:lnTo>
                <a:lnTo>
                  <a:pt x="54" y="54"/>
                </a:lnTo>
                <a:lnTo>
                  <a:pt x="51" y="55"/>
                </a:lnTo>
                <a:lnTo>
                  <a:pt x="46" y="54"/>
                </a:lnTo>
                <a:lnTo>
                  <a:pt x="45" y="49"/>
                </a:lnTo>
                <a:lnTo>
                  <a:pt x="45" y="0"/>
                </a:lnTo>
                <a:lnTo>
                  <a:pt x="28" y="0"/>
                </a:lnTo>
                <a:lnTo>
                  <a:pt x="28" y="49"/>
                </a:lnTo>
                <a:lnTo>
                  <a:pt x="26" y="54"/>
                </a:lnTo>
                <a:lnTo>
                  <a:pt x="22" y="55"/>
                </a:lnTo>
                <a:lnTo>
                  <a:pt x="19" y="54"/>
                </a:lnTo>
                <a:lnTo>
                  <a:pt x="16" y="4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59720" y="6510240"/>
            <a:ext cx="119160" cy="127080"/>
          </a:xfrm>
          <a:custGeom>
            <a:avLst/>
            <a:gdLst/>
            <a:ahLst/>
            <a:rect l="l" t="t" r="r" b="b"/>
            <a:pathLst>
              <a:path w="75" h="80">
                <a:moveTo>
                  <a:pt x="33" y="35"/>
                </a:moveTo>
                <a:lnTo>
                  <a:pt x="74" y="35"/>
                </a:lnTo>
                <a:lnTo>
                  <a:pt x="74" y="49"/>
                </a:lnTo>
                <a:lnTo>
                  <a:pt x="73" y="56"/>
                </a:lnTo>
                <a:lnTo>
                  <a:pt x="71" y="61"/>
                </a:lnTo>
                <a:lnTo>
                  <a:pt x="69" y="67"/>
                </a:lnTo>
                <a:lnTo>
                  <a:pt x="65" y="71"/>
                </a:lnTo>
                <a:lnTo>
                  <a:pt x="61" y="74"/>
                </a:lnTo>
                <a:lnTo>
                  <a:pt x="56" y="77"/>
                </a:lnTo>
                <a:lnTo>
                  <a:pt x="51" y="78"/>
                </a:lnTo>
                <a:lnTo>
                  <a:pt x="46" y="79"/>
                </a:lnTo>
                <a:lnTo>
                  <a:pt x="26" y="79"/>
                </a:lnTo>
                <a:lnTo>
                  <a:pt x="20" y="78"/>
                </a:lnTo>
                <a:lnTo>
                  <a:pt x="15" y="77"/>
                </a:lnTo>
                <a:lnTo>
                  <a:pt x="10" y="74"/>
                </a:lnTo>
                <a:lnTo>
                  <a:pt x="7" y="72"/>
                </a:lnTo>
                <a:lnTo>
                  <a:pt x="4" y="68"/>
                </a:lnTo>
                <a:lnTo>
                  <a:pt x="2" y="63"/>
                </a:lnTo>
                <a:lnTo>
                  <a:pt x="1" y="58"/>
                </a:lnTo>
                <a:lnTo>
                  <a:pt x="0" y="52"/>
                </a:lnTo>
                <a:lnTo>
                  <a:pt x="0" y="26"/>
                </a:lnTo>
                <a:lnTo>
                  <a:pt x="1" y="21"/>
                </a:lnTo>
                <a:lnTo>
                  <a:pt x="2" y="17"/>
                </a:lnTo>
                <a:lnTo>
                  <a:pt x="3" y="12"/>
                </a:lnTo>
                <a:lnTo>
                  <a:pt x="7" y="8"/>
                </a:lnTo>
                <a:lnTo>
                  <a:pt x="10" y="5"/>
                </a:lnTo>
                <a:lnTo>
                  <a:pt x="15" y="3"/>
                </a:lnTo>
                <a:lnTo>
                  <a:pt x="20" y="1"/>
                </a:lnTo>
                <a:lnTo>
                  <a:pt x="26" y="0"/>
                </a:lnTo>
                <a:lnTo>
                  <a:pt x="48" y="0"/>
                </a:lnTo>
                <a:lnTo>
                  <a:pt x="54" y="1"/>
                </a:lnTo>
                <a:lnTo>
                  <a:pt x="59" y="3"/>
                </a:lnTo>
                <a:lnTo>
                  <a:pt x="63" y="5"/>
                </a:lnTo>
                <a:lnTo>
                  <a:pt x="67" y="8"/>
                </a:lnTo>
                <a:lnTo>
                  <a:pt x="71" y="12"/>
                </a:lnTo>
                <a:lnTo>
                  <a:pt x="72" y="17"/>
                </a:lnTo>
                <a:lnTo>
                  <a:pt x="73" y="21"/>
                </a:lnTo>
                <a:lnTo>
                  <a:pt x="74" y="26"/>
                </a:lnTo>
                <a:lnTo>
                  <a:pt x="57" y="26"/>
                </a:lnTo>
                <a:lnTo>
                  <a:pt x="56" y="22"/>
                </a:lnTo>
                <a:lnTo>
                  <a:pt x="54" y="20"/>
                </a:lnTo>
                <a:lnTo>
                  <a:pt x="52" y="18"/>
                </a:lnTo>
                <a:lnTo>
                  <a:pt x="48" y="18"/>
                </a:lnTo>
                <a:lnTo>
                  <a:pt x="26" y="18"/>
                </a:lnTo>
                <a:lnTo>
                  <a:pt x="22" y="18"/>
                </a:lnTo>
                <a:lnTo>
                  <a:pt x="19" y="20"/>
                </a:lnTo>
                <a:lnTo>
                  <a:pt x="18" y="22"/>
                </a:lnTo>
                <a:lnTo>
                  <a:pt x="17" y="26"/>
                </a:lnTo>
                <a:lnTo>
                  <a:pt x="17" y="52"/>
                </a:lnTo>
                <a:lnTo>
                  <a:pt x="18" y="56"/>
                </a:lnTo>
                <a:lnTo>
                  <a:pt x="20" y="59"/>
                </a:lnTo>
                <a:lnTo>
                  <a:pt x="22" y="61"/>
                </a:lnTo>
                <a:lnTo>
                  <a:pt x="26" y="61"/>
                </a:lnTo>
                <a:lnTo>
                  <a:pt x="46" y="61"/>
                </a:lnTo>
                <a:lnTo>
                  <a:pt x="50" y="61"/>
                </a:lnTo>
                <a:lnTo>
                  <a:pt x="53" y="59"/>
                </a:lnTo>
                <a:lnTo>
                  <a:pt x="55" y="56"/>
                </a:lnTo>
                <a:lnTo>
                  <a:pt x="56" y="49"/>
                </a:lnTo>
                <a:lnTo>
                  <a:pt x="33" y="49"/>
                </a:lnTo>
                <a:lnTo>
                  <a:pt x="33" y="35"/>
                </a:lnTo>
                <a:lnTo>
                  <a:pt x="74" y="35"/>
                </a:lnTo>
                <a:lnTo>
                  <a:pt x="33" y="3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4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4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4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3" marL="1542960" indent="-171360">
              <a:lnSpc>
                <a:spcPct val="94000"/>
              </a:lnSpc>
              <a:buClr>
                <a:srgbClr val="79001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4" marL="2000160" indent="-171360">
              <a:lnSpc>
                <a:spcPct val="94000"/>
              </a:lnSpc>
              <a:buClr>
                <a:srgbClr val="b50069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5" marL="2000160" indent="-171360">
              <a:lnSpc>
                <a:spcPct val="94000"/>
              </a:lnSpc>
              <a:buClr>
                <a:srgbClr val="00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6" marL="2000160" indent="-171360">
              <a:lnSpc>
                <a:spcPct val="94000"/>
              </a:lnSpc>
              <a:buClr>
                <a:srgbClr val="00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7" name=""/>
          <p:cNvSpPr/>
          <p:nvPr/>
        </p:nvSpPr>
        <p:spPr>
          <a:xfrm>
            <a:off x="8332200" y="6308640"/>
            <a:ext cx="108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DC1A-E4C4-4B83-AD03-EC08534A2462}" type="slidenum">
              <a:rPr b="1" lang="es-ES_tradnl" sz="1800" spc="-1" strike="noStrike">
                <a:solidFill>
                  <a:srgbClr val="114ffb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79800" y="6148440"/>
            <a:ext cx="253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63de8"/>
                </a:solidFill>
                <a:latin typeface="Arial Narrow"/>
              </a:rPr>
              <a:t>copyright © 1996 Wandel &amp; Golte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3.wmf"/><Relationship Id="rId2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autor: Cristiano Henrique Ferraz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</a:t>
            </a:r>
            <a:br>
              <a:rPr sz="3200"/>
            </a:b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Modo de Transferencia Asíncrona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onmutación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n principio, la conmutación digital (temporal) consiste en copiar datos de un flujo binario hacia otro flujo binari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uando se trata de señales multiplexadas determinísticamente (conmutación de circuitos), el conmutador solamente tiene que copiar bits o bytes de posiciones fijas en el tiempo dentro de una trama que recibe hacia intervalos de tiempo en posiciones fijas dentro de una trama que genera localmente y transmite hacia adelante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eldas OAM de </a:t>
            </a:r>
            <a:r>
              <a:rPr b="1" i="1" lang="es-ES_tradnl" sz="3200" spc="-1" strike="noStrike">
                <a:solidFill>
                  <a:srgbClr val="fafd00"/>
                </a:solidFill>
                <a:latin typeface="Arial Narrow"/>
              </a:rPr>
              <a:t>Loopback </a:t>
            </a: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de la Capa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116" name=""/>
          <p:cNvSpPr/>
          <p:nvPr/>
        </p:nvSpPr>
        <p:spPr>
          <a:xfrm>
            <a:off x="539640" y="3282840"/>
            <a:ext cx="69876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 Narrow"/>
              </a:rPr>
              <a:t>indic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 Narrow"/>
              </a:rPr>
              <a:t>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ffffff"/>
                </a:solidFill>
                <a:latin typeface="Arial Narrow"/>
              </a:rPr>
              <a:t>loopba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522360" y="2376360"/>
            <a:ext cx="877680" cy="963720"/>
          </a:xfrm>
          <a:prstGeom prst="line">
            <a:avLst/>
          </a:prstGeom>
          <a:ln w="12600">
            <a:solidFill>
              <a:srgbClr val="438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567480" y="2376360"/>
            <a:ext cx="2182680" cy="887400"/>
          </a:xfrm>
          <a:prstGeom prst="line">
            <a:avLst/>
          </a:prstGeom>
          <a:ln w="12600">
            <a:solidFill>
              <a:srgbClr val="438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555480" y="1655640"/>
            <a:ext cx="627120" cy="700200"/>
          </a:xfrm>
          <a:prstGeom prst="rect">
            <a:avLst/>
          </a:prstGeom>
          <a:gradFill rotWithShape="0">
            <a:gsLst>
              <a:gs pos="0">
                <a:srgbClr val="8f0921"/>
              </a:gs>
              <a:gs pos="50000">
                <a:srgbClr val="cf0e30"/>
              </a:gs>
              <a:gs pos="100000">
                <a:srgbClr val="8f092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nca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e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355760" y="1655640"/>
            <a:ext cx="5164200" cy="70020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mpo específico de la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1195560" y="1655640"/>
            <a:ext cx="147600" cy="700200"/>
          </a:xfrm>
          <a:prstGeom prst="rect">
            <a:avLst/>
          </a:prstGeom>
          <a:gradFill rotWithShape="0">
            <a:gsLst>
              <a:gs pos="0">
                <a:srgbClr val="98b17f"/>
              </a:gs>
              <a:gs pos="50000">
                <a:srgbClr val="dbffb8"/>
              </a:gs>
              <a:gs pos="100000">
                <a:srgbClr val="98b17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6691320" y="1655640"/>
            <a:ext cx="147600" cy="700200"/>
          </a:xfrm>
          <a:prstGeom prst="rect">
            <a:avLst/>
          </a:prstGeom>
          <a:gradFill rotWithShape="0">
            <a:gsLst>
              <a:gs pos="0">
                <a:srgbClr val="98b17f"/>
              </a:gs>
              <a:gs pos="50000">
                <a:srgbClr val="dbffb8"/>
              </a:gs>
              <a:gs pos="100000">
                <a:srgbClr val="98b17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532560" y="1655640"/>
            <a:ext cx="146160" cy="700200"/>
          </a:xfrm>
          <a:prstGeom prst="rect">
            <a:avLst/>
          </a:prstGeom>
          <a:gradFill rotWithShape="0">
            <a:gsLst>
              <a:gs pos="0">
                <a:srgbClr val="98b17f"/>
              </a:gs>
              <a:gs pos="50000">
                <a:srgbClr val="dbffb8"/>
              </a:gs>
              <a:gs pos="100000">
                <a:srgbClr val="98b17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494160" y="144792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7b00e4"/>
                </a:solidFill>
                <a:latin typeface="Arial Narrow"/>
              </a:rPr>
              <a:t>45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0440" y="1447920"/>
            <a:ext cx="68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7b00e4"/>
                </a:solidFill>
                <a:latin typeface="Arial Narrow"/>
              </a:rPr>
              <a:t>5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rot="16200000">
            <a:off x="990720" y="1883520"/>
            <a:ext cx="54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234db"/>
                </a:solidFill>
                <a:latin typeface="Arial Narrow"/>
              </a:rPr>
              <a:t>1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rot="16200000">
            <a:off x="6380280" y="1883520"/>
            <a:ext cx="61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234db"/>
                </a:solidFill>
                <a:latin typeface="Arial Narrow"/>
              </a:rPr>
              <a:t>2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407280" y="3282840"/>
            <a:ext cx="234936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octetos no utilizados (6A 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615960" y="5035680"/>
            <a:ext cx="216000" cy="596880"/>
          </a:xfrm>
          <a:prstGeom prst="rect">
            <a:avLst/>
          </a:prstGeom>
          <a:gradFill rotWithShape="0">
            <a:gsLst>
              <a:gs pos="0">
                <a:srgbClr val="8ed84b"/>
              </a:gs>
              <a:gs pos="50000">
                <a:srgbClr val="60c900"/>
              </a:gs>
              <a:gs pos="100000">
                <a:srgbClr val="8ed84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741240" y="3827520"/>
            <a:ext cx="26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112840" y="3827520"/>
            <a:ext cx="506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4 x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294680" y="3827520"/>
            <a:ext cx="586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16 x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274760" y="5678640"/>
            <a:ext cx="27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225440" y="3282840"/>
            <a:ext cx="181620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 Narrow"/>
              </a:rPr>
              <a:t>etiqueta de correl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 Narrow"/>
              </a:rPr>
              <a:t>(puede haver divers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 Narrow"/>
              </a:rPr>
              <a:t>celdas a la vez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895480" y="3276720"/>
            <a:ext cx="160560" cy="610920"/>
          </a:xfrm>
          <a:custGeom>
            <a:avLst/>
            <a:gdLst/>
            <a:ahLst/>
            <a:rect l="l" t="t" r="r" b="b"/>
            <a:pathLst>
              <a:path w="101" h="385">
                <a:moveTo>
                  <a:pt x="0" y="0"/>
                </a:moveTo>
                <a:lnTo>
                  <a:pt x="50" y="48"/>
                </a:lnTo>
                <a:lnTo>
                  <a:pt x="0" y="96"/>
                </a:lnTo>
                <a:lnTo>
                  <a:pt x="50" y="192"/>
                </a:lnTo>
                <a:lnTo>
                  <a:pt x="0" y="240"/>
                </a:lnTo>
                <a:lnTo>
                  <a:pt x="100" y="33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054240" y="3282840"/>
            <a:ext cx="181620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ID de la lo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del </a:t>
            </a:r>
            <a:r>
              <a:rPr b="1" i="1" lang="es-ES_tradnl" sz="1400" spc="-1" strike="noStrike">
                <a:solidFill>
                  <a:srgbClr val="ffffff"/>
                </a:solidFill>
                <a:latin typeface="Arial Narrow"/>
              </a:rPr>
              <a:t>loop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883040" y="3282840"/>
            <a:ext cx="151128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ID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865680" y="3827520"/>
            <a:ext cx="586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12 x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648320" y="3276720"/>
            <a:ext cx="160200" cy="610920"/>
          </a:xfrm>
          <a:custGeom>
            <a:avLst/>
            <a:gdLst/>
            <a:ahLst/>
            <a:rect l="l" t="t" r="r" b="b"/>
            <a:pathLst>
              <a:path w="101" h="385">
                <a:moveTo>
                  <a:pt x="0" y="0"/>
                </a:moveTo>
                <a:lnTo>
                  <a:pt x="50" y="48"/>
                </a:lnTo>
                <a:lnTo>
                  <a:pt x="0" y="96"/>
                </a:lnTo>
                <a:lnTo>
                  <a:pt x="50" y="192"/>
                </a:lnTo>
                <a:lnTo>
                  <a:pt x="0" y="240"/>
                </a:lnTo>
                <a:lnTo>
                  <a:pt x="100" y="33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6172200" y="3276720"/>
            <a:ext cx="160200" cy="610920"/>
          </a:xfrm>
          <a:custGeom>
            <a:avLst/>
            <a:gdLst/>
            <a:ahLst/>
            <a:rect l="l" t="t" r="r" b="b"/>
            <a:pathLst>
              <a:path w="101" h="385">
                <a:moveTo>
                  <a:pt x="0" y="0"/>
                </a:moveTo>
                <a:lnTo>
                  <a:pt x="50" y="48"/>
                </a:lnTo>
                <a:lnTo>
                  <a:pt x="0" y="96"/>
                </a:lnTo>
                <a:lnTo>
                  <a:pt x="50" y="192"/>
                </a:lnTo>
                <a:lnTo>
                  <a:pt x="0" y="240"/>
                </a:lnTo>
                <a:lnTo>
                  <a:pt x="100" y="33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8610480" y="3276720"/>
            <a:ext cx="160560" cy="610920"/>
          </a:xfrm>
          <a:custGeom>
            <a:avLst/>
            <a:gdLst/>
            <a:ahLst/>
            <a:rect l="l" t="t" r="r" b="b"/>
            <a:pathLst>
              <a:path w="101" h="385">
                <a:moveTo>
                  <a:pt x="0" y="0"/>
                </a:moveTo>
                <a:lnTo>
                  <a:pt x="50" y="48"/>
                </a:lnTo>
                <a:lnTo>
                  <a:pt x="0" y="96"/>
                </a:lnTo>
                <a:lnTo>
                  <a:pt x="50" y="192"/>
                </a:lnTo>
                <a:lnTo>
                  <a:pt x="0" y="240"/>
                </a:lnTo>
                <a:lnTo>
                  <a:pt x="100" y="33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542200" y="3827520"/>
            <a:ext cx="586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12 x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47560" y="3900600"/>
            <a:ext cx="49320" cy="1191960"/>
          </a:xfrm>
          <a:prstGeom prst="line">
            <a:avLst/>
          </a:prstGeom>
          <a:ln w="12600">
            <a:solidFill>
              <a:srgbClr val="438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233360" y="3900600"/>
            <a:ext cx="1192320" cy="1116000"/>
          </a:xfrm>
          <a:prstGeom prst="line">
            <a:avLst/>
          </a:prstGeom>
          <a:ln w="12600">
            <a:solidFill>
              <a:srgbClr val="438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844560" y="5035680"/>
            <a:ext cx="216000" cy="596880"/>
          </a:xfrm>
          <a:prstGeom prst="rect">
            <a:avLst/>
          </a:prstGeom>
          <a:gradFill rotWithShape="0">
            <a:gsLst>
              <a:gs pos="0">
                <a:srgbClr val="8ed84b"/>
              </a:gs>
              <a:gs pos="50000">
                <a:srgbClr val="60c900"/>
              </a:gs>
              <a:gs pos="100000">
                <a:srgbClr val="8ed84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073160" y="5035680"/>
            <a:ext cx="216000" cy="596880"/>
          </a:xfrm>
          <a:prstGeom prst="rect">
            <a:avLst/>
          </a:prstGeom>
          <a:gradFill rotWithShape="0">
            <a:gsLst>
              <a:gs pos="0">
                <a:srgbClr val="8ed84b"/>
              </a:gs>
              <a:gs pos="50000">
                <a:srgbClr val="60c900"/>
              </a:gs>
              <a:gs pos="100000">
                <a:srgbClr val="8ed84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301760" y="5035680"/>
            <a:ext cx="216000" cy="596880"/>
          </a:xfrm>
          <a:prstGeom prst="rect">
            <a:avLst/>
          </a:prstGeom>
          <a:gradFill rotWithShape="0">
            <a:gsLst>
              <a:gs pos="0">
                <a:srgbClr val="8ed84b"/>
              </a:gs>
              <a:gs pos="50000">
                <a:srgbClr val="60c900"/>
              </a:gs>
              <a:gs pos="100000">
                <a:srgbClr val="8ed84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530360" y="5035680"/>
            <a:ext cx="216000" cy="596880"/>
          </a:xfrm>
          <a:prstGeom prst="rect">
            <a:avLst/>
          </a:prstGeom>
          <a:gradFill rotWithShape="0">
            <a:gsLst>
              <a:gs pos="0">
                <a:srgbClr val="8ed84b"/>
              </a:gs>
              <a:gs pos="50000">
                <a:srgbClr val="60c900"/>
              </a:gs>
              <a:gs pos="100000">
                <a:srgbClr val="8ed84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58960" y="5035680"/>
            <a:ext cx="216000" cy="596880"/>
          </a:xfrm>
          <a:prstGeom prst="rect">
            <a:avLst/>
          </a:prstGeom>
          <a:gradFill rotWithShape="0">
            <a:gsLst>
              <a:gs pos="0">
                <a:srgbClr val="8ed84b"/>
              </a:gs>
              <a:gs pos="50000">
                <a:srgbClr val="60c900"/>
              </a:gs>
              <a:gs pos="100000">
                <a:srgbClr val="8ed84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987560" y="5035680"/>
            <a:ext cx="216000" cy="596880"/>
          </a:xfrm>
          <a:prstGeom prst="rect">
            <a:avLst/>
          </a:prstGeom>
          <a:gradFill rotWithShape="0">
            <a:gsLst>
              <a:gs pos="0">
                <a:srgbClr val="8ed84b"/>
              </a:gs>
              <a:gs pos="50000">
                <a:srgbClr val="60c900"/>
              </a:gs>
              <a:gs pos="100000">
                <a:srgbClr val="8ed84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216160" y="5035680"/>
            <a:ext cx="21600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891720" y="5046840"/>
            <a:ext cx="1078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no util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2189160" y="5678640"/>
            <a:ext cx="27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2494440" y="5046840"/>
            <a:ext cx="6042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7b00e4"/>
                </a:solidFill>
                <a:latin typeface="Arial Narrow"/>
              </a:rPr>
              <a:t>en la origen, este campo recibe el valor de “1”; el receptor lo decrementa para “0”,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7b00e4"/>
                </a:solidFill>
                <a:latin typeface="Arial Narrow"/>
              </a:rPr>
              <a:t>la celda debe ser extraída por el transmisor al recibirla de vuelta con el valor de “0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Una de las funciones básicas de ATM es la identificación de valores reservados, pre-asignados del encabezad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os 16 primeros valores del VCI fueron reservados por el UIT-T para uso futuro como valores pre-asignad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mpos del Encabezado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"/>
          <p:cNvSpPr txBox="1"/>
          <p:nvPr/>
        </p:nvSpPr>
        <p:spPr>
          <a:xfrm>
            <a:off x="569160" y="302400"/>
            <a:ext cx="5300640" cy="42408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Valores de VCI Preasignado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158" name=""/>
          <p:cNvSpPr/>
          <p:nvPr/>
        </p:nvSpPr>
        <p:spPr>
          <a:xfrm>
            <a:off x="539640" y="773280"/>
            <a:ext cx="3492720" cy="42048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uti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7978680" y="773280"/>
            <a:ext cx="746280" cy="42048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C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39640" y="1192320"/>
            <a:ext cx="3492720" cy="4204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no desig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978680" y="1192320"/>
            <a:ext cx="746280" cy="4204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39640" y="1611360"/>
            <a:ext cx="3492720" cy="4204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desocup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7978680" y="1611360"/>
            <a:ext cx="746280" cy="4204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39640" y="2030400"/>
            <a:ext cx="3492720" cy="420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reserv. para capa fí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978680" y="2030400"/>
            <a:ext cx="746280" cy="420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39640" y="2449440"/>
            <a:ext cx="3492720" cy="420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meta-señalización (I.3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7978680" y="2449440"/>
            <a:ext cx="746280" cy="420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or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39640" y="2868480"/>
            <a:ext cx="3492720" cy="420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eñaliz. general de di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978680" y="2868480"/>
            <a:ext cx="746280" cy="420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or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39640" y="3287880"/>
            <a:ext cx="3492720" cy="4204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eñaliz. punto a pu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7978680" y="3287880"/>
            <a:ext cx="746280" cy="4204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or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39640" y="3706920"/>
            <a:ext cx="3492720" cy="4204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F4 OAM del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978680" y="3706920"/>
            <a:ext cx="746280" cy="4204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539640" y="4125960"/>
            <a:ext cx="3492720" cy="4204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F4 OAM extremo a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7978680" y="4125960"/>
            <a:ext cx="746280" cy="4204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539640" y="4545000"/>
            <a:ext cx="3492720" cy="420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F5 OAM del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7978680" y="4545000"/>
            <a:ext cx="746280" cy="420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39640" y="4964040"/>
            <a:ext cx="3492720" cy="420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F5 OAM extremo a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7978680" y="4964040"/>
            <a:ext cx="746280" cy="420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539640" y="5383080"/>
            <a:ext cx="3492720" cy="420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de gestión de recu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4035600" y="773280"/>
            <a:ext cx="3958920" cy="5030640"/>
            <a:chOff x="4035600" y="773280"/>
            <a:chExt cx="3958920" cy="5030640"/>
          </a:xfrm>
        </p:grpSpPr>
        <p:sp>
          <p:nvSpPr>
            <p:cNvPr id="2182" name=""/>
            <p:cNvSpPr/>
            <p:nvPr/>
          </p:nvSpPr>
          <p:spPr>
            <a:xfrm>
              <a:off x="4035600" y="773280"/>
              <a:ext cx="1317600" cy="4204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afd00"/>
                  </a:solidFill>
                  <a:latin typeface="Arial Narrow"/>
                </a:rPr>
                <a:t>V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356080" y="773280"/>
              <a:ext cx="1317600" cy="4204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afd00"/>
                  </a:solidFill>
                  <a:latin typeface="Arial Narrow"/>
                </a:rPr>
                <a:t>V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676920" y="773280"/>
              <a:ext cx="1317600" cy="4204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afd00"/>
                  </a:solidFill>
                  <a:latin typeface="Arial Narrow"/>
                </a:rPr>
                <a:t>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035600" y="119232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356080" y="119232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676920" y="119232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35600" y="161136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56080" y="161136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676920" y="161136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035600" y="203040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356080" y="203040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676920" y="203040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035600" y="244944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ffff"/>
                  </a:solidFill>
                  <a:latin typeface="Arial Narrow"/>
                </a:rPr>
                <a:t>don't c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356080" y="244944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676920" y="244944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0A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035600" y="286848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ffff"/>
                  </a:solidFill>
                  <a:latin typeface="Arial Narrow"/>
                </a:rPr>
                <a:t>don't c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356080" y="286848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676920" y="286848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0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035600" y="328788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ffff"/>
                  </a:solidFill>
                  <a:latin typeface="Arial Narrow"/>
                </a:rPr>
                <a:t>don't c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356080" y="328788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676920" y="328788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0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035600" y="370692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cualqu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356080" y="370692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676920" y="370692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0A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035600" y="412596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cualqu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356080" y="412596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676920" y="4125960"/>
              <a:ext cx="1317600" cy="42048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0A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035600" y="454500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cualqu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356080" y="454500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ifer. de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676920" y="454500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035600" y="496404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cualqu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356080" y="496404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ifer. de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676920" y="496404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1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035600" y="538308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cualqu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356080" y="538308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ifer. de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676920" y="5383080"/>
              <a:ext cx="1317600" cy="420840"/>
            </a:xfrm>
            <a:prstGeom prst="rect">
              <a:avLst/>
            </a:prstGeom>
            <a:solidFill>
              <a:srgbClr val="037c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1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8" name=""/>
          <p:cNvSpPr/>
          <p:nvPr/>
        </p:nvSpPr>
        <p:spPr>
          <a:xfrm>
            <a:off x="7978680" y="5383080"/>
            <a:ext cx="746280" cy="420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35400" y="5781600"/>
            <a:ext cx="3106080" cy="3632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 Narrow"/>
              </a:rPr>
              <a:t>A = usado por la función respe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Uso del Campo </a:t>
            </a:r>
            <a:r>
              <a:rPr b="1" i="1" lang="es-ES_tradnl" sz="3200" spc="-1" strike="noStrike">
                <a:solidFill>
                  <a:srgbClr val="fafd00"/>
                </a:solidFill>
                <a:latin typeface="Arial Narrow"/>
              </a:rPr>
              <a:t>Payload Type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21" name=""/>
          <p:cNvSpPr/>
          <p:nvPr/>
        </p:nvSpPr>
        <p:spPr>
          <a:xfrm>
            <a:off x="615960" y="1168560"/>
            <a:ext cx="1473120" cy="40608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cód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063880" y="1168560"/>
            <a:ext cx="5968800" cy="40608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sign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15960" y="1587600"/>
            <a:ext cx="147312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063880" y="1587600"/>
            <a:ext cx="596880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de datos de usuario, EFCI = 0, AAL_indicat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15960" y="2006640"/>
            <a:ext cx="147312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063880" y="2006640"/>
            <a:ext cx="596880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de datos de usuario, EFCI = 0, AAL_indicate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15960" y="2425680"/>
            <a:ext cx="147312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063880" y="2425680"/>
            <a:ext cx="596880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de datos de usuario, EFCI = 1, AAL_indicat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615960" y="2844720"/>
            <a:ext cx="147312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063880" y="2844720"/>
            <a:ext cx="596880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de datos de usuario, EFCI = 1, AAL_indicate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15960" y="3263760"/>
            <a:ext cx="147312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063880" y="3263760"/>
            <a:ext cx="596880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asociada OAM F5 de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15960" y="3683160"/>
            <a:ext cx="1473120" cy="4060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2063880" y="3683160"/>
            <a:ext cx="5968800" cy="4060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asociada OAM F5 extremo a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15960" y="4102200"/>
            <a:ext cx="147312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2063880" y="4102200"/>
            <a:ext cx="596880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de gestión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15960" y="4521240"/>
            <a:ext cx="147312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063880" y="4521240"/>
            <a:ext cx="5968800" cy="4064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reservada para futuros u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95000" y="5111640"/>
            <a:ext cx="7579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EFCI =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explicit forward congestion ind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AL_indicate = indicación de usuario de capa ATM a usuario de capa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/>
          <p:nvPr/>
        </p:nvSpPr>
        <p:spPr>
          <a:xfrm>
            <a:off x="685800" y="2286000"/>
            <a:ext cx="7772400" cy="114300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Mecanismo de Jus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os nodos de una red ATM pueden, teoricamente, funcionar de forma plesiocrónica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uego, es necesario un mecanismo para justificac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l mecanismo de justificación es muy sencill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: Sincronismo de Rede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43" name=""/>
          <p:cNvSpPr/>
          <p:nvPr/>
        </p:nvSpPr>
        <p:spPr>
          <a:xfrm>
            <a:off x="985680" y="3348000"/>
            <a:ext cx="7172640" cy="2626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85000"/>
              </a:lnSpc>
              <a:buClr>
                <a:srgbClr val="037c0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c0128"/>
                </a:solidFill>
                <a:latin typeface="Arial Narrow"/>
              </a:rPr>
              <a:t>NOTA</a:t>
            </a:r>
            <a:r>
              <a:rPr b="1" lang="es-ES_tradnl" sz="2800" spc="-1" strike="noStrike">
                <a:solidFill>
                  <a:srgbClr val="7b00e4"/>
                </a:solidFill>
                <a:latin typeface="Arial Narrow"/>
              </a:rPr>
              <a:t>: </a:t>
            </a:r>
            <a:r>
              <a:rPr b="1" lang="es-ES_tradnl" sz="2800" spc="-1" strike="noStrike">
                <a:solidFill>
                  <a:srgbClr val="500093"/>
                </a:solidFill>
                <a:latin typeface="Arial Narrow"/>
              </a:rPr>
              <a:t>apesar del hecho de que los nodos de tránsito puedan funcionar de forma plesiocrónica, veremos que para servicios isócronos (AAl1 y AAL2), es necesario disponer de una </a:t>
            </a:r>
            <a:r>
              <a:rPr b="1" lang="es-ES_tradnl" sz="2800" spc="-1" strike="noStrike">
                <a:solidFill>
                  <a:srgbClr val="00ae00"/>
                </a:solidFill>
                <a:latin typeface="Arial Narrow"/>
              </a:rPr>
              <a:t>referencia única de temporización </a:t>
            </a:r>
            <a:r>
              <a:rPr b="1" lang="es-ES_tradnl" sz="2800" spc="-1" strike="noStrike">
                <a:solidFill>
                  <a:srgbClr val="500093"/>
                </a:solidFill>
                <a:latin typeface="Arial Narrow"/>
              </a:rPr>
              <a:t>en los nodos de entrada y de salida de la señal isócrona en la red de transporte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l flujo de celdas ATM necesariamente debe contener celdas vacía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ada nodo de red posee una memoria elástica un poco más larga que una celda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sa memoria es escrita con el reloj de la señal recibida y es leída con el reloj del propio nod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sa memoria posee un mecanismo para indicar su nivel de llenad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l alcanzar ciertos límites, el nodo quita o agrega una celda vacía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24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: Mecanismo de Justificación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AL: La Capa de Adaptación al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pa AAL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48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Hay 4 tipos de capas de adaptación al ATM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AL tipo 1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oporta tráfico de clase A (CBR, orientado a conexión, isócrono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AL tipo 2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oporta tráfico de clase B (VBR, orientado a conexión, isócrono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os 4 tipos de capas de adaptación al ATM (cont.)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AL tipo 3/4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19960" indent="-223920">
              <a:lnSpc>
                <a:spcPct val="8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oporta tráfico de clases C y D (VBR, anisócrono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19960" indent="-223920">
              <a:lnSpc>
                <a:spcPct val="8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s antiguas AAL 3 y AAL 4 fueron unificadas en la AAL tipo 3/4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19960" indent="-223920">
              <a:lnSpc>
                <a:spcPct val="8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decuada para tráfico de datos sensible a pérdida de celdas, pero no a retard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AL tipo 5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19960" indent="-223920">
              <a:lnSpc>
                <a:spcPct val="8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oporta tráfico de clase C (VBR, orientado a conexión, anisócrono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19960" indent="-223920">
              <a:lnSpc>
                <a:spcPct val="8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ucho más sencilla que la AAL tipo 3/4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pa AAL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onmutación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onmutación de señales determinística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3892680" y="5568840"/>
            <a:ext cx="5205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9160" y="5568840"/>
            <a:ext cx="520560" cy="2923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25840" y="5568840"/>
            <a:ext cx="52092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9360" y="5568840"/>
            <a:ext cx="5205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92880" y="5568840"/>
            <a:ext cx="5205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26040" y="5568840"/>
            <a:ext cx="52092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5568840"/>
            <a:ext cx="5205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s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5568840"/>
            <a:ext cx="520560" cy="2923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6240" y="5568840"/>
            <a:ext cx="52092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59760" y="5568840"/>
            <a:ext cx="5205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9840" y="2673360"/>
            <a:ext cx="4711680" cy="2349360"/>
          </a:xfrm>
          <a:prstGeom prst="roundRect">
            <a:avLst>
              <a:gd name="adj" fmla="val 12486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6880" y="2825640"/>
            <a:ext cx="520560" cy="2923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73360" y="2825640"/>
            <a:ext cx="520560" cy="2923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40040" y="2825640"/>
            <a:ext cx="520920" cy="2923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73560" y="2825640"/>
            <a:ext cx="520560" cy="2923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7080" y="2825640"/>
            <a:ext cx="520560" cy="2923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40240" y="2825640"/>
            <a:ext cx="520920" cy="2923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73760" y="2825640"/>
            <a:ext cx="520560" cy="2923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6880" y="4578480"/>
            <a:ext cx="520560" cy="2919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73360" y="4578480"/>
            <a:ext cx="520560" cy="2919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0040" y="4578480"/>
            <a:ext cx="520920" cy="2919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73560" y="4578480"/>
            <a:ext cx="520560" cy="2919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7080" y="4578480"/>
            <a:ext cx="520560" cy="2919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40240" y="4578480"/>
            <a:ext cx="520920" cy="2919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73760" y="4578480"/>
            <a:ext cx="520560" cy="2919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9480" y="1835280"/>
            <a:ext cx="52056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960" y="1835280"/>
            <a:ext cx="520560" cy="29196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82640" y="1835280"/>
            <a:ext cx="52092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16160" y="1835280"/>
            <a:ext cx="52056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9680" y="1835280"/>
            <a:ext cx="52056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82840" y="1835280"/>
            <a:ext cx="52092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16360" y="1835280"/>
            <a:ext cx="52056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s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9880" y="1835280"/>
            <a:ext cx="520560" cy="29196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83040" y="1835280"/>
            <a:ext cx="52092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6560" y="1835280"/>
            <a:ext cx="52056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rot="16200000">
            <a:off x="3053160" y="1987560"/>
            <a:ext cx="368280" cy="825480"/>
          </a:xfrm>
          <a:prstGeom prst="rightArrow">
            <a:avLst>
              <a:gd name="adj1" fmla="val 75000"/>
              <a:gd name="adj2" fmla="val 50014"/>
            </a:avLst>
          </a:prstGeom>
          <a:solidFill>
            <a:srgbClr val="fe9b03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16200000">
            <a:off x="4272480" y="4883040"/>
            <a:ext cx="368280" cy="825480"/>
          </a:xfrm>
          <a:prstGeom prst="rightArrow">
            <a:avLst>
              <a:gd name="adj1" fmla="val 75000"/>
              <a:gd name="adj2" fmla="val 50014"/>
            </a:avLst>
          </a:prstGeom>
          <a:solidFill>
            <a:srgbClr val="fe9b03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24360" y="3252960"/>
            <a:ext cx="1496880" cy="1191960"/>
          </a:xfrm>
          <a:prstGeom prst="line">
            <a:avLst/>
          </a:prstGeom>
          <a:ln w="507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846160" y="3328920"/>
            <a:ext cx="709560" cy="1116000"/>
          </a:xfrm>
          <a:prstGeom prst="line">
            <a:avLst/>
          </a:prstGeom>
          <a:ln w="507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379680" y="3328920"/>
            <a:ext cx="2843280" cy="1116000"/>
          </a:xfrm>
          <a:prstGeom prst="line">
            <a:avLst/>
          </a:prstGeom>
          <a:ln w="507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57720" y="3252960"/>
            <a:ext cx="887400" cy="1191960"/>
          </a:xfrm>
          <a:prstGeom prst="line">
            <a:avLst/>
          </a:prstGeom>
          <a:ln w="507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12840" y="3252960"/>
            <a:ext cx="633240" cy="1268280"/>
          </a:xfrm>
          <a:prstGeom prst="line">
            <a:avLst/>
          </a:prstGeom>
          <a:ln w="507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14720" y="3252960"/>
            <a:ext cx="887400" cy="1191960"/>
          </a:xfrm>
          <a:prstGeom prst="line">
            <a:avLst/>
          </a:prstGeom>
          <a:ln w="507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pa AAL (3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5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Además de esas 4 AALs, es usual referirse a un quinto tipo de AAL; se trata de la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AL tipo 0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AAL tipo 0 es la AAL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nula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, para cuando el tráfico ofrecido ya viene en formato de celda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in embargo no se defina una “AAL tipo 0” en las normas, ese término, para el caso del tráfico ya en formato de celdas, está consagrado por el us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ubdivisiones de la Capa AAL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54" name=""/>
          <p:cNvSpPr/>
          <p:nvPr/>
        </p:nvSpPr>
        <p:spPr>
          <a:xfrm>
            <a:off x="7164360" y="838080"/>
            <a:ext cx="961920" cy="382680"/>
          </a:xfrm>
          <a:custGeom>
            <a:avLst/>
            <a:gdLst/>
            <a:ahLst/>
            <a:rect l="l" t="t" r="r" b="b"/>
            <a:pathLst>
              <a:path w="606" h="241">
                <a:moveTo>
                  <a:pt x="0" y="0"/>
                </a:moveTo>
                <a:lnTo>
                  <a:pt x="605" y="0"/>
                </a:lnTo>
                <a:lnTo>
                  <a:pt x="605" y="240"/>
                </a:lnTo>
                <a:lnTo>
                  <a:pt x="0" y="240"/>
                </a:lnTo>
                <a:lnTo>
                  <a:pt x="0" y="0"/>
                </a:lnTo>
              </a:path>
            </a:pathLst>
          </a:custGeom>
          <a:solidFill>
            <a:srgbClr val="b3b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7295760" y="770040"/>
            <a:ext cx="70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811920" y="1378080"/>
            <a:ext cx="1868400" cy="358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apas superi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1481040" y="1378080"/>
            <a:ext cx="5318280" cy="358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funciones de las capas superi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481040" y="1749600"/>
            <a:ext cx="3237120" cy="634680"/>
          </a:xfrm>
          <a:prstGeom prst="rect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onverg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481040" y="2397240"/>
            <a:ext cx="5318280" cy="449280"/>
          </a:xfrm>
          <a:prstGeom prst="rect">
            <a:avLst/>
          </a:prstGeom>
          <a:solidFill>
            <a:srgbClr val="7144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egmentación y reensam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481040" y="2859120"/>
            <a:ext cx="5318280" cy="11001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ontrol genérico de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generación / extracción del encabezadode la ce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aducción del VPI / VCI de la ce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multiplexación / demultiplexación de cel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481040" y="3971880"/>
            <a:ext cx="5318280" cy="12844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sacople de la tasa de cel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generación / verificación del HEC (por CR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sincronización de cel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adaptación de las tramas de trans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generación / recuperación de las tramas de trans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481040" y="5268960"/>
            <a:ext cx="5318280" cy="8208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reloj de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medi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539640" y="1378080"/>
            <a:ext cx="928800" cy="471168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100000">
                <a:srgbClr val="00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d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811920" y="2397240"/>
            <a:ext cx="1006560" cy="449280"/>
          </a:xfrm>
          <a:prstGeom prst="rect">
            <a:avLst/>
          </a:prstGeom>
          <a:solidFill>
            <a:srgbClr val="7144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6811920" y="1749600"/>
            <a:ext cx="1006560" cy="634680"/>
          </a:xfrm>
          <a:prstGeom prst="rect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7831080" y="1749600"/>
            <a:ext cx="849240" cy="1096920"/>
          </a:xfrm>
          <a:prstGeom prst="rect">
            <a:avLst/>
          </a:prstGeom>
          <a:gradFill rotWithShape="0">
            <a:gsLst>
              <a:gs pos="0">
                <a:srgbClr val="a98e65"/>
              </a:gs>
              <a:gs pos="100000">
                <a:srgbClr val="7144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6811920" y="2859120"/>
            <a:ext cx="1868400" cy="11001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811920" y="3971880"/>
            <a:ext cx="1006560" cy="12844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811920" y="5268960"/>
            <a:ext cx="1006560" cy="8208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7831080" y="3971880"/>
            <a:ext cx="849240" cy="2117880"/>
          </a:xfrm>
          <a:prstGeom prst="rect">
            <a:avLst/>
          </a:prstGeom>
          <a:gradFill rotWithShape="0">
            <a:gsLst>
              <a:gs pos="0">
                <a:srgbClr val="9565bd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c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730760" y="1749600"/>
            <a:ext cx="2044800" cy="301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S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4730760" y="2054160"/>
            <a:ext cx="2044800" cy="328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P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flipH="1" rot="18900000">
            <a:off x="6058440" y="1327320"/>
            <a:ext cx="1133280" cy="390600"/>
          </a:xfrm>
          <a:prstGeom prst="rightArrow">
            <a:avLst>
              <a:gd name="adj1" fmla="val 50000"/>
              <a:gd name="adj2" fmla="val 145109"/>
            </a:avLst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88160" y="311040"/>
            <a:ext cx="1892160" cy="90180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la CS se subdiv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en dos o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sub-subc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SSCS y CP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ubdivisiones de la Subcapa de Convergencia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7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3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SCS -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Service Specific Convergence Sublayer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3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parte alta de la C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3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puede ser nul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3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hasta ahora definida para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Frame Relay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y para SMD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3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no se requiere para IP, pués IP es soportado directamente por la CPC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2960" indent="-282960">
              <a:lnSpc>
                <a:spcPct val="93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PCS -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Common Part Convergence Sublayer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3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parte baja de la C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3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iempre tiene que estar present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3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funciones específicas para cada tipo de AAL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93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p. ej., la AAL 1 especifica CPCS soportando SRTS (</a:t>
            </a:r>
            <a:r>
              <a:rPr b="1" i="1" lang="es-ES_tradnl" sz="2400" spc="-1" strike="noStrike">
                <a:solidFill>
                  <a:srgbClr val="00279f"/>
                </a:solidFill>
                <a:latin typeface="Arial Narrow"/>
              </a:rPr>
              <a:t>synchronous residual time stamp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) y SDT (</a:t>
            </a:r>
            <a:r>
              <a:rPr b="1" i="1" lang="es-ES_tradnl" sz="2400" spc="-1" strike="noStrike">
                <a:solidFill>
                  <a:srgbClr val="00279f"/>
                </a:solidFill>
                <a:latin typeface="Arial Narrow"/>
              </a:rPr>
              <a:t>structured data transfer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"/>
          <p:cNvSpPr/>
          <p:nvPr/>
        </p:nvSpPr>
        <p:spPr>
          <a:xfrm>
            <a:off x="1535040" y="4302000"/>
            <a:ext cx="257400" cy="530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2529000" y="4302000"/>
            <a:ext cx="257040" cy="530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2940120" y="4278240"/>
            <a:ext cx="771480" cy="507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935520" y="4278240"/>
            <a:ext cx="771480" cy="507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8412120" y="3227400"/>
            <a:ext cx="300240" cy="439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2301840" y="3224160"/>
            <a:ext cx="1558800" cy="442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AL tipo 5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83059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También conocida como SEAL (</a:t>
            </a:r>
            <a:r>
              <a:rPr b="1" i="1" lang="es-ES_tradnl" sz="2400" spc="-1" strike="noStrike">
                <a:solidFill>
                  <a:srgbClr val="00279f"/>
                </a:solidFill>
                <a:latin typeface="Arial Narrow"/>
              </a:rPr>
              <a:t>Simple and Efficient AAL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285" name=""/>
          <p:cNvSpPr/>
          <p:nvPr/>
        </p:nvSpPr>
        <p:spPr>
          <a:xfrm>
            <a:off x="1515960" y="1685880"/>
            <a:ext cx="2273400" cy="53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datos de usuario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(0 a 65535 bytes)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1515960" y="2657520"/>
            <a:ext cx="2273400" cy="534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arga útil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801960" y="2657520"/>
            <a:ext cx="1027080" cy="53496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PA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842000" y="2657520"/>
            <a:ext cx="490320" cy="5349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345280" y="2657520"/>
            <a:ext cx="490320" cy="5349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514520" y="3719520"/>
            <a:ext cx="982440" cy="5349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PDU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la 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848200" y="2657520"/>
            <a:ext cx="992160" cy="5349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longit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854760" y="2657520"/>
            <a:ext cx="1825560" cy="53496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897280" y="3697200"/>
            <a:ext cx="982440" cy="5349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PDU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la 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7446960" y="3697200"/>
            <a:ext cx="982800" cy="5349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PDU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la 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811160" y="4840200"/>
            <a:ext cx="982800" cy="5349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arga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160640" y="4840200"/>
            <a:ext cx="626760" cy="53496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enc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741840" y="4840200"/>
            <a:ext cx="982440" cy="5349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arga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090960" y="4840200"/>
            <a:ext cx="627120" cy="53496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enc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7677000" y="4840200"/>
            <a:ext cx="982800" cy="5349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arga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026120" y="4840200"/>
            <a:ext cx="627120" cy="53496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enc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936880" y="2548080"/>
            <a:ext cx="355680" cy="744480"/>
          </a:xfrm>
          <a:custGeom>
            <a:avLst/>
            <a:gdLst/>
            <a:ahLst/>
            <a:rect l="l" t="t" r="r" b="b"/>
            <a:pathLst>
              <a:path w="224" h="469">
                <a:moveTo>
                  <a:pt x="151" y="29"/>
                </a:moveTo>
                <a:lnTo>
                  <a:pt x="29" y="267"/>
                </a:lnTo>
                <a:lnTo>
                  <a:pt x="137" y="188"/>
                </a:lnTo>
                <a:lnTo>
                  <a:pt x="0" y="468"/>
                </a:lnTo>
                <a:lnTo>
                  <a:pt x="79" y="468"/>
                </a:lnTo>
                <a:lnTo>
                  <a:pt x="209" y="130"/>
                </a:lnTo>
                <a:lnTo>
                  <a:pt x="115" y="166"/>
                </a:lnTo>
                <a:lnTo>
                  <a:pt x="223" y="0"/>
                </a:lnTo>
                <a:lnTo>
                  <a:pt x="151" y="2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3255840" y="1654200"/>
            <a:ext cx="355680" cy="744480"/>
          </a:xfrm>
          <a:custGeom>
            <a:avLst/>
            <a:gdLst/>
            <a:ahLst/>
            <a:rect l="l" t="t" r="r" b="b"/>
            <a:pathLst>
              <a:path w="224" h="469">
                <a:moveTo>
                  <a:pt x="151" y="29"/>
                </a:moveTo>
                <a:lnTo>
                  <a:pt x="29" y="267"/>
                </a:lnTo>
                <a:lnTo>
                  <a:pt x="137" y="188"/>
                </a:lnTo>
                <a:lnTo>
                  <a:pt x="0" y="468"/>
                </a:lnTo>
                <a:lnTo>
                  <a:pt x="79" y="468"/>
                </a:lnTo>
                <a:lnTo>
                  <a:pt x="209" y="130"/>
                </a:lnTo>
                <a:lnTo>
                  <a:pt x="115" y="166"/>
                </a:lnTo>
                <a:lnTo>
                  <a:pt x="223" y="0"/>
                </a:lnTo>
                <a:lnTo>
                  <a:pt x="151" y="2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519200" y="227808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805200" y="227808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519200" y="3249720"/>
            <a:ext cx="0" cy="45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851120" y="3211560"/>
            <a:ext cx="1041480" cy="515880"/>
          </a:xfrm>
          <a:custGeom>
            <a:avLst/>
            <a:gdLst/>
            <a:ahLst/>
            <a:rect l="l" t="t" r="r" b="b"/>
            <a:pathLst>
              <a:path w="656" h="325">
                <a:moveTo>
                  <a:pt x="418" y="324"/>
                </a:moveTo>
                <a:lnTo>
                  <a:pt x="0" y="0"/>
                </a:lnTo>
                <a:lnTo>
                  <a:pt x="655" y="303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473720" y="3852720"/>
            <a:ext cx="22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5321160" y="5133960"/>
            <a:ext cx="1214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885960" y="2803680"/>
            <a:ext cx="64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C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499320" y="1684440"/>
            <a:ext cx="84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Cap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Usu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942840" y="3798720"/>
            <a:ext cx="53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S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45040" y="4853160"/>
            <a:ext cx="590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Ca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95640" y="3157560"/>
            <a:ext cx="590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Ca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A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922320" y="2743200"/>
            <a:ext cx="160200" cy="1487520"/>
          </a:xfrm>
          <a:custGeom>
            <a:avLst/>
            <a:gdLst/>
            <a:ahLst/>
            <a:rect l="l" t="t" r="r" b="b"/>
            <a:pathLst>
              <a:path w="101" h="937">
                <a:moveTo>
                  <a:pt x="100" y="0"/>
                </a:moveTo>
                <a:lnTo>
                  <a:pt x="43" y="65"/>
                </a:lnTo>
                <a:lnTo>
                  <a:pt x="43" y="425"/>
                </a:lnTo>
                <a:lnTo>
                  <a:pt x="0" y="475"/>
                </a:lnTo>
                <a:lnTo>
                  <a:pt x="50" y="533"/>
                </a:lnTo>
                <a:lnTo>
                  <a:pt x="50" y="886"/>
                </a:lnTo>
                <a:lnTo>
                  <a:pt x="100" y="9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1834200" y="4255920"/>
            <a:ext cx="36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240720" y="4255920"/>
            <a:ext cx="36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130840" y="5432400"/>
            <a:ext cx="36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1274040" y="5432400"/>
            <a:ext cx="27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109040" y="5432400"/>
            <a:ext cx="36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52240" y="5432400"/>
            <a:ext cx="27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8012880" y="5432400"/>
            <a:ext cx="36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7200360" y="5432400"/>
            <a:ext cx="27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755480" y="4255920"/>
            <a:ext cx="36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4085280" y="3238560"/>
            <a:ext cx="51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0-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955760" y="3238560"/>
            <a:ext cx="27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481000" y="3238560"/>
            <a:ext cx="27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224040" y="3238560"/>
            <a:ext cx="27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7720920" y="3238560"/>
            <a:ext cx="27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804600" y="5673600"/>
            <a:ext cx="5360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UU: usuario a usu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CPI: indicador de parte común (para formar palabras de 32 by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5263920" y="2257560"/>
            <a:ext cx="193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trailer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de la C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7480440" y="4278240"/>
            <a:ext cx="190440" cy="573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8451720" y="4278240"/>
            <a:ext cx="209520" cy="573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4475160" y="2568600"/>
            <a:ext cx="355680" cy="744480"/>
          </a:xfrm>
          <a:custGeom>
            <a:avLst/>
            <a:gdLst/>
            <a:ahLst/>
            <a:rect l="l" t="t" r="r" b="b"/>
            <a:pathLst>
              <a:path w="224" h="469">
                <a:moveTo>
                  <a:pt x="151" y="29"/>
                </a:moveTo>
                <a:lnTo>
                  <a:pt x="29" y="267"/>
                </a:lnTo>
                <a:lnTo>
                  <a:pt x="137" y="188"/>
                </a:lnTo>
                <a:lnTo>
                  <a:pt x="0" y="468"/>
                </a:lnTo>
                <a:lnTo>
                  <a:pt x="79" y="468"/>
                </a:lnTo>
                <a:lnTo>
                  <a:pt x="209" y="130"/>
                </a:lnTo>
                <a:lnTo>
                  <a:pt x="115" y="166"/>
                </a:lnTo>
                <a:lnTo>
                  <a:pt x="223" y="0"/>
                </a:lnTo>
                <a:lnTo>
                  <a:pt x="151" y="2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4359240" y="3227400"/>
            <a:ext cx="3079800" cy="450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4564080" y="3216240"/>
            <a:ext cx="1735200" cy="949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 txBox="1"/>
          <p:nvPr/>
        </p:nvSpPr>
        <p:spPr>
          <a:xfrm>
            <a:off x="684000" y="338040"/>
            <a:ext cx="4845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AL Tipo 3/4 (Modo Mensaje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337" name=""/>
          <p:cNvSpPr/>
          <p:nvPr/>
        </p:nvSpPr>
        <p:spPr>
          <a:xfrm>
            <a:off x="2940120" y="2030400"/>
            <a:ext cx="1798560" cy="420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IDU de AAL 3/4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940120" y="2800440"/>
            <a:ext cx="1798560" cy="420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arga de usuario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4751280" y="2800440"/>
            <a:ext cx="812880" cy="4204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5576760" y="2800440"/>
            <a:ext cx="385920" cy="420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5975280" y="2800440"/>
            <a:ext cx="385920" cy="4204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 Narrow"/>
              </a:rPr>
              <a:t>E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373800" y="2800440"/>
            <a:ext cx="784080" cy="4204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long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4167360" y="2722680"/>
            <a:ext cx="282240" cy="590400"/>
          </a:xfrm>
          <a:custGeom>
            <a:avLst/>
            <a:gdLst/>
            <a:ahLst/>
            <a:rect l="l" t="t" r="r" b="b"/>
            <a:pathLst>
              <a:path w="178" h="372">
                <a:moveTo>
                  <a:pt x="120" y="23"/>
                </a:moveTo>
                <a:lnTo>
                  <a:pt x="23" y="212"/>
                </a:lnTo>
                <a:lnTo>
                  <a:pt x="109" y="149"/>
                </a:lnTo>
                <a:lnTo>
                  <a:pt x="0" y="371"/>
                </a:lnTo>
                <a:lnTo>
                  <a:pt x="63" y="371"/>
                </a:lnTo>
                <a:lnTo>
                  <a:pt x="166" y="103"/>
                </a:lnTo>
                <a:lnTo>
                  <a:pt x="91" y="132"/>
                </a:lnTo>
                <a:lnTo>
                  <a:pt x="177" y="0"/>
                </a:lnTo>
                <a:lnTo>
                  <a:pt x="120" y="2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317840" y="1943280"/>
            <a:ext cx="282600" cy="590400"/>
          </a:xfrm>
          <a:custGeom>
            <a:avLst/>
            <a:gdLst/>
            <a:ahLst/>
            <a:rect l="l" t="t" r="r" b="b"/>
            <a:pathLst>
              <a:path w="178" h="372">
                <a:moveTo>
                  <a:pt x="120" y="23"/>
                </a:moveTo>
                <a:lnTo>
                  <a:pt x="23" y="212"/>
                </a:lnTo>
                <a:lnTo>
                  <a:pt x="109" y="149"/>
                </a:lnTo>
                <a:lnTo>
                  <a:pt x="0" y="371"/>
                </a:lnTo>
                <a:lnTo>
                  <a:pt x="63" y="371"/>
                </a:lnTo>
                <a:lnTo>
                  <a:pt x="166" y="103"/>
                </a:lnTo>
                <a:lnTo>
                  <a:pt x="91" y="132"/>
                </a:lnTo>
                <a:lnTo>
                  <a:pt x="177" y="0"/>
                </a:lnTo>
                <a:lnTo>
                  <a:pt x="120" y="2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941560" y="2503440"/>
            <a:ext cx="0" cy="27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53080" y="2503440"/>
            <a:ext cx="0" cy="273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884160" y="2873520"/>
            <a:ext cx="355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02920" y="1341360"/>
            <a:ext cx="1542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Capa de Usu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702000" y="4243320"/>
            <a:ext cx="44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17960" y="5140440"/>
            <a:ext cx="79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Capa 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79440" y="3484440"/>
            <a:ext cx="487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C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A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736560" y="2746440"/>
            <a:ext cx="206280" cy="1925640"/>
          </a:xfrm>
          <a:custGeom>
            <a:avLst/>
            <a:gdLst/>
            <a:ahLst/>
            <a:rect l="l" t="t" r="r" b="b"/>
            <a:pathLst>
              <a:path w="130" h="1213">
                <a:moveTo>
                  <a:pt x="129" y="0"/>
                </a:moveTo>
                <a:lnTo>
                  <a:pt x="55" y="84"/>
                </a:lnTo>
                <a:lnTo>
                  <a:pt x="55" y="550"/>
                </a:lnTo>
                <a:lnTo>
                  <a:pt x="0" y="615"/>
                </a:lnTo>
                <a:lnTo>
                  <a:pt x="65" y="690"/>
                </a:lnTo>
                <a:lnTo>
                  <a:pt x="65" y="1147"/>
                </a:lnTo>
                <a:lnTo>
                  <a:pt x="129" y="12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228760" y="5079960"/>
            <a:ext cx="1710000" cy="420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arga ú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1122480" y="5079960"/>
            <a:ext cx="1096920" cy="42084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nc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3810600" y="3683160"/>
            <a:ext cx="64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 Narrow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940120" y="1276200"/>
            <a:ext cx="1798560" cy="420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SDU de ALL 3/4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4317840" y="1189080"/>
            <a:ext cx="282600" cy="590400"/>
          </a:xfrm>
          <a:custGeom>
            <a:avLst/>
            <a:gdLst/>
            <a:ahLst/>
            <a:rect l="l" t="t" r="r" b="b"/>
            <a:pathLst>
              <a:path w="178" h="372">
                <a:moveTo>
                  <a:pt x="120" y="23"/>
                </a:moveTo>
                <a:lnTo>
                  <a:pt x="23" y="212"/>
                </a:lnTo>
                <a:lnTo>
                  <a:pt x="109" y="149"/>
                </a:lnTo>
                <a:lnTo>
                  <a:pt x="0" y="371"/>
                </a:lnTo>
                <a:lnTo>
                  <a:pt x="63" y="371"/>
                </a:lnTo>
                <a:lnTo>
                  <a:pt x="166" y="103"/>
                </a:lnTo>
                <a:lnTo>
                  <a:pt x="91" y="132"/>
                </a:lnTo>
                <a:lnTo>
                  <a:pt x="177" y="0"/>
                </a:lnTo>
                <a:lnTo>
                  <a:pt x="120" y="2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941560" y="1749600"/>
            <a:ext cx="0" cy="272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753080" y="1749600"/>
            <a:ext cx="0" cy="272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274840" y="4184640"/>
            <a:ext cx="1308240" cy="393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arga ú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630440" y="4184640"/>
            <a:ext cx="647640" cy="393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1324080" y="4184640"/>
            <a:ext cx="296640" cy="393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1112760" y="4184640"/>
            <a:ext cx="211320" cy="393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602160" y="4184640"/>
            <a:ext cx="406440" cy="393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030560" y="4184640"/>
            <a:ext cx="647640" cy="393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491160" y="5079960"/>
            <a:ext cx="1710000" cy="420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arga ú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364000" y="5079960"/>
            <a:ext cx="1097280" cy="42084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nc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308640" y="4184640"/>
            <a:ext cx="897120" cy="393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arga ú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5664240" y="4184640"/>
            <a:ext cx="647640" cy="393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357880" y="4184640"/>
            <a:ext cx="296640" cy="393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5146560" y="4184640"/>
            <a:ext cx="211320" cy="393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7635960" y="4184640"/>
            <a:ext cx="406440" cy="393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8064360" y="4184640"/>
            <a:ext cx="648000" cy="393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223040" y="4184640"/>
            <a:ext cx="406440" cy="3938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 Narrow"/>
              </a:rPr>
              <a:t>F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346040" y="2800440"/>
            <a:ext cx="385920" cy="420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1744560" y="2800440"/>
            <a:ext cx="385920" cy="4204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 Narrow"/>
              </a:rPr>
              <a:t>B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143080" y="2800440"/>
            <a:ext cx="784440" cy="4204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3598920" y="4035600"/>
            <a:ext cx="1100160" cy="139680"/>
          </a:xfrm>
          <a:custGeom>
            <a:avLst/>
            <a:gdLst/>
            <a:ahLst/>
            <a:rect l="l" t="t" r="r" b="b"/>
            <a:pathLst>
              <a:path w="693" h="88">
                <a:moveTo>
                  <a:pt x="0" y="87"/>
                </a:moveTo>
                <a:lnTo>
                  <a:pt x="58" y="44"/>
                </a:lnTo>
                <a:lnTo>
                  <a:pt x="303" y="44"/>
                </a:lnTo>
                <a:lnTo>
                  <a:pt x="353" y="0"/>
                </a:lnTo>
                <a:lnTo>
                  <a:pt x="396" y="44"/>
                </a:lnTo>
                <a:lnTo>
                  <a:pt x="634" y="44"/>
                </a:lnTo>
                <a:lnTo>
                  <a:pt x="692" y="8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350720" y="36831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encab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1141560" y="4035600"/>
            <a:ext cx="1100160" cy="139680"/>
          </a:xfrm>
          <a:custGeom>
            <a:avLst/>
            <a:gdLst/>
            <a:ahLst/>
            <a:rect l="l" t="t" r="r" b="b"/>
            <a:pathLst>
              <a:path w="693" h="88">
                <a:moveTo>
                  <a:pt x="0" y="87"/>
                </a:moveTo>
                <a:lnTo>
                  <a:pt x="58" y="44"/>
                </a:lnTo>
                <a:lnTo>
                  <a:pt x="303" y="44"/>
                </a:lnTo>
                <a:lnTo>
                  <a:pt x="353" y="0"/>
                </a:lnTo>
                <a:lnTo>
                  <a:pt x="396" y="44"/>
                </a:lnTo>
                <a:lnTo>
                  <a:pt x="634" y="44"/>
                </a:lnTo>
                <a:lnTo>
                  <a:pt x="692" y="8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1007640" y="4579920"/>
            <a:ext cx="403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1282320" y="4579920"/>
            <a:ext cx="403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739520" y="4579920"/>
            <a:ext cx="403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899040" y="4579920"/>
            <a:ext cx="626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oct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614400" y="4579920"/>
            <a:ext cx="403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4163760" y="4579920"/>
            <a:ext cx="403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7" name=""/>
          <p:cNvGrpSpPr/>
          <p:nvPr/>
        </p:nvGrpSpPr>
        <p:grpSpPr>
          <a:xfrm>
            <a:off x="2258640" y="4695120"/>
            <a:ext cx="1320120" cy="45000"/>
            <a:chOff x="2258640" y="4695120"/>
            <a:chExt cx="1320120" cy="45000"/>
          </a:xfrm>
        </p:grpSpPr>
        <p:sp>
          <p:nvSpPr>
            <p:cNvPr id="2388" name=""/>
            <p:cNvSpPr/>
            <p:nvPr/>
          </p:nvSpPr>
          <p:spPr>
            <a:xfrm flipH="1">
              <a:off x="2286000" y="4721400"/>
              <a:ext cx="30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>
              <a:off x="3257640" y="4721400"/>
              <a:ext cx="30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rot="16140000">
              <a:off x="2259000" y="4695120"/>
              <a:ext cx="44280" cy="44640"/>
            </a:xfrm>
            <a:prstGeom prst="triangle">
              <a:avLst>
                <a:gd name="adj" fmla="val 49986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 rot="5460000">
              <a:off x="3533760" y="4695120"/>
              <a:ext cx="44280" cy="44640"/>
            </a:xfrm>
            <a:prstGeom prst="triangle">
              <a:avLst>
                <a:gd name="adj" fmla="val 49986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2" name=""/>
          <p:cNvSpPr/>
          <p:nvPr/>
        </p:nvSpPr>
        <p:spPr>
          <a:xfrm flipH="1">
            <a:off x="6356520" y="4721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flipH="1">
            <a:off x="7155000" y="4721400"/>
            <a:ext cx="48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 rot="16140000">
            <a:off x="6329160" y="4695120"/>
            <a:ext cx="44280" cy="4428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040" bIns="-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H="1" rot="5460000">
            <a:off x="7602480" y="4695120"/>
            <a:ext cx="44280" cy="44640"/>
          </a:xfrm>
          <a:prstGeom prst="triangle">
            <a:avLst>
              <a:gd name="adj" fmla="val 4998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530000" y="5527800"/>
            <a:ext cx="251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935080" y="5527800"/>
            <a:ext cx="321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5783040" y="5527800"/>
            <a:ext cx="251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87760" y="5527800"/>
            <a:ext cx="321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774440" y="22654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encab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380960" y="2606760"/>
            <a:ext cx="1511640" cy="150840"/>
          </a:xfrm>
          <a:custGeom>
            <a:avLst/>
            <a:gdLst/>
            <a:ahLst/>
            <a:rect l="l" t="t" r="r" b="b"/>
            <a:pathLst>
              <a:path w="952" h="95">
                <a:moveTo>
                  <a:pt x="0" y="94"/>
                </a:moveTo>
                <a:lnTo>
                  <a:pt x="80" y="48"/>
                </a:lnTo>
                <a:lnTo>
                  <a:pt x="416" y="48"/>
                </a:lnTo>
                <a:lnTo>
                  <a:pt x="485" y="0"/>
                </a:lnTo>
                <a:lnTo>
                  <a:pt x="544" y="48"/>
                </a:lnTo>
                <a:lnTo>
                  <a:pt x="871" y="48"/>
                </a:lnTo>
                <a:lnTo>
                  <a:pt x="951" y="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1415520" y="3195720"/>
            <a:ext cx="251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804680" y="3195720"/>
            <a:ext cx="251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2388960" y="3195720"/>
            <a:ext cx="251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486960" y="3195720"/>
            <a:ext cx="640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 Narrow"/>
              </a:rPr>
              <a:t>&lt;</a:t>
            </a: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 655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986000" y="3195720"/>
            <a:ext cx="36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0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646240" y="3195720"/>
            <a:ext cx="251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046560" y="3195720"/>
            <a:ext cx="251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617880" y="3195720"/>
            <a:ext cx="251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374840" y="3262320"/>
            <a:ext cx="896760" cy="885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3146400" y="3262320"/>
            <a:ext cx="428760" cy="885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7192800" y="3251160"/>
            <a:ext cx="20880" cy="914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1135080" y="4622760"/>
            <a:ext cx="1079640" cy="439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H="1">
            <a:off x="3941640" y="4622760"/>
            <a:ext cx="758880" cy="439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5208480" y="4675320"/>
            <a:ext cx="1270080" cy="38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 flipH="1">
            <a:off x="8205480" y="4599000"/>
            <a:ext cx="506520" cy="463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762440" y="4402080"/>
            <a:ext cx="405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4165560" y="5292720"/>
            <a:ext cx="10429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5564160" y="326880"/>
            <a:ext cx="3284280" cy="22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SDU: unidad de datos de serv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IDU: unidad de datos inter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(= una trama completa del usuar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PI: indicador de parte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 Narrow"/>
              </a:rPr>
              <a:t>Btag</a:t>
            </a: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: etiqueta de ini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BA: asignación de 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AL: alineación de palabras de 32 bits (= 00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 Narrow"/>
              </a:rPr>
              <a:t>Etag</a:t>
            </a: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: etiqueta de 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ST: tipo de segmento (BOM, COM, E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SN: número secu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MID: identificador de multiplex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LI: indicador de longitu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599920" y="4579920"/>
            <a:ext cx="626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octe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4999680" y="2347920"/>
            <a:ext cx="64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 Narrow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788000" y="2662200"/>
            <a:ext cx="2392200" cy="115920"/>
          </a:xfrm>
          <a:custGeom>
            <a:avLst/>
            <a:gdLst/>
            <a:ahLst/>
            <a:rect l="l" t="t" r="r" b="b"/>
            <a:pathLst>
              <a:path w="1507" h="73">
                <a:moveTo>
                  <a:pt x="0" y="72"/>
                </a:moveTo>
                <a:lnTo>
                  <a:pt x="126" y="36"/>
                </a:lnTo>
                <a:lnTo>
                  <a:pt x="659" y="36"/>
                </a:lnTo>
                <a:lnTo>
                  <a:pt x="768" y="0"/>
                </a:lnTo>
                <a:lnTo>
                  <a:pt x="862" y="36"/>
                </a:lnTo>
                <a:lnTo>
                  <a:pt x="1380" y="36"/>
                </a:lnTo>
                <a:lnTo>
                  <a:pt x="1506" y="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5535720" y="2608200"/>
            <a:ext cx="44136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AL Tipo 1 (Emulación de Circuitos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42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AAL tipo 1 permite transportar señales síncronas en modo “emulación de circuit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área de carga útil de cada celda recibe un byte de encabezado de SAR (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ISAR-PDU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heade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y 47 bytes de carg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Hay dos modos de operación: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el método SRTS (</a:t>
            </a:r>
            <a:r>
              <a:rPr b="1" i="1" lang="es-ES_tradnl" sz="2400" spc="-1" strike="noStrike">
                <a:solidFill>
                  <a:srgbClr val="00279f"/>
                </a:solidFill>
                <a:latin typeface="Arial Narrow"/>
              </a:rPr>
              <a:t>synchronous residual time stamp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) permite el transporte de señales plesiócronas (de primer y tercer órdenes)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el método SDT (</a:t>
            </a:r>
            <a:r>
              <a:rPr b="1" i="1" lang="es-ES_tradnl" sz="2400" spc="-1" strike="noStrike">
                <a:solidFill>
                  <a:srgbClr val="00279f"/>
                </a:solidFill>
                <a:latin typeface="Arial Narrow"/>
              </a:rPr>
              <a:t>structured data transfer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) permite transportar señales síncronas de 64 kbit/s (en este caso, las celdas pares solo contienen 46 bits de carga, pués un byte es utilizado como puntero)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AL Tipo 1 (cont.): Método SRT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42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7000"/>
              </a:lnSpc>
              <a:buClr>
                <a:srgbClr val="fc0128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Según este método, los nodos de origen y destino deben poseer un reloj de gran exactitud amarrado a una referencia de red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7000"/>
              </a:lnSpc>
              <a:buClr>
                <a:srgbClr val="767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la frecuencia real de la señal a ser transportada es comparada con el reloj de referencia de red de la siguiente forma: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87000"/>
              </a:lnSpc>
              <a:buClr>
                <a:srgbClr val="500093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el reloj de la red es dividido entre un factor </a:t>
            </a:r>
            <a:r>
              <a:rPr b="1" lang="es-ES_tradnl" sz="2000" spc="-1" strike="noStrike" u="sng">
                <a:solidFill>
                  <a:srgbClr val="fc0128"/>
                </a:solidFill>
                <a:uFillTx/>
                <a:latin typeface="Arial Narrow"/>
              </a:rPr>
              <a:t>x</a:t>
            </a:r>
            <a:r>
              <a:rPr b="1" lang="es-ES_tradnl" sz="2000" spc="-1" strike="noStrike">
                <a:solidFill>
                  <a:srgbClr val="919191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de tal manera que el resultado sea un valor entre 1 y 2 veces mayor que el reloj real de la carga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87000"/>
              </a:lnSpc>
              <a:buClr>
                <a:srgbClr val="500093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el reloj de la red así dividido incrementa un contador de 4 bits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87000"/>
              </a:lnSpc>
              <a:buClr>
                <a:srgbClr val="500093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ese contador es muestreado a cada 3008 bits de la carga (8 celdas x 47 bytes/celda x 8 bits/byte)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87000"/>
              </a:lnSpc>
              <a:buClr>
                <a:srgbClr val="500093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el valor del contador, llamado </a:t>
            </a:r>
            <a:r>
              <a:rPr b="1" lang="es-ES_tradnl" sz="2000" spc="-1" strike="noStrike" u="sng">
                <a:solidFill>
                  <a:srgbClr val="00ae00"/>
                </a:solidFill>
                <a:uFillTx/>
                <a:latin typeface="Arial Narrow"/>
              </a:rPr>
              <a:t>etiqueta de tiempo residual síncrono</a:t>
            </a:r>
            <a:r>
              <a:rPr b="1" lang="es-ES_tradnl" sz="2000" spc="-1" strike="noStrike">
                <a:solidFill>
                  <a:srgbClr val="919191"/>
                </a:solidFill>
                <a:latin typeface="Arial Narrow"/>
              </a:rPr>
              <a:t>, </a:t>
            </a: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es transmitido en el encabezado de las celdas ímpares (utilizando para ello el bit CSI, </a:t>
            </a:r>
            <a:r>
              <a:rPr b="1" i="1" lang="es-ES_tradnl" sz="2000" spc="-1" strike="noStrike">
                <a:solidFill>
                  <a:srgbClr val="00279f"/>
                </a:solidFill>
                <a:latin typeface="Arial Narrow"/>
              </a:rPr>
              <a:t>convergence sublayer indication</a:t>
            </a: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), tardando 8 celdas (de las cuales 4 ímpares) en completarse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87000"/>
              </a:lnSpc>
              <a:buClr>
                <a:srgbClr val="500093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ese valor permite que el reloj de referencia sea corregido en el destino para generar una temporización igual al reloj de la carga en la origen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672480" y="326520"/>
            <a:ext cx="6010920" cy="5655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AL Tipo 1 (cont.): Método SRT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429" name=""/>
          <p:cNvSpPr/>
          <p:nvPr/>
        </p:nvSpPr>
        <p:spPr>
          <a:xfrm>
            <a:off x="1386000" y="3124080"/>
            <a:ext cx="667836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1386000" y="2133720"/>
            <a:ext cx="667836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905120" y="1538280"/>
            <a:ext cx="0" cy="5824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905120" y="2529000"/>
            <a:ext cx="0" cy="5824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858000" y="2529000"/>
            <a:ext cx="0" cy="5824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858000" y="1538280"/>
            <a:ext cx="0" cy="5824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477120" y="1461960"/>
            <a:ext cx="0" cy="658800"/>
          </a:xfrm>
          <a:prstGeom prst="line">
            <a:avLst/>
          </a:prstGeom>
          <a:ln w="12600">
            <a:solidFill>
              <a:srgbClr val="9234d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248520" y="2529000"/>
            <a:ext cx="0" cy="582480"/>
          </a:xfrm>
          <a:prstGeom prst="line">
            <a:avLst/>
          </a:prstGeom>
          <a:ln w="12600">
            <a:solidFill>
              <a:srgbClr val="316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7467480" y="2529000"/>
            <a:ext cx="0" cy="582480"/>
          </a:xfrm>
          <a:prstGeom prst="line">
            <a:avLst/>
          </a:prstGeom>
          <a:ln w="12600">
            <a:solidFill>
              <a:srgbClr val="316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7238880" y="1461960"/>
            <a:ext cx="0" cy="658800"/>
          </a:xfrm>
          <a:prstGeom prst="line">
            <a:avLst/>
          </a:prstGeom>
          <a:ln w="12600">
            <a:solidFill>
              <a:srgbClr val="9234d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987560" y="4044960"/>
            <a:ext cx="901800" cy="749160"/>
          </a:xfrm>
          <a:prstGeom prst="rect">
            <a:avLst/>
          </a:prstGeom>
          <a:solidFill>
            <a:srgbClr val="ffa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1/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730760" y="4044960"/>
            <a:ext cx="977760" cy="74916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muestr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y pa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730760" y="5264280"/>
            <a:ext cx="901800" cy="7491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o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de 4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1987560" y="5264280"/>
            <a:ext cx="901800" cy="749160"/>
          </a:xfrm>
          <a:prstGeom prst="rect">
            <a:avLst/>
          </a:prstGeom>
          <a:solidFill>
            <a:srgbClr val="7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1/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081080" y="4419720"/>
            <a:ext cx="88740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081080" y="5638680"/>
            <a:ext cx="88740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909880" y="5638680"/>
            <a:ext cx="187812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919160" y="1752480"/>
            <a:ext cx="4926240" cy="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flipV="1">
            <a:off x="5181480" y="4789440"/>
            <a:ext cx="0" cy="48096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434160" y="3956040"/>
            <a:ext cx="144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frecuencia 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fu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34160" y="5175360"/>
            <a:ext cx="144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frecuencia 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145960" y="3213360"/>
            <a:ext cx="1041480" cy="104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104640" y="3446640"/>
            <a:ext cx="140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19191"/>
                </a:solidFill>
                <a:latin typeface="Arial Narrow"/>
              </a:rPr>
              <a:t>N = 3008 (47x8x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145960" y="4508640"/>
            <a:ext cx="1041480" cy="104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3099960" y="4741920"/>
            <a:ext cx="19904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19191"/>
                </a:solidFill>
                <a:latin typeface="Arial Narrow"/>
              </a:rPr>
              <a:t>para que resul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19191"/>
                </a:solidFill>
                <a:latin typeface="Arial Narrow"/>
              </a:rPr>
              <a:t>  </a:t>
            </a:r>
            <a:r>
              <a:rPr b="1" lang="es-ES_tradnl" sz="1400" spc="-1" strike="noStrike">
                <a:solidFill>
                  <a:srgbClr val="919191"/>
                </a:solidFill>
                <a:latin typeface="Arial Narrow"/>
              </a:rPr>
              <a:t>un valor apenas un po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19191"/>
                </a:solidFill>
                <a:latin typeface="Arial Narrow"/>
              </a:rPr>
              <a:t>  </a:t>
            </a:r>
            <a:r>
              <a:rPr b="1" lang="es-ES_tradnl" sz="1400" spc="-1" strike="noStrike">
                <a:solidFill>
                  <a:srgbClr val="919191"/>
                </a:solidFill>
                <a:latin typeface="Arial Narrow"/>
              </a:rPr>
              <a:t>superior al rel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19191"/>
                </a:solidFill>
                <a:latin typeface="Arial Narrow"/>
              </a:rPr>
              <a:t>  </a:t>
            </a:r>
            <a:r>
              <a:rPr b="1" lang="es-ES_tradnl" sz="1400" spc="-1" strike="noStrike">
                <a:solidFill>
                  <a:srgbClr val="919191"/>
                </a:solidFill>
                <a:latin typeface="Arial Narrow"/>
              </a:rPr>
              <a:t>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6456240" y="4208400"/>
            <a:ext cx="223524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bc3700"/>
                </a:solidFill>
                <a:latin typeface="Arial Narrow"/>
              </a:rPr>
              <a:t>el valor resultante del contador es la etiqueta de tiempo residual (RTS) enviada en el bit CSI de las PDUs de SAR 1, 3, 5 y 7 de cada grupo de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491160" y="1447920"/>
            <a:ext cx="735120" cy="0"/>
          </a:xfrm>
          <a:prstGeom prst="line">
            <a:avLst/>
          </a:prstGeom>
          <a:ln w="12600">
            <a:solidFill>
              <a:srgbClr val="9234d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6689160" y="212724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16501"/>
                </a:solidFill>
                <a:latin typeface="Arial Narrow"/>
              </a:rPr>
              <a:t>2</a:t>
            </a:r>
            <a:r>
              <a:rPr b="1" lang="es-ES_tradnl" sz="1600" spc="-1" strike="noStrike" baseline="30000">
                <a:solidFill>
                  <a:srgbClr val="316501"/>
                </a:solidFill>
                <a:latin typeface="Arial Narro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6262560" y="2438280"/>
            <a:ext cx="1192320" cy="0"/>
          </a:xfrm>
          <a:prstGeom prst="line">
            <a:avLst/>
          </a:prstGeom>
          <a:ln w="12600">
            <a:solidFill>
              <a:srgbClr val="31650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6233400" y="955800"/>
            <a:ext cx="1184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234db"/>
                </a:solidFill>
                <a:latin typeface="Arial Narrow"/>
              </a:rPr>
              <a:t>tolera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234db"/>
                </a:solidFill>
                <a:latin typeface="Arial Narrow"/>
              </a:rPr>
              <a:t>(aprox. 200 pp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434160" y="1746360"/>
            <a:ext cx="144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frecuencia 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fu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434160" y="2736720"/>
            <a:ext cx="144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frecuencia 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red /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3481560" y="1441440"/>
            <a:ext cx="107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3008 cic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4883040" y="1606680"/>
            <a:ext cx="44460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4883040" y="2978280"/>
            <a:ext cx="44460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4883040" y="198756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2909880" y="4419720"/>
            <a:ext cx="187812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5729400" y="4419720"/>
            <a:ext cx="81108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AL Tipo 1 (cont.): Método SRT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468" name=""/>
          <p:cNvSpPr/>
          <p:nvPr/>
        </p:nvSpPr>
        <p:spPr>
          <a:xfrm>
            <a:off x="2114640" y="4992840"/>
            <a:ext cx="6108480" cy="53496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arga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39640" y="4992840"/>
            <a:ext cx="1551240" cy="534960"/>
          </a:xfrm>
          <a:prstGeom prst="rect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encabe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5115960" y="5584680"/>
            <a:ext cx="848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48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874440" y="558468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5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749680" y="3892680"/>
            <a:ext cx="5473440" cy="59688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47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063880" y="3892680"/>
            <a:ext cx="672840" cy="5968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1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920880" y="1758960"/>
            <a:ext cx="853920" cy="5968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787400" y="1758960"/>
            <a:ext cx="2587680" cy="5968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nú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ecuencial (3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4387680" y="1758960"/>
            <a:ext cx="2587680" cy="5968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amp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RC (3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6988320" y="1758960"/>
            <a:ext cx="853920" cy="5968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bit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a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928800" y="2376360"/>
            <a:ext cx="1116000" cy="149724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2732040" y="2376360"/>
            <a:ext cx="5129280" cy="149724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057400" y="4510080"/>
            <a:ext cx="0" cy="50652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8229600" y="4510080"/>
            <a:ext cx="0" cy="50652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49360" y="1996920"/>
            <a:ext cx="104076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1"/>
                </a:moveTo>
                <a:arcTo wR="10800" hR="10800" stAng="-10793947" swAng="5383466"/>
                <a:lnTo>
                  <a:pt x="10800" y="10800"/>
                </a:lnTo>
                <a:close/>
              </a:path>
              <a:path fill="none" w="21600" h="21600">
                <a:moveTo>
                  <a:pt x="0" y="10781"/>
                </a:moveTo>
                <a:arcTo wR="10800" hR="10800" stAng="-10793947" swAng="5383466"/>
              </a:path>
            </a:pathLst>
          </a:custGeom>
          <a:noFill/>
          <a:ln cap="rnd"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435600" y="2913120"/>
            <a:ext cx="16138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este bit conti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el valor del cont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(RTS) en las cel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ímp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 rot="20220000">
            <a:off x="2028960" y="2235960"/>
            <a:ext cx="43092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1"/>
                </a:moveTo>
                <a:arcTo wR="10800" hR="10800" stAng="-10790857" swAng="5365580"/>
                <a:lnTo>
                  <a:pt x="10800" y="10800"/>
                </a:lnTo>
                <a:close/>
              </a:path>
              <a:path fill="none" w="21600" h="21600">
                <a:moveTo>
                  <a:pt x="0" y="10771"/>
                </a:moveTo>
                <a:arcTo wR="10800" hR="10800" stAng="-10790857" swAng="5365580"/>
              </a:path>
            </a:pathLst>
          </a:custGeom>
          <a:noFill/>
          <a:ln cap="rnd"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976400" y="2913120"/>
            <a:ext cx="27529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este campo contiene un número que es incrementado a cada celda p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permitir detectar celdas perd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4968720" y="2301840"/>
            <a:ext cx="43164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1"/>
                </a:moveTo>
                <a:arcTo wR="10800" hR="10800" stAng="-10790857" swAng="5365580"/>
                <a:lnTo>
                  <a:pt x="10800" y="10800"/>
                </a:lnTo>
                <a:close/>
              </a:path>
              <a:path fill="none" w="21600" h="21600">
                <a:moveTo>
                  <a:pt x="0" y="10771"/>
                </a:moveTo>
                <a:arcTo wR="10800" hR="10800" stAng="-10790857" swAng="5365580"/>
              </a:path>
            </a:pathLst>
          </a:custGeom>
          <a:noFill/>
          <a:ln cap="rnd"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4704480" y="2913120"/>
            <a:ext cx="2982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este campo contiene un valor calcul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por CRC sobre el campo SN (núm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secuencial) que permite corregir err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de 1 bit en el 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7691400" y="2913120"/>
            <a:ext cx="10828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paridad de 1 bit sobre los 7 bit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024680" y="1996920"/>
            <a:ext cx="134568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0"/>
                </a:moveTo>
                <a:arcTo wR="10800" hR="10800" stAng="-5408108" swAng="5408108"/>
                <a:lnTo>
                  <a:pt x="10800" y="10800"/>
                </a:lnTo>
                <a:close/>
              </a:path>
              <a:path fill="none" w="21600" h="21600">
                <a:moveTo>
                  <a:pt x="10775" y="0"/>
                </a:moveTo>
                <a:arcTo wR="10800" hR="10800" stAng="-5408108" swAng="5408108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539720" y="3978360"/>
            <a:ext cx="1346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77"/>
                </a:moveTo>
                <a:arcTo wR="10800" hR="10800" stAng="-10760936" swAng="5352828"/>
                <a:lnTo>
                  <a:pt x="10800" y="10800"/>
                </a:lnTo>
                <a:close/>
              </a:path>
              <a:path fill="none" w="21600" h="21600">
                <a:moveTo>
                  <a:pt x="1" y="10677"/>
                </a:moveTo>
                <a:arcTo wR="10800" hR="10800" stAng="-10760936" swAng="5352828"/>
              </a:path>
            </a:pathLst>
          </a:custGeom>
          <a:noFill/>
          <a:ln cap="rnd" w="12600">
            <a:solidFill>
              <a:srgbClr val="31650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833400" y="4132440"/>
            <a:ext cx="12286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16501"/>
                </a:solidFill>
                <a:latin typeface="Arial Narrow"/>
              </a:rPr>
              <a:t>encabezado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16501"/>
                </a:solidFill>
                <a:latin typeface="Arial Narrow"/>
              </a:rPr>
              <a:t>PDU de S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738520" y="1236600"/>
            <a:ext cx="3286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234db"/>
                </a:solidFill>
                <a:latin typeface="Arial Narrow"/>
              </a:rPr>
              <a:t>encabezado de la PDU de 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"/>
          <p:cNvSpPr/>
          <p:nvPr/>
        </p:nvSpPr>
        <p:spPr>
          <a:xfrm>
            <a:off x="2146320" y="553248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4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647640" y="5532480"/>
            <a:ext cx="68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5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349280" y="5118120"/>
            <a:ext cx="1540080" cy="40968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arga ú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692280" y="5118120"/>
            <a:ext cx="641160" cy="409680"/>
          </a:xfrm>
          <a:prstGeom prst="rect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encabe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1562040" y="4273560"/>
            <a:ext cx="1327320" cy="45576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332000" y="4273560"/>
            <a:ext cx="217440" cy="45576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1325520" y="4749840"/>
            <a:ext cx="0" cy="38412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87520" y="4284720"/>
            <a:ext cx="70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500093"/>
                </a:solidFill>
                <a:latin typeface="Arial Narrow"/>
              </a:rPr>
              <a:t>PDU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500093"/>
                </a:solidFill>
                <a:latin typeface="Arial Narrow"/>
              </a:rPr>
              <a:t>S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073160" y="1714680"/>
            <a:ext cx="227340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terv. de tiempo 1 a 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692280" y="1714680"/>
            <a:ext cx="368280" cy="29196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 Narrow"/>
              </a:rPr>
              <a:t>F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018080" y="1244520"/>
            <a:ext cx="244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ae00"/>
                </a:solidFill>
                <a:latin typeface="Arial Narrow"/>
              </a:rPr>
              <a:t>señal de alineación de t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 rot="3660000">
            <a:off x="916200" y="1258560"/>
            <a:ext cx="495000" cy="66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0" y="21600"/>
                </a:moveTo>
                <a:arcTo wR="10800" hR="10800" stAng="5422141" swAng="5410443"/>
                <a:lnTo>
                  <a:pt x="10800" y="10800"/>
                </a:lnTo>
                <a:close/>
              </a:path>
              <a:path fill="none" w="21600" h="21600">
                <a:moveTo>
                  <a:pt x="10730" y="21600"/>
                </a:moveTo>
                <a:arcTo wR="10800" hR="10800" stAng="5422141" swAng="5410443"/>
              </a:path>
            </a:pathLst>
          </a:custGeom>
          <a:noFill/>
          <a:ln cap="rnd"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925720" y="4749840"/>
            <a:ext cx="0" cy="38412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4660920" y="553248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4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162240" y="5532480"/>
            <a:ext cx="68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5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863880" y="5118120"/>
            <a:ext cx="1540080" cy="40968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arga ú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206880" y="5118120"/>
            <a:ext cx="641160" cy="409680"/>
          </a:xfrm>
          <a:prstGeom prst="rect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encabe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4076640" y="4273560"/>
            <a:ext cx="1327320" cy="45576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846600" y="4273560"/>
            <a:ext cx="217440" cy="45576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840120" y="4749840"/>
            <a:ext cx="0" cy="38412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5440320" y="4749840"/>
            <a:ext cx="0" cy="38412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7709040" y="553248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4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6210360" y="5532480"/>
            <a:ext cx="68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5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912000" y="5118120"/>
            <a:ext cx="1539720" cy="40968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arga ú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6254640" y="5118120"/>
            <a:ext cx="641520" cy="409680"/>
          </a:xfrm>
          <a:prstGeom prst="rect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encabe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7124760" y="4273560"/>
            <a:ext cx="1326960" cy="45576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894360" y="4273560"/>
            <a:ext cx="217800" cy="45576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6888240" y="4749840"/>
            <a:ext cx="0" cy="38412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8488440" y="4749840"/>
            <a:ext cx="0" cy="384120"/>
          </a:xfrm>
          <a:prstGeom prst="line">
            <a:avLst/>
          </a:prstGeom>
          <a:ln w="12600">
            <a:solidFill>
              <a:srgbClr val="9191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700200" y="1995480"/>
            <a:ext cx="811080" cy="2259000"/>
          </a:xfrm>
          <a:prstGeom prst="line">
            <a:avLst/>
          </a:prstGeom>
          <a:ln w="12600">
            <a:solidFill>
              <a:srgbClr val="f57b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2883960" y="1995480"/>
            <a:ext cx="1776600" cy="2259000"/>
          </a:xfrm>
          <a:prstGeom prst="line">
            <a:avLst/>
          </a:prstGeom>
          <a:ln w="12600">
            <a:solidFill>
              <a:srgbClr val="f57b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flipH="1">
            <a:off x="4027320" y="1995480"/>
            <a:ext cx="633600" cy="2335320"/>
          </a:xfrm>
          <a:prstGeom prst="line">
            <a:avLst/>
          </a:prstGeom>
          <a:ln w="12600">
            <a:solidFill>
              <a:srgbClr val="f57b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flipH="1">
            <a:off x="5398920" y="2071800"/>
            <a:ext cx="2538720" cy="2182680"/>
          </a:xfrm>
          <a:prstGeom prst="line">
            <a:avLst/>
          </a:prstGeom>
          <a:ln w="12600">
            <a:solidFill>
              <a:srgbClr val="f57b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H="1">
            <a:off x="7151760" y="1995480"/>
            <a:ext cx="861840" cy="2259000"/>
          </a:xfrm>
          <a:prstGeom prst="line">
            <a:avLst/>
          </a:prstGeom>
          <a:ln w="12600">
            <a:solidFill>
              <a:srgbClr val="f57b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8283600" y="3013200"/>
            <a:ext cx="460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57b49"/>
                </a:solidFill>
                <a:latin typeface="Arial Narro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afd00"/>
                </a:solidFill>
                <a:latin typeface="Arial Narrow"/>
              </a:rPr>
              <a:t>AAL Tipo 1 (cont.): Ejemplo de Emulación de Circuito</a:t>
            </a:r>
            <a:endParaRPr b="1" lang="en-US" sz="2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529" name=""/>
          <p:cNvSpPr/>
          <p:nvPr/>
        </p:nvSpPr>
        <p:spPr>
          <a:xfrm>
            <a:off x="3740040" y="1714680"/>
            <a:ext cx="227340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terv. de tiempo 1 a 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359160" y="1714680"/>
            <a:ext cx="368280" cy="29196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 Narrow"/>
              </a:rPr>
              <a:t>F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407280" y="1714680"/>
            <a:ext cx="227304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terv. de tiempo 1 a 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026040" y="1714680"/>
            <a:ext cx="368280" cy="29196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 Narrow"/>
              </a:rPr>
              <a:t>F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onmutación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uando se trata de señales multiplexadas estadísticamente (conmutación de paquetes, tramas, celdas, mensajes), el conmutador tiene que analizar el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overhead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individual de cada unidad de datos y mapear los datos contenidos en el campo de carga útil hacia las unidades de datos que transmite hacia adelante, agregando un nuevo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overhead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(o, en ciertos casos, manteniendo el mismo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overhead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anterior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AL Tipo 1 (cont.): Método SDT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53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 SDT (</a:t>
            </a:r>
            <a:r>
              <a:rPr b="1" i="1" lang="es-ES_tradnl" sz="3200" spc="-1" strike="noStrike">
                <a:solidFill>
                  <a:srgbClr val="00279f"/>
                </a:solidFill>
                <a:latin typeface="Arial Narrow"/>
              </a:rPr>
              <a:t>structured data transfer</a:t>
            </a: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) constituye un método más directo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 cada dos celdas, un byte adicional trás el encabezado de la SAR contiene un punter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l puntero indica el desplazamiento del inicio de la carga en el campo de carga de las dos celdas (93 bytes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or lo tanto, el puntero puede asumir un valor de 0 a 92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"/>
          <p:cNvSpPr/>
          <p:nvPr/>
        </p:nvSpPr>
        <p:spPr>
          <a:xfrm>
            <a:off x="3367080" y="4281480"/>
            <a:ext cx="4925880" cy="1116000"/>
          </a:xfrm>
          <a:prstGeom prst="line">
            <a:avLst/>
          </a:prstGeom>
          <a:ln w="1260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673360" y="3968640"/>
            <a:ext cx="6006960" cy="292320"/>
          </a:xfrm>
          <a:prstGeom prst="rect">
            <a:avLst/>
          </a:prstGeom>
          <a:solidFill>
            <a:srgbClr val="7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46 bytes de carga en las celdas p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AL Tipo 1 (cont.): Método SDT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538" name=""/>
          <p:cNvSpPr/>
          <p:nvPr/>
        </p:nvSpPr>
        <p:spPr>
          <a:xfrm>
            <a:off x="615960" y="4764240"/>
            <a:ext cx="641520" cy="534960"/>
          </a:xfrm>
          <a:prstGeom prst="rect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enc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1983960" y="5356080"/>
            <a:ext cx="848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48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58720" y="535608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5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673360" y="3664080"/>
            <a:ext cx="6006960" cy="29196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47 bytes de carga en las celdas ímp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987560" y="3664080"/>
            <a:ext cx="673200" cy="29196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1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844560" y="1530360"/>
            <a:ext cx="853920" cy="5968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711440" y="1530360"/>
            <a:ext cx="2587680" cy="5968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nú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ecuencial (3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311720" y="1530360"/>
            <a:ext cx="2587680" cy="5968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amp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RC (3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912000" y="1530360"/>
            <a:ext cx="853920" cy="5968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bit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a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852480" y="2147760"/>
            <a:ext cx="1116000" cy="1497240"/>
          </a:xfrm>
          <a:prstGeom prst="line">
            <a:avLst/>
          </a:prstGeom>
          <a:ln w="12600">
            <a:solidFill>
              <a:srgbClr val="9234d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2655720" y="2147760"/>
            <a:ext cx="5129280" cy="1497240"/>
          </a:xfrm>
          <a:prstGeom prst="line">
            <a:avLst/>
          </a:prstGeom>
          <a:ln w="12600">
            <a:solidFill>
              <a:srgbClr val="9234d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H="1">
            <a:off x="1207800" y="4281480"/>
            <a:ext cx="785880" cy="506520"/>
          </a:xfrm>
          <a:prstGeom prst="line">
            <a:avLst/>
          </a:prstGeom>
          <a:ln w="12600">
            <a:solidFill>
              <a:srgbClr val="f57b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3569760" y="4281480"/>
            <a:ext cx="5053320" cy="506520"/>
          </a:xfrm>
          <a:prstGeom prst="line">
            <a:avLst/>
          </a:prstGeom>
          <a:ln w="12600">
            <a:solidFill>
              <a:srgbClr val="f57b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701640" y="1768320"/>
            <a:ext cx="58356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1"/>
                </a:moveTo>
                <a:arcTo wR="10800" hR="10800" stAng="-10793947" swAng="5375264"/>
                <a:lnTo>
                  <a:pt x="10800" y="10800"/>
                </a:lnTo>
                <a:close/>
              </a:path>
              <a:path fill="none" w="21600" h="21600">
                <a:moveTo>
                  <a:pt x="0" y="10781"/>
                </a:moveTo>
                <a:arcTo wR="10800" hR="10800" stAng="-10793947" swAng="5375264"/>
              </a:path>
            </a:pathLst>
          </a:custGeom>
          <a:noFill/>
          <a:ln cap="rnd"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04800" y="2684520"/>
            <a:ext cx="1305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este bit indica si esta celda es ímpar o si es par (estas contienen el punter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844640" y="2073240"/>
            <a:ext cx="43164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1"/>
                </a:moveTo>
                <a:arcTo wR="10800" hR="10800" stAng="-10790857" swAng="5365580"/>
                <a:lnTo>
                  <a:pt x="10800" y="10800"/>
                </a:lnTo>
                <a:close/>
              </a:path>
              <a:path fill="none" w="21600" h="21600">
                <a:moveTo>
                  <a:pt x="0" y="10771"/>
                </a:moveTo>
                <a:arcTo wR="10800" hR="10800" stAng="-10790857" swAng="5365580"/>
              </a:path>
            </a:pathLst>
          </a:custGeom>
          <a:noFill/>
          <a:ln cap="rnd"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824120" y="2684520"/>
            <a:ext cx="27525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este campo contiene un número que es incrementado a cada celda p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permitir detectar celdas perd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892760" y="2073240"/>
            <a:ext cx="43092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1"/>
                </a:moveTo>
                <a:arcTo wR="10800" hR="10800" stAng="-10790857" swAng="5365580"/>
                <a:lnTo>
                  <a:pt x="10800" y="10800"/>
                </a:lnTo>
                <a:close/>
              </a:path>
              <a:path fill="none" w="21600" h="21600">
                <a:moveTo>
                  <a:pt x="0" y="10771"/>
                </a:moveTo>
                <a:arcTo wR="10800" hR="10800" stAng="-10790857" swAng="5365580"/>
              </a:path>
            </a:pathLst>
          </a:custGeom>
          <a:noFill/>
          <a:ln cap="rnd"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627440" y="2684520"/>
            <a:ext cx="3149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este campo contiene un valor calculado por CRC sobre el campo SN (núm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secuencial) que permite corregir err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de 1 bit en el 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767720" y="2684520"/>
            <a:ext cx="10825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paridad de 1 bit sobre los 7 bit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948720" y="1768320"/>
            <a:ext cx="134568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0"/>
                </a:moveTo>
                <a:arcTo wR="10800" hR="10800" stAng="-5408108" swAng="5408108"/>
                <a:lnTo>
                  <a:pt x="10800" y="10800"/>
                </a:lnTo>
                <a:close/>
              </a:path>
              <a:path fill="none" w="21600" h="21600">
                <a:moveTo>
                  <a:pt x="10775" y="0"/>
                </a:moveTo>
                <a:arcTo wR="10800" hR="10800" stAng="-5408108" swAng="5408108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463760" y="3749760"/>
            <a:ext cx="11934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77"/>
                </a:moveTo>
                <a:arcTo wR="10800" hR="10800" stAng="-10760936" swAng="5351793"/>
                <a:lnTo>
                  <a:pt x="10800" y="10800"/>
                </a:lnTo>
                <a:close/>
              </a:path>
              <a:path fill="none" w="21600" h="21600">
                <a:moveTo>
                  <a:pt x="1" y="10677"/>
                </a:moveTo>
                <a:arcTo wR="10800" hR="10800" stAng="-10760936" swAng="5351793"/>
              </a:path>
            </a:pathLst>
          </a:custGeom>
          <a:noFill/>
          <a:ln cap="rnd" w="12600">
            <a:solidFill>
              <a:srgbClr val="31650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528480" y="3903840"/>
            <a:ext cx="12290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16501"/>
                </a:solidFill>
                <a:latin typeface="Arial Narrow"/>
              </a:rPr>
              <a:t>encabezado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16501"/>
                </a:solidFill>
                <a:latin typeface="Arial Narrow"/>
              </a:rPr>
              <a:t>PDU de S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2890800" y="1236600"/>
            <a:ext cx="290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234db"/>
                </a:solidFill>
                <a:latin typeface="Arial Narrow"/>
              </a:rPr>
              <a:t>encabezado de la PDU de S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3511440" y="5416560"/>
            <a:ext cx="4788000" cy="5968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untero de 7 bits: valor del desplazamiento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arga (0 a 92) en el campo de carga (de las 2 cel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673360" y="3968640"/>
            <a:ext cx="673200" cy="2923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1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1987560" y="3968640"/>
            <a:ext cx="673200" cy="29232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1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2681280" y="4281480"/>
            <a:ext cx="125280" cy="1192320"/>
          </a:xfrm>
          <a:prstGeom prst="line">
            <a:avLst/>
          </a:prstGeom>
          <a:ln w="1260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273320" y="4764240"/>
            <a:ext cx="2301840" cy="534960"/>
          </a:xfrm>
          <a:prstGeom prst="rect">
            <a:avLst/>
          </a:prstGeom>
          <a:solidFill>
            <a:srgbClr val="eaec5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carga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825640" y="5416560"/>
            <a:ext cx="673200" cy="5968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1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incronización en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mulación de Circuito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57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emulación de circuitos permite realizar circuitos de </a:t>
            </a:r>
            <a:r>
              <a:rPr b="1" lang="es-ES_tradnl" sz="2800" spc="-1" strike="noStrike">
                <a:solidFill>
                  <a:srgbClr val="438e00"/>
                </a:solidFill>
                <a:latin typeface="Arial Narrow"/>
              </a:rPr>
              <a:t>velocidade binaria constante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n ATM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814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omo la información es mapeada en el campo de carga de las células, ella es transferida em bloques grande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814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os bloques no tardan todos el mismo tiempo en cruzar las redes (el retardo es variable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la variación del retardo de las células puede alcanzar 4 m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814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no se puede recuperar el reloj de la señal original a partir del ritmo de llegada de los bloques de bits sin generar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wander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  <p:transition spd="slow">
    <p:fade thruBlk="true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incronización de las Rede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57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temporización tiene que ser transferida por otros medi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eñales </a:t>
            </a:r>
            <a:r>
              <a:rPr b="1" lang="es-ES_tradnl" sz="2600" spc="-1" strike="noStrike">
                <a:solidFill>
                  <a:srgbClr val="ad6900"/>
                </a:solidFill>
                <a:latin typeface="Arial Narrow"/>
              </a:rPr>
              <a:t>síncrona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a um reloj genérico tienen su velocidad reproducida a partir de ese </a:t>
            </a:r>
            <a:r>
              <a:rPr b="1" lang="es-ES_tradnl" sz="2600" spc="-1" strike="noStrike">
                <a:solidFill>
                  <a:srgbClr val="438e00"/>
                </a:solidFill>
                <a:latin typeface="Arial Narrow"/>
              </a:rPr>
              <a:t>reloj de red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eñales </a:t>
            </a:r>
            <a:r>
              <a:rPr b="1" lang="es-ES_tradnl" sz="2600" spc="-1" strike="noStrike">
                <a:solidFill>
                  <a:srgbClr val="ad6900"/>
                </a:solidFill>
                <a:latin typeface="Arial Narrow"/>
              </a:rPr>
              <a:t>plesiócrona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tienen su </a:t>
            </a:r>
            <a:r>
              <a:rPr b="1" lang="es-ES_tradnl" sz="2600" spc="-1" strike="noStrike">
                <a:solidFill>
                  <a:srgbClr val="438e00"/>
                </a:solidFill>
                <a:latin typeface="Arial Narrow"/>
              </a:rPr>
              <a:t>velocidad real comparada con el reloj de la red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n el punto de conversión a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la </a:t>
            </a:r>
            <a:r>
              <a:rPr b="1" lang="es-ES_tradnl" sz="2400" spc="-1" strike="noStrike">
                <a:solidFill>
                  <a:srgbClr val="438e00"/>
                </a:solidFill>
                <a:latin typeface="Arial Narrow"/>
              </a:rPr>
              <a:t>información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 resultante de esa medición es </a:t>
            </a:r>
            <a:r>
              <a:rPr b="1" lang="es-ES_tradnl" sz="2400" spc="-1" strike="noStrike">
                <a:solidFill>
                  <a:srgbClr val="438e00"/>
                </a:solidFill>
                <a:latin typeface="Arial Narrow"/>
              </a:rPr>
              <a:t>transferida al destino 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junto con la carga útil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en el punto de salida (reconversión al formato original), la temporización real de la carga es </a:t>
            </a:r>
            <a:r>
              <a:rPr b="1" lang="es-ES_tradnl" sz="2400" spc="-1" strike="noStrike">
                <a:solidFill>
                  <a:srgbClr val="438e00"/>
                </a:solidFill>
                <a:latin typeface="Arial Narrow"/>
              </a:rPr>
              <a:t>reproducida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 a partir de esa información y del reloj genérico de red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Método Adaptativo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Hay un otro método para recuperar la temporización de señales asíncronas, llamado </a:t>
            </a:r>
            <a:r>
              <a:rPr b="1" lang="es-ES_tradnl" sz="2800" spc="-1" strike="noStrike">
                <a:solidFill>
                  <a:srgbClr val="fc0128"/>
                </a:solidFill>
                <a:latin typeface="Arial Narrow"/>
              </a:rPr>
              <a:t>método adaptativ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Debido al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wander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generado, no sirve para señales que necesitan cumplir con las normas ITU-T (p. ej. tramas PCM a 2 Mbit/s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egún este método, la temporización es recuperada del ritmo irregular de llegada de las célula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s células son escritas en un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buffer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s células son leídas con un reloj nominal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uando se alcanza un límite superior en el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buffe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, la velocidad de lectura es aumentad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uando se alcanza un límite inferior, la velocidad de lectura es disminuid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  <p:transition>
    <p:split dir="out" orient="vert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erviço CBR Assíncrono: SRT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576" name=""/>
          <p:cNvSpPr/>
          <p:nvPr/>
        </p:nvSpPr>
        <p:spPr>
          <a:xfrm>
            <a:off x="692280" y="3740040"/>
            <a:ext cx="825480" cy="82548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216160" y="3740040"/>
            <a:ext cx="825480" cy="82548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map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6483240" y="3740040"/>
            <a:ext cx="825480" cy="82548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desm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p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8007480" y="3740040"/>
            <a:ext cx="825480" cy="82548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rece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359160" y="3359160"/>
            <a:ext cx="1663560" cy="151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isla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538280" y="4114800"/>
            <a:ext cx="658800" cy="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3062160" y="4114800"/>
            <a:ext cx="277920" cy="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7329600" y="4114800"/>
            <a:ext cx="658800" cy="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043600" y="4114800"/>
            <a:ext cx="1420560" cy="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67652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75248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82880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90512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746748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754380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62012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769608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98108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777240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5111640" y="3740040"/>
            <a:ext cx="216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18148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25780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5873760" y="3740040"/>
            <a:ext cx="216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594360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601992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416560" y="3740040"/>
            <a:ext cx="216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556272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1768320" y="2149560"/>
            <a:ext cx="2260440" cy="28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8"/>
                </a:moveTo>
                <a:arcTo wR="10800" hR="10800" stAng="-10796197" swAng="5391368"/>
                <a:lnTo>
                  <a:pt x="10800" y="10800"/>
                </a:lnTo>
                <a:close/>
              </a:path>
              <a:path fill="none" w="21600" h="21600">
                <a:moveTo>
                  <a:pt x="0" y="10788"/>
                </a:moveTo>
                <a:arcTo wR="10800" hR="10800" stAng="-10796197" swAng="5391368"/>
              </a:path>
            </a:pathLst>
          </a:custGeom>
          <a:noFill/>
          <a:ln cap="rnd" w="12600">
            <a:solidFill>
              <a:srgbClr val="618ffd"/>
            </a:solidFill>
            <a:miter/>
            <a:tailEnd len="med" type="triangle" w="med"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7559640" y="2149560"/>
            <a:ext cx="2260440" cy="28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8"/>
                </a:moveTo>
                <a:arcTo wR="10800" hR="10800" stAng="-10796197" swAng="5391368"/>
                <a:lnTo>
                  <a:pt x="10800" y="10800"/>
                </a:lnTo>
                <a:close/>
              </a:path>
              <a:path fill="none" w="21600" h="21600">
                <a:moveTo>
                  <a:pt x="0" y="10788"/>
                </a:moveTo>
                <a:arcTo wR="10800" hR="10800" stAng="-10796197" swAng="5391368"/>
              </a:path>
            </a:pathLst>
          </a:custGeom>
          <a:noFill/>
          <a:ln cap="rnd" w="12600">
            <a:solidFill>
              <a:srgbClr val="618ffd"/>
            </a:solidFill>
            <a:miter/>
            <a:tailEnd len="med" type="triangle" w="med"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1569600" y="1778040"/>
            <a:ext cx="219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flujo asíncrono 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6598800" y="1778040"/>
            <a:ext cx="219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flujo asíncrono 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105520" y="2590920"/>
            <a:ext cx="1220760" cy="1068120"/>
          </a:xfrm>
          <a:custGeom>
            <a:avLst/>
            <a:gdLst/>
            <a:ahLst/>
            <a:rect l="l" t="t" r="r" b="b"/>
            <a:pathLst>
              <a:path w="769" h="673">
                <a:moveTo>
                  <a:pt x="144" y="435"/>
                </a:moveTo>
                <a:lnTo>
                  <a:pt x="435" y="672"/>
                </a:lnTo>
                <a:lnTo>
                  <a:pt x="672" y="432"/>
                </a:lnTo>
                <a:lnTo>
                  <a:pt x="480" y="432"/>
                </a:lnTo>
                <a:lnTo>
                  <a:pt x="768" y="2"/>
                </a:lnTo>
                <a:lnTo>
                  <a:pt x="0" y="0"/>
                </a:lnTo>
                <a:lnTo>
                  <a:pt x="336" y="432"/>
                </a:lnTo>
                <a:lnTo>
                  <a:pt x="144" y="435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868280" y="1952640"/>
            <a:ext cx="1851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38e00"/>
                </a:solidFill>
                <a:latin typeface="Arial Narrow"/>
              </a:rPr>
              <a:t>células ATM 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38e00"/>
                </a:solidFill>
                <a:latin typeface="Arial Narrow"/>
              </a:rPr>
              <a:t>llegadas aleato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 rot="10800000">
            <a:off x="5486400" y="2847960"/>
            <a:ext cx="165024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9" y="0"/>
                </a:moveTo>
                <a:arcTo wR="10800" hR="10800" stAng="-5406611" swAng="5406611"/>
                <a:lnTo>
                  <a:pt x="10800" y="10800"/>
                </a:lnTo>
                <a:close/>
              </a:path>
              <a:path fill="none" w="21600" h="21600">
                <a:moveTo>
                  <a:pt x="10779" y="0"/>
                </a:moveTo>
                <a:arcTo wR="10800" hR="10800" stAng="-5406611" swAng="5406611"/>
              </a:path>
            </a:pathLst>
          </a:custGeom>
          <a:noFill/>
          <a:ln cap="rnd" w="12600">
            <a:solidFill>
              <a:srgbClr val="ad6900"/>
            </a:solidFill>
            <a:miter/>
            <a:headEnd len="med" type="triangle" w="med"/>
          </a:ln>
          <a:effectLst>
            <a:outerShdw dist="17819" dir="2700000" blurRad="0" rotWithShape="0">
              <a:srgbClr val="673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6320520" y="5457960"/>
            <a:ext cx="2403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d6900"/>
                </a:solidFill>
                <a:latin typeface="Arial Narrow"/>
              </a:rPr>
              <a:t>diferencias de retard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d6900"/>
                </a:solidFill>
                <a:latin typeface="Arial Narrow"/>
              </a:rPr>
              <a:t>hasta 4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461880" y="4753800"/>
            <a:ext cx="3648240" cy="146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79f"/>
                </a:solidFill>
                <a:latin typeface="Arial Narrow"/>
              </a:rPr>
              <a:t>la temporización original es reconstruída a partir de informaciones en las células y de una referencia genérica de l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79f"/>
                </a:solidFill>
                <a:latin typeface="Arial Narrow"/>
              </a:rPr>
              <a:t>(método SRTS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"/>
          <p:cNvSpPr/>
          <p:nvPr/>
        </p:nvSpPr>
        <p:spPr>
          <a:xfrm>
            <a:off x="6483240" y="3130560"/>
            <a:ext cx="825480" cy="596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erviço CBR Assíncrono: Método Adaptativo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614" name=""/>
          <p:cNvSpPr/>
          <p:nvPr/>
        </p:nvSpPr>
        <p:spPr>
          <a:xfrm>
            <a:off x="692280" y="3740040"/>
            <a:ext cx="825480" cy="82548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fo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2216160" y="3740040"/>
            <a:ext cx="825480" cy="82548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map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8007480" y="3740040"/>
            <a:ext cx="825480" cy="82548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rece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352680" y="3352680"/>
            <a:ext cx="1676520" cy="1524240"/>
          </a:xfrm>
          <a:prstGeom prst="ellipse">
            <a:avLst/>
          </a:prstGeom>
          <a:solidFill>
            <a:srgbClr val="618ffd"/>
          </a:solidFill>
          <a:ln w="0">
            <a:noFill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ilha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1538280" y="4114800"/>
            <a:ext cx="658800" cy="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3062160" y="4114800"/>
            <a:ext cx="277920" cy="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7329600" y="4114800"/>
            <a:ext cx="658800" cy="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167652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175248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182880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190512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746748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754380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762012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769608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198108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777240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5111640" y="3740040"/>
            <a:ext cx="216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518148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25780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5873760" y="3740040"/>
            <a:ext cx="216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594360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601992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5416560" y="3740040"/>
            <a:ext cx="2160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5562720" y="382428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1768320" y="2149560"/>
            <a:ext cx="2260440" cy="28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8"/>
                </a:moveTo>
                <a:arcTo wR="10800" hR="10800" stAng="-10796197" swAng="5391368"/>
                <a:lnTo>
                  <a:pt x="10800" y="10800"/>
                </a:lnTo>
                <a:close/>
              </a:path>
              <a:path fill="none" w="21600" h="21600">
                <a:moveTo>
                  <a:pt x="0" y="10788"/>
                </a:moveTo>
                <a:arcTo wR="10800" hR="10800" stAng="-10796197" swAng="5391368"/>
              </a:path>
            </a:pathLst>
          </a:custGeom>
          <a:noFill/>
          <a:ln cap="rnd" w="12600">
            <a:solidFill>
              <a:srgbClr val="00279f"/>
            </a:solidFill>
            <a:miter/>
            <a:tailEnd len="med" type="triangle" w="med"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rot="3180000">
            <a:off x="6283440" y="1294920"/>
            <a:ext cx="1800000" cy="33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1" y="0"/>
                </a:moveTo>
                <a:arcTo wR="10800" hR="10800" stAng="-5406063" swAng="5406063"/>
                <a:lnTo>
                  <a:pt x="10800" y="10800"/>
                </a:lnTo>
                <a:close/>
              </a:path>
              <a:path fill="none" w="21600" h="21600">
                <a:moveTo>
                  <a:pt x="10781" y="0"/>
                </a:moveTo>
                <a:arcTo wR="10800" hR="10800" stAng="-5406063" swAng="5406063"/>
              </a:path>
            </a:pathLst>
          </a:custGeom>
          <a:noFill/>
          <a:ln cap="rnd" w="12600">
            <a:solidFill>
              <a:srgbClr val="00279f"/>
            </a:solidFill>
            <a:miter/>
            <a:headEnd len="med" type="triangle" w="med"/>
          </a:ln>
          <a:effectLst>
            <a:outerShdw dist="17819" dir="2700000" blurRad="0" rotWithShape="0">
              <a:srgbClr val="0017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1569600" y="1778040"/>
            <a:ext cx="219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flujo asíncrono 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6598800" y="1473120"/>
            <a:ext cx="219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flujo asíncrono 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5105520" y="2590920"/>
            <a:ext cx="1220760" cy="1068120"/>
          </a:xfrm>
          <a:custGeom>
            <a:avLst/>
            <a:gdLst/>
            <a:ahLst/>
            <a:rect l="l" t="t" r="r" b="b"/>
            <a:pathLst>
              <a:path w="769" h="673">
                <a:moveTo>
                  <a:pt x="144" y="435"/>
                </a:moveTo>
                <a:lnTo>
                  <a:pt x="435" y="672"/>
                </a:lnTo>
                <a:lnTo>
                  <a:pt x="672" y="432"/>
                </a:lnTo>
                <a:lnTo>
                  <a:pt x="480" y="432"/>
                </a:lnTo>
                <a:lnTo>
                  <a:pt x="768" y="2"/>
                </a:lnTo>
                <a:lnTo>
                  <a:pt x="0" y="0"/>
                </a:lnTo>
                <a:lnTo>
                  <a:pt x="336" y="432"/>
                </a:lnTo>
                <a:lnTo>
                  <a:pt x="144" y="43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754160" y="1952640"/>
            <a:ext cx="1965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38e00"/>
                </a:solidFill>
                <a:latin typeface="Arial Narrow"/>
              </a:rPr>
              <a:t>células ATM 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38e00"/>
                </a:solidFill>
                <a:latin typeface="Arial Narrow"/>
              </a:rPr>
              <a:t>chegadas aleató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 rot="10800000">
            <a:off x="5487840" y="2847960"/>
            <a:ext cx="226080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828" swAng="5404828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828" swAng="5404828"/>
              </a:path>
            </a:pathLst>
          </a:custGeom>
          <a:noFill/>
          <a:ln cap="rnd" w="12600">
            <a:solidFill>
              <a:srgbClr val="ad6900"/>
            </a:solidFill>
            <a:miter/>
            <a:headEnd len="med" type="triangle" w="med"/>
          </a:ln>
          <a:effectLst>
            <a:outerShdw dist="17819" dir="2700000" blurRad="0" rotWithShape="0">
              <a:srgbClr val="673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6574320" y="5381640"/>
            <a:ext cx="2351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d6900"/>
                </a:solidFill>
                <a:latin typeface="Arial Narrow"/>
              </a:rPr>
              <a:t>diferenças de retard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d6900"/>
                </a:solidFill>
                <a:latin typeface="Arial Narrow"/>
              </a:rPr>
              <a:t>até 4 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461880" y="5007960"/>
            <a:ext cx="3648240" cy="125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79f"/>
                </a:solidFill>
                <a:latin typeface="Arial Narrow"/>
              </a:rPr>
              <a:t>a temporização original é reconstruída a partir do nível de preenchimento do </a:t>
            </a:r>
            <a:r>
              <a:rPr b="1" i="1" lang="es-ES_tradnl" sz="1800" spc="-1" strike="noStrike">
                <a:solidFill>
                  <a:srgbClr val="00279f"/>
                </a:solidFill>
                <a:latin typeface="Arial Narrow"/>
              </a:rPr>
              <a:t>buffer</a:t>
            </a:r>
            <a:r>
              <a:rPr b="1" lang="es-ES_tradnl" sz="1800" spc="-1" strike="noStrike">
                <a:solidFill>
                  <a:srgbClr val="00279f"/>
                </a:solidFill>
                <a:latin typeface="Arial Narrow"/>
              </a:rPr>
              <a:t>, o que causa </a:t>
            </a:r>
            <a:r>
              <a:rPr b="1" i="1" lang="es-ES_tradnl" sz="1800" spc="-1" strike="noStrike">
                <a:solidFill>
                  <a:srgbClr val="00279f"/>
                </a:solidFill>
                <a:latin typeface="Arial Narrow"/>
              </a:rPr>
              <a:t>wander</a:t>
            </a:r>
            <a:r>
              <a:rPr b="1" lang="es-ES_tradnl" sz="1800" spc="-1" strike="noStrike">
                <a:solidFill>
                  <a:srgbClr val="00279f"/>
                </a:solidFill>
                <a:latin typeface="Arial Narrow"/>
              </a:rPr>
              <a:t> devido à variação do retardo, além do grande retardo do sinal no </a:t>
            </a:r>
            <a:r>
              <a:rPr b="1" i="1" lang="es-ES_tradnl" sz="1800" spc="-1" strike="noStrike">
                <a:solidFill>
                  <a:srgbClr val="00279f"/>
                </a:solidFill>
                <a:latin typeface="Arial Narrow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5029200" y="2819520"/>
            <a:ext cx="1830240" cy="1296720"/>
          </a:xfrm>
          <a:custGeom>
            <a:avLst/>
            <a:gdLst/>
            <a:ahLst/>
            <a:rect l="l" t="t" r="r" b="b"/>
            <a:pathLst>
              <a:path w="1153" h="817">
                <a:moveTo>
                  <a:pt x="0" y="816"/>
                </a:moveTo>
                <a:lnTo>
                  <a:pt x="768" y="816"/>
                </a:lnTo>
                <a:lnTo>
                  <a:pt x="768" y="0"/>
                </a:lnTo>
                <a:lnTo>
                  <a:pt x="1152" y="0"/>
                </a:lnTo>
                <a:lnTo>
                  <a:pt x="1152" y="192"/>
                </a:lnTo>
              </a:path>
            </a:pathLst>
          </a:custGeom>
          <a:noFill/>
          <a:ln cap="rnd" w="12600">
            <a:solidFill>
              <a:srgbClr val="618ffd"/>
            </a:solidFill>
            <a:round/>
            <a:tailEnd len="med" type="triangle" w="med"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504120" y="3276720"/>
            <a:ext cx="7855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477120" y="3360600"/>
            <a:ext cx="836640" cy="374760"/>
          </a:xfrm>
          <a:custGeom>
            <a:avLst/>
            <a:gdLst/>
            <a:ahLst/>
            <a:rect l="l" t="t" r="r" b="b"/>
            <a:pathLst>
              <a:path w="527" h="236">
                <a:moveTo>
                  <a:pt x="0" y="43"/>
                </a:moveTo>
                <a:lnTo>
                  <a:pt x="10" y="38"/>
                </a:lnTo>
                <a:lnTo>
                  <a:pt x="43" y="9"/>
                </a:lnTo>
                <a:lnTo>
                  <a:pt x="51" y="0"/>
                </a:lnTo>
                <a:lnTo>
                  <a:pt x="65" y="9"/>
                </a:lnTo>
                <a:lnTo>
                  <a:pt x="72" y="14"/>
                </a:lnTo>
                <a:lnTo>
                  <a:pt x="79" y="16"/>
                </a:lnTo>
                <a:lnTo>
                  <a:pt x="87" y="21"/>
                </a:lnTo>
                <a:lnTo>
                  <a:pt x="94" y="26"/>
                </a:lnTo>
                <a:lnTo>
                  <a:pt x="101" y="26"/>
                </a:lnTo>
                <a:lnTo>
                  <a:pt x="108" y="26"/>
                </a:lnTo>
                <a:lnTo>
                  <a:pt x="118" y="24"/>
                </a:lnTo>
                <a:lnTo>
                  <a:pt x="127" y="21"/>
                </a:lnTo>
                <a:lnTo>
                  <a:pt x="139" y="26"/>
                </a:lnTo>
                <a:lnTo>
                  <a:pt x="163" y="36"/>
                </a:lnTo>
                <a:lnTo>
                  <a:pt x="173" y="31"/>
                </a:lnTo>
                <a:lnTo>
                  <a:pt x="183" y="24"/>
                </a:lnTo>
                <a:lnTo>
                  <a:pt x="192" y="31"/>
                </a:lnTo>
                <a:lnTo>
                  <a:pt x="231" y="60"/>
                </a:lnTo>
                <a:lnTo>
                  <a:pt x="238" y="62"/>
                </a:lnTo>
                <a:lnTo>
                  <a:pt x="245" y="62"/>
                </a:lnTo>
                <a:lnTo>
                  <a:pt x="255" y="62"/>
                </a:lnTo>
                <a:lnTo>
                  <a:pt x="262" y="62"/>
                </a:lnTo>
                <a:lnTo>
                  <a:pt x="269" y="60"/>
                </a:lnTo>
                <a:lnTo>
                  <a:pt x="274" y="53"/>
                </a:lnTo>
                <a:lnTo>
                  <a:pt x="276" y="46"/>
                </a:lnTo>
                <a:lnTo>
                  <a:pt x="283" y="43"/>
                </a:lnTo>
                <a:lnTo>
                  <a:pt x="298" y="50"/>
                </a:lnTo>
                <a:lnTo>
                  <a:pt x="305" y="38"/>
                </a:lnTo>
                <a:lnTo>
                  <a:pt x="315" y="31"/>
                </a:lnTo>
                <a:lnTo>
                  <a:pt x="322" y="31"/>
                </a:lnTo>
                <a:lnTo>
                  <a:pt x="331" y="36"/>
                </a:lnTo>
                <a:lnTo>
                  <a:pt x="341" y="36"/>
                </a:lnTo>
                <a:lnTo>
                  <a:pt x="365" y="33"/>
                </a:lnTo>
                <a:lnTo>
                  <a:pt x="375" y="36"/>
                </a:lnTo>
                <a:lnTo>
                  <a:pt x="382" y="36"/>
                </a:lnTo>
                <a:lnTo>
                  <a:pt x="406" y="31"/>
                </a:lnTo>
                <a:lnTo>
                  <a:pt x="420" y="31"/>
                </a:lnTo>
                <a:lnTo>
                  <a:pt x="427" y="31"/>
                </a:lnTo>
                <a:lnTo>
                  <a:pt x="437" y="28"/>
                </a:lnTo>
                <a:lnTo>
                  <a:pt x="463" y="31"/>
                </a:lnTo>
                <a:lnTo>
                  <a:pt x="471" y="40"/>
                </a:lnTo>
                <a:lnTo>
                  <a:pt x="475" y="50"/>
                </a:lnTo>
                <a:lnTo>
                  <a:pt x="485" y="48"/>
                </a:lnTo>
                <a:lnTo>
                  <a:pt x="490" y="40"/>
                </a:lnTo>
                <a:lnTo>
                  <a:pt x="499" y="36"/>
                </a:lnTo>
                <a:lnTo>
                  <a:pt x="511" y="36"/>
                </a:lnTo>
                <a:lnTo>
                  <a:pt x="519" y="40"/>
                </a:lnTo>
                <a:lnTo>
                  <a:pt x="526" y="40"/>
                </a:lnTo>
                <a:lnTo>
                  <a:pt x="526" y="235"/>
                </a:lnTo>
                <a:lnTo>
                  <a:pt x="0" y="235"/>
                </a:lnTo>
                <a:lnTo>
                  <a:pt x="0" y="4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6483240" y="3740040"/>
            <a:ext cx="825480" cy="82548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desm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fff00"/>
                </a:solidFill>
                <a:latin typeface="Arial Narrow"/>
              </a:rPr>
              <a:t>p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6504120" y="3581280"/>
            <a:ext cx="7855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7178760" y="2530440"/>
            <a:ext cx="43092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1"/>
                </a:moveTo>
                <a:arcTo wR="10800" hR="10800" stAng="-10790857" swAng="5365580"/>
                <a:lnTo>
                  <a:pt x="10800" y="10800"/>
                </a:lnTo>
                <a:close/>
              </a:path>
              <a:path fill="none" w="21600" h="21600">
                <a:moveTo>
                  <a:pt x="0" y="10771"/>
                </a:moveTo>
                <a:arcTo wR="10800" hR="10800" stAng="-10790857" swAng="5365580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  <a:effectLst>
            <a:outerShdw dist="17819" dir="2700000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7188120" y="2257560"/>
            <a:ext cx="71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c0128"/>
                </a:solidFill>
                <a:latin typeface="Arial Narrow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erviço CBR Síncrono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656" name=""/>
          <p:cNvSpPr/>
          <p:nvPr/>
        </p:nvSpPr>
        <p:spPr>
          <a:xfrm>
            <a:off x="2901960" y="3206880"/>
            <a:ext cx="3263760" cy="28828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afd00"/>
                </a:solidFill>
                <a:latin typeface="Arial Narrow"/>
              </a:rPr>
              <a:t>Desmapeador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3435480" y="3740040"/>
            <a:ext cx="2197080" cy="1206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afd00"/>
                </a:solidFill>
                <a:latin typeface="Arial Narrow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4572000" y="2452680"/>
            <a:ext cx="0" cy="73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1233360" y="4343400"/>
            <a:ext cx="15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6186600" y="4343400"/>
            <a:ext cx="15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909880" y="4343400"/>
            <a:ext cx="506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729400" y="434340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4572000" y="3214800"/>
            <a:ext cx="0" cy="506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rot="10800000">
            <a:off x="2314800" y="3153240"/>
            <a:ext cx="226044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1"/>
                </a:moveTo>
                <a:arcTo wR="10800" hR="10800" stAng="-10790857" swAng="5386028"/>
                <a:lnTo>
                  <a:pt x="10800" y="10800"/>
                </a:lnTo>
                <a:close/>
              </a:path>
              <a:path fill="none" w="21600" h="21600">
                <a:moveTo>
                  <a:pt x="0" y="10771"/>
                </a:moveTo>
                <a:arcTo wR="10800" hR="10800" stAng="-10790857" swAng="5386028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rot="10800000">
            <a:off x="4572360" y="3153240"/>
            <a:ext cx="210744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4" y="0"/>
                </a:moveTo>
                <a:arcTo wR="10800" hR="10800" stAng="-5405177" swAng="5405177"/>
                <a:lnTo>
                  <a:pt x="10800" y="10800"/>
                </a:lnTo>
                <a:close/>
              </a:path>
              <a:path fill="none" w="21600" h="21600">
                <a:moveTo>
                  <a:pt x="10784" y="0"/>
                </a:moveTo>
                <a:arcTo wR="10800" hR="10800" stAng="-5405177" swAng="540517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251880" y="1573200"/>
            <a:ext cx="2641320" cy="82044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Arial Narrow"/>
              </a:rPr>
              <a:t>referência de reló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Arial Narrow"/>
              </a:rPr>
              <a:t>rastreável a um P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6787800" y="4468680"/>
            <a:ext cx="1665720" cy="45468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Arial Narrow"/>
              </a:rPr>
              <a:t>serviço C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565200" y="4468680"/>
            <a:ext cx="2223720" cy="820440"/>
          </a:xfrm>
          <a:prstGeom prst="rect">
            <a:avLst/>
          </a:prstGeom>
          <a:solidFill>
            <a:srgbClr val="618ffd"/>
          </a:solidFill>
          <a:ln w="0">
            <a:noFill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Arial Narrow"/>
              </a:rPr>
              <a:t>células ATM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Arial Narrow"/>
              </a:rPr>
              <a:t>tráfego C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3443400" y="4343400"/>
            <a:ext cx="21826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6332400" y="2076480"/>
            <a:ext cx="2272320" cy="130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1e3c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este método só p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ser utilizado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ransportar si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síncronos ao P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s necesario que en los puntos de conversión a ATM y reconversión al formato original, la misma </a:t>
            </a:r>
            <a:r>
              <a:rPr b="1" lang="es-ES_tradnl" sz="2800" spc="-1" strike="noStrike">
                <a:solidFill>
                  <a:srgbClr val="714400"/>
                </a:solidFill>
                <a:latin typeface="Arial Narrow"/>
              </a:rPr>
              <a:t>referencia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genérica de reloj de rede esté </a:t>
            </a:r>
            <a:r>
              <a:rPr b="1" lang="es-ES_tradnl" sz="2800" spc="-1" strike="noStrike">
                <a:solidFill>
                  <a:srgbClr val="438e00"/>
                </a:solidFill>
                <a:latin typeface="Arial Narrow"/>
              </a:rPr>
              <a:t>disponible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es necesario mantener una </a:t>
            </a:r>
            <a:r>
              <a:rPr b="1" lang="es-ES_tradnl" sz="2400" spc="-1" strike="noStrike">
                <a:solidFill>
                  <a:srgbClr val="438e00"/>
                </a:solidFill>
                <a:latin typeface="Arial Narrow"/>
              </a:rPr>
              <a:t>red de distribución de reloj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, como en el caso de las redes determinística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esa red puede utilizar la propia </a:t>
            </a:r>
            <a:r>
              <a:rPr b="1" lang="es-ES_tradnl" sz="2400" spc="-1" strike="noStrike">
                <a:solidFill>
                  <a:srgbClr val="438e00"/>
                </a:solidFill>
                <a:latin typeface="Arial Narrow"/>
              </a:rPr>
              <a:t>señal óptica de linea 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para llevar esa información a todos los punto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alternativamente, se pueden montar redes de distribución de reloj con auxilio de </a:t>
            </a:r>
            <a:r>
              <a:rPr b="1" lang="es-ES_tradnl" sz="2400" spc="-1" strike="noStrike">
                <a:solidFill>
                  <a:srgbClr val="438e00"/>
                </a:solidFill>
                <a:latin typeface="Arial Narrow"/>
              </a:rPr>
              <a:t>referencias primarias locales por GPS 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(satélites del sistema de posicionamiento global)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la solución adoptada puede ser mixta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67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incronización de las Redes (cont.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onmutación de Paquete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2139840" y="1301760"/>
            <a:ext cx="151128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25440" y="1301760"/>
            <a:ext cx="901800" cy="29196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9840" y="1606680"/>
            <a:ext cx="151128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25440" y="1606680"/>
            <a:ext cx="901800" cy="29196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9840" y="1911240"/>
            <a:ext cx="151128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25440" y="1911240"/>
            <a:ext cx="901800" cy="29232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2749680"/>
            <a:ext cx="6997680" cy="2349360"/>
          </a:xfrm>
          <a:prstGeom prst="roundRect">
            <a:avLst>
              <a:gd name="adj" fmla="val 12486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rot="16200000">
            <a:off x="2595960" y="2063880"/>
            <a:ext cx="368280" cy="825480"/>
          </a:xfrm>
          <a:prstGeom prst="rightArrow">
            <a:avLst>
              <a:gd name="adj1" fmla="val 75000"/>
              <a:gd name="adj2" fmla="val 50014"/>
            </a:avLst>
          </a:prstGeom>
          <a:solidFill>
            <a:srgbClr val="fe9b03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rot="16200000">
            <a:off x="4958280" y="4959360"/>
            <a:ext cx="368280" cy="825480"/>
          </a:xfrm>
          <a:prstGeom prst="rightArrow">
            <a:avLst>
              <a:gd name="adj1" fmla="val 75000"/>
              <a:gd name="adj2" fmla="val 50014"/>
            </a:avLst>
          </a:prstGeom>
          <a:solidFill>
            <a:srgbClr val="fe9b03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8400" y="3146400"/>
          <a:ext cx="12002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3146400"/>
                    <a:ext cx="12002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282840" y="3282840"/>
            <a:ext cx="151128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30360" y="3892680"/>
            <a:ext cx="901800" cy="29196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rot="17160000">
            <a:off x="2673000" y="4959360"/>
            <a:ext cx="368280" cy="825480"/>
          </a:xfrm>
          <a:prstGeom prst="rightArrow">
            <a:avLst>
              <a:gd name="adj1" fmla="val 75000"/>
              <a:gd name="adj2" fmla="val 50014"/>
            </a:avLst>
          </a:prstGeom>
          <a:solidFill>
            <a:srgbClr val="fe9b03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rot="14460000">
            <a:off x="7244640" y="4959360"/>
            <a:ext cx="368280" cy="825480"/>
          </a:xfrm>
          <a:prstGeom prst="rightArrow">
            <a:avLst>
              <a:gd name="adj1" fmla="val 75000"/>
              <a:gd name="adj2" fmla="val 50014"/>
            </a:avLst>
          </a:prstGeom>
          <a:solidFill>
            <a:srgbClr val="fe9b03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82640" y="5645160"/>
            <a:ext cx="151128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8240" y="5645160"/>
            <a:ext cx="901800" cy="29196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25840" y="5645160"/>
            <a:ext cx="151128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11440" y="5645160"/>
            <a:ext cx="901800" cy="291960"/>
          </a:xfrm>
          <a:prstGeom prst="rect">
            <a:avLst/>
          </a:prstGeom>
          <a:solidFill>
            <a:srgbClr val="7144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3080" y="5645160"/>
            <a:ext cx="151128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8680" y="5645160"/>
            <a:ext cx="901440" cy="291960"/>
          </a:xfrm>
          <a:prstGeom prst="rect">
            <a:avLst/>
          </a:prstGeom>
          <a:solidFill>
            <a:srgbClr val="47474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82840" y="3740040"/>
            <a:ext cx="151128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82840" y="4197240"/>
            <a:ext cx="151128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9840" y="2978280"/>
            <a:ext cx="901800" cy="29196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11240" y="3435480"/>
            <a:ext cx="901800" cy="29196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074760" y="4776840"/>
            <a:ext cx="709560" cy="353880"/>
          </a:xfrm>
          <a:prstGeom prst="line">
            <a:avLst/>
          </a:prstGeom>
          <a:ln w="507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14720" y="4776840"/>
            <a:ext cx="963720" cy="277920"/>
          </a:xfrm>
          <a:prstGeom prst="line">
            <a:avLst/>
          </a:prstGeom>
          <a:ln w="507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71920" y="4776840"/>
            <a:ext cx="2640240" cy="277920"/>
          </a:xfrm>
          <a:prstGeom prst="line">
            <a:avLst/>
          </a:prstGeom>
          <a:ln w="50760">
            <a:solidFill>
              <a:srgbClr val="79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83040" y="3435480"/>
            <a:ext cx="3721320" cy="11300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los datos contenidos en cada unidad de datos son enrutados según las direcciones contenidas en los encabez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92040" y="831960"/>
            <a:ext cx="49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790015"/>
                </a:solidFill>
                <a:latin typeface="Arial Narrow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34840" y="5632560"/>
            <a:ext cx="49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790015"/>
                </a:solidFill>
                <a:latin typeface="Arial Narrow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2080" y="5632560"/>
            <a:ext cx="49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790015"/>
                </a:solidFill>
                <a:latin typeface="Arial Narrow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92640" y="5632560"/>
            <a:ext cx="49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790015"/>
                </a:solidFill>
                <a:latin typeface="Arial Narrow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incronización de las Redes (cont.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67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Bellcore ya ha publicado una norma (GR-1110-CORE) sobre los requerimientos de sincronización en ATM (BSS,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Broadband Switching Systems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egún esa norma, la red de distribución de sincronismo tiende a evolucionar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n lugar de señales DS-1, la temporización será distribuída por las señales OC-N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n Europa, serían las señales STM-N en lugar de las E1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os relojes de los equipos deben ser de estrato 3 (~ G.812 LNC del ITU-T) y deben poseer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hardware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de reloj duplicad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Debe haber soporte al byte S1 del encabezado SDH / SONET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  <p:transition>
    <p:split dir="out" orient="vert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incronización de las Redes (cont.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red conmutada de banda ancha (BSS) necesita ser integrada en el plan de sincronización de la red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ada edificio debe poseer un distribuidor de reloj (BITS,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Building Integrated Time Supply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, ó SSU,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Synchronization Supply Utility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os nodos de la red conmutada de banda ancha deben soportar temporización externa (señales E1 ó DS1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Deben también poder derivar la temporización de señales STM-N ó OC-N, para el caso de aún no haber un BITS / SSU en el edifici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Deben tener una salida de temporización E1 / DS1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  <p:transition>
    <p:zoom dir="in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incronización de las Redes (cont.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678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s mismas consideraciones hechas para la BSS son válidas también para el SAM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Service Access Multiplex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Un SAM es semejante a una BSS, pués ambos pueden soportar varios servicios en una plataforma común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diferencia reside en que un SAM será utilizado en las fronteras de la red ATM pública, no habiendo otros NEs adelante de ellos procesando la capa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función del SAM es agregar el tráfico de interfaces múltiples de acceso al servicio de banda ancha y entregarlo al BS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8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el SAM soporta SMDS, </a:t>
            </a:r>
            <a:r>
              <a:rPr b="1" i="1" lang="es-ES_tradnl" sz="2400" spc="-1" strike="noStrike">
                <a:solidFill>
                  <a:srgbClr val="00279f"/>
                </a:solidFill>
                <a:latin typeface="Arial Narrow"/>
              </a:rPr>
              <a:t>frame relay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, </a:t>
            </a:r>
            <a:r>
              <a:rPr b="1" i="1" lang="es-ES_tradnl" sz="2400" spc="-1" strike="noStrike">
                <a:solidFill>
                  <a:srgbClr val="00279f"/>
                </a:solidFill>
                <a:latin typeface="Arial Narrow"/>
              </a:rPr>
              <a:t>cell relay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, emulación de circuitos e interconexión de LANs en modo nativo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e espera para muy pronto la definición de la sincronización de SAM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  <p:transition>
    <p:split dir="in" orient="horz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incronización de las Redes (cont.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68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incronización de los CPEs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customer premises equipment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s señales presentes en la UNI deben ser rastreables al PRS (referencia primaria de sincronismo de la red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os CPEs derivarán su temporizición a partir de las señales de linea de la UNI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opcionalmente, los CPEs pueden tener una entrada para un reloj externo síncrono al PR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649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CPE debe poder tolerar el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jitte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y el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wande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introducidos por la red de transport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  <p:transition>
    <p:strips dir="rd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Resumen del Esquema de Distribución de Sincronismo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682" name=""/>
          <p:cNvSpPr/>
          <p:nvPr/>
        </p:nvSpPr>
        <p:spPr>
          <a:xfrm>
            <a:off x="3664080" y="3282840"/>
            <a:ext cx="2120760" cy="189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452680" y="3809880"/>
            <a:ext cx="119232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 flipH="1">
            <a:off x="2426760" y="4724280"/>
            <a:ext cx="124308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 flipH="1">
            <a:off x="5779800" y="4724280"/>
            <a:ext cx="124308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5805360" y="3809880"/>
            <a:ext cx="119232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4648320" y="2757600"/>
            <a:ext cx="0" cy="50616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4267080" y="5195880"/>
            <a:ext cx="0" cy="50652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 flipV="1">
            <a:off x="5181480" y="5170320"/>
            <a:ext cx="0" cy="55728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 flipH="1">
            <a:off x="3646440" y="3290760"/>
            <a:ext cx="1014480" cy="50652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 flipH="1">
            <a:off x="4255560" y="3290760"/>
            <a:ext cx="405000" cy="187812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4662360" y="3290760"/>
            <a:ext cx="1116000" cy="142092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1147680" y="4017960"/>
            <a:ext cx="182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STM-N / OC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6613200" y="4017960"/>
            <a:ext cx="125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E3 / D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4098600" y="5694480"/>
            <a:ext cx="125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E1 / 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912840" y="2265480"/>
            <a:ext cx="147240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BITS / S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5730840" y="2378160"/>
            <a:ext cx="2412360" cy="180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1"/>
                </a:moveTo>
                <a:arcTo wR="10800" hR="10800" stAng="-10793947" swAng="5389424"/>
                <a:lnTo>
                  <a:pt x="10800" y="10800"/>
                </a:lnTo>
                <a:close/>
              </a:path>
              <a:path fill="none" w="21600" h="21600">
                <a:moveTo>
                  <a:pt x="0" y="10781"/>
                </a:moveTo>
                <a:arcTo wR="10800" hR="10800" stAng="-10793947" swAng="5389424"/>
              </a:path>
            </a:pathLst>
          </a:custGeom>
          <a:noFill/>
          <a:ln cap="rnd" w="12600">
            <a:solidFill>
              <a:srgbClr val="618ffd"/>
            </a:solidFill>
            <a:miter/>
            <a:tailEnd len="med" type="triangle" w="med"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6899760" y="2036880"/>
            <a:ext cx="52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Temporización externa a partir de la red de sincronism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700" name=""/>
          <p:cNvSpPr/>
          <p:nvPr/>
        </p:nvSpPr>
        <p:spPr>
          <a:xfrm>
            <a:off x="2071800" y="2438280"/>
            <a:ext cx="1801800" cy="0"/>
          </a:xfrm>
          <a:prstGeom prst="line">
            <a:avLst/>
          </a:prstGeom>
          <a:ln w="12600">
            <a:solidFill>
              <a:srgbClr val="618ffd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737640" y="2235240"/>
            <a:ext cx="1725120" cy="100368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e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e sincro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Resumen del Esquema de Distribución de Sincronismo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703" name=""/>
          <p:cNvSpPr/>
          <p:nvPr/>
        </p:nvSpPr>
        <p:spPr>
          <a:xfrm>
            <a:off x="3664080" y="3282840"/>
            <a:ext cx="2120760" cy="189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2452680" y="3809880"/>
            <a:ext cx="119232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 flipH="1">
            <a:off x="2426760" y="4724280"/>
            <a:ext cx="124308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 flipH="1">
            <a:off x="5779800" y="4724280"/>
            <a:ext cx="124308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5805360" y="3809880"/>
            <a:ext cx="119232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4648320" y="2757600"/>
            <a:ext cx="0" cy="50616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4267080" y="5195880"/>
            <a:ext cx="0" cy="50652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5181480" y="5170320"/>
            <a:ext cx="0" cy="55728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 flipH="1">
            <a:off x="3646440" y="3290760"/>
            <a:ext cx="1014480" cy="50652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4255560" y="3290760"/>
            <a:ext cx="405000" cy="187812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4662360" y="3290760"/>
            <a:ext cx="1116000" cy="142092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1147680" y="4017960"/>
            <a:ext cx="182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STM-N / OC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6613200" y="4017960"/>
            <a:ext cx="125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E3 / D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4098600" y="5694480"/>
            <a:ext cx="125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E1 / 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3912840" y="2265480"/>
            <a:ext cx="1472400" cy="45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BITS / S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730840" y="2378160"/>
            <a:ext cx="2412360" cy="180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1"/>
                </a:moveTo>
                <a:arcTo wR="10800" hR="10800" stAng="-10793947" swAng="5389424"/>
                <a:lnTo>
                  <a:pt x="10800" y="10800"/>
                </a:lnTo>
                <a:close/>
              </a:path>
              <a:path fill="none" w="21600" h="21600">
                <a:moveTo>
                  <a:pt x="0" y="10781"/>
                </a:moveTo>
                <a:arcTo wR="10800" hR="10800" stAng="-10793947" swAng="5389424"/>
              </a:path>
            </a:pathLst>
          </a:custGeom>
          <a:noFill/>
          <a:ln cap="rnd" w="12600">
            <a:solidFill>
              <a:srgbClr val="618ffd"/>
            </a:solidFill>
            <a:miter/>
            <a:tailEnd len="med" type="triangle" w="med"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6899760" y="2036880"/>
            <a:ext cx="52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2071800" y="2438280"/>
            <a:ext cx="1801800" cy="0"/>
          </a:xfrm>
          <a:prstGeom prst="line">
            <a:avLst/>
          </a:prstGeom>
          <a:ln w="12600">
            <a:solidFill>
              <a:srgbClr val="618ffd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795240" y="2235240"/>
            <a:ext cx="1607760" cy="1003680"/>
          </a:xfrm>
          <a:prstGeom prst="rect">
            <a:avLst/>
          </a:prstGeom>
          <a:solidFill>
            <a:srgbClr val="438e00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receptor 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(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primária lo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Temporización externa com reloj primario loca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Resumen del Esquema de Distribución de Sincronismo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Temporización de linea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725" name=""/>
          <p:cNvSpPr/>
          <p:nvPr/>
        </p:nvSpPr>
        <p:spPr>
          <a:xfrm>
            <a:off x="3664080" y="3282840"/>
            <a:ext cx="2120760" cy="189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2452680" y="3809880"/>
            <a:ext cx="119232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 flipH="1">
            <a:off x="2426760" y="4724280"/>
            <a:ext cx="124308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 flipH="1">
            <a:off x="5779800" y="4724280"/>
            <a:ext cx="124308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5805360" y="3809880"/>
            <a:ext cx="119232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4267080" y="5195880"/>
            <a:ext cx="0" cy="50652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 flipV="1">
            <a:off x="5181480" y="5170320"/>
            <a:ext cx="0" cy="557280"/>
          </a:xfrm>
          <a:prstGeom prst="line">
            <a:avLst/>
          </a:prstGeom>
          <a:ln w="1260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1147680" y="4017960"/>
            <a:ext cx="182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STM-N / OC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6329520" y="4017960"/>
            <a:ext cx="1821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STM-N / OC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4098600" y="5694480"/>
            <a:ext cx="125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E1 / 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5730840" y="2378160"/>
            <a:ext cx="2412360" cy="180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1"/>
                </a:moveTo>
                <a:arcTo wR="10800" hR="10800" stAng="-10793947" swAng="5389424"/>
                <a:lnTo>
                  <a:pt x="10800" y="10800"/>
                </a:lnTo>
                <a:close/>
              </a:path>
              <a:path fill="none" w="21600" h="21600">
                <a:moveTo>
                  <a:pt x="0" y="10781"/>
                </a:moveTo>
                <a:arcTo wR="10800" hR="10800" stAng="-10793947" swAng="5389424"/>
              </a:path>
            </a:pathLst>
          </a:custGeom>
          <a:noFill/>
          <a:ln cap="rnd" w="12600">
            <a:solidFill>
              <a:srgbClr val="618ffd"/>
            </a:solidFill>
            <a:miter/>
            <a:tailEnd len="med" type="triangle" w="med"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6899760" y="2036880"/>
            <a:ext cx="52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18ffd"/>
                </a:solidFill>
                <a:latin typeface="Arial Narrow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4282920" y="3825720"/>
            <a:ext cx="2870280" cy="271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7"/>
                </a:moveTo>
                <a:arcTo wR="10800" hR="10800" stAng="-10795984" swAng="5392180"/>
                <a:lnTo>
                  <a:pt x="10800" y="10800"/>
                </a:lnTo>
                <a:close/>
              </a:path>
              <a:path fill="none" w="21600" h="21600">
                <a:moveTo>
                  <a:pt x="0" y="10787"/>
                </a:moveTo>
                <a:arcTo wR="10800" hR="10800" stAng="-10795984" swAng="5392180"/>
              </a:path>
            </a:pathLst>
          </a:custGeom>
          <a:noFill/>
          <a:ln cap="rnd" w="12600">
            <a:solidFill>
              <a:srgbClr val="618ffd"/>
            </a:solidFill>
            <a:miter/>
            <a:tailEnd len="med" type="triangle" w="med"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 flipH="1">
            <a:off x="3646080" y="3809880"/>
            <a:ext cx="2081160" cy="0"/>
          </a:xfrm>
          <a:prstGeom prst="line">
            <a:avLst/>
          </a:prstGeom>
          <a:ln w="12600">
            <a:solidFill>
              <a:srgbClr val="618ff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5197320" y="3825720"/>
            <a:ext cx="1041480" cy="104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7"/>
                </a:moveTo>
                <a:arcTo wR="10800" hR="10800" stAng="-10789519" swAng="5379038"/>
                <a:lnTo>
                  <a:pt x="10800" y="10800"/>
                </a:lnTo>
                <a:close/>
              </a:path>
              <a:path fill="none" w="21600" h="21600">
                <a:moveTo>
                  <a:pt x="0" y="10767"/>
                </a:moveTo>
                <a:arcTo wR="10800" hR="10800" stAng="-10789519" swAng="5379038"/>
              </a:path>
            </a:pathLst>
          </a:custGeom>
          <a:noFill/>
          <a:ln cap="rnd" w="12600">
            <a:solidFill>
              <a:srgbClr val="618ffd"/>
            </a:solidFill>
            <a:miter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rot="10800000">
            <a:off x="5181480" y="3838320"/>
            <a:ext cx="1193760" cy="88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1" y="0"/>
                </a:moveTo>
                <a:arcTo wR="10800" hR="10800" stAng="-5409143" swAng="5409143"/>
                <a:lnTo>
                  <a:pt x="10800" y="10800"/>
                </a:lnTo>
                <a:close/>
              </a:path>
              <a:path fill="none" w="21600" h="21600">
                <a:moveTo>
                  <a:pt x="10771" y="0"/>
                </a:moveTo>
                <a:arcTo wR="10800" hR="10800" stAng="-5409143" swAng="5409143"/>
              </a:path>
            </a:pathLst>
          </a:custGeom>
          <a:noFill/>
          <a:ln cap="rnd" w="12600">
            <a:solidFill>
              <a:srgbClr val="618ffd"/>
            </a:solidFill>
            <a:miter/>
            <a:tailEnd len="med" type="triangle" w="med"/>
          </a:ln>
          <a:effectLst>
            <a:outerShdw dist="17819" dir="2700000" blurRad="0" rotWithShape="0">
              <a:srgbClr val="395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"/>
          <p:cNvSpPr/>
          <p:nvPr/>
        </p:nvSpPr>
        <p:spPr>
          <a:xfrm>
            <a:off x="685800" y="2286000"/>
            <a:ext cx="7772400" cy="114300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mulación de LANs (LA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Métodos de Interconexión de LANs via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74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2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odo nativ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2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e utilizan mecanismos de resolución de direcciones para mapear las direcciones de nivel de red directamente en direcciones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2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mulación de LANs (LANE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2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onsiste en emular la funcionalidad de una LAN sobre una red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2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hay definiciones para la emulación de una Ethernet y de un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Token Ring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2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la emulación significa que existe una interfaz de servicio para los protocolos de nivel superior (es decir, de red local), idéntica a una interfaz de LAN, y los datos son encapsulados en el formato MAC apropriado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mulación de LANs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74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 emulación de LANs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resenta la misma interfaz de servicio de los protocolos MAC comunes a los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drivers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de nivel de red 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or ejemplo, NDIS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network device interface specification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 u ODI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open data-link interface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uego, no es necesario modificar esos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driver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l objetivo es accelerar la introdución de ATM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ervicios Orientados a Conexión y </a:t>
            </a:r>
            <a:r>
              <a:rPr b="1" i="1" lang="es-ES_tradnl" sz="3200" spc="-1" strike="noStrike">
                <a:solidFill>
                  <a:srgbClr val="fafd00"/>
                </a:solidFill>
                <a:latin typeface="Arial Narrow"/>
              </a:rPr>
              <a:t>Connectionles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Una red de datos con conmutación de paquetes (tramas, celdas, mensajes) está formada por multiplexores estadísticos y conmutadores de unidades de dat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ara que un usuario pueda comunicarse con otro, es necesario que los conmutadores sepan interpretar las direcciones en el encabezado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overhead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 de cada DU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data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unit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, unidad de datos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transferencia de datos puede ser de dos formas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fc0128"/>
                </a:solidFill>
                <a:latin typeface="Arial Narrow"/>
              </a:rPr>
              <a:t>connection oriented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(orientada a conexión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fc0128"/>
                </a:solidFill>
                <a:latin typeface="Arial Narrow"/>
              </a:rPr>
              <a:t>connectionles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(no orientada a conexión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mulación de LANs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74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 LANE estará disponible en dos tipos de dispositivos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tarjetas de interfaz ATM (NICs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resentan la interfaz de servicio común a los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drivers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de los protocolos de nivel de red en los sistemas terminales, que podrán utilizar la red ATM sin modificacione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quipos de interconexión de redes y de conmutac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os dispositivos ofrecerán, en conjunto con las tarjetas NIC,  un servicio de </a:t>
            </a:r>
            <a:r>
              <a:rPr b="1" lang="es-ES_tradnl" sz="2800" spc="-1" strike="noStrike" u="sng">
                <a:solidFill>
                  <a:srgbClr val="00279f"/>
                </a:solidFill>
                <a:uFillTx/>
                <a:latin typeface="Arial Narrow"/>
              </a:rPr>
              <a:t>LAN virtua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"/>
          <p:cNvSpPr/>
          <p:nvPr/>
        </p:nvSpPr>
        <p:spPr>
          <a:xfrm>
            <a:off x="498600" y="2368440"/>
            <a:ext cx="1815840" cy="673200"/>
          </a:xfrm>
          <a:prstGeom prst="rect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Emulación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 txBox="1"/>
          <p:nvPr/>
        </p:nvSpPr>
        <p:spPr>
          <a:xfrm>
            <a:off x="2691720" y="348480"/>
            <a:ext cx="3684240" cy="63612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mulación de LAN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750" name=""/>
          <p:cNvSpPr/>
          <p:nvPr/>
        </p:nvSpPr>
        <p:spPr>
          <a:xfrm>
            <a:off x="546120" y="657360"/>
            <a:ext cx="134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apas a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498600" y="4425840"/>
            <a:ext cx="1815840" cy="6732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apa fí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498600" y="3740040"/>
            <a:ext cx="1815840" cy="67320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apa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98600" y="3054240"/>
            <a:ext cx="1815840" cy="67320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AL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1101600" y="1690560"/>
            <a:ext cx="0" cy="65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1711440" y="1690560"/>
            <a:ext cx="0" cy="65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616320" y="5457960"/>
            <a:ext cx="1504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erminal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6899400" y="4425840"/>
            <a:ext cx="1815840" cy="6732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AN P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6899400" y="2368440"/>
            <a:ext cx="1815840" cy="20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Está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946920" y="657360"/>
            <a:ext cx="134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apas a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6868440" y="5457960"/>
            <a:ext cx="189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erminal de L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4765680" y="4425840"/>
            <a:ext cx="1816200" cy="6732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apa        LAN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Física      PM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631960" y="4425840"/>
            <a:ext cx="1816200" cy="6732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ísica      Fí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2631960" y="3740040"/>
            <a:ext cx="1816200" cy="67320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apa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2610000" y="4624560"/>
            <a:ext cx="77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2753280" y="5457960"/>
            <a:ext cx="193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onmutador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4908960" y="5457960"/>
            <a:ext cx="14234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onverti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TM-LA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4765680" y="3740040"/>
            <a:ext cx="901800" cy="67320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apa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4765680" y="3054240"/>
            <a:ext cx="901800" cy="67320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AL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673600" y="4433760"/>
            <a:ext cx="0" cy="65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3540240" y="4433760"/>
            <a:ext cx="0" cy="65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1" name=""/>
          <p:cNvGrpSpPr/>
          <p:nvPr/>
        </p:nvGrpSpPr>
        <p:grpSpPr>
          <a:xfrm>
            <a:off x="1330200" y="5056200"/>
            <a:ext cx="1752840" cy="404640"/>
            <a:chOff x="1330200" y="5056200"/>
            <a:chExt cx="1752840" cy="404640"/>
          </a:xfrm>
        </p:grpSpPr>
        <p:sp>
          <p:nvSpPr>
            <p:cNvPr id="2772" name=""/>
            <p:cNvSpPr/>
            <p:nvPr/>
          </p:nvSpPr>
          <p:spPr>
            <a:xfrm>
              <a:off x="1330200" y="5157720"/>
              <a:ext cx="0" cy="2016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382760" y="5410080"/>
              <a:ext cx="1649520" cy="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V="1">
              <a:off x="3083040" y="5056200"/>
              <a:ext cx="0" cy="4046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5" name=""/>
          <p:cNvGrpSpPr/>
          <p:nvPr/>
        </p:nvGrpSpPr>
        <p:grpSpPr>
          <a:xfrm>
            <a:off x="6130800" y="5056200"/>
            <a:ext cx="1752840" cy="404640"/>
            <a:chOff x="6130800" y="5056200"/>
            <a:chExt cx="1752840" cy="404640"/>
          </a:xfrm>
        </p:grpSpPr>
        <p:sp>
          <p:nvSpPr>
            <p:cNvPr id="2776" name=""/>
            <p:cNvSpPr/>
            <p:nvPr/>
          </p:nvSpPr>
          <p:spPr>
            <a:xfrm>
              <a:off x="6130800" y="5157720"/>
              <a:ext cx="0" cy="2016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183360" y="5410080"/>
              <a:ext cx="1649520" cy="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7883640" y="5056200"/>
              <a:ext cx="0" cy="4046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9" name=""/>
          <p:cNvGrpSpPr/>
          <p:nvPr/>
        </p:nvGrpSpPr>
        <p:grpSpPr>
          <a:xfrm>
            <a:off x="3997440" y="5056200"/>
            <a:ext cx="1218960" cy="404640"/>
            <a:chOff x="3997440" y="5056200"/>
            <a:chExt cx="1218960" cy="404640"/>
          </a:xfrm>
        </p:grpSpPr>
        <p:sp>
          <p:nvSpPr>
            <p:cNvPr id="2780" name=""/>
            <p:cNvSpPr/>
            <p:nvPr/>
          </p:nvSpPr>
          <p:spPr>
            <a:xfrm>
              <a:off x="3997440" y="5157720"/>
              <a:ext cx="0" cy="2016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049640" y="5410080"/>
              <a:ext cx="1116000" cy="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216400" y="5056200"/>
              <a:ext cx="0" cy="4046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3" name=""/>
          <p:cNvSpPr/>
          <p:nvPr/>
        </p:nvSpPr>
        <p:spPr>
          <a:xfrm>
            <a:off x="4765680" y="2368440"/>
            <a:ext cx="901800" cy="673200"/>
          </a:xfrm>
          <a:prstGeom prst="rect">
            <a:avLst/>
          </a:prstGeom>
          <a:solidFill>
            <a:srgbClr val="c8fec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Emul.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 flipV="1">
            <a:off x="5688000" y="1741320"/>
            <a:ext cx="582480" cy="63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 flipH="1" flipV="1">
            <a:off x="5052960" y="1741320"/>
            <a:ext cx="633600" cy="63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5194800" y="1647720"/>
            <a:ext cx="100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Puent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2376360" y="1114560"/>
            <a:ext cx="2235240" cy="23083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NDIS =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 Narrow"/>
              </a:rPr>
              <a:t> Network Device Interface Specification 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(Espec. para la Interfaz de Dispositivo de R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ODI =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 Narrow"/>
              </a:rPr>
              <a:t>Open Data-link Interface 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(Interfaz Abierta de Enlace de Da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498600" y="996840"/>
            <a:ext cx="1815840" cy="67320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apa 3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(IP, IPX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498600" y="1682640"/>
            <a:ext cx="596880" cy="673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N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108080" y="1682640"/>
            <a:ext cx="596880" cy="673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IP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717560" y="1682640"/>
            <a:ext cx="596880" cy="673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519120" y="2016000"/>
            <a:ext cx="11667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5680080" y="2368440"/>
            <a:ext cx="90180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Está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dar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7502400" y="1690560"/>
            <a:ext cx="0" cy="65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8112240" y="1690560"/>
            <a:ext cx="0" cy="65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6899400" y="996840"/>
            <a:ext cx="1815840" cy="67320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apa 3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(IP, IPX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6899400" y="1682640"/>
            <a:ext cx="596880" cy="673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N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7508880" y="1682640"/>
            <a:ext cx="596880" cy="673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IP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O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8118360" y="1682640"/>
            <a:ext cx="596880" cy="6732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6919920" y="2016000"/>
            <a:ext cx="11667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mulación de LANs (cont.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0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 LANE no afecta los conmutadores ATM directamente, una vez que utiliza un modelo de superposic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os protocolos operan de forma transparente a través de los conmutadores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función básica del protocolo LANE es resolver las direcciones MAC en direcciones ATM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to, en realidad, representa un “protocolo” de puenteo a través del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elemento que hace esa función compleja es el soporte a conmutadores de LANs -- o sea, a </a:t>
            </a:r>
            <a:r>
              <a:rPr b="1" lang="es-ES_tradnl" sz="2600" spc="-1" strike="noStrike" u="sng">
                <a:solidFill>
                  <a:srgbClr val="00279f"/>
                </a:solidFill>
                <a:uFillTx/>
                <a:latin typeface="Arial Narrow"/>
              </a:rPr>
              <a:t>puente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de LAN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"/>
          <p:cNvSpPr/>
          <p:nvPr/>
        </p:nvSpPr>
        <p:spPr>
          <a:xfrm>
            <a:off x="685800" y="2286000"/>
            <a:ext cx="7772400" cy="114300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spectos Básicos de la Señalización en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unciones de la Señalización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0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2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Funciones actuales (ATM Forum - versión 3.0 de la UNI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92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tablecimiento y liberación de conexiones punto a punt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92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elección y asignación de VPI/VCI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92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olicitud de calidad de servicio (QoS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92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identificación del abonado llamant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92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gestión básica de errore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92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omunicación de informaciones específicas en el pedido de establecimient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92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oporte a sub-direccionamient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92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pecificación de los parámetros de tráfico PCR (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peak cell rat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92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elección de la red de tránsit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unciones de la Señalización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0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Funciones Q.2931 no incluidas en la versión 3.0 del ATM Forum para la UNI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no envío de mensaje de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alerting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al abonado llamad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usencia de selección o negociación de VPI/VCI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usencia de envío solapad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usencia de interoperabilidad con la RDSI de banda estrech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usencia de soporte a subdireccionamient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olo es posible seleccionar una única red de tránsit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unciones de la Señalización (3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0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Funciones incluidas en la versión 3.0 del ATM Forum para la UNI, pero no en la Rec. Q.2931 del UIT-T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oporte a establecimiento de llamada punto a multipunto por el abonado llamant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xtensiones para soporte de operación simétric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ementos de información (IEs) adicionales para extremos punto a multipunt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tructuras de dirección NSAP adicionale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unciones de la Señalización (4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1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róxima etapa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pecificación de un modelo de llamada en el cual cada llamada puede tener múltiples conexiones, como en multimedi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oporte a un protocolo distribuido para establecimiento de llamadas punto a multipunt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renegociación de los parámetros de tráfico con la conexión ya establecid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oporte a llamadas multipunto y multipunto a punt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pecificación de metaseñalización que establece conexiones adicionales para señalización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Mensajes de Señalización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1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nsajes de establecimiento de llamadas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ALL PROCEEDING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ONNECT ACKNOWLEDG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ETUP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nsajes de liberación de llamadas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RELEAS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RELEASE COMPLET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nsajes de estado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TATUS ENQUIRY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TATU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Mensajes de Señalización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1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nsajes relacionadas con la referencia global de llamadas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RESTART (all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RESTART ACKNOWLEDG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TATU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ontrol de llamadas punto a multipunto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DD PARTY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DD PARTY ACKNOWLEDG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DD PARTY REJECT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DROP PARTY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DROP PARTY ACKNOWLEDG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n modo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connectionless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(no orientado a conexión), el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overhead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de cada DU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data unit)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trae toda la información necesaria para que los conmutadores la puedan enrutar hacia su destino fina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e trata del servicio de datagrama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uno de los principales ejemplos de una red que presta servicio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connectionles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es la Internet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overhead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es muy grande (cada unidad de datos contiene la dirección completa de red del destinatario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ervicios Orientados a Conexión y </a:t>
            </a:r>
            <a:r>
              <a:rPr b="1" i="1" lang="es-ES_tradnl" sz="3200" spc="-1" strike="noStrike">
                <a:solidFill>
                  <a:srgbClr val="fafd00"/>
                </a:solidFill>
                <a:latin typeface="Arial Narrow"/>
              </a:rPr>
              <a:t>Connectionles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lementos de Infomación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1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Principales IEs obligatorios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tasa de celdas requerida del usuario ATM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número del abonado llamad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identificador de conexión (valor asignado de VPI/VCI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olicitud de QoS (calidad de servicio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lementos de Infomación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1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Algunos parámetros opcionales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olicitud de capacidad de portador (de banda ancha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informaciones de capas inferior y superior de banda ancha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arámetros de la AA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ubdirección del abonado llamad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número y subdirección del abonado llamante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elección de la red de tránsit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ódigo de causa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identificador de referencia del punto de terminación y número del estado del punto de terminac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"/>
          <p:cNvSpPr/>
          <p:nvPr/>
        </p:nvSpPr>
        <p:spPr>
          <a:xfrm>
            <a:off x="685800" y="2286000"/>
            <a:ext cx="7772400" cy="114300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 y ATM-25: Eval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: Evaluacione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2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Características funcionales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basado en celdas; varias velocidades binarias; voz,</a:t>
            </a:r>
            <a:br>
              <a:rPr sz="2800"/>
            </a:b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datos y video; requiere nuevos dispositiv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Disponibilidad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ya disponible (en marzo de 1995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Costo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lt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-25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2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59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Basado en celdas de 53 Bytes 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20000"/>
              </a:lnSpc>
              <a:spcBef>
                <a:spcPts val="159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Velocidad binaria de 25,6 Mbit/s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20000"/>
              </a:lnSpc>
              <a:spcBef>
                <a:spcPts val="159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Par trenzado de categoría 3 o mejor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20000"/>
              </a:lnSpc>
              <a:spcBef>
                <a:spcPts val="159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Utiliza código de linea 4B5B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20000"/>
              </a:lnSpc>
              <a:spcBef>
                <a:spcPts val="159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(32 Mbit/s x 4)/5 = 25,6 Mbit/s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-25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2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79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A mediados de 1993 el Forum de ATM rechazó la propuesta ATM-25 en favor del enfoque de 51,84 Mbit/s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10000"/>
              </a:lnSpc>
              <a:spcBef>
                <a:spcPts val="79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32 suministradores formaron la alianza </a:t>
            </a:r>
            <a:r>
              <a:rPr b="1" i="1" lang="es-ES_tradnl" sz="3200" spc="-1" strike="noStrike">
                <a:solidFill>
                  <a:srgbClr val="00279f"/>
                </a:solidFill>
                <a:latin typeface="Arial Narrow"/>
              </a:rPr>
              <a:t>Desktop ATM25 </a:t>
            </a: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para impulsar al ATM-25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10000"/>
              </a:lnSpc>
              <a:spcBef>
                <a:spcPts val="79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En febrero de 1995, el Forum de ATM aprobó la propuesta del Modo de Transferencia Asíncrona de 25,6 Mbit/s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Principales Suministradores que Respaldan el ATM-25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28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spcBef>
                <a:spcPts val="6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IBM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spcBef>
                <a:spcPts val="6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SMC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spcBef>
                <a:spcPts val="6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Adaptec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spcBef>
                <a:spcPts val="6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Madge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spcBef>
                <a:spcPts val="6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Olicom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spcBef>
                <a:spcPts val="6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ATM Ltd.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spcBef>
                <a:spcPts val="6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Seeq Technology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spcBef>
                <a:spcPts val="6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Fujitsu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-25: Evaluacione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Características Funcionales 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umento marginal en desempeño; adecuado para teleconferencias por video y ordenador persona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Disponibilidad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no muy amplia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Costo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bajo (aunque superior a Ethernet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thernet conmutada sigue siendo la opción más difundida en el mercado de redes locales cuando se requiere un aumento de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throughput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La RDSI de Banda Ancha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La RDSI de Banda Ancha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3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0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No aprovecha de la planta actual sino la red de transporte SDH, con ATM (aunque sea posible la utilización de la planta de interconexión PDH)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spcBef>
                <a:spcPts val="10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Presupone una planta externa de fibras ópticas para acceso de los abonados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spcBef>
                <a:spcPts val="10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Tendrá extension nacional e internacional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spcBef>
                <a:spcPts val="10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Usará nuevas centrales de conmutación de celdas (y no de circuitos)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n modo </a:t>
            </a:r>
            <a:r>
              <a:rPr b="1" lang="es-ES_tradnl" sz="2800" spc="-1" strike="noStrike">
                <a:solidFill>
                  <a:srgbClr val="037c03"/>
                </a:solidFill>
                <a:latin typeface="Arial Narrow"/>
              </a:rPr>
              <a:t>orientado a conexión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connection oriented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, el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overhead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de cada DU solamente tiene significado local, y solo es válido mientras dura la conexión lógica (virtual) entre los usuarios conectad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reviamente a cada conferencia, es necesario establecer una conex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la conexión puede ser programada de forma semi-permanente en los conmutadores o puede ser establecida dinámicamente mediante un procedimiento de señalización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las tablas de conmutación asocian un identificador de canal lógico en un puerto de entrada a un canal lógico en un puerto de salida del conmutador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ervicios Orientados a Conexión y </a:t>
            </a:r>
            <a:r>
              <a:rPr b="1" i="1" lang="es-ES_tradnl" sz="3200" spc="-1" strike="noStrike">
                <a:solidFill>
                  <a:srgbClr val="fafd00"/>
                </a:solidFill>
                <a:latin typeface="Arial Narrow"/>
              </a:rPr>
              <a:t>Connectionles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800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Operación comercial (Europa) a partir de 1997 (aprox.)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20000"/>
              </a:lnSpc>
              <a:spcBef>
                <a:spcPts val="1800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Extensión universal (Europa) a partir de 1999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20000"/>
              </a:lnSpc>
              <a:spcBef>
                <a:spcPts val="1800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Integra todos los servicios en una sola red, sustituyendo la multiplicidad de redes existentes y en implementación hoy dia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83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La RDSI de Banda Ancha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Mediciones en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Mediciones en ATM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s mediciones en ATM se dividen en 2 areas básica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ediciones de la funcionalidad de la red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capa física (SDH, Sonet, PDH --&gt; Recs. G.826, M.2100)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capa ATM (multiplexores, conmutadores, etc.)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3" marL="1542960" indent="-171360">
              <a:lnSpc>
                <a:spcPct val="95000"/>
              </a:lnSpc>
              <a:buClr>
                <a:srgbClr val="790015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tasa de celdas perdidas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lvl="3" marL="1542960" indent="-171360">
              <a:lnSpc>
                <a:spcPct val="95000"/>
              </a:lnSpc>
              <a:buClr>
                <a:srgbClr val="790015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tasa de celdas erradas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lvl="3" marL="1542960" indent="-171360">
              <a:lnSpc>
                <a:spcPct val="95000"/>
              </a:lnSpc>
              <a:buClr>
                <a:srgbClr val="790015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retardo de celdas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lvl="3" marL="1542960" indent="-171360">
              <a:lnSpc>
                <a:spcPct val="95000"/>
              </a:lnSpc>
              <a:buClr>
                <a:srgbClr val="790015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variación del retardo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lvl="3" marL="1542960" indent="-171360">
              <a:lnSpc>
                <a:spcPct val="95000"/>
              </a:lnSpc>
              <a:buClr>
                <a:srgbClr val="790015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razón de transferencia de celdas (</a:t>
            </a:r>
            <a:r>
              <a:rPr b="1" i="1" lang="es-ES_tradnl" sz="2000" spc="-1" strike="noStrike">
                <a:solidFill>
                  <a:srgbClr val="00279f"/>
                </a:solidFill>
                <a:latin typeface="Arial Narrow"/>
              </a:rPr>
              <a:t>throughput</a:t>
            </a: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lvl="3" marL="1542960" indent="-171360">
              <a:lnSpc>
                <a:spcPct val="95000"/>
              </a:lnSpc>
              <a:buClr>
                <a:srgbClr val="790015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etc.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nálisis del tráfico transportado via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adaptación al ATM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análisis de protocolos de usuario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localización de fallas en la interconexión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Mediciones en ATM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4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Wandel &amp; Goltermann está presente en todos los ámbitos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Para las mediciones en la red de transporte, cuenta con el Analizador Avanzado de Redes ANT-20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cceso a todos los medios físicos de redes de transporte (PDH, SDH, Sonet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nálisis y generación de tráfico ATM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diciones de calidad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nálisis de funciones de gestión (TMN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Mediciones en ATM (3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4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59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Para la interconexión y protocolos encapsulados, cuenta con el Analizador de Protocolos DA-30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1400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cceso (simultaneo) a los lados LAN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Ethernet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/ FDDI /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Token Ring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, etc.) y WAN (V.35, E1, T1, E3, T3, etc.) en ATM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1400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nálisis de protocolos encapsulad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4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diciones de la capa física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forma de onda en la interfaz eléctrica (E3 o STM-1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nivel de potencia óptica (STM-1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lineación de la trama STM-1 o E3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simular errores en la palabra de alineación y verificar si la entrada los soporta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lineación de las celda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simular errores de HEC (corregibles y no corregibles) y verificar si el dispositivo los corrige (de ser el caso) y si no pierde la alineación (excepto al rebasar las condiciones especificadas)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tolerancia a </a:t>
            </a:r>
            <a:r>
              <a:rPr b="1" i="1" lang="es-ES_tradnl" sz="2400" spc="-1" strike="noStrike">
                <a:solidFill>
                  <a:srgbClr val="00279f"/>
                </a:solidFill>
                <a:latin typeface="Arial Narrow"/>
              </a:rPr>
              <a:t>jitter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 de las entradas del equipo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jitte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propio de las salidas digitale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4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diciones de la capa física (cont.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funciones de OAM de los flujos F1, F2 y F3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simulación de errores de bits y generación de alarmas para verificar si la función de reporte de errores y alarmas de la capa física funciona correctamente (bytes del encabezado o celdas de OAM, según el caso) 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margen de captación de reloj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variación del reloj de referencia y determinación de los límites máximos aceptados por el sistema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verificación del mecanismo de justificación con inserción / eliminación de celdas vacía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verificación del aleatorizador / desaleatorizador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edición de errores según la Rec. G.826 / M.2100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3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4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diciones de la capa ATM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tablecimiento de conexiones virtuales según la capacidad del equipo o de la red bajo prueb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generación y discriminación de todos los tipos de celdas en cada conexión virtual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generación de celdas inválidas y verificación de su descart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generación de celdas de conexiones inválidas y verificación de su descart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generación de CLP = 0 y CLP = 1 en porcentajes variables y verificación de su tratamiento por parte de la red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4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5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8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diciones de la capa ATM (cont.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64920" indent="-221400">
              <a:lnSpc>
                <a:spcPct val="8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generación de flujos de celdas en las varias conexiones, con variación de los parámetros básicos y verificación del cumplimiento del contrato por la red (UPC,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usage parameter control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;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y NPC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, network parameter control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08440" indent="-221400">
              <a:lnSpc>
                <a:spcPct val="8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variación del PCR (o tiempo entre celdas)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08440" indent="-221400">
              <a:lnSpc>
                <a:spcPct val="8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variación del MB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08440" indent="-221400">
              <a:lnSpc>
                <a:spcPct val="8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variación de la SCR (o tiempo entre ráfagas)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08440" indent="-221400">
              <a:lnSpc>
                <a:spcPct val="8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medición del porcentaje de celdas marcadas con CLP = 1 por la red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08440" indent="-221400">
              <a:lnSpc>
                <a:spcPct val="8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medición del caudal máximo (</a:t>
            </a:r>
            <a:r>
              <a:rPr b="1" i="1" lang="es-ES_tradnl" sz="2400" spc="-1" strike="noStrike">
                <a:solidFill>
                  <a:srgbClr val="00279f"/>
                </a:solidFill>
                <a:latin typeface="Arial Narrow"/>
              </a:rPr>
              <a:t>throughput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) de cada conexión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08440" indent="-221400">
              <a:lnSpc>
                <a:spcPct val="8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medición de la tasa de pérdida de celdas con CLP = 0 y CLP = 1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08440" indent="-221400">
              <a:lnSpc>
                <a:spcPct val="8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medición de la tasa de celdas erradas con CLP = 0 y CLP = 1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diciones de la capa ATM (cont.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edición de retardo en cada conexión virtual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retardo absoluto medio de las celda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retardo individual de celda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variación del retardo de celda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onteo de celdas mal insertada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generación, control y análisis de las funciones de OAM a nivel de trayecto y canal virtuales (flujos F4 y F5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comando, realización y verificación de bucle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inserción de errores de paridad y recepción de los respectivos mensaje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verificación de continuidad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generación y verificación de alarma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5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onmutación Orientada a Conexión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1523880"/>
            <a:ext cx="2133720" cy="1295640"/>
          </a:xfrm>
          <a:prstGeom prst="ellipse">
            <a:avLst/>
          </a:prstGeom>
          <a:solidFill>
            <a:srgbClr val="618ffd"/>
          </a:solidFill>
          <a:ln w="0">
            <a:noFill/>
          </a:ln>
          <a:effectLst>
            <a:outerShdw dist="190440" dir="54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2743200"/>
            <a:ext cx="2133720" cy="1295280"/>
          </a:xfrm>
          <a:prstGeom prst="ellipse">
            <a:avLst/>
          </a:prstGeom>
          <a:solidFill>
            <a:srgbClr val="618ffd"/>
          </a:solidFill>
          <a:ln w="0">
            <a:noFill/>
          </a:ln>
          <a:effectLst>
            <a:outerShdw dist="190440" dir="54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4038480"/>
            <a:ext cx="2133360" cy="1295640"/>
          </a:xfrm>
          <a:prstGeom prst="ellipse">
            <a:avLst/>
          </a:prstGeom>
          <a:solidFill>
            <a:srgbClr val="618ffd"/>
          </a:solidFill>
          <a:ln w="0">
            <a:noFill/>
          </a:ln>
          <a:effectLst>
            <a:outerShdw dist="190440" dir="54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900000">
            <a:off x="898560" y="1773000"/>
            <a:ext cx="993600" cy="307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380000">
            <a:off x="3649680" y="2670120"/>
            <a:ext cx="1739880" cy="3682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220000">
            <a:off x="3924000" y="5249880"/>
            <a:ext cx="901800" cy="2919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9740000">
            <a:off x="4051080" y="3887640"/>
            <a:ext cx="1449360" cy="3682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380000">
            <a:off x="7353000" y="3649680"/>
            <a:ext cx="901800" cy="29196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3680" y="225756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puert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7720" y="1266840"/>
            <a:ext cx="1417320" cy="36324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onmutado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9000" y="2746440"/>
            <a:ext cx="102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puerto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63080" y="30956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puerto 2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23800" y="5457960"/>
            <a:ext cx="102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puerto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00560" y="370512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puerto 3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45320" y="4162320"/>
            <a:ext cx="1417320" cy="36324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onmutado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92440" y="4390920"/>
            <a:ext cx="1417320" cy="36324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onmutado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09600" y="2104920"/>
            <a:ext cx="102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puerto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39960" y="3768840"/>
            <a:ext cx="102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uerto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7320" y="1843200"/>
            <a:ext cx="14097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160" y="1724040"/>
            <a:ext cx="50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d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760" y="1343160"/>
            <a:ext cx="51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82880" y="4162320"/>
            <a:ext cx="50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01240" y="5915160"/>
            <a:ext cx="50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d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82880" y="3705120"/>
            <a:ext cx="50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d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58440" y="5533920"/>
            <a:ext cx="50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d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25280" y="2486160"/>
            <a:ext cx="50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d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24440" y="3971880"/>
            <a:ext cx="51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d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33720" y="2828880"/>
            <a:ext cx="51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d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72160" y="3438360"/>
            <a:ext cx="51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id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52480" y="1687680"/>
            <a:ext cx="1420920" cy="43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19360" y="2300400"/>
            <a:ext cx="2183040" cy="9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43400" y="2529000"/>
            <a:ext cx="2182680" cy="9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24280" y="3494160"/>
            <a:ext cx="172548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052880" y="3646440"/>
            <a:ext cx="1725480" cy="10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00600" y="4967280"/>
            <a:ext cx="1268280" cy="8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24280" y="5119560"/>
            <a:ext cx="1268280" cy="8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29600" y="3519360"/>
            <a:ext cx="105408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76960" y="3672000"/>
            <a:ext cx="119232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89200" y="2187720"/>
            <a:ext cx="2640960" cy="20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79001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3240" y="2340000"/>
            <a:ext cx="264096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79001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65920" y="3330720"/>
            <a:ext cx="309816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1" y="0"/>
                </a:moveTo>
                <a:arcTo wR="10800" hR="10800" stAng="-5396478" swAng="5396478"/>
                <a:lnTo>
                  <a:pt x="10800" y="10800"/>
                </a:lnTo>
                <a:close/>
              </a:path>
              <a:path fill="none" w="21600" h="21600">
                <a:moveTo>
                  <a:pt x="10811" y="0"/>
                </a:moveTo>
                <a:arcTo wR="10800" hR="10800" stAng="-5396478" swAng="5396478"/>
              </a:path>
            </a:pathLst>
          </a:custGeom>
          <a:noFill/>
          <a:ln cap="rnd" w="50760">
            <a:solidFill>
              <a:srgbClr val="79001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0580000">
            <a:off x="4495680" y="3676320"/>
            <a:ext cx="2792880" cy="96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79001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rot="1860000">
            <a:off x="5180760" y="3352320"/>
            <a:ext cx="457200" cy="152280"/>
          </a:xfrm>
          <a:prstGeom prst="rightArrow">
            <a:avLst>
              <a:gd name="adj1" fmla="val 50000"/>
              <a:gd name="adj2" fmla="val 150160"/>
            </a:avLst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rot="19380000">
            <a:off x="5180400" y="3504960"/>
            <a:ext cx="457200" cy="152280"/>
          </a:xfrm>
          <a:prstGeom prst="rightArrow">
            <a:avLst>
              <a:gd name="adj1" fmla="val 50000"/>
              <a:gd name="adj2" fmla="val 150160"/>
            </a:avLst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3429000"/>
            <a:ext cx="152280" cy="152280"/>
          </a:xfrm>
          <a:prstGeom prst="ellipse">
            <a:avLst/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9320000">
            <a:off x="3733920" y="4648320"/>
            <a:ext cx="457200" cy="152280"/>
          </a:xfrm>
          <a:prstGeom prst="rightArrow">
            <a:avLst>
              <a:gd name="adj1" fmla="val 50000"/>
              <a:gd name="adj2" fmla="val 150160"/>
            </a:avLst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3480000">
            <a:off x="3713040" y="4831920"/>
            <a:ext cx="384120" cy="152640"/>
          </a:xfrm>
          <a:prstGeom prst="rightArrow">
            <a:avLst>
              <a:gd name="adj1" fmla="val 50000"/>
              <a:gd name="adj2" fmla="val 125860"/>
            </a:avLst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4724280"/>
            <a:ext cx="152280" cy="152640"/>
          </a:xfrm>
          <a:prstGeom prst="ellipse">
            <a:avLst/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9320000">
            <a:off x="3252960" y="4576320"/>
            <a:ext cx="685800" cy="155520"/>
          </a:xfrm>
          <a:prstGeom prst="rightArrow">
            <a:avLst>
              <a:gd name="adj1" fmla="val 50000"/>
              <a:gd name="adj2" fmla="val 220547"/>
            </a:avLst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800000">
            <a:off x="3311280" y="4884480"/>
            <a:ext cx="555480" cy="155520"/>
          </a:xfrm>
          <a:prstGeom prst="rightArrow">
            <a:avLst>
              <a:gd name="adj1" fmla="val 50000"/>
              <a:gd name="adj2" fmla="val 178637"/>
            </a:avLst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724280"/>
            <a:ext cx="152280" cy="152640"/>
          </a:xfrm>
          <a:prstGeom prst="ellipse">
            <a:avLst/>
          </a:prstGeom>
          <a:solidFill>
            <a:srgbClr val="cf0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819520"/>
            <a:ext cx="2210040" cy="9144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 Narrow"/>
              </a:rPr>
              <a:t>puerto - id  &lt;-&gt; puerto -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1          1              50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1          2              50    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5029200"/>
            <a:ext cx="2210040" cy="9144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 Narrow"/>
              </a:rPr>
              <a:t>puerto - id  &lt;-&gt; puerto -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313       9              25     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313       4              25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1676520"/>
            <a:ext cx="2209680" cy="114300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 Narrow"/>
              </a:rPr>
              <a:t>puerto - id  &lt;-&gt; puerto -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16       3            220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16       6              45    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220      1              45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52480" y="3138480"/>
            <a:ext cx="0" cy="58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5348160"/>
            <a:ext cx="0" cy="582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15200" y="1995480"/>
            <a:ext cx="0" cy="81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6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5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dición de la función de emulación de circuitos (CBR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valuación funcional de la AAL 1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verificación de la tasa de errores (G.821 / M.2100) de flujos CBR transportados a través del equipo o de la red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edición del retardo a través del equipo o de la red ATM, incluyendo los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buffer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elástico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variación de la velocidad de la carga CBR y determinación del margen de captación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edición del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jitte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propio en el punto de salida de la red o del equipo ATM, variando la velocidad real de la carga útil CBR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7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5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dición de la función de emulación de circuitos (CBR) (cont.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edición de la tolerancia a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jitte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de las entradas de los equipos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edición de la transferencia de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jitter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 través del equipo o de la red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verificación de los efectos de una pérdida de referencia de reloj en los puntos de entrada y salida (para los métodos de mapeo SRTS y SDT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8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5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dición de la AAL 3/4 soportando un servicio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connectionless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(SMDS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validación del protocolo de red (IP / IPX / NetBios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validación del protocolo de enrutadores (RIP / OSPF / EGP / BGP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apeo de direcciones (E.164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ncapsulación / desencapsulación de las unidades de datos de servicio (funcionalidad de la AAL 3/4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retardo de ida y regreso (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Ping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generación de errores de celdas (corregibles y no corregibles) y verificación de la corrección por la red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9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6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dición de la AAL 3/4 con SMDS (cont.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implementación y control de clase de acces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plan de numeración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direcciones individuales y de grup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validación y filtrado de direccione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ulticasting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ediciones de desempeño (errores, pérdida de tramas, retardo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10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6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dición de la AAL 5 soportando un servicio orientado a conexión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frame relay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apeo de parámetro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medición de la IWF (</a:t>
            </a:r>
            <a:r>
              <a:rPr b="1" i="1" lang="es-ES_tradnl" sz="2400" spc="-1" strike="noStrike">
                <a:solidFill>
                  <a:srgbClr val="00279f"/>
                </a:solidFill>
                <a:latin typeface="Arial Narrow"/>
              </a:rPr>
              <a:t>interworking function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), con mapeo del bit FECN en el bit EFCI y del bit DE en el bit CLP, y vice-versa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ncapsulación y desencapsulación (evaluación de la funcionalidad de la AAL 5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reensamble e integridad del reensamble 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ontrol y monitorización del tráfic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ediciones de desempeño (errores, pérdida de tramas, retardo) 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1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dición de la AAL 2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ún faltan las definiciones de la funcionalidad de la AAL 2 (VBR-NRT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s pruebas, por lo tanto, quedan dependiendo de esas definicione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e estima que las pruebas serán similares a las pruebas de la AAL 1 con SRT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1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6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Outras mediciones de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internetworking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8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mulación de LAN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19960" indent="-223920">
              <a:lnSpc>
                <a:spcPct val="8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Ethernet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19960" indent="-223920">
              <a:lnSpc>
                <a:spcPct val="8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Token Ring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19960" indent="-223920">
              <a:lnSpc>
                <a:spcPct val="8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FDDI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8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interacción con la RDSI de banda estrech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8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resolución de direccione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19960" indent="-223920">
              <a:lnSpc>
                <a:spcPct val="8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para operar, por ejemplo, IP sobre ATM, es necesario resolver las direcciones IP en direcciones ATM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19960" indent="-223920">
              <a:lnSpc>
                <a:spcPct val="8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la traducción de las direcciones descrita en la RFC 1577 define una “sub-red lógica IP”, basada en un servidor ARP (ATMARP)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19960" indent="-223920">
              <a:lnSpc>
                <a:spcPct val="8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es necesario verificar se el enrutamiento se realiza correctamente, y no se generan respuestas ATM_NAK indicando la falta de un mapeo registrado de la</a:t>
            </a:r>
            <a:br>
              <a:rPr sz="2400"/>
            </a:b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dirección IP en la tabla del servidor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13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6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ediciones de la señalizac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imulación de un equipo terminal de abonado, con implementación de los mensajes de señalización de acuerdo a las normas soportadas por el dispositivo o por la red ATM (ATM Forum 3.0, 3.1 y 4.0, o ITU-T Q.2931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imulación de la red para las pruebas del equipo de acceso del usuari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 de una Rutina de Medición (14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7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Otras medicione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8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s funciones de OAM pueden tener su contraparte en una interfaz Q3 (CMIP sobre pila OSI / ISO) o Qx (CMOT o SNMP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8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para probar esa funcionalidad, es necesario generar estímulos en las interfaces de funciones de telecomunicaciones y monitorizar la comunicación entre gerente y agente en la interfaz Q3 o Qx (gestión de desempeño y de fallas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8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demás, es necesario probar la funcionalidad de la gestión simulando gerentes y agentes SNMP o CMIP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8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outras funciones de gestión (configuración, seguridad, contabilización) también deben ser probada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8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para esas pruebas, los instrumentos deben permitir acceder a las interfaces de gestión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péndice A:</a:t>
            </a:r>
            <a:br>
              <a:rPr sz="3200"/>
            </a:br>
            <a:r>
              <a:rPr b="1" i="1" lang="es-ES_tradnl" sz="3200" spc="-1" strike="noStrike">
                <a:solidFill>
                  <a:srgbClr val="fafd00"/>
                </a:solidFill>
                <a:latin typeface="Arial Narrow"/>
              </a:rPr>
              <a:t>Switched Multimegabit Data Service </a:t>
            </a: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(SMDS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TM (Modo de Transferencia Asíncrono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ás que un protocolo (estándar de la futura RDSI de banda ancha), es una tecnología de red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diseñado para atender a servicios isócronos y anisócrono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utiliza pequeños paquetes llamados </a:t>
            </a:r>
            <a:r>
              <a:rPr b="1" lang="es-ES_tradnl" sz="2600" spc="-1" strike="noStrike" u="sng">
                <a:solidFill>
                  <a:srgbClr val="00279f"/>
                </a:solidFill>
                <a:uFillTx/>
                <a:latin typeface="Arial Narrow"/>
              </a:rPr>
              <a:t>celda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, de longitud fij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19960" indent="-223920">
              <a:lnSpc>
                <a:spcPct val="9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las celdas tienen 53 byte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3" marL="1512000" indent="-167760">
              <a:lnSpc>
                <a:spcPct val="90000"/>
              </a:lnSpc>
              <a:buClr>
                <a:srgbClr val="790015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5 bytes de </a:t>
            </a:r>
            <a:r>
              <a:rPr b="1" i="1" lang="es-ES_tradnl" sz="2000" spc="-1" strike="noStrike">
                <a:solidFill>
                  <a:srgbClr val="00279f"/>
                </a:solidFill>
                <a:latin typeface="Arial Narrow"/>
              </a:rPr>
              <a:t>overhead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lvl="3" marL="1512000" indent="-167760">
              <a:lnSpc>
                <a:spcPct val="90000"/>
              </a:lnSpc>
              <a:buClr>
                <a:srgbClr val="790015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48 bytes de carga útil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lvl="1" marL="671760" indent="-22392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s celdas son transportadas en tramas (de la PDH o SDH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19960" indent="-223920">
              <a:lnSpc>
                <a:spcPct val="9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las tramas son subdivididas en </a:t>
            </a:r>
            <a:r>
              <a:rPr b="1" i="1" lang="es-ES_tradnl" sz="2400" spc="-1" strike="noStrike">
                <a:solidFill>
                  <a:srgbClr val="00279f"/>
                </a:solidFill>
                <a:latin typeface="Arial Narrow"/>
              </a:rPr>
              <a:t>slots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 de 53 bytes</a:t>
            </a:r>
            <a:br>
              <a:rPr sz="2400"/>
            </a:b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para transportar las celda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s de Protocolos Orientados a Conexión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Que es SMDS?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MDS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=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 Switched Multimegabit Data Service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ervicio público de conmutación de paquetes, no orientado a conexión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connectionless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 ofrecido por empresas de telecomunicacione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ETSI ha definido un servicio casi idéntico: el CBDS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Connectionless Broadband Data Service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Originalmente, concebido como un servicio urbano, basado en la norma IEEE 802.6 para MAN (red de area metropolitana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Hoy es un servicio que puede emplear una cualquiera de varias infraestructuras de transporte, como, por ejemplo, ATM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Que es SMDS (cont.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MDS conmuta y encamina paquetes de hasta 9183 octet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omo es un servicio no orientado a conexión, no se establecen circuitos virtuale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20000"/>
              </a:lnSpc>
              <a:spcBef>
                <a:spcPts val="975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ada paquete SMDS es direccionado y enrutado según las normas de direccionamiento global del UIT-T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"/>
          <p:cNvSpPr/>
          <p:nvPr/>
        </p:nvSpPr>
        <p:spPr>
          <a:xfrm>
            <a:off x="3976560" y="5029200"/>
            <a:ext cx="126864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Uso de SMDS como una Red Física con TCP/IP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79" name=""/>
          <p:cNvSpPr/>
          <p:nvPr/>
        </p:nvSpPr>
        <p:spPr>
          <a:xfrm>
            <a:off x="539640" y="1378080"/>
            <a:ext cx="1359000" cy="12063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uperi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539640" y="2597040"/>
            <a:ext cx="1359000" cy="59688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39640" y="3206880"/>
            <a:ext cx="1359000" cy="59688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539640" y="3816360"/>
            <a:ext cx="1359000" cy="596880"/>
          </a:xfrm>
          <a:prstGeom prst="rect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39640" y="4425840"/>
            <a:ext cx="1359000" cy="5968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539640" y="5035680"/>
            <a:ext cx="1359000" cy="5968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2597040" y="3206880"/>
            <a:ext cx="1359000" cy="59688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2597040" y="3816360"/>
            <a:ext cx="1359000" cy="596880"/>
          </a:xfrm>
          <a:prstGeom prst="rect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2597040" y="4425840"/>
            <a:ext cx="673200" cy="5968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597040" y="5035680"/>
            <a:ext cx="673200" cy="5968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5264280" y="3206880"/>
            <a:ext cx="1358640" cy="59688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5264280" y="3816360"/>
            <a:ext cx="1358640" cy="596880"/>
          </a:xfrm>
          <a:prstGeom prst="rect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5950080" y="5035680"/>
            <a:ext cx="672840" cy="5968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7245360" y="1378080"/>
            <a:ext cx="1359000" cy="12063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uperi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245360" y="2597040"/>
            <a:ext cx="1359000" cy="59688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7245360" y="3206880"/>
            <a:ext cx="1359000" cy="59688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7245360" y="3816360"/>
            <a:ext cx="1359000" cy="596880"/>
          </a:xfrm>
          <a:prstGeom prst="rect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7245360" y="4425840"/>
            <a:ext cx="1359000" cy="5968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7245360" y="5035680"/>
            <a:ext cx="1359000" cy="5968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3282840" y="4425840"/>
            <a:ext cx="673200" cy="1206720"/>
          </a:xfrm>
          <a:prstGeom prst="rect">
            <a:avLst/>
          </a:prstGeom>
          <a:gradFill rotWithShape="0">
            <a:gsLst>
              <a:gs pos="0">
                <a:srgbClr val="4da24d"/>
              </a:gs>
              <a:gs pos="100000">
                <a:srgbClr val="037c0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5950080" y="4425840"/>
            <a:ext cx="672840" cy="5968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5264280" y="4425840"/>
            <a:ext cx="672840" cy="1206720"/>
          </a:xfrm>
          <a:prstGeom prst="rect">
            <a:avLst/>
          </a:prstGeom>
          <a:gradFill rotWithShape="0">
            <a:gsLst>
              <a:gs pos="0">
                <a:srgbClr val="4da24d"/>
              </a:gs>
              <a:gs pos="100000">
                <a:srgbClr val="037c0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4191120" y="4732200"/>
            <a:ext cx="820440" cy="755640"/>
          </a:xfrm>
          <a:custGeom>
            <a:avLst/>
            <a:gdLst/>
            <a:ahLst/>
            <a:rect l="l" t="t" r="r" b="b"/>
            <a:pathLst>
              <a:path w="517" h="476">
                <a:moveTo>
                  <a:pt x="128" y="98"/>
                </a:moveTo>
                <a:lnTo>
                  <a:pt x="99" y="106"/>
                </a:lnTo>
                <a:lnTo>
                  <a:pt x="81" y="106"/>
                </a:lnTo>
                <a:lnTo>
                  <a:pt x="58" y="121"/>
                </a:lnTo>
                <a:lnTo>
                  <a:pt x="47" y="142"/>
                </a:lnTo>
                <a:lnTo>
                  <a:pt x="47" y="172"/>
                </a:lnTo>
                <a:lnTo>
                  <a:pt x="64" y="192"/>
                </a:lnTo>
                <a:lnTo>
                  <a:pt x="29" y="212"/>
                </a:lnTo>
                <a:lnTo>
                  <a:pt x="6" y="222"/>
                </a:lnTo>
                <a:lnTo>
                  <a:pt x="0" y="253"/>
                </a:lnTo>
                <a:lnTo>
                  <a:pt x="6" y="278"/>
                </a:lnTo>
                <a:lnTo>
                  <a:pt x="29" y="308"/>
                </a:lnTo>
                <a:lnTo>
                  <a:pt x="41" y="328"/>
                </a:lnTo>
                <a:lnTo>
                  <a:pt x="64" y="344"/>
                </a:lnTo>
                <a:lnTo>
                  <a:pt x="87" y="349"/>
                </a:lnTo>
                <a:lnTo>
                  <a:pt x="110" y="349"/>
                </a:lnTo>
                <a:lnTo>
                  <a:pt x="128" y="384"/>
                </a:lnTo>
                <a:lnTo>
                  <a:pt x="145" y="414"/>
                </a:lnTo>
                <a:lnTo>
                  <a:pt x="174" y="445"/>
                </a:lnTo>
                <a:lnTo>
                  <a:pt x="203" y="464"/>
                </a:lnTo>
                <a:lnTo>
                  <a:pt x="231" y="475"/>
                </a:lnTo>
                <a:lnTo>
                  <a:pt x="256" y="475"/>
                </a:lnTo>
                <a:lnTo>
                  <a:pt x="296" y="475"/>
                </a:lnTo>
                <a:lnTo>
                  <a:pt x="319" y="475"/>
                </a:lnTo>
                <a:lnTo>
                  <a:pt x="342" y="464"/>
                </a:lnTo>
                <a:lnTo>
                  <a:pt x="348" y="439"/>
                </a:lnTo>
                <a:lnTo>
                  <a:pt x="371" y="424"/>
                </a:lnTo>
                <a:lnTo>
                  <a:pt x="406" y="434"/>
                </a:lnTo>
                <a:lnTo>
                  <a:pt x="429" y="439"/>
                </a:lnTo>
                <a:lnTo>
                  <a:pt x="452" y="434"/>
                </a:lnTo>
                <a:lnTo>
                  <a:pt x="475" y="414"/>
                </a:lnTo>
                <a:lnTo>
                  <a:pt x="493" y="389"/>
                </a:lnTo>
                <a:lnTo>
                  <a:pt x="516" y="359"/>
                </a:lnTo>
                <a:lnTo>
                  <a:pt x="516" y="333"/>
                </a:lnTo>
                <a:lnTo>
                  <a:pt x="504" y="303"/>
                </a:lnTo>
                <a:lnTo>
                  <a:pt x="481" y="293"/>
                </a:lnTo>
                <a:lnTo>
                  <a:pt x="510" y="262"/>
                </a:lnTo>
                <a:lnTo>
                  <a:pt x="504" y="222"/>
                </a:lnTo>
                <a:lnTo>
                  <a:pt x="493" y="202"/>
                </a:lnTo>
                <a:lnTo>
                  <a:pt x="481" y="177"/>
                </a:lnTo>
                <a:lnTo>
                  <a:pt x="481" y="156"/>
                </a:lnTo>
                <a:lnTo>
                  <a:pt x="452" y="152"/>
                </a:lnTo>
                <a:lnTo>
                  <a:pt x="435" y="167"/>
                </a:lnTo>
                <a:lnTo>
                  <a:pt x="452" y="136"/>
                </a:lnTo>
                <a:lnTo>
                  <a:pt x="458" y="111"/>
                </a:lnTo>
                <a:lnTo>
                  <a:pt x="464" y="91"/>
                </a:lnTo>
                <a:lnTo>
                  <a:pt x="464" y="71"/>
                </a:lnTo>
                <a:lnTo>
                  <a:pt x="446" y="46"/>
                </a:lnTo>
                <a:lnTo>
                  <a:pt x="417" y="20"/>
                </a:lnTo>
                <a:lnTo>
                  <a:pt x="394" y="10"/>
                </a:lnTo>
                <a:lnTo>
                  <a:pt x="371" y="0"/>
                </a:lnTo>
                <a:lnTo>
                  <a:pt x="354" y="0"/>
                </a:lnTo>
                <a:lnTo>
                  <a:pt x="336" y="0"/>
                </a:lnTo>
                <a:lnTo>
                  <a:pt x="313" y="5"/>
                </a:lnTo>
                <a:lnTo>
                  <a:pt x="296" y="25"/>
                </a:lnTo>
                <a:lnTo>
                  <a:pt x="296" y="41"/>
                </a:lnTo>
                <a:lnTo>
                  <a:pt x="272" y="41"/>
                </a:lnTo>
                <a:lnTo>
                  <a:pt x="244" y="25"/>
                </a:lnTo>
                <a:lnTo>
                  <a:pt x="220" y="10"/>
                </a:lnTo>
                <a:lnTo>
                  <a:pt x="197" y="5"/>
                </a:lnTo>
                <a:lnTo>
                  <a:pt x="174" y="5"/>
                </a:lnTo>
                <a:lnTo>
                  <a:pt x="151" y="5"/>
                </a:lnTo>
                <a:lnTo>
                  <a:pt x="145" y="20"/>
                </a:lnTo>
                <a:lnTo>
                  <a:pt x="139" y="46"/>
                </a:lnTo>
                <a:lnTo>
                  <a:pt x="128" y="66"/>
                </a:lnTo>
                <a:lnTo>
                  <a:pt x="128" y="86"/>
                </a:lnTo>
                <a:lnTo>
                  <a:pt x="128" y="98"/>
                </a:lnTo>
              </a:path>
            </a:pathLst>
          </a:custGeom>
          <a:gradFill rotWithShape="0">
            <a:gsLst>
              <a:gs pos="0">
                <a:srgbClr val="e8e8e8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1919160" y="3505320"/>
            <a:ext cx="65880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1919160" y="4114800"/>
            <a:ext cx="65880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1919160" y="5334120"/>
            <a:ext cx="65880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919160" y="4724280"/>
            <a:ext cx="65880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976560" y="4114800"/>
            <a:ext cx="126864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3976560" y="3505320"/>
            <a:ext cx="126864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246560" y="4905360"/>
            <a:ext cx="72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6643800" y="3505320"/>
            <a:ext cx="58248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6643800" y="4114800"/>
            <a:ext cx="58248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6643800" y="4724280"/>
            <a:ext cx="58248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6643800" y="5334120"/>
            <a:ext cx="58248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1919160" y="2895480"/>
            <a:ext cx="530712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1919160" y="1981080"/>
            <a:ext cx="530712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819000" y="5610240"/>
            <a:ext cx="908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2799000" y="5610240"/>
            <a:ext cx="105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enr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5466240" y="5610240"/>
            <a:ext cx="105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enr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7448400" y="5610240"/>
            <a:ext cx="908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1995480" y="5576760"/>
            <a:ext cx="447840" cy="582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6872400" y="5576760"/>
            <a:ext cx="446040" cy="582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"/>
          <p:cNvSpPr/>
          <p:nvPr/>
        </p:nvSpPr>
        <p:spPr>
          <a:xfrm>
            <a:off x="3976560" y="5410080"/>
            <a:ext cx="126864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Uso de SMDS con Puente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923" name=""/>
          <p:cNvSpPr/>
          <p:nvPr/>
        </p:nvSpPr>
        <p:spPr>
          <a:xfrm>
            <a:off x="539640" y="1434960"/>
            <a:ext cx="1359000" cy="12067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uperi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539640" y="2654280"/>
            <a:ext cx="1359000" cy="59688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539640" y="3263760"/>
            <a:ext cx="1359000" cy="59688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539640" y="3873600"/>
            <a:ext cx="1359000" cy="596880"/>
          </a:xfrm>
          <a:prstGeom prst="rect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539640" y="4483080"/>
            <a:ext cx="1359000" cy="5968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539640" y="5092560"/>
            <a:ext cx="1359000" cy="5968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2597040" y="4502160"/>
            <a:ext cx="673200" cy="5968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2597040" y="5111640"/>
            <a:ext cx="673200" cy="5968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5950080" y="5111640"/>
            <a:ext cx="672840" cy="5968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7245360" y="1454040"/>
            <a:ext cx="1359000" cy="12067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uperi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7245360" y="2673360"/>
            <a:ext cx="1359000" cy="59688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7245360" y="3282840"/>
            <a:ext cx="1359000" cy="59688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7245360" y="3892680"/>
            <a:ext cx="1359000" cy="596880"/>
          </a:xfrm>
          <a:prstGeom prst="rect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7245360" y="4502160"/>
            <a:ext cx="1359000" cy="5968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7245360" y="5111640"/>
            <a:ext cx="1359000" cy="5968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3282840" y="5111640"/>
            <a:ext cx="673200" cy="59688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26e02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5950080" y="4502160"/>
            <a:ext cx="672840" cy="5968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5264280" y="5111640"/>
            <a:ext cx="672840" cy="59688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26e02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4191120" y="5113440"/>
            <a:ext cx="820440" cy="755640"/>
          </a:xfrm>
          <a:custGeom>
            <a:avLst/>
            <a:gdLst/>
            <a:ahLst/>
            <a:rect l="l" t="t" r="r" b="b"/>
            <a:pathLst>
              <a:path w="517" h="476">
                <a:moveTo>
                  <a:pt x="128" y="98"/>
                </a:moveTo>
                <a:lnTo>
                  <a:pt x="99" y="106"/>
                </a:lnTo>
                <a:lnTo>
                  <a:pt x="81" y="106"/>
                </a:lnTo>
                <a:lnTo>
                  <a:pt x="58" y="121"/>
                </a:lnTo>
                <a:lnTo>
                  <a:pt x="47" y="142"/>
                </a:lnTo>
                <a:lnTo>
                  <a:pt x="47" y="172"/>
                </a:lnTo>
                <a:lnTo>
                  <a:pt x="64" y="192"/>
                </a:lnTo>
                <a:lnTo>
                  <a:pt x="29" y="212"/>
                </a:lnTo>
                <a:lnTo>
                  <a:pt x="6" y="222"/>
                </a:lnTo>
                <a:lnTo>
                  <a:pt x="0" y="253"/>
                </a:lnTo>
                <a:lnTo>
                  <a:pt x="6" y="278"/>
                </a:lnTo>
                <a:lnTo>
                  <a:pt x="29" y="308"/>
                </a:lnTo>
                <a:lnTo>
                  <a:pt x="41" y="328"/>
                </a:lnTo>
                <a:lnTo>
                  <a:pt x="64" y="344"/>
                </a:lnTo>
                <a:lnTo>
                  <a:pt x="87" y="349"/>
                </a:lnTo>
                <a:lnTo>
                  <a:pt x="110" y="349"/>
                </a:lnTo>
                <a:lnTo>
                  <a:pt x="128" y="384"/>
                </a:lnTo>
                <a:lnTo>
                  <a:pt x="145" y="414"/>
                </a:lnTo>
                <a:lnTo>
                  <a:pt x="174" y="445"/>
                </a:lnTo>
                <a:lnTo>
                  <a:pt x="203" y="464"/>
                </a:lnTo>
                <a:lnTo>
                  <a:pt x="231" y="475"/>
                </a:lnTo>
                <a:lnTo>
                  <a:pt x="256" y="475"/>
                </a:lnTo>
                <a:lnTo>
                  <a:pt x="296" y="475"/>
                </a:lnTo>
                <a:lnTo>
                  <a:pt x="319" y="475"/>
                </a:lnTo>
                <a:lnTo>
                  <a:pt x="342" y="464"/>
                </a:lnTo>
                <a:lnTo>
                  <a:pt x="348" y="439"/>
                </a:lnTo>
                <a:lnTo>
                  <a:pt x="371" y="424"/>
                </a:lnTo>
                <a:lnTo>
                  <a:pt x="406" y="434"/>
                </a:lnTo>
                <a:lnTo>
                  <a:pt x="429" y="439"/>
                </a:lnTo>
                <a:lnTo>
                  <a:pt x="452" y="434"/>
                </a:lnTo>
                <a:lnTo>
                  <a:pt x="475" y="414"/>
                </a:lnTo>
                <a:lnTo>
                  <a:pt x="493" y="389"/>
                </a:lnTo>
                <a:lnTo>
                  <a:pt x="516" y="359"/>
                </a:lnTo>
                <a:lnTo>
                  <a:pt x="516" y="333"/>
                </a:lnTo>
                <a:lnTo>
                  <a:pt x="504" y="303"/>
                </a:lnTo>
                <a:lnTo>
                  <a:pt x="481" y="293"/>
                </a:lnTo>
                <a:lnTo>
                  <a:pt x="510" y="262"/>
                </a:lnTo>
                <a:lnTo>
                  <a:pt x="504" y="222"/>
                </a:lnTo>
                <a:lnTo>
                  <a:pt x="493" y="202"/>
                </a:lnTo>
                <a:lnTo>
                  <a:pt x="481" y="177"/>
                </a:lnTo>
                <a:lnTo>
                  <a:pt x="481" y="156"/>
                </a:lnTo>
                <a:lnTo>
                  <a:pt x="452" y="152"/>
                </a:lnTo>
                <a:lnTo>
                  <a:pt x="435" y="167"/>
                </a:lnTo>
                <a:lnTo>
                  <a:pt x="452" y="136"/>
                </a:lnTo>
                <a:lnTo>
                  <a:pt x="458" y="111"/>
                </a:lnTo>
                <a:lnTo>
                  <a:pt x="464" y="91"/>
                </a:lnTo>
                <a:lnTo>
                  <a:pt x="464" y="71"/>
                </a:lnTo>
                <a:lnTo>
                  <a:pt x="446" y="46"/>
                </a:lnTo>
                <a:lnTo>
                  <a:pt x="417" y="20"/>
                </a:lnTo>
                <a:lnTo>
                  <a:pt x="394" y="10"/>
                </a:lnTo>
                <a:lnTo>
                  <a:pt x="371" y="0"/>
                </a:lnTo>
                <a:lnTo>
                  <a:pt x="354" y="0"/>
                </a:lnTo>
                <a:lnTo>
                  <a:pt x="336" y="0"/>
                </a:lnTo>
                <a:lnTo>
                  <a:pt x="313" y="5"/>
                </a:lnTo>
                <a:lnTo>
                  <a:pt x="296" y="25"/>
                </a:lnTo>
                <a:lnTo>
                  <a:pt x="296" y="41"/>
                </a:lnTo>
                <a:lnTo>
                  <a:pt x="272" y="41"/>
                </a:lnTo>
                <a:lnTo>
                  <a:pt x="244" y="25"/>
                </a:lnTo>
                <a:lnTo>
                  <a:pt x="220" y="10"/>
                </a:lnTo>
                <a:lnTo>
                  <a:pt x="197" y="5"/>
                </a:lnTo>
                <a:lnTo>
                  <a:pt x="174" y="5"/>
                </a:lnTo>
                <a:lnTo>
                  <a:pt x="151" y="5"/>
                </a:lnTo>
                <a:lnTo>
                  <a:pt x="145" y="20"/>
                </a:lnTo>
                <a:lnTo>
                  <a:pt x="139" y="46"/>
                </a:lnTo>
                <a:lnTo>
                  <a:pt x="128" y="66"/>
                </a:lnTo>
                <a:lnTo>
                  <a:pt x="128" y="86"/>
                </a:lnTo>
                <a:lnTo>
                  <a:pt x="128" y="98"/>
                </a:lnTo>
              </a:path>
            </a:pathLst>
          </a:custGeom>
          <a:gradFill rotWithShape="0">
            <a:gsLst>
              <a:gs pos="0">
                <a:srgbClr val="e8e8e8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1919160" y="5410080"/>
            <a:ext cx="65880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1919160" y="4800600"/>
            <a:ext cx="65880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4246560" y="5286240"/>
            <a:ext cx="72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6643800" y="4800600"/>
            <a:ext cx="58248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6643800" y="5410080"/>
            <a:ext cx="58248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1843200" y="2971800"/>
            <a:ext cx="538308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1919160" y="2057400"/>
            <a:ext cx="530712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819000" y="5667480"/>
            <a:ext cx="908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799000" y="5686560"/>
            <a:ext cx="105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enr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5466240" y="5686560"/>
            <a:ext cx="105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enr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7448400" y="5686560"/>
            <a:ext cx="908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1995480" y="5653080"/>
            <a:ext cx="430200" cy="56196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6872400" y="5653080"/>
            <a:ext cx="385560" cy="50652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1919160" y="3581280"/>
            <a:ext cx="530712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1919160" y="4191120"/>
            <a:ext cx="530712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3282840" y="4502160"/>
            <a:ext cx="673200" cy="596880"/>
          </a:xfrm>
          <a:prstGeom prst="rect">
            <a:avLst/>
          </a:prstGeom>
          <a:gradFill rotWithShape="0">
            <a:gsLst>
              <a:gs pos="0">
                <a:srgbClr val="4da24d"/>
              </a:gs>
              <a:gs pos="100000">
                <a:srgbClr val="037c0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uent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5264280" y="4502160"/>
            <a:ext cx="672840" cy="596880"/>
          </a:xfrm>
          <a:prstGeom prst="rect">
            <a:avLst/>
          </a:prstGeom>
          <a:gradFill rotWithShape="0">
            <a:gsLst>
              <a:gs pos="0">
                <a:srgbClr val="4da24d"/>
              </a:gs>
              <a:gs pos="100000">
                <a:srgbClr val="037c0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uent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3976560" y="4800600"/>
            <a:ext cx="126864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MDS: La Interfaz Abonado-Red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96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El punto en el cual el usuario se conecta a la red se llama SNI (</a:t>
            </a:r>
            <a:r>
              <a:rPr b="1" i="1" lang="es-ES_tradnl" sz="3200" spc="-1" strike="noStrike">
                <a:solidFill>
                  <a:srgbClr val="00279f"/>
                </a:solidFill>
                <a:latin typeface="Arial Narrow"/>
              </a:rPr>
              <a:t>Subscriber-Network Interface</a:t>
            </a: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A una SNI se pueden asociar hasta 16 direcciones individuales según la Rec. E.164 del UIT-T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El protocolo en la SNI se llama SIP (</a:t>
            </a:r>
            <a:r>
              <a:rPr b="1" i="1" lang="es-ES_tradnl" sz="3200" spc="-1" strike="noStrike">
                <a:solidFill>
                  <a:srgbClr val="00279f"/>
                </a:solidFill>
                <a:latin typeface="Arial Narrow"/>
              </a:rPr>
              <a:t>SMDS Interface Protocol</a:t>
            </a: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), basado en la norma IEEE 802.6 (DQDB)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e trata de un protocolo en 3 capas, las cuales no corresponden al modelo OSI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MDS: La Interfaz Abonado-Red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96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5000"/>
              </a:lnSpc>
              <a:spcBef>
                <a:spcPts val="79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Hace poco se definió la opción DXI-SNI (</a:t>
            </a:r>
            <a:r>
              <a:rPr b="1" i="1" lang="es-ES_tradnl" sz="3200" spc="-1" strike="noStrike">
                <a:solidFill>
                  <a:srgbClr val="00279f"/>
                </a:solidFill>
                <a:latin typeface="Arial Narrow"/>
              </a:rPr>
              <a:t>Data Exchange Interface-SNI</a:t>
            </a: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), para ofrecer el servicio SMDS a velocidades inferiores a E3 (34 Mbit/s)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05000"/>
              </a:lnSpc>
              <a:spcBef>
                <a:spcPts val="700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ientras que la SNI con SIP emplea las mismas celdas de 53 octetos que ATM, con 5 octetos de encabezado y 48 de carga, la opción DXI-SNI no emplea celda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"/>
          <p:cNvSpPr/>
          <p:nvPr/>
        </p:nvSpPr>
        <p:spPr>
          <a:xfrm>
            <a:off x="3886200" y="2971800"/>
            <a:ext cx="1830240" cy="1068480"/>
          </a:xfrm>
          <a:custGeom>
            <a:avLst/>
            <a:gdLst/>
            <a:ahLst/>
            <a:rect l="l" t="t" r="r" b="b"/>
            <a:pathLst>
              <a:path w="1153" h="673">
                <a:moveTo>
                  <a:pt x="0" y="336"/>
                </a:moveTo>
                <a:lnTo>
                  <a:pt x="1152" y="0"/>
                </a:lnTo>
                <a:lnTo>
                  <a:pt x="1152" y="672"/>
                </a:lnTo>
                <a:lnTo>
                  <a:pt x="0" y="672"/>
                </a:lnTo>
                <a:lnTo>
                  <a:pt x="0" y="336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00ae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 flipV="1" rot="5400000">
            <a:off x="7321320" y="2139840"/>
            <a:ext cx="1587600" cy="1130040"/>
          </a:xfrm>
          <a:custGeom>
            <a:avLst/>
            <a:gdLst>
              <a:gd name="textAreaLeft" fmla="*/ 348840 w 1587600"/>
              <a:gd name="textAreaRight" fmla="*/ 1238760 w 1587600"/>
              <a:gd name="textAreaTop" fmla="*/ 248400 h 1130040"/>
              <a:gd name="textAreaBottom" fmla="*/ 881640 h 11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anchorCtr="1" vert="eaVer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00093"/>
                </a:solidFill>
                <a:latin typeface="Arial Narrow"/>
              </a:rPr>
              <a:t>AAL 3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 txBox="1"/>
          <p:nvPr/>
        </p:nvSpPr>
        <p:spPr>
          <a:xfrm>
            <a:off x="683640" y="338040"/>
            <a:ext cx="446436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structura en 3 Capas de SMDS (SNI con SIP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967" name=""/>
          <p:cNvSpPr/>
          <p:nvPr/>
        </p:nvSpPr>
        <p:spPr>
          <a:xfrm>
            <a:off x="914400" y="4572000"/>
            <a:ext cx="3429000" cy="15238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 Narrow"/>
              </a:rPr>
              <a:t>PHY</a:t>
            </a:r>
            <a:r>
              <a:rPr b="1" lang="es-ES_tradnl" sz="1800" spc="-1" strike="noStrike">
                <a:solidFill>
                  <a:srgbClr val="00ae00"/>
                </a:solidFill>
                <a:latin typeface="Arial Narrow"/>
              </a:rPr>
              <a:t>: </a:t>
            </a:r>
            <a:r>
              <a:rPr b="1" i="1" lang="es-ES_tradnl" sz="1800" spc="-1" strike="noStrike">
                <a:solidFill>
                  <a:srgbClr val="500093"/>
                </a:solidFill>
                <a:latin typeface="Arial Narrow"/>
              </a:rPr>
              <a:t>physical layer</a:t>
            </a:r>
            <a:r>
              <a:rPr b="1" lang="es-ES_tradnl" sz="1800" spc="-1" strike="noStrike">
                <a:solidFill>
                  <a:srgbClr val="037c03"/>
                </a:solidFill>
                <a:latin typeface="Arial Narrow"/>
              </a:rPr>
              <a:t>, capa fí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 Narrow"/>
              </a:rPr>
              <a:t>SAR</a:t>
            </a:r>
            <a:r>
              <a:rPr b="1" lang="es-ES_tradnl" sz="1800" spc="-1" strike="noStrike">
                <a:solidFill>
                  <a:srgbClr val="00ae00"/>
                </a:solidFill>
                <a:latin typeface="Arial Narrow"/>
              </a:rPr>
              <a:t>: </a:t>
            </a:r>
            <a:r>
              <a:rPr b="1" i="1" lang="es-ES_tradnl" sz="1800" spc="-1" strike="noStrike">
                <a:solidFill>
                  <a:srgbClr val="500093"/>
                </a:solidFill>
                <a:latin typeface="Arial Narrow"/>
              </a:rPr>
              <a:t>segmentation and reassembly</a:t>
            </a:r>
            <a:r>
              <a:rPr b="1" lang="es-ES_tradnl" sz="1800" spc="-1" strike="noStrike">
                <a:solidFill>
                  <a:srgbClr val="037c03"/>
                </a:solidFill>
                <a:latin typeface="Arial Narrow"/>
              </a:rPr>
              <a:t>, segmentación y reensam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 Narrow"/>
              </a:rPr>
              <a:t>CPCS</a:t>
            </a:r>
            <a:r>
              <a:rPr b="1" lang="es-ES_tradnl" sz="1800" spc="-1" strike="noStrike">
                <a:solidFill>
                  <a:srgbClr val="00ae00"/>
                </a:solidFill>
                <a:latin typeface="Arial Narrow"/>
              </a:rPr>
              <a:t>: </a:t>
            </a:r>
            <a:r>
              <a:rPr b="1" i="1" lang="es-ES_tradnl" sz="1800" spc="-1" strike="noStrike">
                <a:solidFill>
                  <a:srgbClr val="500093"/>
                </a:solidFill>
                <a:latin typeface="Arial Narrow"/>
              </a:rPr>
              <a:t>common-part convergence sublayer</a:t>
            </a:r>
            <a:r>
              <a:rPr b="1" lang="es-ES_tradnl" sz="1800" spc="-1" strike="noStrike">
                <a:solidFill>
                  <a:srgbClr val="037c03"/>
                </a:solidFill>
                <a:latin typeface="Arial Narrow"/>
              </a:rPr>
              <a:t>, subcapa de convergencia de parte comú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1987560" y="2978280"/>
            <a:ext cx="1892160" cy="52056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apa 3 S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1987560" y="3511440"/>
            <a:ext cx="1892160" cy="5209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apa 2 S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1987560" y="4044960"/>
            <a:ext cx="1892160" cy="52056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apa 1 S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5645160" y="2978280"/>
            <a:ext cx="189216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645160" y="3511440"/>
            <a:ext cx="1892160" cy="5209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5645160" y="4044960"/>
            <a:ext cx="1892160" cy="52056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5645160" y="1378080"/>
            <a:ext cx="1892160" cy="5205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IP-C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5645160" y="1911240"/>
            <a:ext cx="1892160" cy="52092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SCS (nu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5645160" y="2444760"/>
            <a:ext cx="1892160" cy="5205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2187720" y="2498760"/>
            <a:ext cx="156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00093"/>
                </a:solidFill>
                <a:latin typeface="Arial Narrow"/>
              </a:rPr>
              <a:t>Capas del S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5616360" y="1050840"/>
            <a:ext cx="1920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00093"/>
                </a:solidFill>
                <a:latin typeface="Arial Narrow"/>
              </a:rPr>
              <a:t>SMDS sobre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4724280" y="4648320"/>
            <a:ext cx="3429000" cy="10666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5000"/>
              </a:lnSpc>
              <a:buClr>
                <a:srgbClr val="fc0128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 Narrow"/>
              </a:rPr>
              <a:t>SSCS</a:t>
            </a:r>
            <a:r>
              <a:rPr b="1" lang="es-ES_tradnl" sz="1800" spc="-1" strike="noStrike">
                <a:solidFill>
                  <a:srgbClr val="00ae00"/>
                </a:solidFill>
                <a:latin typeface="Arial Narrow"/>
              </a:rPr>
              <a:t>: </a:t>
            </a:r>
            <a:r>
              <a:rPr b="1" i="1" lang="es-ES_tradnl" sz="1800" spc="-1" strike="noStrike">
                <a:solidFill>
                  <a:srgbClr val="500093"/>
                </a:solidFill>
                <a:latin typeface="Arial Narrow"/>
              </a:rPr>
              <a:t>service-specific CS</a:t>
            </a:r>
            <a:r>
              <a:rPr b="1" lang="es-ES_tradnl" sz="1800" spc="-1" strike="noStrike">
                <a:solidFill>
                  <a:srgbClr val="037c03"/>
                </a:solidFill>
                <a:latin typeface="Arial Narrow"/>
              </a:rPr>
              <a:t>, subcapa de convergencia específica para el serv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buClr>
                <a:srgbClr val="fc0128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 Narrow"/>
              </a:rPr>
              <a:t>SIP</a:t>
            </a:r>
            <a:r>
              <a:rPr b="1" lang="es-ES_tradnl" sz="1800" spc="-1" strike="noStrike">
                <a:solidFill>
                  <a:srgbClr val="00ae00"/>
                </a:solidFill>
                <a:latin typeface="Arial Narrow"/>
              </a:rPr>
              <a:t>: </a:t>
            </a:r>
            <a:r>
              <a:rPr b="1" i="1" lang="es-ES_tradnl" sz="1800" spc="-1" strike="noStrike">
                <a:solidFill>
                  <a:srgbClr val="500093"/>
                </a:solidFill>
                <a:latin typeface="Arial Narrow"/>
              </a:rPr>
              <a:t>SMDS Interface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5000"/>
              </a:lnSpc>
              <a:buClr>
                <a:srgbClr val="fc0128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 Narrow"/>
              </a:rPr>
              <a:t>CLS</a:t>
            </a:r>
            <a:r>
              <a:rPr b="1" lang="es-ES_tradnl" sz="1800" spc="-1" strike="noStrike">
                <a:solidFill>
                  <a:srgbClr val="00ae00"/>
                </a:solidFill>
                <a:latin typeface="Arial Narrow"/>
              </a:rPr>
              <a:t>:</a:t>
            </a:r>
            <a:r>
              <a:rPr b="1" i="1" lang="es-ES_tradnl" sz="1800" spc="-1" strike="noStrike">
                <a:solidFill>
                  <a:srgbClr val="9234db"/>
                </a:solidFill>
                <a:latin typeface="Arial Narrow"/>
              </a:rPr>
              <a:t> </a:t>
            </a:r>
            <a:r>
              <a:rPr b="1" i="1" lang="es-ES_tradnl" sz="1800" spc="-1" strike="noStrike">
                <a:solidFill>
                  <a:srgbClr val="500093"/>
                </a:solidFill>
                <a:latin typeface="Arial Narrow"/>
              </a:rPr>
              <a:t>Connectionless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structura de 3 Capas de SMDS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capa 1 está constituida por una interfaz G.703 a 2 ó 34 Mbit/s; eventualmente, SDH / SONET STM-1 / STS-3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capa 2 es la capa de celdas, y corresponde a la capa ATM en la pila de protocolos de la RDSI de banda ancha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s celdas de SMDS, llamadas </a:t>
            </a:r>
            <a:r>
              <a:rPr b="1" lang="es-ES_tradnl" sz="2600" spc="-1" strike="noStrike">
                <a:solidFill>
                  <a:srgbClr val="037c03"/>
                </a:solidFill>
                <a:latin typeface="Arial Narrow"/>
              </a:rPr>
              <a:t>Unidades de Datos de Protocolo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(PDUs) de capa 2 (L2_PDUs) son del mismo tamaño y casi idénticas a las celdas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l Equipo del cliente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CPE, customer premises equipment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 segmenta los paquetes de longitud variable en trozos compatibles con las celdas de 53 octetos de la SNI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structura de 3 Capas de SMDS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98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capa 3 es la capa de paquetes de SMDS, equivalente a las tramas MAC en un ambiente LAN, y contiene las direcciones de destino (E.164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l SMDS emplea un identificador de mensajes de 10 bits en el encabezado, para asociar todas las celdas en que se segmenta el paquete; además, usa un número secuencial de 4 bits para verificar el orden de los segmentos y un campo de 2 bits para designar los segmentos inicial, subsiguiente, final o único (BOM, COM, EOM, SSM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38e00"/>
                </a:solidFill>
                <a:latin typeface="Arial Narrow"/>
              </a:rPr>
              <a:t>equivalente a la SAR de la AAL 3/4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Implementación de SMDS sobre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98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Un DTE (enrutador ó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host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implementa la capa 3 del SIP y la DXI de SMD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ta es la forma típica de un DTE acceder al SMDS a través de una SNI con SIP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2960" indent="-28296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DCE (p. ej. un CSU/DSU) implementa la subcapa SAR (segmentación y reensamble) de la capa de adaptación al ATM (AAL) de tipo 3/4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también implementa la capa ATM y la capa físic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2960" indent="-28296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lternativamente, el DTE implementa la capa 3 del SIP y la DXI de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n este caso, la asociación del VPI y VCI es realizada por el DT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2960" indent="-28296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Hay variantes que pueden proporcionar múltiples interfaces de acceso al servicio en el DCE ó en el DT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MDS en AAL de Tipo 3/4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987" name=""/>
          <p:cNvSpPr/>
          <p:nvPr/>
        </p:nvSpPr>
        <p:spPr>
          <a:xfrm>
            <a:off x="3962520" y="4952880"/>
            <a:ext cx="3504960" cy="1143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SAR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: </a:t>
            </a:r>
            <a:r>
              <a:rPr b="1" i="1" lang="es-ES_tradnl" sz="1600" spc="-1" strike="noStrike">
                <a:solidFill>
                  <a:srgbClr val="500093"/>
                </a:solidFill>
                <a:latin typeface="Arial Narrow"/>
              </a:rPr>
              <a:t>Segmentation-And-Re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CS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: </a:t>
            </a:r>
            <a:r>
              <a:rPr b="1" i="1" lang="es-ES_tradnl" sz="1600" spc="-1" strike="noStrike">
                <a:solidFill>
                  <a:srgbClr val="500093"/>
                </a:solidFill>
                <a:latin typeface="Arial Narrow"/>
              </a:rPr>
              <a:t>Convergence Sub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AAL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: </a:t>
            </a:r>
            <a:r>
              <a:rPr b="1" i="1" lang="es-ES_tradnl" sz="1600" spc="-1" strike="noStrike">
                <a:solidFill>
                  <a:srgbClr val="500093"/>
                </a:solidFill>
                <a:latin typeface="Arial Narrow"/>
              </a:rPr>
              <a:t>ATM Adaptation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SDU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: </a:t>
            </a:r>
            <a:r>
              <a:rPr b="1" i="1" lang="es-ES_tradnl" sz="1600" spc="-1" strike="noStrike">
                <a:solidFill>
                  <a:srgbClr val="500093"/>
                </a:solidFill>
                <a:latin typeface="Arial Narrow"/>
              </a:rPr>
              <a:t>Service Data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PDU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: </a:t>
            </a:r>
            <a:r>
              <a:rPr b="1" i="1" lang="es-ES_tradnl" sz="1600" spc="-1" strike="noStrike">
                <a:solidFill>
                  <a:srgbClr val="500093"/>
                </a:solidFill>
                <a:latin typeface="Arial Narrow"/>
              </a:rPr>
              <a:t>Protocol Data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749680" y="1758960"/>
            <a:ext cx="3111480" cy="368280"/>
          </a:xfrm>
          <a:prstGeom prst="rect">
            <a:avLst/>
          </a:prstGeom>
          <a:gradFill rotWithShape="0">
            <a:gsLst>
              <a:gs pos="0">
                <a:srgbClr val="fcacdb"/>
              </a:gs>
              <a:gs pos="100000">
                <a:srgbClr val="af779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2749680" y="2901960"/>
            <a:ext cx="3111480" cy="368280"/>
          </a:xfrm>
          <a:prstGeom prst="rect">
            <a:avLst/>
          </a:prstGeom>
          <a:gradFill rotWithShape="0">
            <a:gsLst>
              <a:gs pos="0">
                <a:srgbClr val="fcacdb"/>
              </a:gs>
              <a:gs pos="100000">
                <a:srgbClr val="af7798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1225440" y="3892680"/>
            <a:ext cx="1206720" cy="3682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ad3e7f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539640" y="3892680"/>
            <a:ext cx="292320" cy="3682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2444760" y="3892680"/>
            <a:ext cx="291960" cy="3682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3206880" y="3892680"/>
            <a:ext cx="1587240" cy="368280"/>
          </a:xfrm>
          <a:prstGeom prst="rect">
            <a:avLst/>
          </a:prstGeom>
          <a:gradFill rotWithShape="0">
            <a:gsLst>
              <a:gs pos="0">
                <a:srgbClr val="f86abd"/>
              </a:gs>
              <a:gs pos="100000">
                <a:srgbClr val="f95ab7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2901960" y="3892680"/>
            <a:ext cx="291960" cy="3682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4807080" y="3892680"/>
            <a:ext cx="291960" cy="3682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5950080" y="3892680"/>
            <a:ext cx="520560" cy="368280"/>
          </a:xfrm>
          <a:prstGeom prst="rect">
            <a:avLst/>
          </a:prstGeom>
          <a:gradFill rotWithShape="0">
            <a:gsLst>
              <a:gs pos="0">
                <a:srgbClr val="fa9bd2"/>
              </a:gs>
              <a:gs pos="100000">
                <a:srgbClr val="f95ab7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5645160" y="3892680"/>
            <a:ext cx="291960" cy="3682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7550280" y="3892680"/>
            <a:ext cx="291960" cy="3682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2716920" y="1441440"/>
            <a:ext cx="323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paquete de SMDS (hasta 9183 octe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5920920" y="1778040"/>
            <a:ext cx="164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37c03"/>
                </a:solidFill>
                <a:latin typeface="Arial Narrow"/>
              </a:rPr>
              <a:t>SDU de la A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6155280" y="2104920"/>
            <a:ext cx="178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3b900"/>
                </a:solidFill>
                <a:latin typeface="Arial Narrow"/>
              </a:rPr>
              <a:t>octetos de rell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6616080" y="2333520"/>
            <a:ext cx="162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67900"/>
                </a:solidFill>
                <a:latin typeface="Arial Narrow"/>
              </a:rPr>
              <a:t>trailer</a:t>
            </a:r>
            <a:r>
              <a:rPr b="1" lang="es-ES_tradnl" sz="1800" spc="-1" strike="noStrike">
                <a:solidFill>
                  <a:srgbClr val="767900"/>
                </a:solidFill>
                <a:latin typeface="Arial Narrow"/>
              </a:rPr>
              <a:t> de la 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67900"/>
                </a:solidFill>
                <a:latin typeface="Arial Narrow"/>
              </a:rPr>
              <a:t>de la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6683760" y="2921040"/>
            <a:ext cx="1502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37c03"/>
                </a:solidFill>
                <a:latin typeface="Arial Narrow"/>
              </a:rPr>
              <a:t>PDU de la 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368440" y="2901960"/>
            <a:ext cx="368280" cy="3682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7229880" y="3606840"/>
            <a:ext cx="1155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37c03"/>
                </a:solidFill>
                <a:latin typeface="Arial Narrow"/>
              </a:rPr>
              <a:t>PDU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37c03"/>
                </a:solidFill>
                <a:latin typeface="Arial Narrow"/>
              </a:rPr>
              <a:t>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677880" y="2104920"/>
            <a:ext cx="1719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ae00"/>
                </a:solidFill>
                <a:latin typeface="Arial Narrow"/>
              </a:rPr>
              <a:t>header</a:t>
            </a:r>
            <a:r>
              <a:rPr b="1" lang="es-ES_tradnl" sz="1800" spc="-1" strike="noStrike">
                <a:solidFill>
                  <a:srgbClr val="00ae00"/>
                </a:solidFill>
                <a:latin typeface="Arial Narrow"/>
              </a:rPr>
              <a:t> de la 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ae00"/>
                </a:solidFill>
                <a:latin typeface="Arial Narrow"/>
              </a:rPr>
              <a:t>de la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5160960" y="3879720"/>
            <a:ext cx="318600" cy="3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873760" y="2901960"/>
            <a:ext cx="368280" cy="3682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6254640" y="2901960"/>
            <a:ext cx="368280" cy="368280"/>
          </a:xfrm>
          <a:prstGeom prst="rect">
            <a:avLst/>
          </a:prstGeom>
          <a:solidFill>
            <a:srgbClr val="767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844560" y="3892680"/>
            <a:ext cx="368280" cy="3682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6483240" y="3892680"/>
            <a:ext cx="368280" cy="368280"/>
          </a:xfrm>
          <a:prstGeom prst="rect">
            <a:avLst/>
          </a:prstGeom>
          <a:solidFill>
            <a:srgbClr val="b3b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6864480" y="3892680"/>
            <a:ext cx="368280" cy="368280"/>
          </a:xfrm>
          <a:prstGeom prst="rect">
            <a:avLst/>
          </a:prstGeom>
          <a:solidFill>
            <a:srgbClr val="767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7245360" y="3892680"/>
            <a:ext cx="29196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4191120" y="1752480"/>
            <a:ext cx="77760" cy="459000"/>
          </a:xfrm>
          <a:custGeom>
            <a:avLst/>
            <a:gdLst/>
            <a:ahLst/>
            <a:rect l="l" t="t" r="r" b="b"/>
            <a:pathLst>
              <a:path w="49" h="289">
                <a:moveTo>
                  <a:pt x="48" y="0"/>
                </a:moveTo>
                <a:lnTo>
                  <a:pt x="0" y="72"/>
                </a:lnTo>
                <a:lnTo>
                  <a:pt x="48" y="144"/>
                </a:lnTo>
                <a:lnTo>
                  <a:pt x="0" y="216"/>
                </a:lnTo>
                <a:lnTo>
                  <a:pt x="48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191120" y="2895480"/>
            <a:ext cx="77760" cy="459000"/>
          </a:xfrm>
          <a:custGeom>
            <a:avLst/>
            <a:gdLst/>
            <a:ahLst/>
            <a:rect l="l" t="t" r="r" b="b"/>
            <a:pathLst>
              <a:path w="49" h="289">
                <a:moveTo>
                  <a:pt x="48" y="0"/>
                </a:moveTo>
                <a:lnTo>
                  <a:pt x="0" y="72"/>
                </a:lnTo>
                <a:lnTo>
                  <a:pt x="48" y="144"/>
                </a:lnTo>
                <a:lnTo>
                  <a:pt x="0" y="216"/>
                </a:lnTo>
                <a:lnTo>
                  <a:pt x="48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4191120" y="3886200"/>
            <a:ext cx="77760" cy="458640"/>
          </a:xfrm>
          <a:custGeom>
            <a:avLst/>
            <a:gdLst/>
            <a:ahLst/>
            <a:rect l="l" t="t" r="r" b="b"/>
            <a:pathLst>
              <a:path w="49" h="289">
                <a:moveTo>
                  <a:pt x="48" y="0"/>
                </a:moveTo>
                <a:lnTo>
                  <a:pt x="0" y="72"/>
                </a:lnTo>
                <a:lnTo>
                  <a:pt x="48" y="144"/>
                </a:lnTo>
                <a:lnTo>
                  <a:pt x="0" y="216"/>
                </a:lnTo>
                <a:lnTo>
                  <a:pt x="48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2057400" y="3886200"/>
            <a:ext cx="77760" cy="458640"/>
          </a:xfrm>
          <a:custGeom>
            <a:avLst/>
            <a:gdLst/>
            <a:ahLst/>
            <a:rect l="l" t="t" r="r" b="b"/>
            <a:pathLst>
              <a:path w="49" h="289">
                <a:moveTo>
                  <a:pt x="48" y="0"/>
                </a:moveTo>
                <a:lnTo>
                  <a:pt x="0" y="72"/>
                </a:lnTo>
                <a:lnTo>
                  <a:pt x="48" y="144"/>
                </a:lnTo>
                <a:lnTo>
                  <a:pt x="0" y="216"/>
                </a:lnTo>
                <a:lnTo>
                  <a:pt x="48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6172200" y="3886200"/>
            <a:ext cx="77760" cy="458640"/>
          </a:xfrm>
          <a:custGeom>
            <a:avLst/>
            <a:gdLst/>
            <a:ahLst/>
            <a:rect l="l" t="t" r="r" b="b"/>
            <a:pathLst>
              <a:path w="49" h="289">
                <a:moveTo>
                  <a:pt x="48" y="0"/>
                </a:moveTo>
                <a:lnTo>
                  <a:pt x="0" y="72"/>
                </a:lnTo>
                <a:lnTo>
                  <a:pt x="48" y="144"/>
                </a:lnTo>
                <a:lnTo>
                  <a:pt x="0" y="216"/>
                </a:lnTo>
                <a:lnTo>
                  <a:pt x="48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586800" y="4718160"/>
            <a:ext cx="219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57b49"/>
                </a:solidFill>
                <a:latin typeface="Arial Narrow"/>
              </a:rPr>
              <a:t>header</a:t>
            </a:r>
            <a:r>
              <a:rPr b="1" lang="es-ES_tradnl" sz="1600" spc="-1" strike="noStrike">
                <a:solidFill>
                  <a:srgbClr val="f57b49"/>
                </a:solidFill>
                <a:latin typeface="Arial Narrow"/>
              </a:rPr>
              <a:t> de la PDU de S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1122480" y="5022720"/>
            <a:ext cx="210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500093"/>
                </a:solidFill>
                <a:latin typeface="Arial Narrow"/>
              </a:rPr>
              <a:t>trailer</a:t>
            </a: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 de la PDU de S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7598520" y="4641840"/>
            <a:ext cx="1106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no util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(relle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2222640" y="4282920"/>
            <a:ext cx="888480" cy="165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b760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 rot="16200000">
            <a:off x="7178400" y="4143600"/>
            <a:ext cx="88884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21"/>
                </a:moveTo>
                <a:arcTo wR="10800" hR="10800" stAng="-10774723" swAng="5362446"/>
                <a:lnTo>
                  <a:pt x="10800" y="10800"/>
                </a:lnTo>
                <a:close/>
              </a:path>
              <a:path fill="none" w="21600" h="21600">
                <a:moveTo>
                  <a:pt x="0" y="10721"/>
                </a:moveTo>
                <a:arcTo wR="10800" hR="10800" stAng="-10774723" swAng="5362446"/>
              </a:path>
            </a:pathLst>
          </a:custGeom>
          <a:noFill/>
          <a:ln cap="rnd" w="12600">
            <a:solidFill>
              <a:srgbClr val="91919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 flipH="1">
            <a:off x="826920" y="3290760"/>
            <a:ext cx="1548000" cy="582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 flipH="1">
            <a:off x="2427120" y="3290760"/>
            <a:ext cx="633600" cy="582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3138480" y="3290760"/>
            <a:ext cx="49320" cy="582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3747960" y="3290760"/>
            <a:ext cx="1040040" cy="582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5500800" y="3290760"/>
            <a:ext cx="430200" cy="582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6643800" y="3290760"/>
            <a:ext cx="582480" cy="58284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5959440" y="2378160"/>
            <a:ext cx="583560" cy="104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7"/>
                </a:moveTo>
                <a:arcTo wR="10800" hR="10800" stAng="-10789519" swAng="5370836"/>
                <a:lnTo>
                  <a:pt x="10800" y="10800"/>
                </a:lnTo>
                <a:close/>
              </a:path>
              <a:path fill="none" w="21600" h="21600">
                <a:moveTo>
                  <a:pt x="0" y="10767"/>
                </a:moveTo>
                <a:arcTo wR="10800" hR="10800" stAng="-10789519" swAng="5370836"/>
              </a:path>
            </a:pathLst>
          </a:custGeom>
          <a:noFill/>
          <a:ln cap="rnd" w="12600">
            <a:solidFill>
              <a:srgbClr val="b3b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6416640" y="2606760"/>
            <a:ext cx="583560" cy="58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1"/>
                </a:moveTo>
                <a:arcTo wR="10800" hR="10800" stAng="-10781317" swAng="5362634"/>
                <a:lnTo>
                  <a:pt x="10800" y="10800"/>
                </a:lnTo>
                <a:close/>
              </a:path>
              <a:path fill="none" w="21600" h="21600">
                <a:moveTo>
                  <a:pt x="0" y="10741"/>
                </a:moveTo>
                <a:arcTo wR="10800" hR="10800" stAng="-10781317" swAng="5362634"/>
              </a:path>
            </a:pathLst>
          </a:custGeom>
          <a:noFill/>
          <a:ln cap="rnd" w="12600">
            <a:solidFill>
              <a:srgbClr val="767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2072160" y="2378160"/>
            <a:ext cx="583200" cy="104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1" y="0"/>
                </a:moveTo>
                <a:arcTo wR="10800" hR="10800" stAng="-5418683" swAng="5418683"/>
                <a:lnTo>
                  <a:pt x="10800" y="10800"/>
                </a:lnTo>
                <a:close/>
              </a:path>
              <a:path fill="none" w="21600" h="21600">
                <a:moveTo>
                  <a:pt x="10741" y="0"/>
                </a:moveTo>
                <a:arcTo wR="10800" hR="10800" stAng="-5418683" swAng="5418683"/>
              </a:path>
            </a:pathLst>
          </a:custGeom>
          <a:noFill/>
          <a:ln cap="rnd" w="1260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547560" y="4419720"/>
            <a:ext cx="218304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196640" y="4260960"/>
            <a:ext cx="1005840" cy="3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48 oct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533520" y="4281480"/>
            <a:ext cx="0" cy="1252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2743200" y="4281480"/>
            <a:ext cx="0" cy="1252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2909880" y="4419720"/>
            <a:ext cx="218268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3558960" y="4260960"/>
            <a:ext cx="1005840" cy="3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48 oct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2895480" y="4281480"/>
            <a:ext cx="0" cy="1252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5105520" y="4281480"/>
            <a:ext cx="0" cy="1252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5653080" y="4419720"/>
            <a:ext cx="218268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6302160" y="4260960"/>
            <a:ext cx="1005840" cy="3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48 oct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5638680" y="4281480"/>
            <a:ext cx="0" cy="1252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7848720" y="4281480"/>
            <a:ext cx="0" cy="12528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4551480" y="2889360"/>
            <a:ext cx="318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 rot="12840000">
            <a:off x="653400" y="3965040"/>
            <a:ext cx="583200" cy="104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57b4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Implementación del SMDS sobre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048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Hay una diferencia esencial entre la capa 2 del SIP y la capa ATM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capa 2 del SIP es no orientada a conex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capa ATM es orientada a conex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Este hecho crea necesidades adicionales para la implementación en UNI ATM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un ejemplo es la función de Control de Admisión de Conexión usada para determinar si la conexión de ATM puede ser proporcionada en la interfaz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Implementación del SMDS sobre ATM (cont.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05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Entre las capas físicas aplicables a SMDS sobre ATM están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DS3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2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3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onet OC-3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TM-1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y hay esfuerzos por incluir T1 y E1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2960" indent="-28296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s facilidades de SMDS, tales como "clases de acceso" y QoS (</a:t>
            </a:r>
            <a:r>
              <a:rPr b="1" i="1" lang="es-ES_tradnl" sz="3200" spc="-1" strike="noStrike">
                <a:solidFill>
                  <a:srgbClr val="00279f"/>
                </a:solidFill>
                <a:latin typeface="Arial Narrow"/>
              </a:rPr>
              <a:t>quality of service</a:t>
            </a: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), son mantenidas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MDS / CBDS en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05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red ATM transporta unidades de datos (no orientados a conexión) entre servidores específicos que pueden manejar protocolos no orientados a conexión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2960" indent="-28296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protocolo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connectionles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incluye funciones de enrutamiento, direccionamiento y selección de QoS (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quality of servic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2960" indent="-28296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ada PDU del CLNAP ó CLNIP contiene las direcciones de origen y destino (Rec. E.164 del UIT-T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2960" indent="-28296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comunicación a nivel de la capa no orientada a conexión puede ser punto-a-punto ó multipunt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2960" indent="-28296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límite superior de longitud de las SDU de CLNAP / CLNIP es de 9188 octetos (CLNAP) y 9232 (CLNIP) (9188 octetos de datos de usuario, más 40 octetos del encabezado de la SDU de CLNAP, más 4 octetos de CRC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/>
          </p:nvPr>
        </p:nvSpPr>
        <p:spPr>
          <a:xfrm>
            <a:off x="5410080" y="380880"/>
            <a:ext cx="3276720" cy="23623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La entidad de mapeo es responsable por encapsular/desencapsular las PDUs del CLNAP en/de PDUs del CLNIP. Hay varias clases de acceso, definidas por 3 parámetros:     </a:t>
            </a:r>
            <a:endParaRPr b="1" lang="en-US" sz="1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8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MIR (</a:t>
            </a:r>
            <a:r>
              <a:rPr b="1" i="1" lang="es-ES_tradnl" sz="1600" spc="-1" strike="noStrike">
                <a:solidFill>
                  <a:srgbClr val="00279f"/>
                </a:solidFill>
                <a:latin typeface="Arial Narrow"/>
              </a:rPr>
              <a:t>Maximum Information Rate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1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SIR (</a:t>
            </a:r>
            <a:r>
              <a:rPr b="1" i="1" lang="es-ES_tradnl" sz="1600" spc="-1" strike="noStrike">
                <a:solidFill>
                  <a:srgbClr val="00279f"/>
                </a:solidFill>
                <a:latin typeface="Arial Narrow"/>
              </a:rPr>
              <a:t>Sustainable Information 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Rate)</a:t>
            </a:r>
            <a:endParaRPr b="1" lang="en-US" sz="1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PPTU (</a:t>
            </a:r>
            <a:r>
              <a:rPr b="1" i="1" lang="es-ES_tradnl" sz="1600" spc="-1" strike="noStrike">
                <a:solidFill>
                  <a:srgbClr val="00279f"/>
                </a:solidFill>
                <a:latin typeface="Arial Narrow"/>
              </a:rPr>
              <a:t>PDUs Per Time Unit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16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054" name=""/>
          <p:cNvSpPr/>
          <p:nvPr/>
        </p:nvSpPr>
        <p:spPr>
          <a:xfrm flipH="1" flipV="1" rot="5400000">
            <a:off x="1378080" y="2292480"/>
            <a:ext cx="1358640" cy="444240"/>
          </a:xfrm>
          <a:custGeom>
            <a:avLst/>
            <a:gdLst>
              <a:gd name="textAreaLeft" fmla="*/ 298440 w 1358640"/>
              <a:gd name="textAreaRight" fmla="*/ 1060200 w 1358640"/>
              <a:gd name="textAreaTop" fmla="*/ 97560 h 444240"/>
              <a:gd name="textAreaBottom" fmla="*/ 346680 h 44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19191"/>
                </a:solidFill>
                <a:latin typeface="Arial Narrow"/>
              </a:rPr>
              <a:t>A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19191"/>
                </a:solidFill>
                <a:latin typeface="Arial Narrow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 flipH="1" flipV="1" rot="16200000">
            <a:off x="1986840" y="2292120"/>
            <a:ext cx="1358640" cy="444600"/>
          </a:xfrm>
          <a:custGeom>
            <a:avLst/>
            <a:gdLst>
              <a:gd name="textAreaLeft" fmla="*/ 298440 w 1358640"/>
              <a:gd name="textAreaRight" fmla="*/ 1060200 w 1358640"/>
              <a:gd name="textAreaTop" fmla="*/ 97560 h 444600"/>
              <a:gd name="textAreaBottom" fmla="*/ 34704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19191"/>
                </a:solidFill>
                <a:latin typeface="Arial Narrow"/>
              </a:rPr>
              <a:t>A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19191"/>
                </a:solidFill>
                <a:latin typeface="Arial Narrow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 txBox="1"/>
          <p:nvPr/>
        </p:nvSpPr>
        <p:spPr>
          <a:xfrm>
            <a:off x="683640" y="338040"/>
            <a:ext cx="454068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MDS en AAL de Tipo 3/4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1085760" y="5105160"/>
            <a:ext cx="6229440" cy="9903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7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CLNAP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: </a:t>
            </a:r>
            <a:r>
              <a:rPr b="1" i="1" lang="es-ES_tradnl" sz="1600" spc="-1" strike="noStrike">
                <a:solidFill>
                  <a:srgbClr val="438e00"/>
                </a:solidFill>
                <a:latin typeface="Arial Narrow"/>
              </a:rPr>
              <a:t>connectionless network access protocol 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(aplicado en la UNI)</a:t>
            </a:r>
            <a:endParaRPr b="1" lang="en-US" sz="1600" spc="-1" strike="noStrike">
              <a:solidFill>
                <a:srgbClr val="00279f"/>
              </a:solidFill>
              <a:latin typeface="Arial Narrow"/>
            </a:endParaRPr>
          </a:p>
          <a:p>
            <a:pPr marL="282960" indent="-282960">
              <a:lnSpc>
                <a:spcPct val="7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CLNIP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: </a:t>
            </a:r>
            <a:r>
              <a:rPr b="1" i="1" lang="es-ES_tradnl" sz="1600" spc="-1" strike="noStrike">
                <a:solidFill>
                  <a:srgbClr val="438e00"/>
                </a:solidFill>
                <a:latin typeface="Arial Narrow"/>
              </a:rPr>
              <a:t>connectionless network interface protocol 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(aplicado en la NNI)</a:t>
            </a:r>
            <a:endParaRPr b="1" lang="en-US" sz="1600" spc="-1" strike="noStrike">
              <a:solidFill>
                <a:srgbClr val="00279f"/>
              </a:solidFill>
              <a:latin typeface="Arial Narrow"/>
            </a:endParaRPr>
          </a:p>
          <a:p>
            <a:pPr marL="282960" indent="-282960">
              <a:lnSpc>
                <a:spcPct val="7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CPCS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: </a:t>
            </a:r>
            <a:r>
              <a:rPr b="1" i="1" lang="es-ES_tradnl" sz="1600" spc="-1" strike="noStrike">
                <a:solidFill>
                  <a:srgbClr val="438e00"/>
                </a:solidFill>
                <a:latin typeface="Arial Narrow"/>
              </a:rPr>
              <a:t>common-part convergence sublayer</a:t>
            </a:r>
            <a:endParaRPr b="1" lang="en-US" sz="1600" spc="-1" strike="noStrike">
              <a:solidFill>
                <a:srgbClr val="00279f"/>
              </a:solidFill>
              <a:latin typeface="Arial Narrow"/>
            </a:endParaRPr>
          </a:p>
          <a:p>
            <a:pPr marL="282960" indent="-282960">
              <a:lnSpc>
                <a:spcPct val="7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SAR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: </a:t>
            </a:r>
            <a:r>
              <a:rPr b="1" i="1" lang="es-ES_tradnl" sz="1600" spc="-1" strike="noStrike">
                <a:solidFill>
                  <a:srgbClr val="438e00"/>
                </a:solidFill>
                <a:latin typeface="Arial Narrow"/>
              </a:rPr>
              <a:t>segmentation-and-reassembly</a:t>
            </a:r>
            <a:endParaRPr b="1" lang="en-US" sz="1600" spc="-1" strike="noStrike">
              <a:solidFill>
                <a:srgbClr val="00279f"/>
              </a:solidFill>
              <a:latin typeface="Arial Narrow"/>
            </a:endParaRPr>
          </a:p>
          <a:p>
            <a:pPr marL="282960" indent="-282960">
              <a:lnSpc>
                <a:spcPct val="7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PL</a:t>
            </a: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: </a:t>
            </a:r>
            <a:r>
              <a:rPr b="1" i="1" lang="es-ES_tradnl" sz="1600" spc="-1" strike="noStrike">
                <a:solidFill>
                  <a:srgbClr val="438e00"/>
                </a:solidFill>
                <a:latin typeface="Arial Narrow"/>
              </a:rPr>
              <a:t>physical layer</a:t>
            </a:r>
            <a:endParaRPr b="1" lang="en-US" sz="16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058" name=""/>
          <p:cNvSpPr/>
          <p:nvPr/>
        </p:nvSpPr>
        <p:spPr>
          <a:xfrm>
            <a:off x="615960" y="1835280"/>
            <a:ext cx="1206360" cy="67284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LN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615960" y="2521080"/>
            <a:ext cx="1206360" cy="6728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615960" y="3206880"/>
            <a:ext cx="1206360" cy="67284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615960" y="3892680"/>
            <a:ext cx="1206360" cy="672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901960" y="1835280"/>
            <a:ext cx="1206360" cy="67284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LN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2901960" y="2521080"/>
            <a:ext cx="1206360" cy="6728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2901960" y="3206880"/>
            <a:ext cx="1206360" cy="67284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2901960" y="3892680"/>
            <a:ext cx="1206360" cy="672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4121280" y="1835280"/>
            <a:ext cx="1206360" cy="67284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LN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4121280" y="2521080"/>
            <a:ext cx="1206360" cy="6728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4121280" y="3206880"/>
            <a:ext cx="1206360" cy="67284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4121280" y="3892680"/>
            <a:ext cx="1206360" cy="672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6330960" y="3206880"/>
            <a:ext cx="1130400" cy="67284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6330960" y="3892680"/>
            <a:ext cx="1130400" cy="672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7473960" y="3206880"/>
            <a:ext cx="1054080" cy="67284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7473960" y="3892680"/>
            <a:ext cx="1054080" cy="67284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672120" y="1268280"/>
            <a:ext cx="105156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Protoco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de ca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superi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3559680" y="1344600"/>
            <a:ext cx="112464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Entidad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mapeo (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4396680" y="4513320"/>
            <a:ext cx="2977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19191"/>
                </a:solidFill>
                <a:latin typeface="Arial Narrow"/>
              </a:rPr>
              <a:t>CLNI (</a:t>
            </a:r>
            <a:r>
              <a:rPr b="1" i="1" lang="es-ES_tradnl" sz="1400" spc="-1" strike="noStrike">
                <a:solidFill>
                  <a:srgbClr val="919191"/>
                </a:solidFill>
                <a:latin typeface="Arial Narrow"/>
              </a:rPr>
              <a:t>connectionless network interface</a:t>
            </a:r>
            <a:r>
              <a:rPr b="1" lang="es-ES_tradnl" sz="1400" spc="-1" strike="noStrike">
                <a:solidFill>
                  <a:srgbClr val="919191"/>
                </a:solidFill>
                <a:latin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969480" y="4513320"/>
            <a:ext cx="290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19191"/>
                </a:solidFill>
                <a:latin typeface="Arial Narrow"/>
              </a:rPr>
              <a:t>CLAI (</a:t>
            </a:r>
            <a:r>
              <a:rPr b="1" i="1" lang="es-ES_tradnl" sz="1400" spc="-1" strike="noStrike">
                <a:solidFill>
                  <a:srgbClr val="919191"/>
                </a:solidFill>
                <a:latin typeface="Arial Narrow"/>
              </a:rPr>
              <a:t>connectionless access interface</a:t>
            </a:r>
            <a:r>
              <a:rPr b="1" lang="es-ES_tradnl" sz="1400" spc="-1" strike="noStrike">
                <a:solidFill>
                  <a:srgbClr val="919191"/>
                </a:solidFill>
                <a:latin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838080" y="4572000"/>
            <a:ext cx="3049560" cy="230040"/>
          </a:xfrm>
          <a:custGeom>
            <a:avLst/>
            <a:gdLst/>
            <a:ahLst/>
            <a:rect l="l" t="t" r="r" b="b"/>
            <a:pathLst>
              <a:path w="1921" h="145">
                <a:moveTo>
                  <a:pt x="0" y="0"/>
                </a:moveTo>
                <a:lnTo>
                  <a:pt x="0" y="144"/>
                </a:lnTo>
                <a:lnTo>
                  <a:pt x="1920" y="144"/>
                </a:lnTo>
                <a:lnTo>
                  <a:pt x="1920" y="0"/>
                </a:lnTo>
              </a:path>
            </a:pathLst>
          </a:custGeom>
          <a:noFill/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4343400" y="4572000"/>
            <a:ext cx="3049560" cy="230040"/>
          </a:xfrm>
          <a:custGeom>
            <a:avLst/>
            <a:gdLst/>
            <a:ahLst/>
            <a:rect l="l" t="t" r="r" b="b"/>
            <a:pathLst>
              <a:path w="1921" h="145">
                <a:moveTo>
                  <a:pt x="0" y="0"/>
                </a:moveTo>
                <a:lnTo>
                  <a:pt x="0" y="144"/>
                </a:lnTo>
                <a:lnTo>
                  <a:pt x="1920" y="144"/>
                </a:lnTo>
                <a:lnTo>
                  <a:pt x="1920" y="0"/>
                </a:lnTo>
              </a:path>
            </a:pathLst>
          </a:custGeom>
          <a:noFill/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7620120" y="4572000"/>
            <a:ext cx="687240" cy="230040"/>
          </a:xfrm>
          <a:custGeom>
            <a:avLst/>
            <a:gdLst/>
            <a:ahLst/>
            <a:rect l="l" t="t" r="r" b="b"/>
            <a:pathLst>
              <a:path w="433" h="145">
                <a:moveTo>
                  <a:pt x="0" y="0"/>
                </a:moveTo>
                <a:lnTo>
                  <a:pt x="0" y="144"/>
                </a:lnTo>
                <a:lnTo>
                  <a:pt x="432" y="144"/>
                </a:lnTo>
              </a:path>
            </a:pathLst>
          </a:custGeom>
          <a:noFill/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8283600" y="4521240"/>
            <a:ext cx="35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19191"/>
                </a:solidFill>
                <a:latin typeface="Arial Narro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 flipV="1">
            <a:off x="4660920" y="1360440"/>
            <a:ext cx="901800" cy="17640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structura de la PDU del CLNIP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08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5000"/>
              </a:lnSpc>
              <a:spcBef>
                <a:spcPts val="119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 PDU es formada agregando un </a:t>
            </a:r>
            <a:r>
              <a:rPr b="1" lang="es-ES_tradnl" sz="3200" spc="-1" strike="noStrike" u="sng">
                <a:solidFill>
                  <a:srgbClr val="00279f"/>
                </a:solidFill>
                <a:uFillTx/>
                <a:latin typeface="Arial Narrow"/>
              </a:rPr>
              <a:t>encabezado</a:t>
            </a: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 a la SDU (</a:t>
            </a:r>
            <a:r>
              <a:rPr b="1" i="1" lang="es-ES_tradnl" sz="3200" spc="-1" strike="noStrike">
                <a:solidFill>
                  <a:srgbClr val="00279f"/>
                </a:solidFill>
                <a:latin typeface="Arial Narrow"/>
              </a:rPr>
              <a:t>service data unit</a:t>
            </a: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), o a los datos de usuario transportados en la PDU (</a:t>
            </a:r>
            <a:r>
              <a:rPr b="1" i="1" lang="es-ES_tradnl" sz="3200" spc="-1" strike="noStrike">
                <a:solidFill>
                  <a:srgbClr val="00279f"/>
                </a:solidFill>
                <a:latin typeface="Arial Narrow"/>
              </a:rPr>
              <a:t>protocol data unit</a:t>
            </a: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05000"/>
              </a:lnSpc>
              <a:spcBef>
                <a:spcPts val="119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uego siguen hasta 9236 bytes de datos de usuario (múltiple entero de 32 bits y, caso necesario, 4 bytes de CRC al final)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structura de la PDU del CLNIP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08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l encabezado contiene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8 octetos de dirección de destin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8 octetos de dirección de origen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1 octeto de identificador de protocolo </a:t>
            </a:r>
            <a:r>
              <a:rPr b="1" lang="es-ES_tradnl" sz="2600" spc="-1" strike="noStrike">
                <a:solidFill>
                  <a:srgbClr val="438e00"/>
                </a:solidFill>
                <a:latin typeface="Arial Narrow"/>
              </a:rPr>
              <a:t>PI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(6 bits) + 2 bits para indicar la longitud del relleno (este puede tener de 0 a 3 bytes: los procesadores trabajan con palabras de 32 bits; los datos de usuario son redondeados, con hasta 3 bytes de relleno, para un múltiple entero de 32 bits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1 octeto conteniendo 4 bits de calidad de servicio (</a:t>
            </a:r>
            <a:r>
              <a:rPr b="1" lang="es-ES_tradnl" sz="2600" spc="-1" strike="noStrike">
                <a:solidFill>
                  <a:srgbClr val="438e00"/>
                </a:solidFill>
                <a:latin typeface="Arial Narrow"/>
              </a:rPr>
              <a:t>Qo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, 1 bit de indicación de CRC (</a:t>
            </a:r>
            <a:r>
              <a:rPr b="1" lang="es-ES_tradnl" sz="2600" spc="-1" strike="noStrike">
                <a:solidFill>
                  <a:srgbClr val="438e00"/>
                </a:solidFill>
                <a:latin typeface="Arial Narrow"/>
              </a:rPr>
              <a:t>C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y 3 bits de longitud de la extensión del encabezado (</a:t>
            </a:r>
            <a:r>
              <a:rPr b="1" lang="es-ES_tradnl" sz="2600" spc="-1" strike="noStrike">
                <a:solidFill>
                  <a:srgbClr val="438e00"/>
                </a:solidFill>
                <a:latin typeface="Arial Narrow"/>
              </a:rPr>
              <a:t>HEL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2 bytes reservado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8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de 0 a 20 bytes de extensión del encabezado (eventualmente con un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post pad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, </a:t>
            </a:r>
            <a:r>
              <a:rPr b="1" lang="es-ES_tradnl" sz="2600" spc="-1" strike="noStrike">
                <a:solidFill>
                  <a:srgbClr val="438e00"/>
                </a:solidFill>
                <a:latin typeface="Arial Narrow"/>
              </a:rPr>
              <a:t>PP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ormato de la PDU de Capa 3 de SIP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088" name=""/>
          <p:cNvSpPr/>
          <p:nvPr/>
        </p:nvSpPr>
        <p:spPr>
          <a:xfrm>
            <a:off x="539640" y="1530360"/>
            <a:ext cx="1511280" cy="29196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ncabe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2063880" y="1530360"/>
            <a:ext cx="3644640" cy="29196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atos de usu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5721480" y="1530360"/>
            <a:ext cx="1511280" cy="2919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 Narrow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5334120" y="1447920"/>
            <a:ext cx="230040" cy="382320"/>
          </a:xfrm>
          <a:custGeom>
            <a:avLst/>
            <a:gdLst/>
            <a:ahLst/>
            <a:rect l="l" t="t" r="r" b="b"/>
            <a:pathLst>
              <a:path w="145" h="241">
                <a:moveTo>
                  <a:pt x="144" y="0"/>
                </a:moveTo>
                <a:lnTo>
                  <a:pt x="96" y="48"/>
                </a:lnTo>
                <a:lnTo>
                  <a:pt x="96" y="96"/>
                </a:lnTo>
                <a:lnTo>
                  <a:pt x="48" y="144"/>
                </a:lnTo>
                <a:lnTo>
                  <a:pt x="96" y="144"/>
                </a:lnTo>
                <a:lnTo>
                  <a:pt x="48" y="192"/>
                </a:lnTo>
                <a:lnTo>
                  <a:pt x="96" y="192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539640" y="2216160"/>
            <a:ext cx="2959200" cy="29196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reservado (= ceros binar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539640" y="2521080"/>
            <a:ext cx="2959200" cy="29196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BETag (etiqueta de inicio y fi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539640" y="2825640"/>
            <a:ext cx="2959200" cy="2923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BASize (asignación de memor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539640" y="3130560"/>
            <a:ext cx="2959200" cy="29196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A (dirección de desti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539640" y="3435480"/>
            <a:ext cx="2959200" cy="29196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SA (dirección de orig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539640" y="3740040"/>
            <a:ext cx="2959200" cy="2923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Arial Narrow"/>
              </a:rPr>
              <a:t>HLPI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(id. de prot. de capa superi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539640" y="4044960"/>
            <a:ext cx="2959200" cy="29196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PL (longitud del relle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539640" y="4349880"/>
            <a:ext cx="2959200" cy="29196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Arial Narrow"/>
              </a:rPr>
              <a:t>QoS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(calidad de servic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539640" y="4654440"/>
            <a:ext cx="2959200" cy="2923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IB (bit de indicación de CRC-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539640" y="4959360"/>
            <a:ext cx="2959200" cy="29196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HEL (ext. de longitud del encabez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539640" y="5264280"/>
            <a:ext cx="2959200" cy="29196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Arial Narrow"/>
              </a:rPr>
              <a:t>Brdg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i="1" lang="es-ES_tradnl" sz="1600" spc="-1" strike="noStrike">
                <a:solidFill>
                  <a:srgbClr val="ffffff"/>
                </a:solidFill>
                <a:latin typeface="Arial Narrow"/>
              </a:rPr>
              <a:t>bridging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, puente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539640" y="5568840"/>
            <a:ext cx="2959200" cy="2923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HE (extensión del encabez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4959360" y="2216160"/>
            <a:ext cx="2959200" cy="2919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PAD (relleno, debido a pal. 32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4959360" y="2521080"/>
            <a:ext cx="2959200" cy="2919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Arial Narrow"/>
              </a:rPr>
              <a:t>CRC-32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(verificación de err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4959360" y="2825640"/>
            <a:ext cx="2959200" cy="2923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reservado (= ceros binar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4959360" y="3130560"/>
            <a:ext cx="2959200" cy="2919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BETag (etiqueta de inicio y fi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4959360" y="3435480"/>
            <a:ext cx="2959200" cy="2919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longit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533520" y="1843200"/>
            <a:ext cx="0" cy="3538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2071800" y="1843200"/>
            <a:ext cx="1420560" cy="3538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 flipH="1">
            <a:off x="4941360" y="1843200"/>
            <a:ext cx="785880" cy="3538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7253280" y="1843200"/>
            <a:ext cx="658800" cy="35388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3559320" y="2203560"/>
            <a:ext cx="66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1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3559320" y="2508120"/>
            <a:ext cx="66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1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3558960" y="281304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2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3558960" y="311796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8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3560760" y="3422520"/>
            <a:ext cx="76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8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3560040" y="3727440"/>
            <a:ext cx="61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6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560040" y="4032360"/>
            <a:ext cx="61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2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3560040" y="4336920"/>
            <a:ext cx="61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4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3560760" y="4641840"/>
            <a:ext cx="522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1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3560040" y="4946760"/>
            <a:ext cx="61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3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3558960" y="525132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2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3558600" y="5556240"/>
            <a:ext cx="848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12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7902360" y="2203560"/>
            <a:ext cx="903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18ffd"/>
                </a:solidFill>
                <a:latin typeface="Arial Narrow"/>
              </a:rPr>
              <a:t>0-3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902360" y="250812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18ffd"/>
                </a:solidFill>
                <a:latin typeface="Arial Narrow"/>
              </a:rPr>
              <a:t>4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7902720" y="2813040"/>
            <a:ext cx="66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18ffd"/>
                </a:solidFill>
                <a:latin typeface="Arial Narrow"/>
              </a:rPr>
              <a:t>1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7902720" y="3117960"/>
            <a:ext cx="66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18ffd"/>
                </a:solidFill>
                <a:latin typeface="Arial Narrow"/>
              </a:rPr>
              <a:t>1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7904160" y="3422520"/>
            <a:ext cx="76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18ffd"/>
                </a:solidFill>
                <a:latin typeface="Arial Narrow"/>
              </a:rPr>
              <a:t>2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3557520" y="1822320"/>
            <a:ext cx="1178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ef9100"/>
                </a:solidFill>
                <a:uFillTx/>
                <a:latin typeface="Arial Narrow"/>
              </a:rPr>
              <a:t>&lt;</a:t>
            </a:r>
            <a:r>
              <a:rPr b="1" lang="es-ES_tradnl" sz="1600" spc="-1" strike="noStrike">
                <a:solidFill>
                  <a:srgbClr val="ef9100"/>
                </a:solidFill>
                <a:latin typeface="Arial Narrow"/>
              </a:rPr>
              <a:t> 9188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Direcciones en SMD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132" name=""/>
          <p:cNvSpPr/>
          <p:nvPr/>
        </p:nvSpPr>
        <p:spPr>
          <a:xfrm>
            <a:off x="2597040" y="1454040"/>
            <a:ext cx="2730600" cy="5968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irección S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1682640" y="2978280"/>
            <a:ext cx="1282680" cy="59688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tip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2978280" y="2978280"/>
            <a:ext cx="3416040" cy="5968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número E.1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3511440" y="4502160"/>
            <a:ext cx="4788000" cy="59688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número con significado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1758960" y="4502160"/>
            <a:ext cx="1739880" cy="5968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ódigo de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 flipH="1">
            <a:off x="1665360" y="2071800"/>
            <a:ext cx="938160" cy="88740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5348160" y="2071800"/>
            <a:ext cx="1040040" cy="88740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 flipH="1">
            <a:off x="1740960" y="3595680"/>
            <a:ext cx="1243080" cy="88740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6338880" y="3595680"/>
            <a:ext cx="1954080" cy="887400"/>
          </a:xfrm>
          <a:prstGeom prst="line">
            <a:avLst/>
          </a:prstGeom>
          <a:ln w="1260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2037960" y="2714760"/>
            <a:ext cx="669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38e00"/>
                </a:solidFill>
                <a:latin typeface="Arial Narrow"/>
              </a:rPr>
              <a:t>4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4410720" y="5153040"/>
            <a:ext cx="3721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688"/>
                </a:solidFill>
                <a:latin typeface="Arial Narrow"/>
              </a:rPr>
              <a:t>número variable de dígitos dec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688"/>
                </a:solidFill>
                <a:latin typeface="Arial Narrow"/>
              </a:rPr>
              <a:t>(eventualmente, con FF -- unos bi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688"/>
                </a:solidFill>
                <a:latin typeface="Arial Narrow"/>
              </a:rPr>
              <a:t>-- para completar los 16 dígi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443160" y="3629160"/>
            <a:ext cx="2408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38e00"/>
                </a:solidFill>
                <a:latin typeface="Arial Narrow"/>
              </a:rPr>
              <a:t>bin. 1100 = dir. indiv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38e00"/>
                </a:solidFill>
                <a:latin typeface="Arial Narrow"/>
              </a:rPr>
              <a:t>bin. 1110 = dir. de gru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777960" y="3216240"/>
            <a:ext cx="1650600" cy="88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1"/>
                </a:moveTo>
                <a:arcTo wR="10800" hR="10800" stAng="-10787723" swAng="5381112"/>
                <a:lnTo>
                  <a:pt x="10800" y="10800"/>
                </a:lnTo>
                <a:close/>
              </a:path>
              <a:path fill="none" w="21600" h="21600">
                <a:moveTo>
                  <a:pt x="0" y="10761"/>
                </a:moveTo>
                <a:arcTo wR="10800" hR="10800" stAng="-10787723" swAng="5381112"/>
              </a:path>
            </a:pathLst>
          </a:custGeom>
          <a:noFill/>
          <a:ln cap="rnd" w="12600">
            <a:solidFill>
              <a:srgbClr val="438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2582280" y="2104920"/>
            <a:ext cx="279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generalmente, 16 dígitos he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(= 8 octe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1982880" y="5153040"/>
            <a:ext cx="1260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63de8"/>
                </a:solidFill>
                <a:latin typeface="Arial Narrow"/>
              </a:rPr>
              <a:t>1 a 3 díg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63de8"/>
                </a:solidFill>
                <a:latin typeface="Arial Narrow"/>
              </a:rPr>
              <a:t>dec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4095720" y="2714760"/>
            <a:ext cx="77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234db"/>
                </a:solidFill>
                <a:latin typeface="Arial Narrow"/>
              </a:rPr>
              <a:t>60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structura de la PDU del CLNAP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14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Idéntica a la PDU del CLNIP, con 3 diferencias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campo de identificación del protocolo (PI), que es llamado HLPI (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higher layer protocol identifie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es transportado de forma transparente por la red (excepto las PDUs de CLNAP con valores de HLPI entre 44 y 47, que son descartadas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campo de relleno posterior de la extensión del encabezado no existe, de modo que hasta 20 octetos pueden ser usados para extender el encabezad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máxima longitud de los datos de usuario es de 9188 octeto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286000"/>
            <a:ext cx="7772400" cy="114300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Introducción: Multiplexación Estadí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ATM = </a:t>
            </a:r>
            <a:r>
              <a:rPr b="1" i="1" lang="es-ES_tradnl" sz="3200" spc="-1" strike="noStrike">
                <a:solidFill>
                  <a:srgbClr val="fc0128"/>
                </a:solidFill>
                <a:latin typeface="Arial Narrow"/>
              </a:rPr>
              <a:t>Asynchronous Transfer Mode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 tecnología de conmutación de paquetes en ATM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resenta asignación dinámica de la banda (</a:t>
            </a:r>
            <a:r>
              <a:rPr b="1" i="1" lang="es-ES_tradnl" sz="2800" spc="-1" strike="noStrike">
                <a:solidFill>
                  <a:srgbClr val="fc0128"/>
                </a:solidFill>
                <a:latin typeface="Arial Narrow"/>
              </a:rPr>
              <a:t>bandwidth on demand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oporta servicios múltiples (voz, datos y video) y mezclad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fue proyectada para medios de transmisión digitales de alto rendimiento (p. ej. fibra óptica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ormas  de Operación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15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Una conexión ATM puede transportar varias conexiones simultaneas de AAL 3/4 con el uso de MIDs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multiplex identification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 distint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l orden de los segmentos es mantenido dentro de cada conexión de AAL 3/4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transparencia del tráfico que pasa a través de los conmutadores SMDS puede darse de 2 maneras distintas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1) Modo Mensaj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2) Modo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Streaming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1) Modo Mensaje 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servidor CL (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connectionles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junta todas las PDUs de SAR (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segmentation and reassembly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que son parte de una misma PDU de CS (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convergence sublaye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y reensambla a esta últim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uego, el enrutamiento es realizad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mensaje vuelve a ser segmentado para transmisión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3" marL="1542960" indent="-171360">
              <a:lnSpc>
                <a:spcPct val="95000"/>
              </a:lnSpc>
              <a:buClr>
                <a:srgbClr val="790015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Desventaja</a:t>
            </a: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: </a:t>
            </a:r>
            <a:r>
              <a:rPr b="1" lang="es-ES_tradnl" sz="2000" spc="-1" strike="noStrike">
                <a:solidFill>
                  <a:srgbClr val="714400"/>
                </a:solidFill>
                <a:latin typeface="Arial Narrow"/>
              </a:rPr>
              <a:t>exige memorias largas en los servidores CL (nodos de conmutación a nivel 3 de SMDS) y puede causar retardos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  <a:p>
            <a:pPr lvl="3" marL="1542960" indent="-171360">
              <a:lnSpc>
                <a:spcPct val="95000"/>
              </a:lnSpc>
              <a:buClr>
                <a:srgbClr val="790015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Ventaja</a:t>
            </a: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: </a:t>
            </a:r>
            <a:r>
              <a:rPr b="1" lang="es-ES_tradnl" sz="2000" spc="-1" strike="noStrike">
                <a:solidFill>
                  <a:srgbClr val="438e00"/>
                </a:solidFill>
                <a:latin typeface="Arial Narrow"/>
              </a:rPr>
              <a:t>se pueden detectar y descartar PDUs de CS erroneas, aliviando la red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153" name=""/>
          <p:cNvSpPr/>
          <p:nvPr/>
        </p:nvSpPr>
        <p:spPr>
          <a:xfrm>
            <a:off x="380880" y="1279440"/>
            <a:ext cx="84204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ormas  de Operación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78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2) Modo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Streaming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78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l recibir el primer segmento de un mensaje (BOM,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beginning of messag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, el enrutamiento ya se puede realizar, pués dentro del BOM viene la dirección de destin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78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tabla de enrutamiento es actualizada con la correspondencia entre un VPI / VCI / MID de entrada y de salid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78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ada COM (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continuation of messag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subsiguiente y el EOM (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end of messag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son enrutados sencillamente con una consulta a la tabl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78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Trás la conmutación del EOM, el renglón correspondiente en la tabla es cancelad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3" marL="1527480" indent="-169560">
              <a:lnSpc>
                <a:spcPct val="78000"/>
              </a:lnSpc>
              <a:buClr>
                <a:srgbClr val="790015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Ventaja</a:t>
            </a: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: </a:t>
            </a:r>
            <a:r>
              <a:rPr b="1" lang="es-ES_tradnl" sz="2000" spc="-1" strike="noStrike">
                <a:solidFill>
                  <a:srgbClr val="438e00"/>
                </a:solidFill>
                <a:latin typeface="Arial Narrow"/>
              </a:rPr>
              <a:t>memorias pequeñas en los servidores CL y bajo retardo (enfoque similar a la técnica CO (orientada a conexión) de la capa ATM)</a:t>
            </a:r>
            <a:endParaRPr b="1" lang="en-US" sz="20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15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ormas  de Operación (3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157" name=""/>
          <p:cNvSpPr/>
          <p:nvPr/>
        </p:nvSpPr>
        <p:spPr>
          <a:xfrm>
            <a:off x="380880" y="1279440"/>
            <a:ext cx="84204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8" name="" descr=""/>
          <p:cNvPicPr/>
          <p:nvPr/>
        </p:nvPicPr>
        <p:blipFill>
          <a:blip r:embed="rId1"/>
          <a:stretch/>
        </p:blipFill>
        <p:spPr>
          <a:xfrm>
            <a:off x="3500280" y="1600200"/>
            <a:ext cx="4349880" cy="4584600"/>
          </a:xfrm>
          <a:prstGeom prst="rect">
            <a:avLst/>
          </a:prstGeom>
          <a:ln w="0">
            <a:noFill/>
          </a:ln>
        </p:spPr>
      </p:pic>
      <p:sp>
        <p:nvSpPr>
          <p:cNvPr id="3159" name=""/>
          <p:cNvSpPr/>
          <p:nvPr/>
        </p:nvSpPr>
        <p:spPr>
          <a:xfrm flipH="1">
            <a:off x="1225440" y="387360"/>
            <a:ext cx="3873600" cy="1892160"/>
          </a:xfrm>
          <a:custGeom>
            <a:avLst/>
            <a:gdLst>
              <a:gd name="textAreaLeft" fmla="*/ 143280 w 3873600"/>
              <a:gd name="textAreaRight" fmla="*/ 3730320 w 3873600"/>
              <a:gd name="textAreaTop" fmla="*/ 69840 h 1892160"/>
              <a:gd name="textAreaBottom" fmla="*/ 1511280 h 1892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7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b760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Terminamos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Gracias por su aten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hasta la próxima v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6823080" y="3219480"/>
            <a:ext cx="1591200" cy="1336680"/>
            <a:chOff x="6823080" y="3219480"/>
            <a:chExt cx="1591200" cy="1336680"/>
          </a:xfrm>
        </p:grpSpPr>
        <p:sp>
          <p:nvSpPr>
            <p:cNvPr id="269" name=""/>
            <p:cNvSpPr/>
            <p:nvPr/>
          </p:nvSpPr>
          <p:spPr>
            <a:xfrm>
              <a:off x="6823080" y="3219480"/>
              <a:ext cx="1552680" cy="1336680"/>
            </a:xfrm>
            <a:custGeom>
              <a:avLst/>
              <a:gdLst/>
              <a:ahLst/>
              <a:rect l="l" t="t" r="r" b="b"/>
              <a:pathLst>
                <a:path w="978" h="842">
                  <a:moveTo>
                    <a:pt x="155" y="199"/>
                  </a:moveTo>
                  <a:lnTo>
                    <a:pt x="163" y="176"/>
                  </a:lnTo>
                  <a:lnTo>
                    <a:pt x="176" y="152"/>
                  </a:lnTo>
                  <a:lnTo>
                    <a:pt x="195" y="134"/>
                  </a:lnTo>
                  <a:lnTo>
                    <a:pt x="219" y="118"/>
                  </a:lnTo>
                  <a:lnTo>
                    <a:pt x="240" y="110"/>
                  </a:lnTo>
                  <a:lnTo>
                    <a:pt x="265" y="101"/>
                  </a:lnTo>
                  <a:lnTo>
                    <a:pt x="303" y="98"/>
                  </a:lnTo>
                  <a:lnTo>
                    <a:pt x="339" y="101"/>
                  </a:lnTo>
                  <a:lnTo>
                    <a:pt x="373" y="111"/>
                  </a:lnTo>
                  <a:lnTo>
                    <a:pt x="398" y="123"/>
                  </a:lnTo>
                  <a:lnTo>
                    <a:pt x="413" y="84"/>
                  </a:lnTo>
                  <a:lnTo>
                    <a:pt x="432" y="55"/>
                  </a:lnTo>
                  <a:lnTo>
                    <a:pt x="458" y="31"/>
                  </a:lnTo>
                  <a:lnTo>
                    <a:pt x="492" y="14"/>
                  </a:lnTo>
                  <a:lnTo>
                    <a:pt x="533" y="1"/>
                  </a:lnTo>
                  <a:lnTo>
                    <a:pt x="574" y="0"/>
                  </a:lnTo>
                  <a:lnTo>
                    <a:pt x="611" y="7"/>
                  </a:lnTo>
                  <a:lnTo>
                    <a:pt x="651" y="21"/>
                  </a:lnTo>
                  <a:lnTo>
                    <a:pt x="682" y="48"/>
                  </a:lnTo>
                  <a:lnTo>
                    <a:pt x="704" y="74"/>
                  </a:lnTo>
                  <a:lnTo>
                    <a:pt x="719" y="99"/>
                  </a:lnTo>
                  <a:lnTo>
                    <a:pt x="722" y="131"/>
                  </a:lnTo>
                  <a:lnTo>
                    <a:pt x="751" y="120"/>
                  </a:lnTo>
                  <a:lnTo>
                    <a:pt x="785" y="124"/>
                  </a:lnTo>
                  <a:lnTo>
                    <a:pt x="813" y="134"/>
                  </a:lnTo>
                  <a:lnTo>
                    <a:pt x="837" y="157"/>
                  </a:lnTo>
                  <a:lnTo>
                    <a:pt x="854" y="185"/>
                  </a:lnTo>
                  <a:lnTo>
                    <a:pt x="861" y="218"/>
                  </a:lnTo>
                  <a:lnTo>
                    <a:pt x="860" y="242"/>
                  </a:lnTo>
                  <a:lnTo>
                    <a:pt x="876" y="240"/>
                  </a:lnTo>
                  <a:lnTo>
                    <a:pt x="897" y="246"/>
                  </a:lnTo>
                  <a:lnTo>
                    <a:pt x="917" y="257"/>
                  </a:lnTo>
                  <a:lnTo>
                    <a:pt x="934" y="269"/>
                  </a:lnTo>
                  <a:lnTo>
                    <a:pt x="944" y="281"/>
                  </a:lnTo>
                  <a:lnTo>
                    <a:pt x="954" y="296"/>
                  </a:lnTo>
                  <a:lnTo>
                    <a:pt x="965" y="314"/>
                  </a:lnTo>
                  <a:lnTo>
                    <a:pt x="970" y="337"/>
                  </a:lnTo>
                  <a:lnTo>
                    <a:pt x="971" y="353"/>
                  </a:lnTo>
                  <a:lnTo>
                    <a:pt x="968" y="372"/>
                  </a:lnTo>
                  <a:lnTo>
                    <a:pt x="962" y="394"/>
                  </a:lnTo>
                  <a:lnTo>
                    <a:pt x="970" y="418"/>
                  </a:lnTo>
                  <a:lnTo>
                    <a:pt x="974" y="439"/>
                  </a:lnTo>
                  <a:lnTo>
                    <a:pt x="976" y="462"/>
                  </a:lnTo>
                  <a:lnTo>
                    <a:pt x="971" y="491"/>
                  </a:lnTo>
                  <a:lnTo>
                    <a:pt x="967" y="508"/>
                  </a:lnTo>
                  <a:lnTo>
                    <a:pt x="957" y="529"/>
                  </a:lnTo>
                  <a:lnTo>
                    <a:pt x="971" y="557"/>
                  </a:lnTo>
                  <a:lnTo>
                    <a:pt x="976" y="575"/>
                  </a:lnTo>
                  <a:lnTo>
                    <a:pt x="977" y="601"/>
                  </a:lnTo>
                  <a:lnTo>
                    <a:pt x="974" y="626"/>
                  </a:lnTo>
                  <a:lnTo>
                    <a:pt x="965" y="656"/>
                  </a:lnTo>
                  <a:lnTo>
                    <a:pt x="954" y="676"/>
                  </a:lnTo>
                  <a:lnTo>
                    <a:pt x="936" y="696"/>
                  </a:lnTo>
                  <a:lnTo>
                    <a:pt x="907" y="715"/>
                  </a:lnTo>
                  <a:lnTo>
                    <a:pt x="876" y="722"/>
                  </a:lnTo>
                  <a:lnTo>
                    <a:pt x="848" y="716"/>
                  </a:lnTo>
                  <a:lnTo>
                    <a:pt x="830" y="706"/>
                  </a:lnTo>
                  <a:lnTo>
                    <a:pt x="817" y="726"/>
                  </a:lnTo>
                  <a:lnTo>
                    <a:pt x="804" y="742"/>
                  </a:lnTo>
                  <a:lnTo>
                    <a:pt x="792" y="752"/>
                  </a:lnTo>
                  <a:lnTo>
                    <a:pt x="770" y="766"/>
                  </a:lnTo>
                  <a:lnTo>
                    <a:pt x="751" y="775"/>
                  </a:lnTo>
                  <a:lnTo>
                    <a:pt x="722" y="782"/>
                  </a:lnTo>
                  <a:lnTo>
                    <a:pt x="694" y="781"/>
                  </a:lnTo>
                  <a:lnTo>
                    <a:pt x="666" y="772"/>
                  </a:lnTo>
                  <a:lnTo>
                    <a:pt x="642" y="756"/>
                  </a:lnTo>
                  <a:lnTo>
                    <a:pt x="627" y="783"/>
                  </a:lnTo>
                  <a:lnTo>
                    <a:pt x="614" y="799"/>
                  </a:lnTo>
                  <a:lnTo>
                    <a:pt x="596" y="813"/>
                  </a:lnTo>
                  <a:lnTo>
                    <a:pt x="576" y="824"/>
                  </a:lnTo>
                  <a:lnTo>
                    <a:pt x="553" y="828"/>
                  </a:lnTo>
                  <a:lnTo>
                    <a:pt x="531" y="828"/>
                  </a:lnTo>
                  <a:lnTo>
                    <a:pt x="511" y="824"/>
                  </a:lnTo>
                  <a:lnTo>
                    <a:pt x="486" y="809"/>
                  </a:lnTo>
                  <a:lnTo>
                    <a:pt x="471" y="795"/>
                  </a:lnTo>
                  <a:lnTo>
                    <a:pt x="458" y="813"/>
                  </a:lnTo>
                  <a:lnTo>
                    <a:pt x="444" y="824"/>
                  </a:lnTo>
                  <a:lnTo>
                    <a:pt x="426" y="833"/>
                  </a:lnTo>
                  <a:lnTo>
                    <a:pt x="401" y="841"/>
                  </a:lnTo>
                  <a:lnTo>
                    <a:pt x="375" y="839"/>
                  </a:lnTo>
                  <a:lnTo>
                    <a:pt x="348" y="831"/>
                  </a:lnTo>
                  <a:lnTo>
                    <a:pt x="328" y="817"/>
                  </a:lnTo>
                  <a:lnTo>
                    <a:pt x="308" y="794"/>
                  </a:lnTo>
                  <a:lnTo>
                    <a:pt x="297" y="772"/>
                  </a:lnTo>
                  <a:lnTo>
                    <a:pt x="276" y="780"/>
                  </a:lnTo>
                  <a:lnTo>
                    <a:pt x="253" y="785"/>
                  </a:lnTo>
                  <a:lnTo>
                    <a:pt x="225" y="783"/>
                  </a:lnTo>
                  <a:lnTo>
                    <a:pt x="201" y="773"/>
                  </a:lnTo>
                  <a:lnTo>
                    <a:pt x="183" y="758"/>
                  </a:lnTo>
                  <a:lnTo>
                    <a:pt x="167" y="742"/>
                  </a:lnTo>
                  <a:lnTo>
                    <a:pt x="155" y="719"/>
                  </a:lnTo>
                  <a:lnTo>
                    <a:pt x="152" y="696"/>
                  </a:lnTo>
                  <a:lnTo>
                    <a:pt x="138" y="701"/>
                  </a:lnTo>
                  <a:lnTo>
                    <a:pt x="116" y="702"/>
                  </a:lnTo>
                  <a:lnTo>
                    <a:pt x="91" y="696"/>
                  </a:lnTo>
                  <a:lnTo>
                    <a:pt x="66" y="680"/>
                  </a:lnTo>
                  <a:lnTo>
                    <a:pt x="48" y="658"/>
                  </a:lnTo>
                  <a:lnTo>
                    <a:pt x="34" y="630"/>
                  </a:lnTo>
                  <a:lnTo>
                    <a:pt x="25" y="601"/>
                  </a:lnTo>
                  <a:lnTo>
                    <a:pt x="22" y="561"/>
                  </a:lnTo>
                  <a:lnTo>
                    <a:pt x="23" y="534"/>
                  </a:lnTo>
                  <a:lnTo>
                    <a:pt x="31" y="494"/>
                  </a:lnTo>
                  <a:lnTo>
                    <a:pt x="13" y="472"/>
                  </a:lnTo>
                  <a:lnTo>
                    <a:pt x="5" y="442"/>
                  </a:lnTo>
                  <a:lnTo>
                    <a:pt x="0" y="410"/>
                  </a:lnTo>
                  <a:lnTo>
                    <a:pt x="0" y="377"/>
                  </a:lnTo>
                  <a:lnTo>
                    <a:pt x="6" y="342"/>
                  </a:lnTo>
                  <a:lnTo>
                    <a:pt x="17" y="316"/>
                  </a:lnTo>
                  <a:lnTo>
                    <a:pt x="37" y="288"/>
                  </a:lnTo>
                  <a:lnTo>
                    <a:pt x="57" y="266"/>
                  </a:lnTo>
                  <a:lnTo>
                    <a:pt x="81" y="246"/>
                  </a:lnTo>
                  <a:lnTo>
                    <a:pt x="112" y="232"/>
                  </a:lnTo>
                  <a:lnTo>
                    <a:pt x="141" y="224"/>
                  </a:lnTo>
                  <a:lnTo>
                    <a:pt x="155" y="220"/>
                  </a:lnTo>
                  <a:lnTo>
                    <a:pt x="155" y="199"/>
                  </a:lnTo>
                </a:path>
              </a:pathLst>
            </a:custGeom>
            <a:solidFill>
              <a:srgbClr val="fdc0e5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11640" y="3781440"/>
              <a:ext cx="1502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Servicio AT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4548240" y="3024360"/>
            <a:ext cx="1116000" cy="35388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014720" y="3379680"/>
            <a:ext cx="1649520" cy="10908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929120" y="3379320"/>
            <a:ext cx="735120" cy="1776600"/>
          </a:xfrm>
          <a:prstGeom prst="line">
            <a:avLst/>
          </a:prstGeom>
          <a:ln w="5076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85920" y="1805040"/>
            <a:ext cx="1497240" cy="963720"/>
          </a:xfrm>
          <a:prstGeom prst="line">
            <a:avLst/>
          </a:prstGeom>
          <a:ln w="507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00320" y="1728720"/>
            <a:ext cx="582840" cy="811440"/>
          </a:xfrm>
          <a:prstGeom prst="line">
            <a:avLst/>
          </a:prstGeom>
          <a:ln w="507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43120" y="4419720"/>
            <a:ext cx="277920" cy="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5720" y="2819520"/>
            <a:ext cx="2030400" cy="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58720" y="5130720"/>
            <a:ext cx="2311560" cy="711360"/>
            <a:chOff x="558720" y="5130720"/>
            <a:chExt cx="2311560" cy="711360"/>
          </a:xfrm>
        </p:grpSpPr>
        <p:sp>
          <p:nvSpPr>
            <p:cNvPr id="279" name=""/>
            <p:cNvSpPr/>
            <p:nvPr/>
          </p:nvSpPr>
          <p:spPr>
            <a:xfrm>
              <a:off x="711360" y="5130720"/>
              <a:ext cx="2006280" cy="558720"/>
            </a:xfrm>
            <a:prstGeom prst="ellipse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8720" y="5130720"/>
              <a:ext cx="2311560" cy="711360"/>
            </a:xfrm>
            <a:prstGeom prst="ellipse">
              <a:avLst/>
            </a:prstGeom>
            <a:noFill/>
            <a:ln w="507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58720" y="4064040"/>
            <a:ext cx="2006640" cy="558720"/>
          </a:xfrm>
          <a:prstGeom prst="ellipse">
            <a:avLst/>
          </a:prstGeom>
          <a:noFill/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1200" y="324000"/>
            <a:ext cx="1809720" cy="51408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afd00"/>
                </a:solidFill>
                <a:latin typeface="Arial Narrow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54440" y="326880"/>
            <a:ext cx="4003920" cy="1475640"/>
          </a:xfrm>
          <a:prstGeom prst="rect">
            <a:avLst/>
          </a:prstGeom>
          <a:solidFill>
            <a:srgbClr val="c8fec8"/>
          </a:solidFill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marL="336600" indent="-336600">
              <a:lnSpc>
                <a:spcPct val="95000"/>
              </a:lnSpc>
              <a:spcAft>
                <a:spcPts val="1125"/>
              </a:spcAft>
              <a:buClr>
                <a:srgbClr val="114ffb"/>
              </a:buClr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Basado en celdas de 53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5000"/>
              </a:lnSpc>
              <a:spcAft>
                <a:spcPts val="1125"/>
              </a:spcAft>
              <a:buClr>
                <a:srgbClr val="114ffb"/>
              </a:buClr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Velocidades diversas para LAN y 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5000"/>
              </a:lnSpc>
              <a:spcAft>
                <a:spcPts val="1125"/>
              </a:spcAft>
              <a:buClr>
                <a:srgbClr val="114ffb"/>
              </a:buClr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s-ES_tradnl" sz="2000" spc="-1" strike="noStrike">
                <a:solidFill>
                  <a:srgbClr val="00279f"/>
                </a:solidFill>
                <a:latin typeface="Arial Narrow"/>
              </a:rPr>
              <a:t>Voz, datos y video Integ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52320" y="2362320"/>
          <a:ext cx="134172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2362320"/>
                    <a:ext cx="134172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576360" y="3581280"/>
          <a:ext cx="134136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360" y="3581280"/>
                    <a:ext cx="13413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576360" y="4952880"/>
          <a:ext cx="134136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360" y="4952880"/>
                    <a:ext cx="13413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832120" y="4002120"/>
          <a:ext cx="114300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32120" y="4002120"/>
                    <a:ext cx="11430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2414520" y="2871720"/>
            <a:ext cx="582840" cy="111600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795760" y="4599000"/>
            <a:ext cx="125280" cy="93816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07560" y="2486160"/>
            <a:ext cx="10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52400" y="3781440"/>
            <a:ext cx="1319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Token 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83160" y="4848120"/>
            <a:ext cx="669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FD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64240" y="3476520"/>
            <a:ext cx="879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(da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492280" y="885960"/>
          <a:ext cx="941400" cy="85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92280" y="885960"/>
                    <a:ext cx="9414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1425600" y="961920"/>
          <a:ext cx="941400" cy="854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25600" y="961920"/>
                    <a:ext cx="94140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483000" y="961920"/>
          <a:ext cx="941400" cy="85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83000" y="961920"/>
                    <a:ext cx="94140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195800" y="4940280"/>
          <a:ext cx="1204920" cy="833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95800" y="4940280"/>
                    <a:ext cx="12049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711600" y="2274840"/>
          <a:ext cx="799920" cy="83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11600" y="2274840"/>
                    <a:ext cx="7999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3886200" y="1881360"/>
            <a:ext cx="0" cy="353880"/>
          </a:xfrm>
          <a:prstGeom prst="line">
            <a:avLst/>
          </a:prstGeom>
          <a:ln w="507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13320" y="5153040"/>
            <a:ext cx="946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ám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(vide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6320" y="2257560"/>
            <a:ext cx="669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PB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(vo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270400" y="2955960"/>
          <a:ext cx="1795680" cy="114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70400" y="2955960"/>
                    <a:ext cx="17956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transmisión se realiza en pequeños paquetes llamados celda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s celdas son conmutadas individualmente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os protocolos ATM, especialmente el de señalización, aún no están totalmente elaborad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2523960"/>
            <a:ext cx="2133360" cy="828720"/>
          </a:xfrm>
          <a:prstGeom prst="rect">
            <a:avLst/>
          </a:prstGeom>
          <a:gradFill rotWithShape="0">
            <a:gsLst>
              <a:gs pos="0">
                <a:srgbClr val="b3b900"/>
              </a:gs>
              <a:gs pos="50000">
                <a:srgbClr val="dfe298"/>
              </a:gs>
              <a:gs pos="100000">
                <a:srgbClr val="b3b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ncabez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5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2523960"/>
            <a:ext cx="6019920" cy="828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1feb1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datos de usuario: 48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67000" y="3384720"/>
            <a:ext cx="2290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CELDA DE 53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18" name=""/>
          <p:cNvSpPr/>
          <p:nvPr/>
        </p:nvSpPr>
        <p:spPr>
          <a:xfrm>
            <a:off x="7315200" y="2438280"/>
            <a:ext cx="458640" cy="992160"/>
          </a:xfrm>
          <a:custGeom>
            <a:avLst/>
            <a:gdLst/>
            <a:ahLst/>
            <a:rect l="l" t="t" r="r" b="b"/>
            <a:pathLst>
              <a:path w="289" h="625">
                <a:moveTo>
                  <a:pt x="288" y="0"/>
                </a:moveTo>
                <a:lnTo>
                  <a:pt x="96" y="277"/>
                </a:lnTo>
                <a:lnTo>
                  <a:pt x="240" y="277"/>
                </a:lnTo>
                <a:lnTo>
                  <a:pt x="0" y="624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5000"/>
              </a:lnSpc>
              <a:spcBef>
                <a:spcPts val="174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No hay recuperación de errores de transmisión por la red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25000"/>
              </a:lnSpc>
              <a:spcBef>
                <a:spcPts val="1624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ocurriendo errores, puede pasar que se pierdan celda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25000"/>
              </a:lnSpc>
              <a:spcBef>
                <a:spcPts val="174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No hay necesariamente una correspondencia entre las velocidades de la red de transporte y de la fuente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: Principios Básico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linea tiene una cierta capacidad máxima para el transporte de celda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a capacidad es utilizada por los usuarios que efectivamente tienen algo para transmitir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De esa manera, la capacidad de la linea troncal es ocupada de forma estadística por carga útil de información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: Procedimiento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El nodo que tiene algo para transmitir sencillamente sustituye celdas vacías por celdas conteniendo carga, haciendo así que sus datos se transfieran al conmutador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El conmutador verifica la dirección contenida en el encabezado, conmutando la carga al flujo adecuado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 red no verifica ni corrige el campo de información, pero el encabezado es protegido y corregido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: Procedimiento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El ATM emplea el principio de los multiplexores estadísticos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Utiliza nuevas tecnologías de conmutación rápida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Se beneficia con SDH subyacente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Suple las necesidades de los grandes usuarios por servicios isócronos y anisócronos de alto volumen de información (videoconferencia, interconexión de LANs, transferencia de grandes archivos, multimedia, procesos gráficos)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: Principio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s técnicas de conmutación y transmisión no están separada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os enlaces de acceso y de interconexión presentan un flujo constante de celdas, vacías y con informac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señal de linea presenta intervalos de tiempo (llamados </a:t>
            </a:r>
            <a:r>
              <a:rPr b="1" lang="es-ES_tradnl" sz="2600" spc="-1" strike="noStrike" u="sng">
                <a:solidFill>
                  <a:srgbClr val="00279f"/>
                </a:solidFill>
                <a:uFillTx/>
                <a:latin typeface="Arial Narrow"/>
              </a:rPr>
              <a:t>ranura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con el tamaño de una celda cad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s ranuras contienen celdas vacías o con información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transferencia de información por la red es esencialmente asíncrona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no hay ranuras pré-fijadas para las celdas de una fuente (las celdas con carga pueden ser mapeadas en cualquier ranura disponible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: Otros Principios Básico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75360" y="329400"/>
            <a:ext cx="6005160" cy="63612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: Trama de 34 Mbit/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463680" y="5035680"/>
            <a:ext cx="5092560" cy="105408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FA1 y FA2: bytes de alineación de t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EM: paridad de bits intercalados (BIP-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TR: trazado del tra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MA: falla de recepción remota (FERF), error de bloque remoto (FEBE), tipo de car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NR: byte de la entidad operadora de la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GC: canal de comunicación de uso genérico (p. ej. datos o voz para mantenimiento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5029200"/>
            <a:ext cx="3124080" cy="1066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59 x 9 + 6 = 537 bytes por t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537 bytes/trama x 8000 tramas/segundo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4296000 bytes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4296000 bytes/s x 8 bits/byte = 34,368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cada trama contiene 530 bytes de area útil (10 celd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3800" y="1530360"/>
            <a:ext cx="6910200" cy="3416400"/>
          </a:xfrm>
          <a:prstGeom prst="rect">
            <a:avLst/>
          </a:prstGeom>
          <a:solidFill>
            <a:srgbClr val="ef91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9640" y="1530360"/>
            <a:ext cx="511200" cy="36828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9640" y="1911240"/>
            <a:ext cx="511200" cy="36828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2292480"/>
            <a:ext cx="511200" cy="36828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2673360"/>
            <a:ext cx="511200" cy="36828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9640" y="3054240"/>
            <a:ext cx="511200" cy="36828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3435480"/>
            <a:ext cx="511200" cy="36828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3800" y="1530360"/>
            <a:ext cx="509400" cy="36828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458640" y="4048200"/>
            <a:ext cx="596880" cy="285480"/>
          </a:xfrm>
          <a:prstGeom prst="rightArrow">
            <a:avLst>
              <a:gd name="adj1" fmla="val 50000"/>
              <a:gd name="adj2" fmla="val 104569"/>
            </a:avLst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057320" y="113148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8008920" y="113148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71720" y="1295280"/>
            <a:ext cx="6924600" cy="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28960" y="1073160"/>
            <a:ext cx="155736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59 colum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99280" y="1523880"/>
            <a:ext cx="3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99280" y="4952880"/>
            <a:ext cx="3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08800" y="1538280"/>
            <a:ext cx="0" cy="340200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30520" y="3130560"/>
            <a:ext cx="3202200" cy="82548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area de 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mapeo de las cel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01640" y="1530360"/>
            <a:ext cx="868680" cy="368280"/>
          </a:xfrm>
          <a:prstGeom prst="rect">
            <a:avLst/>
          </a:prstGeom>
          <a:gradFill rotWithShape="0">
            <a:gsLst>
              <a:gs pos="0">
                <a:srgbClr val="f4bc65"/>
              </a:gs>
              <a:gs pos="50000">
                <a:srgbClr val="ef9100"/>
              </a:gs>
              <a:gs pos="100000">
                <a:srgbClr val="f4bc6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encab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98760" y="1530360"/>
            <a:ext cx="4606920" cy="368280"/>
          </a:xfrm>
          <a:prstGeom prst="rect">
            <a:avLst/>
          </a:prstGeom>
          <a:gradFill rotWithShape="0">
            <a:gsLst>
              <a:gs pos="0">
                <a:srgbClr val="ef9100"/>
              </a:gs>
              <a:gs pos="50000">
                <a:srgbClr val="f4bc65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area de carga de la ce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2920" y="1413000"/>
            <a:ext cx="460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1240" y="2409840"/>
            <a:ext cx="1272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ranura (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 Narrow"/>
              </a:rPr>
              <a:t>slot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68600" y="1919160"/>
            <a:ext cx="2066760" cy="582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08680" y="1919160"/>
            <a:ext cx="2116080" cy="582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07480" y="2978280"/>
            <a:ext cx="9014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9 li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2200" y="4413240"/>
            <a:ext cx="9237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byt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 Narrow"/>
              </a:rPr>
              <a:t>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950800" y="2039760"/>
            <a:ext cx="2442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00093"/>
                </a:solidFill>
                <a:latin typeface="Arial Narrow"/>
              </a:rPr>
              <a:t>area de carga ocup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00093"/>
                </a:solidFill>
                <a:latin typeface="Arial Narrow"/>
              </a:rPr>
              <a:t>por celdas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25880" y="5888160"/>
            <a:ext cx="1347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OH DEL VC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81920" y="2971800"/>
            <a:ext cx="168588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d6900"/>
                </a:solidFill>
                <a:latin typeface="Arial Narrow"/>
              </a:rPr>
              <a:t>el puntero H4 puede indicar la distancia (en bytes) hasta el inicio del primero encabezado de celda que le sigue</a:t>
            </a: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5405400"/>
            <a:ext cx="3416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* el UIT-T solo permite que e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método sea utilizado para verificar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correcta alineación, no para establecer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75360" y="329400"/>
            <a:ext cx="6005160" cy="63612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: VC-4 con Celdas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62" name=""/>
          <p:cNvSpPr/>
          <p:nvPr/>
        </p:nvSpPr>
        <p:spPr>
          <a:xfrm>
            <a:off x="1149480" y="1149480"/>
            <a:ext cx="806400" cy="306360"/>
          </a:xfrm>
          <a:prstGeom prst="rect">
            <a:avLst/>
          </a:prstGeom>
          <a:gradFill rotWithShape="0">
            <a:gsLst>
              <a:gs pos="0">
                <a:srgbClr val="7efe7e"/>
              </a:gs>
              <a:gs pos="100000">
                <a:srgbClr val="00ff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9480" y="1468440"/>
            <a:ext cx="806400" cy="304920"/>
          </a:xfrm>
          <a:prstGeom prst="rect">
            <a:avLst/>
          </a:prstGeom>
          <a:gradFill rotWithShape="0">
            <a:gsLst>
              <a:gs pos="0">
                <a:srgbClr val="7efe7e"/>
              </a:gs>
              <a:gs pos="100000">
                <a:srgbClr val="00ff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49480" y="1785960"/>
            <a:ext cx="806400" cy="303120"/>
          </a:xfrm>
          <a:prstGeom prst="rect">
            <a:avLst/>
          </a:prstGeom>
          <a:gradFill rotWithShape="0">
            <a:gsLst>
              <a:gs pos="0">
                <a:srgbClr val="7efe7e"/>
              </a:gs>
              <a:gs pos="100000">
                <a:srgbClr val="00ff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49480" y="2101680"/>
            <a:ext cx="806400" cy="30672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100000">
                <a:srgbClr val="00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unter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la 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49480" y="2421000"/>
            <a:ext cx="806400" cy="304560"/>
          </a:xfrm>
          <a:prstGeom prst="rect">
            <a:avLst/>
          </a:prstGeom>
          <a:gradFill rotWithShape="0">
            <a:gsLst>
              <a:gs pos="0">
                <a:srgbClr val="d0d465"/>
              </a:gs>
              <a:gs pos="100000">
                <a:srgbClr val="b3b9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9480" y="2738520"/>
            <a:ext cx="806400" cy="306360"/>
          </a:xfrm>
          <a:prstGeom prst="rect">
            <a:avLst/>
          </a:prstGeom>
          <a:gradFill rotWithShape="0">
            <a:gsLst>
              <a:gs pos="0">
                <a:srgbClr val="d0d465"/>
              </a:gs>
              <a:gs pos="100000">
                <a:srgbClr val="b3b9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49480" y="3057480"/>
            <a:ext cx="806400" cy="306360"/>
          </a:xfrm>
          <a:prstGeom prst="rect">
            <a:avLst/>
          </a:prstGeom>
          <a:gradFill rotWithShape="0">
            <a:gsLst>
              <a:gs pos="0">
                <a:srgbClr val="d0d465"/>
              </a:gs>
              <a:gs pos="100000">
                <a:srgbClr val="b3b9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9480" y="3376440"/>
            <a:ext cx="806400" cy="301680"/>
          </a:xfrm>
          <a:prstGeom prst="rect">
            <a:avLst/>
          </a:prstGeom>
          <a:gradFill rotWithShape="0">
            <a:gsLst>
              <a:gs pos="0">
                <a:srgbClr val="d0d465"/>
              </a:gs>
              <a:gs pos="100000">
                <a:srgbClr val="b3b9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968480" y="1149480"/>
            <a:ext cx="3811680" cy="2847960"/>
            <a:chOff x="1968480" y="1149480"/>
            <a:chExt cx="3811680" cy="2847960"/>
          </a:xfrm>
        </p:grpSpPr>
        <p:sp>
          <p:nvSpPr>
            <p:cNvPr id="371" name=""/>
            <p:cNvSpPr/>
            <p:nvPr/>
          </p:nvSpPr>
          <p:spPr>
            <a:xfrm>
              <a:off x="1968480" y="1149480"/>
              <a:ext cx="3811680" cy="306360"/>
            </a:xfrm>
            <a:prstGeom prst="rect">
              <a:avLst/>
            </a:prstGeom>
            <a:gradFill rotWithShape="0">
              <a:gsLst>
                <a:gs pos="0">
                  <a:srgbClr val="fcfd98"/>
                </a:gs>
                <a:gs pos="100000">
                  <a:srgbClr val="fafd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68480" y="1468440"/>
              <a:ext cx="3811680" cy="304920"/>
            </a:xfrm>
            <a:prstGeom prst="rect">
              <a:avLst/>
            </a:prstGeom>
            <a:gradFill rotWithShape="0">
              <a:gsLst>
                <a:gs pos="0">
                  <a:srgbClr val="fcfd98"/>
                </a:gs>
                <a:gs pos="100000">
                  <a:srgbClr val="fafd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68480" y="1785960"/>
              <a:ext cx="3811680" cy="303120"/>
            </a:xfrm>
            <a:prstGeom prst="rect">
              <a:avLst/>
            </a:prstGeom>
            <a:gradFill rotWithShape="0">
              <a:gsLst>
                <a:gs pos="0">
                  <a:srgbClr val="fcfd98"/>
                </a:gs>
                <a:gs pos="100000">
                  <a:srgbClr val="fafd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68480" y="2101680"/>
              <a:ext cx="3811680" cy="306720"/>
            </a:xfrm>
            <a:prstGeom prst="rect">
              <a:avLst/>
            </a:prstGeom>
            <a:gradFill rotWithShape="0">
              <a:gsLst>
                <a:gs pos="0">
                  <a:srgbClr val="fcfd98"/>
                </a:gs>
                <a:gs pos="100000">
                  <a:srgbClr val="fafd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68480" y="2421000"/>
              <a:ext cx="3811680" cy="304560"/>
            </a:xfrm>
            <a:prstGeom prst="rect">
              <a:avLst/>
            </a:prstGeom>
            <a:gradFill rotWithShape="0">
              <a:gsLst>
                <a:gs pos="0">
                  <a:srgbClr val="fcfd98"/>
                </a:gs>
                <a:gs pos="100000">
                  <a:srgbClr val="fafd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68480" y="2738520"/>
              <a:ext cx="3811680" cy="306360"/>
            </a:xfrm>
            <a:prstGeom prst="rect">
              <a:avLst/>
            </a:prstGeom>
            <a:gradFill rotWithShape="0">
              <a:gsLst>
                <a:gs pos="0">
                  <a:srgbClr val="fcfd98"/>
                </a:gs>
                <a:gs pos="100000">
                  <a:srgbClr val="fafd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68480" y="3057480"/>
              <a:ext cx="3811680" cy="306360"/>
            </a:xfrm>
            <a:prstGeom prst="rect">
              <a:avLst/>
            </a:prstGeom>
            <a:gradFill rotWithShape="0">
              <a:gsLst>
                <a:gs pos="0">
                  <a:srgbClr val="fcfd98"/>
                </a:gs>
                <a:gs pos="100000">
                  <a:srgbClr val="fafd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68480" y="3376440"/>
              <a:ext cx="3811680" cy="301680"/>
            </a:xfrm>
            <a:prstGeom prst="rect">
              <a:avLst/>
            </a:prstGeom>
            <a:gradFill rotWithShape="0">
              <a:gsLst>
                <a:gs pos="0">
                  <a:srgbClr val="fcfd98"/>
                </a:gs>
                <a:gs pos="100000">
                  <a:srgbClr val="fafd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68480" y="3691080"/>
              <a:ext cx="3811680" cy="306360"/>
            </a:xfrm>
            <a:prstGeom prst="rect">
              <a:avLst/>
            </a:prstGeom>
            <a:gradFill rotWithShape="0">
              <a:gsLst>
                <a:gs pos="0">
                  <a:srgbClr val="fcfd98"/>
                </a:gs>
                <a:gs pos="100000">
                  <a:srgbClr val="fafd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49480" y="3691080"/>
            <a:ext cx="806400" cy="306360"/>
          </a:xfrm>
          <a:prstGeom prst="rect">
            <a:avLst/>
          </a:prstGeom>
          <a:gradFill rotWithShape="0">
            <a:gsLst>
              <a:gs pos="0">
                <a:srgbClr val="d0d465"/>
              </a:gs>
              <a:gs pos="100000">
                <a:srgbClr val="b3b9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49680" y="2784600"/>
            <a:ext cx="3430440" cy="306360"/>
          </a:xfrm>
          <a:prstGeom prst="rect">
            <a:avLst/>
          </a:prstGeom>
          <a:gradFill rotWithShape="0">
            <a:gsLst>
              <a:gs pos="0">
                <a:srgbClr val="f9deb3"/>
              </a:gs>
              <a:gs pos="100000">
                <a:srgbClr val="f6bf69"/>
              </a:gs>
            </a:gsLst>
            <a:lin ang="5400000"/>
          </a:gra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49680" y="3103560"/>
            <a:ext cx="3430440" cy="301680"/>
          </a:xfrm>
          <a:prstGeom prst="rect">
            <a:avLst/>
          </a:prstGeom>
          <a:gradFill rotWithShape="0">
            <a:gsLst>
              <a:gs pos="0">
                <a:srgbClr val="f9deb3"/>
              </a:gs>
              <a:gs pos="100000">
                <a:srgbClr val="f6bf69"/>
              </a:gs>
            </a:gsLst>
            <a:lin ang="5400000"/>
          </a:gra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49680" y="3417840"/>
            <a:ext cx="3430440" cy="306360"/>
          </a:xfrm>
          <a:prstGeom prst="rect">
            <a:avLst/>
          </a:prstGeom>
          <a:gradFill rotWithShape="0">
            <a:gsLst>
              <a:gs pos="0">
                <a:srgbClr val="f9deb3"/>
              </a:gs>
              <a:gs pos="100000">
                <a:srgbClr val="f6bf69"/>
              </a:gs>
            </a:gsLst>
            <a:lin ang="5400000"/>
          </a:gra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49680" y="3736800"/>
            <a:ext cx="3430440" cy="306720"/>
          </a:xfrm>
          <a:prstGeom prst="rect">
            <a:avLst/>
          </a:prstGeom>
          <a:gradFill rotWithShape="0">
            <a:gsLst>
              <a:gs pos="0">
                <a:srgbClr val="f9deb3"/>
              </a:gs>
              <a:gs pos="100000">
                <a:srgbClr val="f6bf69"/>
              </a:gs>
            </a:gsLst>
            <a:lin ang="5400000"/>
          </a:gra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49680" y="4056120"/>
            <a:ext cx="3430440" cy="304920"/>
          </a:xfrm>
          <a:prstGeom prst="rect">
            <a:avLst/>
          </a:prstGeom>
          <a:gradFill rotWithShape="0">
            <a:gsLst>
              <a:gs pos="0">
                <a:srgbClr val="f9deb3"/>
              </a:gs>
              <a:gs pos="100000">
                <a:srgbClr val="f6bf69"/>
              </a:gs>
            </a:gsLst>
            <a:lin ang="5400000"/>
          </a:gra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49680" y="4373640"/>
            <a:ext cx="3430440" cy="306360"/>
          </a:xfrm>
          <a:prstGeom prst="rect">
            <a:avLst/>
          </a:prstGeom>
          <a:gradFill rotWithShape="0">
            <a:gsLst>
              <a:gs pos="0">
                <a:srgbClr val="f9deb3"/>
              </a:gs>
              <a:gs pos="100000">
                <a:srgbClr val="f6bf69"/>
              </a:gs>
            </a:gsLst>
            <a:lin ang="5400000"/>
          </a:gra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49680" y="4692600"/>
            <a:ext cx="3430440" cy="303120"/>
          </a:xfrm>
          <a:prstGeom prst="rect">
            <a:avLst/>
          </a:prstGeom>
          <a:gradFill rotWithShape="0">
            <a:gsLst>
              <a:gs pos="0">
                <a:srgbClr val="f9deb3"/>
              </a:gs>
              <a:gs pos="100000">
                <a:srgbClr val="f6bf69"/>
              </a:gs>
            </a:gsLst>
            <a:lin ang="5400000"/>
          </a:gra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49680" y="5008680"/>
            <a:ext cx="3430440" cy="304560"/>
          </a:xfrm>
          <a:prstGeom prst="rect">
            <a:avLst/>
          </a:prstGeom>
          <a:gradFill rotWithShape="0">
            <a:gsLst>
              <a:gs pos="0">
                <a:srgbClr val="f9deb3"/>
              </a:gs>
              <a:gs pos="100000">
                <a:srgbClr val="f6bf69"/>
              </a:gs>
            </a:gsLst>
            <a:lin ang="5400000"/>
          </a:gra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49680" y="5326200"/>
            <a:ext cx="3430440" cy="306360"/>
          </a:xfrm>
          <a:prstGeom prst="rect">
            <a:avLst/>
          </a:prstGeom>
          <a:gradFill rotWithShape="0">
            <a:gsLst>
              <a:gs pos="0">
                <a:srgbClr val="f9deb3"/>
              </a:gs>
              <a:gs pos="100000">
                <a:srgbClr val="f6bf69"/>
              </a:gs>
            </a:gsLst>
            <a:lin ang="5400000"/>
          </a:gradFill>
          <a:ln w="1260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9160" y="2784600"/>
            <a:ext cx="277920" cy="3063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J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9160" y="3103560"/>
            <a:ext cx="277920" cy="301680"/>
          </a:xfrm>
          <a:prstGeom prst="rect">
            <a:avLst/>
          </a:prstGeom>
          <a:solidFill>
            <a:srgbClr val="f35b1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59160" y="3417840"/>
            <a:ext cx="277920" cy="3063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9160" y="3736800"/>
            <a:ext cx="277920" cy="306720"/>
          </a:xfrm>
          <a:prstGeom prst="rect">
            <a:avLst/>
          </a:prstGeom>
          <a:solidFill>
            <a:srgbClr val="f35b1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G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59160" y="4056120"/>
            <a:ext cx="277920" cy="304920"/>
          </a:xfrm>
          <a:prstGeom prst="rect">
            <a:avLst/>
          </a:prstGeom>
          <a:solidFill>
            <a:srgbClr val="f35b1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59160" y="4373640"/>
            <a:ext cx="277920" cy="3063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H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9160" y="4692600"/>
            <a:ext cx="277920" cy="303120"/>
          </a:xfrm>
          <a:prstGeom prst="rect">
            <a:avLst/>
          </a:prstGeom>
          <a:solidFill>
            <a:srgbClr val="f35b1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Z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59160" y="5008680"/>
            <a:ext cx="277920" cy="3045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K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59160" y="5326200"/>
            <a:ext cx="277920" cy="3063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Z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8900000">
            <a:off x="1204560" y="1479600"/>
            <a:ext cx="78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RS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8900000">
            <a:off x="1204200" y="3003120"/>
            <a:ext cx="807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MS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08080" y="2313000"/>
            <a:ext cx="1319400" cy="404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3581280" y="5209920"/>
            <a:ext cx="888480" cy="88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2240" y="2301840"/>
            <a:ext cx="888840" cy="88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1"/>
                </a:moveTo>
                <a:arcTo wR="10800" hR="10800" stAng="-10787723" swAng="5375446"/>
                <a:lnTo>
                  <a:pt x="10800" y="10800"/>
                </a:lnTo>
                <a:close/>
              </a:path>
              <a:path fill="none" w="21600" h="21600">
                <a:moveTo>
                  <a:pt x="0" y="10761"/>
                </a:moveTo>
                <a:arcTo wR="10800" hR="10800" stAng="-10787723" swAng="5375446"/>
              </a:path>
            </a:pathLst>
          </a:custGeom>
          <a:noFill/>
          <a:ln cap="rnd" w="12600">
            <a:solidFill>
              <a:srgbClr val="9234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76680" y="4546440"/>
            <a:ext cx="66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25920" y="4378320"/>
            <a:ext cx="706320" cy="297000"/>
          </a:xfrm>
          <a:prstGeom prst="rect">
            <a:avLst/>
          </a:prstGeom>
          <a:gradFill rotWithShape="0">
            <a:gsLst>
              <a:gs pos="0">
                <a:srgbClr val="80a4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68960" y="4378320"/>
            <a:ext cx="166680" cy="2970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00600" y="2790720"/>
            <a:ext cx="706320" cy="297000"/>
          </a:xfrm>
          <a:prstGeom prst="rect">
            <a:avLst/>
          </a:prstGeom>
          <a:gradFill rotWithShape="0">
            <a:gsLst>
              <a:gs pos="0">
                <a:srgbClr val="80a4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43280" y="2790720"/>
            <a:ext cx="165240" cy="2970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69040" y="4378320"/>
            <a:ext cx="706320" cy="297000"/>
          </a:xfrm>
          <a:prstGeom prst="rect">
            <a:avLst/>
          </a:prstGeom>
          <a:gradFill rotWithShape="0">
            <a:gsLst>
              <a:gs pos="0">
                <a:srgbClr val="80a4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11720" y="4378320"/>
            <a:ext cx="165240" cy="2970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96040" y="4379760"/>
            <a:ext cx="706320" cy="297000"/>
          </a:xfrm>
          <a:prstGeom prst="rect">
            <a:avLst/>
          </a:prstGeom>
          <a:gradFill rotWithShape="0">
            <a:gsLst>
              <a:gs pos="0">
                <a:srgbClr val="80a4fc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38720" y="4379760"/>
            <a:ext cx="165240" cy="2970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0120" y="1127160"/>
            <a:ext cx="807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ae00"/>
                </a:solidFill>
                <a:latin typeface="Arial Narrow"/>
              </a:rPr>
              <a:t>t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ae00"/>
                </a:solidFill>
                <a:latin typeface="Arial Narrow"/>
              </a:rPr>
              <a:t>STM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429280" y="4282920"/>
            <a:ext cx="74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d6900"/>
                </a:solidFill>
                <a:latin typeface="Arial Narrow"/>
              </a:rPr>
              <a:t>VC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TDM: Multiplexación Determinística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ultiplexación determinística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trama de linea se repite un número regular de veces por segund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51" name=""/>
          <p:cNvSpPr/>
          <p:nvPr/>
        </p:nvSpPr>
        <p:spPr>
          <a:xfrm>
            <a:off x="1663560" y="2254320"/>
            <a:ext cx="1282680" cy="13590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2b2b2b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1815840" y="2630160"/>
            <a:ext cx="978120" cy="609840"/>
          </a:xfrm>
          <a:prstGeom prst="triangle">
            <a:avLst>
              <a:gd name="adj" fmla="val 49986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38320" y="2400480"/>
            <a:ext cx="5061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38320" y="2629080"/>
            <a:ext cx="5061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38320" y="2857680"/>
            <a:ext cx="5061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38320" y="3086280"/>
            <a:ext cx="5061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38320" y="3543480"/>
            <a:ext cx="5061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7320" y="21654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tri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7320" y="23940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tri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7320" y="26226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tri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7320" y="285120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tri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3000" y="3308400"/>
            <a:ext cx="64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19191"/>
                </a:solidFill>
                <a:latin typeface="Arial Narrow"/>
              </a:rPr>
              <a:t>trib.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04800" y="3214800"/>
            <a:ext cx="0" cy="201600"/>
          </a:xfrm>
          <a:prstGeom prst="line">
            <a:avLst/>
          </a:prstGeom>
          <a:ln w="507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59200" y="2863800"/>
            <a:ext cx="3797280" cy="1396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49560" y="2330280"/>
            <a:ext cx="52092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i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6400" y="2330280"/>
            <a:ext cx="520560" cy="2923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83080" y="2330280"/>
            <a:ext cx="5205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i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16600" y="2330280"/>
            <a:ext cx="5205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i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49760" y="2330280"/>
            <a:ext cx="52092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i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83280" y="2330280"/>
            <a:ext cx="5205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16800" y="2330280"/>
            <a:ext cx="5205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ib.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9960" y="2330280"/>
            <a:ext cx="520920" cy="2923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83480" y="2330280"/>
            <a:ext cx="5205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i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17000" y="2330280"/>
            <a:ext cx="5205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34400" y="1708200"/>
            <a:ext cx="2449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37c03"/>
                </a:solidFill>
                <a:latin typeface="Arial Narrow"/>
              </a:rPr>
              <a:t>señal de alineación de t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805200" y="2007720"/>
            <a:ext cx="1725480" cy="252360"/>
          </a:xfrm>
          <a:prstGeom prst="line">
            <a:avLst/>
          </a:prstGeom>
          <a:ln w="12600">
            <a:solidFill>
              <a:srgbClr val="037c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1920" y="2033640"/>
            <a:ext cx="277560" cy="277920"/>
          </a:xfrm>
          <a:prstGeom prst="line">
            <a:avLst/>
          </a:prstGeom>
          <a:ln w="12600">
            <a:solidFill>
              <a:srgbClr val="037c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59200" y="3168720"/>
            <a:ext cx="5721120" cy="11304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90015"/>
                </a:solidFill>
                <a:latin typeface="Arial Narrow"/>
              </a:rPr>
              <a:t>la transmisión es síncr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90015"/>
                </a:solidFill>
                <a:latin typeface="Arial Narrow"/>
              </a:rPr>
              <a:t>la velocidad del agregado es igual a la suma de las</a:t>
            </a:r>
            <a:br>
              <a:rPr sz="1800"/>
            </a:br>
            <a:r>
              <a:rPr b="1" lang="es-ES_tradnl" sz="1800" spc="-1" strike="noStrike">
                <a:solidFill>
                  <a:srgbClr val="790015"/>
                </a:solidFill>
                <a:latin typeface="Arial Narrow"/>
              </a:rPr>
              <a:t>   velocidades de las tributarias, más el </a:t>
            </a:r>
            <a:r>
              <a:rPr b="1" i="1" lang="es-ES_tradnl" sz="1800" spc="-1" strike="noStrike">
                <a:solidFill>
                  <a:srgbClr val="790015"/>
                </a:solidFill>
                <a:latin typeface="Arial Narrow"/>
              </a:rPr>
              <a:t>overhead</a:t>
            </a:r>
            <a:r>
              <a:rPr b="1" lang="es-ES_tradnl" sz="1800" spc="-1" strike="noStrike">
                <a:solidFill>
                  <a:srgbClr val="790015"/>
                </a:solidFill>
                <a:latin typeface="Arial Narrow"/>
              </a:rPr>
              <a:t> necesario</a:t>
            </a:r>
            <a:br>
              <a:rPr sz="1800"/>
            </a:br>
            <a:r>
              <a:rPr b="1" lang="es-ES_tradnl" sz="1800" spc="-1" strike="noStrike">
                <a:solidFill>
                  <a:srgbClr val="790015"/>
                </a:solidFill>
                <a:latin typeface="Arial Narrow"/>
              </a:rPr>
              <a:t>  (para alineación de trama, alarmas, control, justificación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Ventajas del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416" name=""/>
          <p:cNvSpPr/>
          <p:nvPr/>
        </p:nvSpPr>
        <p:spPr>
          <a:xfrm>
            <a:off x="4273560" y="1454040"/>
            <a:ext cx="4330800" cy="568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5960" y="1454040"/>
            <a:ext cx="3645000" cy="5684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73560" y="2035080"/>
            <a:ext cx="4330800" cy="131472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buClr>
                <a:srgbClr val="fafd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permite conmutación por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 Narrow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afd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retardo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afd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iversos tipos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5960" y="2035080"/>
            <a:ext cx="3645000" cy="131472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buClr>
                <a:srgbClr val="f6bf69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onmutación de cel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afd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ongitud fija de cel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afd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elda de 53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73560" y="3362400"/>
            <a:ext cx="4330800" cy="1314360"/>
          </a:xfrm>
          <a:prstGeom prst="rect">
            <a:avLst/>
          </a:prstGeom>
          <a:solidFill>
            <a:srgbClr val="767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buClr>
                <a:srgbClr val="fafd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onmutación senc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afd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alidad de servicio defin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5960" y="3362400"/>
            <a:ext cx="3645000" cy="1314360"/>
          </a:xfrm>
          <a:prstGeom prst="rect">
            <a:avLst/>
          </a:prstGeom>
          <a:solidFill>
            <a:srgbClr val="767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buClr>
                <a:srgbClr val="f6bf69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Orientado a 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afd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establecimiento de 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afd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anal ded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73560" y="4689360"/>
            <a:ext cx="4330800" cy="1314720"/>
          </a:xfrm>
          <a:prstGeom prst="rect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buClr>
                <a:srgbClr val="fafd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oporta necesidades de usuarios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dive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afd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el costo es adecuado a la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5960" y="4689360"/>
            <a:ext cx="3645000" cy="1314720"/>
          </a:xfrm>
          <a:prstGeom prst="rect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90000"/>
              </a:lnSpc>
              <a:buClr>
                <a:srgbClr val="f6bf69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Independiente de la capa fí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afd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ibra, coax, par tren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afd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velocidades de Mbit/s a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   G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l ATM Unifica los Mundos LAN y WAN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539640" y="2016000"/>
            <a:ext cx="1816200" cy="54936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tipo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8440" y="2016000"/>
            <a:ext cx="2095560" cy="549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76600" y="2016000"/>
            <a:ext cx="2095560" cy="549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vo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85120" y="2016000"/>
            <a:ext cx="2095200" cy="549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datos, voz, 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9640" y="2577960"/>
            <a:ext cx="1816200" cy="54936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unidad de</a:t>
            </a:r>
            <a:br>
              <a:rPr sz="2000"/>
            </a:b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  trans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68440" y="2577960"/>
            <a:ext cx="2095560" cy="549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aquete de ta-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maño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76600" y="2577960"/>
            <a:ext cx="2095560" cy="549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trama f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85120" y="2577960"/>
            <a:ext cx="2095200" cy="549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elda de long. f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9640" y="3139920"/>
            <a:ext cx="1816200" cy="54936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tip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  </a:t>
            </a: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conmu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68440" y="3139920"/>
            <a:ext cx="2095560" cy="549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aque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76600" y="3139920"/>
            <a:ext cx="2095560" cy="549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ircu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585120" y="3139920"/>
            <a:ext cx="2095200" cy="549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el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9640" y="3701880"/>
            <a:ext cx="1816200" cy="54936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tipo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8440" y="3701880"/>
            <a:ext cx="2095560" cy="549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en ráfa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6600" y="3701880"/>
            <a:ext cx="2095560" cy="549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erió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85120" y="3701880"/>
            <a:ext cx="2095200" cy="549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perió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9640" y="4826160"/>
            <a:ext cx="1816200" cy="54900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tipo de 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8440" y="4826160"/>
            <a:ext cx="2095560" cy="5490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connection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76600" y="4826160"/>
            <a:ext cx="2095560" cy="5490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orientad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on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85120" y="4826160"/>
            <a:ext cx="2095200" cy="5490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orientado a con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9640" y="4264200"/>
            <a:ext cx="1816200" cy="54900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sens.  a retar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68440" y="4264200"/>
            <a:ext cx="2095560" cy="5490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med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76600" y="4264200"/>
            <a:ext cx="2095560" cy="5490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e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85120" y="4264200"/>
            <a:ext cx="2095200" cy="5490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algo se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5388120"/>
            <a:ext cx="1816200" cy="54900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acceso a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8440" y="5388120"/>
            <a:ext cx="2095560" cy="5490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ompar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76600" y="5388120"/>
            <a:ext cx="2095560" cy="5490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ded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85120" y="5388120"/>
            <a:ext cx="2095200" cy="5490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ded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68440" y="1454040"/>
            <a:ext cx="2095560" cy="5493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feb9"/>
                </a:solidFill>
                <a:latin typeface="Arial Narrow"/>
              </a:rPr>
              <a:t>Datos (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476600" y="1454040"/>
            <a:ext cx="2095560" cy="5493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feb9"/>
                </a:solidFill>
                <a:latin typeface="Arial Narrow"/>
              </a:rPr>
              <a:t>Telecom</a:t>
            </a:r>
            <a:r>
              <a:rPr b="1" lang="es-ES_tradnl" sz="1800" spc="-1" strike="noStrike">
                <a:solidFill>
                  <a:srgbClr val="fcfeb9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fcfeb9"/>
                </a:solidFill>
                <a:latin typeface="Arial Narrow"/>
              </a:rPr>
              <a:t>(W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85120" y="1454040"/>
            <a:ext cx="2095200" cy="5493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feb9"/>
                </a:solidFill>
                <a:latin typeface="Arial Narrow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Tendencias Tecnológicas en Rede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79f"/>
                </a:solidFill>
                <a:latin typeface="Arial Narrow"/>
              </a:rPr>
              <a:t>FDDI</a:t>
            </a:r>
            <a:endParaRPr b="1" lang="en-US" sz="3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79f"/>
                </a:solidFill>
                <a:latin typeface="Arial Narrow"/>
              </a:rPr>
              <a:t>Ethernet de 100 Mbit/s</a:t>
            </a:r>
            <a:endParaRPr b="1" lang="en-US" sz="3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79f"/>
                </a:solidFill>
                <a:latin typeface="Arial Narrow"/>
              </a:rPr>
              <a:t>Conmutación</a:t>
            </a:r>
            <a:endParaRPr b="1" lang="en-US" sz="3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279f"/>
                </a:solidFill>
                <a:latin typeface="Arial Narrow"/>
              </a:rPr>
              <a:t>Frame Relay</a:t>
            </a:r>
            <a:endParaRPr b="1" lang="en-US" sz="3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79f"/>
                </a:solidFill>
                <a:latin typeface="Arial Narrow"/>
              </a:rPr>
              <a:t>ATM</a:t>
            </a:r>
            <a:endParaRPr b="1" lang="en-US" sz="3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79f"/>
                </a:solidFill>
                <a:latin typeface="Arial Narrow"/>
              </a:rPr>
              <a:t>ATM-25</a:t>
            </a:r>
            <a:endParaRPr b="1" lang="en-US" sz="3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79f"/>
                </a:solidFill>
                <a:latin typeface="Arial Narrow"/>
              </a:rPr>
              <a:t>Como decidir?</a:t>
            </a:r>
            <a:endParaRPr b="1" lang="en-US" sz="3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Tecnologías Diversas: Velocidad de Transmisión y Tipo de Red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459" name=""/>
          <p:cNvSpPr/>
          <p:nvPr/>
        </p:nvSpPr>
        <p:spPr>
          <a:xfrm>
            <a:off x="1883160" y="5783400"/>
            <a:ext cx="6116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LAN</a:t>
            </a: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MAN</a:t>
            </a: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54040" y="1454040"/>
            <a:ext cx="7226280" cy="417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30360" y="1835280"/>
            <a:ext cx="7074000" cy="3720960"/>
          </a:xfrm>
          <a:prstGeom prst="roundRect">
            <a:avLst>
              <a:gd name="adj" fmla="val 12486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23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234db"/>
                </a:solidFill>
                <a:latin typeface="Arial Narrow"/>
              </a:rPr>
              <a:t>     </a:t>
            </a:r>
            <a:r>
              <a:rPr b="1" lang="es-ES_tradnl" sz="2800" spc="-1" strike="noStrike">
                <a:solidFill>
                  <a:srgbClr val="9234db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9234db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9234db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9234db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9234db"/>
                </a:solidFill>
                <a:latin typeface="Arial Narrow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39600" y="1460520"/>
            <a:ext cx="5533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37c03"/>
                </a:solidFill>
                <a:latin typeface="Arial Narrow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37c03"/>
                </a:solidFill>
                <a:latin typeface="Arial Narrow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37c03"/>
                </a:solidFill>
                <a:latin typeface="Arial Narrow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37c03"/>
                </a:solidFill>
                <a:latin typeface="Arial Narro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02160" y="3511440"/>
            <a:ext cx="4025880" cy="2044800"/>
          </a:xfrm>
          <a:prstGeom prst="roundRect">
            <a:avLst>
              <a:gd name="adj" fmla="val 12486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ae00"/>
                </a:solidFill>
                <a:latin typeface="Arial Narrow"/>
              </a:rPr>
              <a:t>        </a:t>
            </a:r>
            <a:r>
              <a:rPr b="1" i="1" lang="es-ES_tradnl" sz="2000" spc="-1" strike="noStrike">
                <a:solidFill>
                  <a:srgbClr val="00ae00"/>
                </a:solidFill>
                <a:latin typeface="Arial Narrow"/>
              </a:rPr>
              <a:t>Frame R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21280" y="3664080"/>
            <a:ext cx="1663560" cy="1054080"/>
          </a:xfrm>
          <a:prstGeom prst="roundRect">
            <a:avLst>
              <a:gd name="adj" fmla="val 12486"/>
            </a:avLst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8480" y="4959360"/>
            <a:ext cx="3873240" cy="444600"/>
          </a:xfrm>
          <a:prstGeom prst="roundRect">
            <a:avLst>
              <a:gd name="adj" fmla="val 12486"/>
            </a:avLst>
          </a:prstGeom>
          <a:solidFill>
            <a:srgbClr val="fde3ba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T1/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6680" y="2368440"/>
            <a:ext cx="4406760" cy="749520"/>
          </a:xfrm>
          <a:prstGeom prst="roundRect">
            <a:avLst>
              <a:gd name="adj" fmla="val 12486"/>
            </a:avLst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 Narrow"/>
              </a:rPr>
              <a:t>      </a:t>
            </a:r>
            <a:r>
              <a:rPr b="1" lang="es-ES_tradnl" sz="2400" spc="-1" strike="noStrike">
                <a:solidFill>
                  <a:srgbClr val="fc0128"/>
                </a:solidFill>
                <a:latin typeface="Arial Narrow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06680" y="3892680"/>
            <a:ext cx="1968480" cy="1358640"/>
          </a:xfrm>
          <a:prstGeom prst="roundRect">
            <a:avLst>
              <a:gd name="adj" fmla="val 12486"/>
            </a:avLst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afd00"/>
                </a:solidFill>
                <a:latin typeface="Arial Narrow"/>
              </a:rPr>
              <a:t>Token 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30360" y="3968640"/>
            <a:ext cx="1968480" cy="444600"/>
          </a:xfrm>
          <a:prstGeom prst="roundRect">
            <a:avLst>
              <a:gd name="adj" fmla="val 12486"/>
            </a:avLst>
          </a:prstGeom>
          <a:solidFill>
            <a:srgbClr val="c8fec8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ae00"/>
                </a:solidFill>
                <a:latin typeface="Arial Narrow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82640" y="2749680"/>
            <a:ext cx="1816200" cy="291960"/>
          </a:xfrm>
          <a:prstGeom prst="roundRect">
            <a:avLst>
              <a:gd name="adj" fmla="val 12486"/>
            </a:avLst>
          </a:prstGeom>
          <a:solidFill>
            <a:srgbClr val="f76681"/>
          </a:solidFill>
          <a:ln w="1260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FAST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-246600" y="34027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37c03"/>
                </a:solidFill>
                <a:latin typeface="Arial Narrow"/>
              </a:rPr>
              <a:t>velocidad (Mbit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06680" y="3435480"/>
            <a:ext cx="1968480" cy="368280"/>
          </a:xfrm>
          <a:prstGeom prst="roundRect">
            <a:avLst>
              <a:gd name="adj" fmla="val 12486"/>
            </a:avLst>
          </a:prstGeom>
          <a:solidFill>
            <a:srgbClr val="9234db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25 Mbps 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63680" y="1835280"/>
            <a:ext cx="8292960" cy="4178160"/>
          </a:xfrm>
          <a:prstGeom prst="rect">
            <a:avLst/>
          </a:prstGeom>
          <a:solidFill>
            <a:srgbClr val="00279f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030320" y="2232000"/>
            <a:ext cx="7080120" cy="35355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947880" y="2766960"/>
            <a:ext cx="488880" cy="3808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757080" y="3503520"/>
            <a:ext cx="489240" cy="3812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tretch/>
        </p:blipFill>
        <p:spPr>
          <a:xfrm>
            <a:off x="704880" y="4092480"/>
            <a:ext cx="488880" cy="3812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5"/>
          <a:stretch/>
        </p:blipFill>
        <p:spPr>
          <a:xfrm>
            <a:off x="744480" y="4795920"/>
            <a:ext cx="48888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6"/>
          <a:stretch/>
        </p:blipFill>
        <p:spPr>
          <a:xfrm>
            <a:off x="1184400" y="5337000"/>
            <a:ext cx="488880" cy="3812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7"/>
          <a:stretch/>
        </p:blipFill>
        <p:spPr>
          <a:xfrm>
            <a:off x="1795320" y="5369040"/>
            <a:ext cx="489240" cy="3808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7804080" y="4414680"/>
            <a:ext cx="488880" cy="3812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7886880" y="3733920"/>
            <a:ext cx="488880" cy="3808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7969320" y="3191040"/>
            <a:ext cx="488880" cy="3808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7856640" y="2647800"/>
            <a:ext cx="488880" cy="3812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7437600" y="2114640"/>
            <a:ext cx="488880" cy="3808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637200" y="2633760"/>
            <a:ext cx="48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S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800" y="3308400"/>
            <a:ext cx="384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7800" y="3994200"/>
            <a:ext cx="48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3040" y="4703760"/>
            <a:ext cx="44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7520" y="527544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776600" y="573732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866720" y="2011320"/>
            <a:ext cx="48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S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9400" y="2558880"/>
            <a:ext cx="384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379720" y="3083040"/>
            <a:ext cx="48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27880" y="3701880"/>
            <a:ext cx="44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23480" y="441180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14120" y="2784600"/>
            <a:ext cx="108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155,2 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44600" y="270360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afd00"/>
                </a:solidFill>
                <a:latin typeface="Arial Narrow"/>
              </a:rPr>
              <a:t>622 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33560" y="4132440"/>
            <a:ext cx="83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LAN 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28640" y="5719680"/>
            <a:ext cx="155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 Narrow"/>
              </a:rPr>
              <a:t>ordenador </a:t>
            </a:r>
            <a:r>
              <a:rPr b="1" i="1" lang="es-ES_tradnl" sz="1800" spc="-1" strike="noStrike">
                <a:solidFill>
                  <a:srgbClr val="00ff00"/>
                </a:solidFill>
                <a:latin typeface="Arial Narrow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99920" y="4748040"/>
            <a:ext cx="1188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 Narrow"/>
              </a:rPr>
              <a:t>servidor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 Narrow"/>
              </a:rPr>
              <a:t>arch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75200" y="5024520"/>
            <a:ext cx="1644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 Narrow"/>
              </a:rPr>
              <a:t>hacia la red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 Narrow"/>
              </a:rPr>
              <a:t>la concesio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17400" y="354492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afd00"/>
                </a:solidFill>
                <a:latin typeface="Arial Narrow"/>
              </a:rPr>
              <a:t>622 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47760" y="420048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afd00"/>
                </a:solidFill>
                <a:latin typeface="Arial Narrow"/>
              </a:rPr>
              <a:t>622 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140160" y="387360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afd00"/>
                </a:solidFill>
                <a:latin typeface="Arial Narrow"/>
              </a:rPr>
              <a:t>622 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118200" y="3279600"/>
            <a:ext cx="83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LAN 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: Ejemplo de una Red Local con Conmutadores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Posicionamiento del ATM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Inicialmente, el ATM puede ser introducido en las redes locales de ordenadores (LANs)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Otra aplicación del ATM en el area privada es la introducción del concepto de DANs (</a:t>
            </a:r>
            <a:r>
              <a:rPr b="1" i="1" lang="es-ES_tradnl" sz="3200" spc="-1" strike="noStrike">
                <a:solidFill>
                  <a:srgbClr val="00279f"/>
                </a:solidFill>
                <a:latin typeface="Arial Narrow"/>
              </a:rPr>
              <a:t>desktop area networks</a:t>
            </a: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l ATM permitirá la unión de CPUs a periféricos de forma más eficiente que la actua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ste nuevo concepto está asociado a aplicaciones de multimedia en la oficina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Posicionamiento del ATM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En redes públicas, el ATM será introducido como una red superpuesta, siendo los servidores ATM (conmutadores y multiplexores de servicio) interconectados a través de las facilidades de la red genérica de transporte basada en PDH o SDH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279f"/>
                </a:solidFill>
                <a:latin typeface="Arial Narrow"/>
              </a:rPr>
              <a:t>a la medida que se desarrolle la red ATM, la red genérica de transporte PDH o SDH podrá eventualmente evolucionar a una red genérica de transporte basada en ATM</a:t>
            </a:r>
            <a:endParaRPr b="1" lang="en-US" sz="30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: Ejemplo Típico de una Configuración de Red 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512" name=""/>
          <p:cNvSpPr/>
          <p:nvPr/>
        </p:nvSpPr>
        <p:spPr>
          <a:xfrm>
            <a:off x="804960" y="4946760"/>
            <a:ext cx="137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Mux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3960" y="3002040"/>
            <a:ext cx="2247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Flujos estructu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de celdas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según la Rec. G.7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o STM-N (SD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267160" y="3055680"/>
            <a:ext cx="528840" cy="23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967360" y="2917800"/>
            <a:ext cx="6480" cy="284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616720" y="2695680"/>
            <a:ext cx="39600" cy="27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556000" y="2982600"/>
            <a:ext cx="795240" cy="4237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09680" y="1828800"/>
            <a:ext cx="3506760" cy="1144440"/>
          </a:xfrm>
          <a:custGeom>
            <a:avLst/>
            <a:gdLst/>
            <a:ahLst/>
            <a:rect l="l" t="t" r="r" b="b"/>
            <a:pathLst>
              <a:path w="2209" h="721">
                <a:moveTo>
                  <a:pt x="480" y="0"/>
                </a:moveTo>
                <a:lnTo>
                  <a:pt x="0" y="720"/>
                </a:lnTo>
                <a:lnTo>
                  <a:pt x="1776" y="720"/>
                </a:lnTo>
                <a:lnTo>
                  <a:pt x="2208" y="0"/>
                </a:lnTo>
                <a:lnTo>
                  <a:pt x="480" y="0"/>
                </a:lnTo>
              </a:path>
            </a:pathLst>
          </a:custGeom>
          <a:solidFill>
            <a:srgbClr val="00ae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09680" y="3200400"/>
            <a:ext cx="3583080" cy="1373040"/>
          </a:xfrm>
          <a:custGeom>
            <a:avLst/>
            <a:gdLst/>
            <a:ahLst/>
            <a:rect l="l" t="t" r="r" b="b"/>
            <a:pathLst>
              <a:path w="2257" h="865">
                <a:moveTo>
                  <a:pt x="624" y="0"/>
                </a:moveTo>
                <a:lnTo>
                  <a:pt x="0" y="864"/>
                </a:lnTo>
                <a:lnTo>
                  <a:pt x="1776" y="864"/>
                </a:lnTo>
                <a:lnTo>
                  <a:pt x="2256" y="0"/>
                </a:lnTo>
                <a:lnTo>
                  <a:pt x="624" y="0"/>
                </a:lnTo>
              </a:path>
            </a:pathLst>
          </a:custGeom>
          <a:solidFill>
            <a:srgbClr val="ad6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20160000">
            <a:off x="3223800" y="2058840"/>
            <a:ext cx="517680" cy="29556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20160000">
            <a:off x="4443120" y="2058480"/>
            <a:ext cx="517320" cy="29556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20160000">
            <a:off x="3604680" y="2516040"/>
            <a:ext cx="517680" cy="29556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95680" y="2376360"/>
            <a:ext cx="12528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129200" y="2350800"/>
            <a:ext cx="35388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47960" y="2133720"/>
            <a:ext cx="81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590920" y="3798720"/>
            <a:ext cx="1068120" cy="557280"/>
            <a:chOff x="2590920" y="3798720"/>
            <a:chExt cx="1068120" cy="557280"/>
          </a:xfrm>
        </p:grpSpPr>
        <p:sp>
          <p:nvSpPr>
            <p:cNvPr id="527" name=""/>
            <p:cNvSpPr/>
            <p:nvPr/>
          </p:nvSpPr>
          <p:spPr>
            <a:xfrm>
              <a:off x="2590920" y="3807000"/>
              <a:ext cx="1068120" cy="537840"/>
            </a:xfrm>
            <a:custGeom>
              <a:avLst/>
              <a:gdLst/>
              <a:ahLst/>
              <a:rect l="l" t="t" r="r" b="b"/>
              <a:pathLst>
                <a:path w="673" h="339">
                  <a:moveTo>
                    <a:pt x="240" y="0"/>
                  </a:moveTo>
                  <a:lnTo>
                    <a:pt x="0" y="338"/>
                  </a:lnTo>
                  <a:lnTo>
                    <a:pt x="432" y="338"/>
                  </a:lnTo>
                  <a:lnTo>
                    <a:pt x="672" y="0"/>
                  </a:lnTo>
                  <a:lnTo>
                    <a:pt x="240" y="0"/>
                  </a:lnTo>
                </a:path>
              </a:pathLst>
            </a:custGeom>
            <a:solidFill>
              <a:srgbClr val="fdc0e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2604960" y="3798720"/>
              <a:ext cx="6588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76720" y="382428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 rot="20160000">
            <a:off x="4519080" y="3811680"/>
            <a:ext cx="517680" cy="29520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20160000">
            <a:off x="4443120" y="3277800"/>
            <a:ext cx="517320" cy="29520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20160000">
            <a:off x="3757320" y="3811320"/>
            <a:ext cx="517320" cy="295200"/>
          </a:xfrm>
          <a:prstGeom prst="ellipse">
            <a:avLst/>
          </a:prstGeom>
          <a:solidFill>
            <a:srgbClr val="438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265200" y="2224080"/>
            <a:ext cx="252360" cy="1573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00600" y="2681280"/>
            <a:ext cx="125280" cy="12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900600" y="2681280"/>
            <a:ext cx="887400" cy="1344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24280" y="2147760"/>
            <a:ext cx="0" cy="1268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981080" y="4865760"/>
            <a:ext cx="1068480" cy="557280"/>
            <a:chOff x="1981080" y="4865760"/>
            <a:chExt cx="1068480" cy="557280"/>
          </a:xfrm>
        </p:grpSpPr>
        <p:sp>
          <p:nvSpPr>
            <p:cNvPr id="538" name=""/>
            <p:cNvSpPr/>
            <p:nvPr/>
          </p:nvSpPr>
          <p:spPr>
            <a:xfrm>
              <a:off x="1981080" y="4873680"/>
              <a:ext cx="1068480" cy="538200"/>
            </a:xfrm>
            <a:custGeom>
              <a:avLst/>
              <a:gdLst/>
              <a:ahLst/>
              <a:rect l="l" t="t" r="r" b="b"/>
              <a:pathLst>
                <a:path w="673" h="339">
                  <a:moveTo>
                    <a:pt x="240" y="0"/>
                  </a:moveTo>
                  <a:lnTo>
                    <a:pt x="0" y="338"/>
                  </a:lnTo>
                  <a:lnTo>
                    <a:pt x="432" y="338"/>
                  </a:lnTo>
                  <a:lnTo>
                    <a:pt x="672" y="0"/>
                  </a:lnTo>
                  <a:lnTo>
                    <a:pt x="240" y="0"/>
                  </a:lnTo>
                </a:path>
              </a:pathLst>
            </a:custGeom>
            <a:solidFill>
              <a:srgbClr val="fdc0e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995480" y="4865760"/>
              <a:ext cx="6588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66880" y="4890960"/>
              <a:ext cx="0" cy="5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H="1">
            <a:off x="2655360" y="4357800"/>
            <a:ext cx="48132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484360" y="4357800"/>
            <a:ext cx="34776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55480" y="3247920"/>
            <a:ext cx="586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54960" y="3141720"/>
            <a:ext cx="8229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 Narrow"/>
              </a:rPr>
              <a:t>cros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 Narrow"/>
              </a:rPr>
              <a:t>conn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62200" y="4295880"/>
            <a:ext cx="15577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 Narrow"/>
              </a:rPr>
              <a:t>red superpuesta AT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71800" y="1295280"/>
            <a:ext cx="3125880" cy="534960"/>
          </a:xfrm>
          <a:custGeom>
            <a:avLst/>
            <a:gdLst/>
            <a:ahLst/>
            <a:rect l="l" t="t" r="r" b="b"/>
            <a:pathLst>
              <a:path w="1969" h="337">
                <a:moveTo>
                  <a:pt x="0" y="336"/>
                </a:moveTo>
                <a:lnTo>
                  <a:pt x="240" y="0"/>
                </a:lnTo>
                <a:lnTo>
                  <a:pt x="1968" y="0"/>
                </a:lnTo>
                <a:lnTo>
                  <a:pt x="1728" y="336"/>
                </a:lnTo>
                <a:lnTo>
                  <a:pt x="0" y="336"/>
                </a:lnTo>
              </a:path>
            </a:pathLst>
          </a:custGeom>
          <a:solidFill>
            <a:srgbClr val="00ae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1295280"/>
            <a:ext cx="3048120" cy="533520"/>
          </a:xfrm>
          <a:prstGeom prst="parallelogram">
            <a:avLst>
              <a:gd name="adj" fmla="val 1427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red genérica de 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(PDH o SD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34120" y="4876920"/>
            <a:ext cx="3352680" cy="761760"/>
          </a:xfrm>
          <a:prstGeom prst="parallelogram">
            <a:avLst>
              <a:gd name="adj" fmla="val 109969"/>
            </a:avLst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red superpuesta de lineas dedicadas para atender a grandes usu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893960" y="5424480"/>
            <a:ext cx="40464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5334120"/>
            <a:ext cx="2820960" cy="458640"/>
          </a:xfrm>
          <a:custGeom>
            <a:avLst/>
            <a:gdLst/>
            <a:ahLst/>
            <a:rect l="l" t="t" r="r" b="b"/>
            <a:pathLst>
              <a:path w="1777" h="289">
                <a:moveTo>
                  <a:pt x="192" y="48"/>
                </a:moveTo>
                <a:lnTo>
                  <a:pt x="0" y="288"/>
                </a:lnTo>
                <a:lnTo>
                  <a:pt x="1536" y="288"/>
                </a:lnTo>
                <a:lnTo>
                  <a:pt x="177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0" y="5334120"/>
            <a:ext cx="611280" cy="226800"/>
          </a:xfrm>
          <a:custGeom>
            <a:avLst/>
            <a:gdLst/>
            <a:ahLst/>
            <a:rect l="l" t="t" r="r" b="b"/>
            <a:pathLst>
              <a:path w="385" h="143">
                <a:moveTo>
                  <a:pt x="137" y="0"/>
                </a:moveTo>
                <a:lnTo>
                  <a:pt x="0" y="142"/>
                </a:lnTo>
                <a:lnTo>
                  <a:pt x="247" y="142"/>
                </a:lnTo>
                <a:lnTo>
                  <a:pt x="384" y="0"/>
                </a:lnTo>
                <a:lnTo>
                  <a:pt x="137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5334120"/>
            <a:ext cx="611280" cy="226800"/>
          </a:xfrm>
          <a:custGeom>
            <a:avLst/>
            <a:gdLst/>
            <a:ahLst/>
            <a:rect l="l" t="t" r="r" b="b"/>
            <a:pathLst>
              <a:path w="385" h="143">
                <a:moveTo>
                  <a:pt x="137" y="0"/>
                </a:moveTo>
                <a:lnTo>
                  <a:pt x="0" y="142"/>
                </a:lnTo>
                <a:lnTo>
                  <a:pt x="247" y="142"/>
                </a:lnTo>
                <a:lnTo>
                  <a:pt x="384" y="0"/>
                </a:lnTo>
                <a:lnTo>
                  <a:pt x="137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3570120" y="5576760"/>
            <a:ext cx="25272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731680" y="5805360"/>
            <a:ext cx="25236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438280" y="5943600"/>
            <a:ext cx="611280" cy="227160"/>
          </a:xfrm>
          <a:custGeom>
            <a:avLst/>
            <a:gdLst/>
            <a:ahLst/>
            <a:rect l="l" t="t" r="r" b="b"/>
            <a:pathLst>
              <a:path w="385" h="143">
                <a:moveTo>
                  <a:pt x="137" y="0"/>
                </a:moveTo>
                <a:lnTo>
                  <a:pt x="0" y="142"/>
                </a:lnTo>
                <a:lnTo>
                  <a:pt x="247" y="142"/>
                </a:lnTo>
                <a:lnTo>
                  <a:pt x="384" y="0"/>
                </a:lnTo>
                <a:lnTo>
                  <a:pt x="137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86400" y="1828800"/>
            <a:ext cx="1525680" cy="611280"/>
          </a:xfrm>
          <a:custGeom>
            <a:avLst/>
            <a:gdLst/>
            <a:ahLst/>
            <a:rect l="l" t="t" r="r" b="b"/>
            <a:pathLst>
              <a:path w="961" h="385">
                <a:moveTo>
                  <a:pt x="0" y="192"/>
                </a:moveTo>
                <a:lnTo>
                  <a:pt x="267" y="0"/>
                </a:lnTo>
                <a:lnTo>
                  <a:pt x="160" y="144"/>
                </a:lnTo>
                <a:lnTo>
                  <a:pt x="853" y="144"/>
                </a:lnTo>
                <a:lnTo>
                  <a:pt x="960" y="0"/>
                </a:lnTo>
                <a:lnTo>
                  <a:pt x="960" y="192"/>
                </a:lnTo>
                <a:lnTo>
                  <a:pt x="747" y="384"/>
                </a:lnTo>
                <a:lnTo>
                  <a:pt x="800" y="240"/>
                </a:lnTo>
                <a:lnTo>
                  <a:pt x="107" y="240"/>
                </a:lnTo>
                <a:lnTo>
                  <a:pt x="0" y="384"/>
                </a:lnTo>
                <a:lnTo>
                  <a:pt x="0" y="192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3505320"/>
            <a:ext cx="1449360" cy="610920"/>
          </a:xfrm>
          <a:custGeom>
            <a:avLst/>
            <a:gdLst/>
            <a:ahLst/>
            <a:rect l="l" t="t" r="r" b="b"/>
            <a:pathLst>
              <a:path w="913" h="385">
                <a:moveTo>
                  <a:pt x="0" y="192"/>
                </a:moveTo>
                <a:lnTo>
                  <a:pt x="253" y="0"/>
                </a:lnTo>
                <a:lnTo>
                  <a:pt x="152" y="144"/>
                </a:lnTo>
                <a:lnTo>
                  <a:pt x="811" y="144"/>
                </a:lnTo>
                <a:lnTo>
                  <a:pt x="912" y="0"/>
                </a:lnTo>
                <a:lnTo>
                  <a:pt x="912" y="192"/>
                </a:lnTo>
                <a:lnTo>
                  <a:pt x="709" y="384"/>
                </a:lnTo>
                <a:lnTo>
                  <a:pt x="760" y="240"/>
                </a:lnTo>
                <a:lnTo>
                  <a:pt x="101" y="240"/>
                </a:lnTo>
                <a:lnTo>
                  <a:pt x="0" y="384"/>
                </a:lnTo>
                <a:lnTo>
                  <a:pt x="0" y="192"/>
                </a:lnTo>
              </a:path>
            </a:pathLst>
          </a:custGeom>
          <a:solidFill>
            <a:srgbClr val="ad6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29400" y="1371600"/>
            <a:ext cx="915840" cy="3049560"/>
          </a:xfrm>
          <a:custGeom>
            <a:avLst/>
            <a:gdLst/>
            <a:ahLst/>
            <a:rect l="l" t="t" r="r" b="b"/>
            <a:pathLst>
              <a:path w="577" h="1921">
                <a:moveTo>
                  <a:pt x="0" y="864"/>
                </a:moveTo>
                <a:lnTo>
                  <a:pt x="576" y="0"/>
                </a:lnTo>
                <a:lnTo>
                  <a:pt x="576" y="1152"/>
                </a:lnTo>
                <a:lnTo>
                  <a:pt x="0" y="1920"/>
                </a:lnTo>
                <a:lnTo>
                  <a:pt x="0" y="864"/>
                </a:lnTo>
              </a:path>
            </a:pathLst>
          </a:custGeom>
          <a:solidFill>
            <a:srgbClr val="50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21400" y="2917800"/>
            <a:ext cx="33480" cy="284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18780000">
            <a:off x="6540840" y="2720880"/>
            <a:ext cx="106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7093080" y="2673360"/>
            <a:ext cx="29196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7440" y="26733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11240" y="26733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6880" y="26733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02160" y="26733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911240" y="31305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06880" y="31305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02160" y="31305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797440" y="31305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911240" y="35877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06880" y="35877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02160" y="35877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97440" y="35877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11240" y="40449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06880" y="40449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02160" y="40449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97440" y="45021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11240" y="45021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06880" y="45021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02160" y="45021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11240" y="49593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7440" y="49593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11240" y="54165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06880" y="54165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02160" y="54165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797440" y="54165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06880" y="49593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02160" y="49593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93080" y="3130560"/>
            <a:ext cx="29196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93080" y="3587760"/>
            <a:ext cx="29196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93080" y="4044960"/>
            <a:ext cx="29196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093080" y="4502160"/>
            <a:ext cx="29196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93080" y="4959360"/>
            <a:ext cx="29196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093080" y="5416560"/>
            <a:ext cx="29196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Los conmutadores ATM, por conmutar una celda entera (en lugar de un solo byte) a la vez, son mucho pero rápidos que otros conmutadore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596" name=""/>
          <p:cNvSpPr/>
          <p:nvPr/>
        </p:nvSpPr>
        <p:spPr>
          <a:xfrm>
            <a:off x="1809720" y="498492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09720" y="405612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09720" y="359244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809720" y="312732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170080" y="5771880"/>
            <a:ext cx="0" cy="112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433600" y="5771880"/>
            <a:ext cx="0" cy="112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69568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95920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48444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74796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01004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427356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506268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32440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58468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611028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37380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63588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689940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44200" y="586908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60600" y="588024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89320" y="586908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95960" y="2546280"/>
            <a:ext cx="97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100 G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75520" y="3014640"/>
            <a:ext cx="884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10 G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55800" y="3484440"/>
            <a:ext cx="79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1 G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5880" y="394164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100 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67240" y="4408560"/>
            <a:ext cx="893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10 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48600" y="4878360"/>
            <a:ext cx="80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1 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15760" y="5334120"/>
            <a:ext cx="940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100 k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62800" y="2732040"/>
            <a:ext cx="1381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conmutadores dig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de circu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508880" y="4857840"/>
            <a:ext cx="109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279f"/>
                </a:solidFill>
                <a:latin typeface="Arial Narrow"/>
              </a:rPr>
              <a:t>frame 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99440" y="5522760"/>
            <a:ext cx="1554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redes de paqu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X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386480" y="3863880"/>
            <a:ext cx="1441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conmut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83480" y="2709720"/>
            <a:ext cx="876240" cy="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46840" y="4770360"/>
            <a:ext cx="825840" cy="0"/>
          </a:xfrm>
          <a:prstGeom prst="line">
            <a:avLst/>
          </a:prstGeom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738920" y="5442120"/>
            <a:ext cx="81468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72320" y="3797280"/>
            <a:ext cx="881280" cy="0"/>
          </a:xfrm>
          <a:prstGeom prst="line">
            <a:avLst/>
          </a:prstGeom>
          <a:ln w="5724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udal (</a:t>
            </a:r>
            <a:r>
              <a:rPr b="1" i="1" lang="es-ES_tradnl" sz="3200" spc="-1" strike="noStrike">
                <a:solidFill>
                  <a:srgbClr val="fafd00"/>
                </a:solidFill>
                <a:latin typeface="Arial Narrow"/>
              </a:rPr>
              <a:t>Throughput</a:t>
            </a: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)</a:t>
            </a:r>
            <a:r>
              <a:rPr b="1" i="1" lang="es-ES_tradnl" sz="3200" spc="-1" strike="noStrike">
                <a:solidFill>
                  <a:srgbClr val="fafd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de los Conmutadores Digitale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3197160" y="562608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475776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81328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09720" y="267804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09720" y="451332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809720" y="544212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09720" y="589932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41776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18916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919160" y="575928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497480" y="562608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7088040" y="562608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97440" y="4044960"/>
            <a:ext cx="128268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1957320" y="2922120"/>
            <a:ext cx="3859200" cy="40500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554360" y="3373200"/>
            <a:ext cx="1256040" cy="569880"/>
          </a:xfrm>
          <a:prstGeom prst="line">
            <a:avLst/>
          </a:prstGeom>
          <a:ln w="5724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535640" y="3696840"/>
            <a:ext cx="1827000" cy="608040"/>
          </a:xfrm>
          <a:prstGeom prst="line">
            <a:avLst/>
          </a:prstGeom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1963800" y="4516560"/>
            <a:ext cx="2475000" cy="11793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91320" y="2666880"/>
            <a:ext cx="1601640" cy="534960"/>
          </a:xfrm>
          <a:custGeom>
            <a:avLst/>
            <a:gdLst/>
            <a:ahLst/>
            <a:rect l="l" t="t" r="r" b="b"/>
            <a:pathLst>
              <a:path w="1009" h="337">
                <a:moveTo>
                  <a:pt x="0" y="192"/>
                </a:moveTo>
                <a:lnTo>
                  <a:pt x="336" y="0"/>
                </a:lnTo>
                <a:lnTo>
                  <a:pt x="1008" y="0"/>
                </a:lnTo>
                <a:lnTo>
                  <a:pt x="1008" y="144"/>
                </a:lnTo>
                <a:lnTo>
                  <a:pt x="0" y="336"/>
                </a:lnTo>
                <a:lnTo>
                  <a:pt x="0" y="192"/>
                </a:lnTo>
              </a:path>
            </a:pathLst>
          </a:custGeom>
          <a:solidFill>
            <a:srgbClr val="7fff00"/>
          </a:solidFill>
          <a:ln cap="rnd" w="12600">
            <a:solidFill>
              <a:srgbClr val="037c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6280" y="2637000"/>
            <a:ext cx="1609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onmut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16200000">
            <a:off x="6825960" y="2406600"/>
            <a:ext cx="139680" cy="368280"/>
          </a:xfrm>
          <a:prstGeom prst="rightArrow">
            <a:avLst>
              <a:gd name="adj1" fmla="val 75000"/>
              <a:gd name="adj2" fmla="val 50014"/>
            </a:avLst>
          </a:prstGeom>
          <a:solidFill>
            <a:srgbClr val="7fff00"/>
          </a:solidFill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836800" y="33591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51200" y="33591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836800" y="38163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51200" y="38163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36800" y="42735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51200" y="42735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65600" y="38163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922400" y="2901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36800" y="2901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51200" y="2901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665600" y="2901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580000" y="2901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494400" y="2901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08000" y="2901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39960" y="4284720"/>
            <a:ext cx="68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22400" y="33591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65600" y="33591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80000" y="33591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494400" y="33591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08000" y="33591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22400" y="38163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580000" y="38163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94400" y="38163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008000" y="38163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22400" y="42735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665600" y="42735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580000" y="42735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94400" y="42735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08000" y="42735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22400" y="47307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36800" y="47307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751200" y="47307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665600" y="47307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80000" y="47307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94400" y="47307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08000" y="47307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22400" y="5187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36800" y="5187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751200" y="5187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65600" y="5187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80000" y="5187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94400" y="5187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08000" y="5187960"/>
            <a:ext cx="901800" cy="444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onmutadores Digitales: Llamadas Procesadas por Segundo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El ATM aumenta drásticamente el número de llamadas por segundo, posibilitando transferencias de datos cortas, a alta velocidad y a un costo bajo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699" name=""/>
          <p:cNvSpPr/>
          <p:nvPr/>
        </p:nvSpPr>
        <p:spPr>
          <a:xfrm>
            <a:off x="2593800" y="584532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24040" y="585612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91000" y="584532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462800" y="2732040"/>
            <a:ext cx="1381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conmutadores dig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de circu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508880" y="4857840"/>
            <a:ext cx="109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279f"/>
                </a:solidFill>
                <a:latin typeface="Arial Narrow"/>
              </a:rPr>
              <a:t>frame 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399440" y="5522760"/>
            <a:ext cx="1554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redes de paqu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X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386480" y="3863880"/>
            <a:ext cx="1441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conmut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83480" y="2709720"/>
            <a:ext cx="876240" cy="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746840" y="4770360"/>
            <a:ext cx="825840" cy="0"/>
          </a:xfrm>
          <a:prstGeom prst="line">
            <a:avLst/>
          </a:prstGeom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738920" y="5442120"/>
            <a:ext cx="81468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72320" y="3797280"/>
            <a:ext cx="881280" cy="0"/>
          </a:xfrm>
          <a:prstGeom prst="line">
            <a:avLst/>
          </a:prstGeom>
          <a:ln w="5724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020600" y="562608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855880" y="562608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054080" y="4750920"/>
            <a:ext cx="6297480" cy="86220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906480" y="521352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6480" y="382104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906480" y="335592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06480" y="290664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906480" y="474192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06480" y="5670720"/>
            <a:ext cx="101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1600" y="2727360"/>
            <a:ext cx="464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1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1960" y="3129120"/>
            <a:ext cx="384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1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06440" y="3611520"/>
            <a:ext cx="54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100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7440" y="4089240"/>
            <a:ext cx="464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10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69880" y="4560840"/>
            <a:ext cx="384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1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1200" y="5025960"/>
            <a:ext cx="42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93640" y="5499000"/>
            <a:ext cx="343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5556240" y="2916000"/>
            <a:ext cx="1103400" cy="417240"/>
          </a:xfrm>
          <a:prstGeom prst="line">
            <a:avLst/>
          </a:prstGeom>
          <a:ln w="5724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699080" y="3925800"/>
            <a:ext cx="1979640" cy="455760"/>
          </a:xfrm>
          <a:prstGeom prst="line">
            <a:avLst/>
          </a:prstGeom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3041640" y="4668480"/>
            <a:ext cx="2322360" cy="56988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65000" y="5845320"/>
            <a:ext cx="55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673520" y="562608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502320" y="562608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91448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374796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57676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740088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118728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172080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37484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154764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12724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66076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31444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248760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02112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55428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320832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38148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93048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446400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11804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29084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487044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40396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505764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523080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79600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632952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98320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15636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667368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720720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86124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034040" y="5646600"/>
            <a:ext cx="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160" y="2462040"/>
            <a:ext cx="1228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c0128"/>
                </a:solidFill>
                <a:latin typeface="Arial Narrow"/>
              </a:rPr>
              <a:t>llamadas/s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63320" y="3135240"/>
            <a:ext cx="3404520" cy="819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- llamada de datagrama = 2 paqu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- llamada x.25 y </a:t>
            </a:r>
            <a:r>
              <a:rPr b="1" i="1" lang="es-ES_tradnl" sz="1600" spc="-1" strike="noStrike">
                <a:solidFill>
                  <a:srgbClr val="ffffff"/>
                </a:solidFill>
                <a:latin typeface="Arial Narrow"/>
              </a:rPr>
              <a:t>frame relay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= 4 paqu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- llamada ATM = 3 celdas ( !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TDM: Multiplexación Determinística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l area de carga de cada trama se  subdivide en areas más pequeña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as subdivisiones pueden ser consecutivas (como en la trama E1) o estar intercaladas bit a bit (como en la PDH) o byte a byte (como en la SDH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ada tributaria que ingresa por un puerto tiene sus bits (o bytes) mapeados en el area de carga a ella asignad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i momentaneamente no hay tráfico, su area de carga queda libre, pero no puede ser ocupada por carga de otros usuario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588960" y="4897440"/>
            <a:ext cx="1816200" cy="901800"/>
          </a:xfrm>
          <a:prstGeom prst="rect">
            <a:avLst/>
          </a:prstGeom>
          <a:gradFill rotWithShape="0">
            <a:gsLst>
              <a:gs pos="0">
                <a:srgbClr val="cf0e30"/>
              </a:gs>
              <a:gs pos="100000">
                <a:srgbClr val="8f0921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960" y="3983040"/>
            <a:ext cx="1816200" cy="901800"/>
          </a:xfrm>
          <a:prstGeom prst="rect">
            <a:avLst/>
          </a:prstGeom>
          <a:gradFill rotWithShape="0">
            <a:gsLst>
              <a:gs pos="0">
                <a:srgbClr val="cf0e30"/>
              </a:gs>
              <a:gs pos="100000">
                <a:srgbClr val="8f0921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Modo de</a:t>
            </a:r>
            <a:br>
              <a:rPr sz="2000"/>
            </a:b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88960" y="3068640"/>
            <a:ext cx="1816200" cy="901800"/>
          </a:xfrm>
          <a:prstGeom prst="rect">
            <a:avLst/>
          </a:prstGeom>
          <a:gradFill rotWithShape="0">
            <a:gsLst>
              <a:gs pos="0">
                <a:srgbClr val="cf0e30"/>
              </a:gs>
              <a:gs pos="100000">
                <a:srgbClr val="8f0921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b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88960" y="2154240"/>
            <a:ext cx="1816200" cy="901800"/>
          </a:xfrm>
          <a:prstGeom prst="rect">
            <a:avLst/>
          </a:prstGeom>
          <a:gradFill rotWithShape="0">
            <a:gsLst>
              <a:gs pos="0">
                <a:srgbClr val="cf0e30"/>
              </a:gs>
              <a:gs pos="100000">
                <a:srgbClr val="8f0921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Tem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mantenida 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lases de Servicio en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771" name=""/>
          <p:cNvSpPr/>
          <p:nvPr/>
        </p:nvSpPr>
        <p:spPr>
          <a:xfrm>
            <a:off x="3998880" y="3068640"/>
            <a:ext cx="4659480" cy="9018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919191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98880" y="1544760"/>
            <a:ext cx="1496880" cy="59688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567fe2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Cla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508720" y="1544760"/>
            <a:ext cx="1568520" cy="596880"/>
          </a:xfrm>
          <a:prstGeom prst="rect">
            <a:avLst/>
          </a:prstGeom>
          <a:gradFill rotWithShape="0">
            <a:gsLst>
              <a:gs pos="0">
                <a:srgbClr val="7099fc"/>
              </a:gs>
              <a:gs pos="100000">
                <a:srgbClr val="618ff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c3700"/>
                </a:solidFill>
                <a:latin typeface="Arial Narrow"/>
              </a:rPr>
              <a:t>Clas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089840" y="1544760"/>
            <a:ext cx="1568520" cy="596880"/>
          </a:xfrm>
          <a:prstGeom prst="rect">
            <a:avLst/>
          </a:prstGeom>
          <a:gradFill rotWithShape="0">
            <a:gsLst>
              <a:gs pos="0">
                <a:srgbClr val="c6d8fd"/>
              </a:gs>
              <a:gs pos="100000">
                <a:srgbClr val="a2c1fe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c3700"/>
                </a:solidFill>
                <a:latin typeface="Arial Narrow"/>
              </a:rPr>
              <a:t>Clas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08720" y="2154240"/>
            <a:ext cx="3149640" cy="901800"/>
          </a:xfrm>
          <a:prstGeom prst="rect">
            <a:avLst/>
          </a:prstGeom>
          <a:gradFill rotWithShape="0">
            <a:gsLst>
              <a:gs pos="0">
                <a:srgbClr val="8faffc"/>
              </a:gs>
              <a:gs pos="100000">
                <a:srgbClr val="618ff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417760" y="3983040"/>
            <a:ext cx="4659480" cy="90180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919191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orientado a 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089840" y="3983040"/>
            <a:ext cx="1568520" cy="901800"/>
          </a:xfrm>
          <a:prstGeom prst="rect">
            <a:avLst/>
          </a:prstGeom>
          <a:gradFill rotWithShape="0">
            <a:gsLst>
              <a:gs pos="0">
                <a:srgbClr val="c6d8fd"/>
              </a:gs>
              <a:gs pos="100000">
                <a:srgbClr val="a2c1fe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connection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089840" y="4897440"/>
            <a:ext cx="1568520" cy="901800"/>
          </a:xfrm>
          <a:prstGeom prst="rect">
            <a:avLst/>
          </a:prstGeom>
          <a:gradFill rotWithShape="0">
            <a:gsLst>
              <a:gs pos="0">
                <a:srgbClr val="c6d8fd"/>
              </a:gs>
              <a:gs pos="100000">
                <a:srgbClr val="a2c1fe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SM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508720" y="4897440"/>
            <a:ext cx="1568520" cy="901800"/>
          </a:xfrm>
          <a:prstGeom prst="rect">
            <a:avLst/>
          </a:prstGeom>
          <a:gradFill rotWithShape="0">
            <a:gsLst>
              <a:gs pos="0">
                <a:srgbClr val="7099fc"/>
              </a:gs>
              <a:gs pos="100000">
                <a:srgbClr val="618ff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X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98880" y="4897440"/>
            <a:ext cx="1496880" cy="90180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567fe2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video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417760" y="1544760"/>
            <a:ext cx="1568520" cy="59688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2b2b2b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Cla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17760" y="3068640"/>
            <a:ext cx="1568520" cy="9018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417760" y="4897440"/>
            <a:ext cx="1568520" cy="9018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2b2b2b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417760" y="2154240"/>
            <a:ext cx="3078000" cy="90180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17760" y="1544760"/>
            <a:ext cx="6240600" cy="425448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88960" y="2154240"/>
            <a:ext cx="1816200" cy="36450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5000"/>
              </a:lnSpc>
              <a:spcBef>
                <a:spcPts val="1125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79f"/>
                </a:solidFill>
                <a:latin typeface="Arial Narrow"/>
              </a:rPr>
              <a:t>Ejemplos:</a:t>
            </a:r>
            <a:endParaRPr b="1" lang="en-US" sz="3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1001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clase a: televisión convencional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1001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clase b: televisión codificada</a:t>
            </a:r>
            <a:br>
              <a:rPr sz="3200"/>
            </a:b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(con administración de anchura de banda)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1001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clase c: transmisión de datos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1001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clase d: datagrama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lasificación de los Servicios en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pas del Modelo ATM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412920" y="3314880"/>
          <a:ext cx="134136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314880"/>
                    <a:ext cx="13413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"/>
          <p:cNvSpPr/>
          <p:nvPr/>
        </p:nvSpPr>
        <p:spPr>
          <a:xfrm flipV="1">
            <a:off x="1527120" y="4141800"/>
            <a:ext cx="430200" cy="9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7120" y="3543480"/>
            <a:ext cx="4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298520" y="2567160"/>
            <a:ext cx="658800" cy="50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576360" y="1914480"/>
          <a:ext cx="94140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6360" y="1914480"/>
                    <a:ext cx="94140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"/>
          <p:cNvGraphicFramePr/>
          <p:nvPr/>
        </p:nvGraphicFramePr>
        <p:xfrm>
          <a:off x="527040" y="4521240"/>
          <a:ext cx="1204920" cy="83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7040" y="4521240"/>
                    <a:ext cx="12049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"/>
          <p:cNvSpPr/>
          <p:nvPr/>
        </p:nvSpPr>
        <p:spPr>
          <a:xfrm>
            <a:off x="1976400" y="1797120"/>
            <a:ext cx="1892160" cy="3797280"/>
          </a:xfrm>
          <a:custGeom>
            <a:avLst/>
            <a:gdLst>
              <a:gd name="textAreaLeft" fmla="*/ 69120 w 1892160"/>
              <a:gd name="textAreaRight" fmla="*/ 1823040 w 1892160"/>
              <a:gd name="textAreaTop" fmla="*/ 69120 h 3797280"/>
              <a:gd name="textAreaBottom" fmla="*/ 3728160 h 3797280"/>
            </a:gdLst>
            <a:ahLst/>
            <a:rect l="textAreaLeft" t="textAreaTop" r="textAreaRight" b="textAreaBottom"/>
            <a:pathLst>
              <a:path w="21600" h="43344">
                <a:moveTo>
                  <a:pt x="2697" y="0"/>
                </a:moveTo>
                <a:arcTo wR="2697" hR="2697" stAng="16200000" swAng="-5400000"/>
                <a:lnTo>
                  <a:pt x="0" y="40647"/>
                </a:lnTo>
                <a:arcTo wR="2697" hR="2697" stAng="10800000" swAng="-5400000"/>
                <a:lnTo>
                  <a:pt x="18903" y="43344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3165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81520" y="1797120"/>
            <a:ext cx="1892160" cy="3797280"/>
          </a:xfrm>
          <a:custGeom>
            <a:avLst/>
            <a:gdLst>
              <a:gd name="textAreaLeft" fmla="*/ 69120 w 1892160"/>
              <a:gd name="textAreaRight" fmla="*/ 1823040 w 1892160"/>
              <a:gd name="textAreaTop" fmla="*/ 69120 h 3797280"/>
              <a:gd name="textAreaBottom" fmla="*/ 3728160 h 3797280"/>
            </a:gdLst>
            <a:ahLst/>
            <a:rect l="textAreaLeft" t="textAreaTop" r="textAreaRight" b="textAreaBottom"/>
            <a:pathLst>
              <a:path w="21600" h="43344">
                <a:moveTo>
                  <a:pt x="2697" y="0"/>
                </a:moveTo>
                <a:arcTo wR="2697" hR="2697" stAng="16200000" swAng="-5400000"/>
                <a:lnTo>
                  <a:pt x="0" y="40647"/>
                </a:lnTo>
                <a:arcTo wR="2697" hR="2697" stAng="10800000" swAng="-5400000"/>
                <a:lnTo>
                  <a:pt x="18903" y="43344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79001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86280" y="1797120"/>
            <a:ext cx="1892520" cy="3797280"/>
          </a:xfrm>
          <a:custGeom>
            <a:avLst/>
            <a:gdLst>
              <a:gd name="textAreaLeft" fmla="*/ 69120 w 1892520"/>
              <a:gd name="textAreaRight" fmla="*/ 1823400 w 1892520"/>
              <a:gd name="textAreaTop" fmla="*/ 69120 h 3797280"/>
              <a:gd name="textAreaBottom" fmla="*/ 3728160 h 3797280"/>
            </a:gdLst>
            <a:ahLst/>
            <a:rect l="textAreaLeft" t="textAreaTop" r="textAreaRight" b="textAreaBottom"/>
            <a:pathLst>
              <a:path w="21600" h="43336">
                <a:moveTo>
                  <a:pt x="2697" y="0"/>
                </a:moveTo>
                <a:arcTo wR="2697" hR="2697" stAng="16200000" swAng="-5400000"/>
                <a:lnTo>
                  <a:pt x="0" y="40639"/>
                </a:lnTo>
                <a:arcTo wR="2697" hR="2697" stAng="10800000" swAng="-5400000"/>
                <a:lnTo>
                  <a:pt x="18903" y="43336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onversión a los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requer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e la c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í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/ ver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el 5o.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el encabe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(H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75040" y="2143080"/>
            <a:ext cx="17269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onversión al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ormato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(48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(segment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reens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124160" y="2143080"/>
            <a:ext cx="143424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gre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encabez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(4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qui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encabez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(4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14720" y="4505400"/>
            <a:ext cx="1493640" cy="911880"/>
          </a:xfrm>
          <a:prstGeom prst="rect">
            <a:avLst/>
          </a:prstGeom>
          <a:solidFill>
            <a:srgbClr val="e3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ap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dap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l ATM (A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439520" y="4809960"/>
            <a:ext cx="691920" cy="637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36360" y="4809960"/>
            <a:ext cx="714960" cy="6375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C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fí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27400" y="3467160"/>
            <a:ext cx="103968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27400" y="4305240"/>
            <a:ext cx="1039680" cy="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384800" y="3162240"/>
            <a:ext cx="1039680" cy="0"/>
          </a:xfrm>
          <a:prstGeom prst="line">
            <a:avLst/>
          </a:prstGeom>
          <a:ln w="507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232160" y="4457880"/>
            <a:ext cx="1040040" cy="0"/>
          </a:xfrm>
          <a:prstGeom prst="line">
            <a:avLst/>
          </a:prstGeom>
          <a:ln w="507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696080" y="2971800"/>
            <a:ext cx="990720" cy="1295280"/>
          </a:xfrm>
          <a:prstGeom prst="rightArrow">
            <a:avLst>
              <a:gd name="adj1" fmla="val 75000"/>
              <a:gd name="adj2" fmla="val 50014"/>
            </a:avLst>
          </a:prstGeom>
          <a:solidFill>
            <a:srgbClr val="037c03"/>
          </a:solidFill>
          <a:ln w="0">
            <a:noFill/>
          </a:ln>
          <a:effectLst>
            <a:outerShdw dist="107932" dir="2700000" blurRad="0" rotWithShape="0">
              <a:srgbClr val="7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el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 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073160" y="4970520"/>
            <a:ext cx="2044800" cy="5857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í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073160" y="4371840"/>
            <a:ext cx="2044800" cy="58608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Enlac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073160" y="3773520"/>
            <a:ext cx="2044800" cy="585720"/>
          </a:xfrm>
          <a:prstGeom prst="rect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73160" y="3173400"/>
            <a:ext cx="2044800" cy="587520"/>
          </a:xfrm>
          <a:prstGeom prst="rect">
            <a:avLst/>
          </a:prstGeom>
          <a:solidFill>
            <a:srgbClr val="bc37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073160" y="2575080"/>
            <a:ext cx="2044800" cy="5857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073160" y="1976400"/>
            <a:ext cx="2044800" cy="58572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073160" y="1378080"/>
            <a:ext cx="2044800" cy="585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38480" y="5562720"/>
            <a:ext cx="1649520" cy="0"/>
          </a:xfrm>
          <a:prstGeom prst="line">
            <a:avLst/>
          </a:prstGeom>
          <a:ln w="12600">
            <a:solidFill>
              <a:srgbClr val="037c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730760" y="5035680"/>
            <a:ext cx="3416400" cy="52056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Arial Narrow"/>
              </a:rPr>
              <a:t>Subcapa dependiente del</a:t>
            </a:r>
            <a:br>
              <a:rPr sz="1900"/>
            </a:br>
            <a:r>
              <a:rPr b="1" lang="es-ES_tradnl" sz="1900" spc="-1" strike="noStrike">
                <a:solidFill>
                  <a:srgbClr val="ffffff"/>
                </a:solidFill>
                <a:latin typeface="Arial Narrow"/>
              </a:rPr>
              <a:t>medio físico (PM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730760" y="3359160"/>
            <a:ext cx="3416400" cy="52056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Arial Narrow"/>
              </a:rPr>
              <a:t>Subcapa de segmentación</a:t>
            </a:r>
            <a:br>
              <a:rPr sz="1900"/>
            </a:br>
            <a:r>
              <a:rPr b="1" lang="es-ES_tradnl" sz="1900" spc="-1" strike="noStrike">
                <a:solidFill>
                  <a:srgbClr val="ffffff"/>
                </a:solidFill>
                <a:latin typeface="Arial Narrow"/>
              </a:rPr>
              <a:t>y reensamble (SAR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730760" y="4502160"/>
            <a:ext cx="3416400" cy="520560"/>
          </a:xfrm>
          <a:prstGeom prst="rect">
            <a:avLst/>
          </a:pr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Arial Narrow"/>
              </a:rPr>
              <a:t>Subcapa de convergenc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Arial Narrow"/>
              </a:rPr>
              <a:t>de transmisión (TC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30760" y="3892680"/>
            <a:ext cx="3416400" cy="59688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Arial Narrow"/>
              </a:rPr>
              <a:t>Capa AT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30760" y="2825640"/>
            <a:ext cx="3416400" cy="520920"/>
          </a:xfrm>
          <a:prstGeom prst="rect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Arial Narrow"/>
              </a:rPr>
              <a:t>Subcapa de convergencia</a:t>
            </a:r>
            <a:br>
              <a:rPr sz="1900"/>
            </a:br>
            <a:r>
              <a:rPr b="1" lang="es-ES_tradnl" sz="1900" spc="-1" strike="noStrike">
                <a:solidFill>
                  <a:srgbClr val="ffffff"/>
                </a:solidFill>
                <a:latin typeface="Arial Narrow"/>
              </a:rPr>
              <a:t> (C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138480" y="2808000"/>
            <a:ext cx="1573200" cy="1547640"/>
          </a:xfrm>
          <a:prstGeom prst="line">
            <a:avLst/>
          </a:prstGeom>
          <a:ln w="12600">
            <a:solidFill>
              <a:srgbClr val="ad6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133480" y="4848120"/>
            <a:ext cx="60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37c03"/>
                </a:solidFill>
                <a:latin typeface="Arial Narrow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131680" y="4010040"/>
            <a:ext cx="63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e9b03"/>
                </a:solidFill>
                <a:latin typeface="Arial Narrow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132040" y="3171960"/>
            <a:ext cx="61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d6900"/>
                </a:solidFill>
                <a:latin typeface="Arial Narrow"/>
              </a:rPr>
              <a:t>A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390640" y="5805360"/>
            <a:ext cx="16930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9234db"/>
                </a:solidFill>
                <a:latin typeface="Arial Narrow"/>
              </a:rPr>
              <a:t>Protocolos AT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88480" y="5762520"/>
            <a:ext cx="268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234db"/>
                </a:solidFill>
                <a:latin typeface="Arial Narrow"/>
              </a:rPr>
              <a:t>Modelo de referencia 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57040" y="1343160"/>
            <a:ext cx="4127040" cy="11862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No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AAL: Capa de Adaptación al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ATM: Modo de Transferencia Asínc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PHY: Fí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pas del Modelo ATM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Modelo Funcional de la RDSI de Banda Ancha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834" name=""/>
          <p:cNvSpPr/>
          <p:nvPr/>
        </p:nvSpPr>
        <p:spPr>
          <a:xfrm>
            <a:off x="6811920" y="1378080"/>
            <a:ext cx="1868400" cy="358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apas superi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81040" y="1378080"/>
            <a:ext cx="5318280" cy="358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funciones de las capas superi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481040" y="1749600"/>
            <a:ext cx="5318280" cy="634680"/>
          </a:xfrm>
          <a:prstGeom prst="rect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onverg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81040" y="2397240"/>
            <a:ext cx="5318280" cy="449280"/>
          </a:xfrm>
          <a:prstGeom prst="rect">
            <a:avLst/>
          </a:prstGeom>
          <a:solidFill>
            <a:srgbClr val="7144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egmentación y reensam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81040" y="2859120"/>
            <a:ext cx="5318280" cy="11001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ontrol genérico de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generación / extracción del encabezadode la ce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aducción del VPI / VCI de la ce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multiplexación / demultiplexación de cel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481040" y="3971880"/>
            <a:ext cx="5318280" cy="12844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sacople de la tasa de cel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generación / verificación del HEC (por CR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sincronización de cel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adaptación de las tramas de trans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generación / recuperación de las tramas de trans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481040" y="5268960"/>
            <a:ext cx="5318280" cy="8208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reloj de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medi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39640" y="1378080"/>
            <a:ext cx="928800" cy="471168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100000">
                <a:srgbClr val="00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d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11920" y="2397240"/>
            <a:ext cx="1006560" cy="449280"/>
          </a:xfrm>
          <a:prstGeom prst="rect">
            <a:avLst/>
          </a:prstGeom>
          <a:solidFill>
            <a:srgbClr val="7144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811920" y="1749600"/>
            <a:ext cx="1006560" cy="634680"/>
          </a:xfrm>
          <a:prstGeom prst="rect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31080" y="1749600"/>
            <a:ext cx="849240" cy="1096920"/>
          </a:xfrm>
          <a:prstGeom prst="rect">
            <a:avLst/>
          </a:prstGeom>
          <a:gradFill rotWithShape="0">
            <a:gsLst>
              <a:gs pos="0">
                <a:srgbClr val="a98e65"/>
              </a:gs>
              <a:gs pos="100000">
                <a:srgbClr val="7144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11920" y="2859120"/>
            <a:ext cx="1868400" cy="110016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11920" y="3971880"/>
            <a:ext cx="1006560" cy="1284480"/>
          </a:xfrm>
          <a:prstGeom prst="rect">
            <a:avLst/>
          </a:prstGeom>
          <a:solidFill>
            <a:srgbClr val="7b00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11920" y="5268960"/>
            <a:ext cx="1006560" cy="820800"/>
          </a:xfrm>
          <a:prstGeom prst="rect">
            <a:avLst/>
          </a:prstGeom>
          <a:solidFill>
            <a:srgbClr val="5000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831080" y="3971880"/>
            <a:ext cx="849240" cy="2117880"/>
          </a:xfrm>
          <a:prstGeom prst="rect">
            <a:avLst/>
          </a:prstGeom>
          <a:gradFill rotWithShape="0">
            <a:gsLst>
              <a:gs pos="0">
                <a:srgbClr val="9565bd"/>
              </a:gs>
              <a:gs pos="100000">
                <a:srgbClr val="50009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c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La Capa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6224760" y="4038480"/>
            <a:ext cx="81108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681960" y="2643120"/>
            <a:ext cx="811080" cy="81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28920" y="2109960"/>
            <a:ext cx="2792520" cy="277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 flipV="1">
            <a:off x="1703160" y="3456000"/>
            <a:ext cx="1090440" cy="480960"/>
          </a:xfrm>
          <a:prstGeom prst="line">
            <a:avLst/>
          </a:prstGeom>
          <a:ln w="507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1881360" y="2236680"/>
            <a:ext cx="658800" cy="1090800"/>
          </a:xfrm>
          <a:prstGeom prst="line">
            <a:avLst/>
          </a:prstGeom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76440" y="1271520"/>
            <a:ext cx="963720" cy="658800"/>
          </a:xfrm>
          <a:prstGeom prst="line">
            <a:avLst/>
          </a:prstGeom>
          <a:ln w="50760">
            <a:solidFill>
              <a:srgbClr val="b50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48120" y="4091040"/>
            <a:ext cx="0" cy="430200"/>
          </a:xfrm>
          <a:prstGeom prst="line">
            <a:avLst/>
          </a:prstGeom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85720" y="4952880"/>
            <a:ext cx="2030400" cy="0"/>
          </a:xfrm>
          <a:prstGeom prst="line">
            <a:avLst/>
          </a:prstGeom>
          <a:ln w="507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125080" y="329400"/>
            <a:ext cx="4360320" cy="63612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Interfaces de Red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500040" y="533520"/>
          <a:ext cx="134136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533520"/>
                    <a:ext cx="13413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2527200" y="4535640"/>
          <a:ext cx="114300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7200" y="4535640"/>
                    <a:ext cx="11430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1120680" y="2960640"/>
          <a:ext cx="800280" cy="83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20680" y="2960640"/>
                    <a:ext cx="800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576360" y="4419720"/>
          <a:ext cx="1341360" cy="85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6360" y="4419720"/>
                    <a:ext cx="134136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"/>
          <p:cNvSpPr/>
          <p:nvPr/>
        </p:nvSpPr>
        <p:spPr>
          <a:xfrm>
            <a:off x="1655640" y="4702320"/>
            <a:ext cx="689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2652840" y="3659040"/>
          <a:ext cx="71892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52840" y="3659040"/>
                    <a:ext cx="7189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>
            <a:off x="3102480" y="4148280"/>
            <a:ext cx="783360" cy="280440"/>
          </a:xfrm>
          <a:prstGeom prst="rect">
            <a:avLst/>
          </a:prstGeom>
          <a:solidFill>
            <a:srgbClr val="f7c7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DXI 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643480" y="5214960"/>
            <a:ext cx="921960" cy="471960"/>
          </a:xfrm>
          <a:prstGeom prst="rect">
            <a:avLst/>
          </a:prstGeom>
          <a:solidFill>
            <a:srgbClr val="fd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Enrutador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 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30720" y="3691080"/>
            <a:ext cx="847440" cy="280440"/>
          </a:xfrm>
          <a:prstGeom prst="rect">
            <a:avLst/>
          </a:prstGeom>
          <a:solidFill>
            <a:srgbClr val="fd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DSU 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2568600" y="1665360"/>
          <a:ext cx="799920" cy="83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68600" y="1665360"/>
                    <a:ext cx="79992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"/>
          <p:cNvSpPr/>
          <p:nvPr/>
        </p:nvSpPr>
        <p:spPr>
          <a:xfrm>
            <a:off x="1352160" y="1633680"/>
            <a:ext cx="783360" cy="471960"/>
          </a:xfrm>
          <a:prstGeom prst="rect">
            <a:avLst/>
          </a:prstGeom>
          <a:solidFill>
            <a:srgbClr val="f7c7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UNI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 priva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153880" y="2700360"/>
            <a:ext cx="701280" cy="471960"/>
          </a:xfrm>
          <a:prstGeom prst="rect">
            <a:avLst/>
          </a:prstGeom>
          <a:solidFill>
            <a:srgbClr val="f7c7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NNI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priv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53920" y="3843360"/>
            <a:ext cx="742320" cy="471960"/>
          </a:xfrm>
          <a:prstGeom prst="rect">
            <a:avLst/>
          </a:prstGeom>
          <a:solidFill>
            <a:srgbClr val="f7c7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UNI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 priv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81120" y="1100160"/>
            <a:ext cx="1092960" cy="471960"/>
          </a:xfrm>
          <a:prstGeom prst="rect">
            <a:avLst/>
          </a:prstGeom>
          <a:solidFill>
            <a:srgbClr val="fd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onmutador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 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98240" y="2471760"/>
            <a:ext cx="1092960" cy="471960"/>
          </a:xfrm>
          <a:prstGeom prst="rect">
            <a:avLst/>
          </a:prstGeom>
          <a:solidFill>
            <a:srgbClr val="fd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onmutador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 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6226200" y="2046240"/>
          <a:ext cx="799920" cy="83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6200" y="2046240"/>
                    <a:ext cx="7999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"/>
          <p:cNvGraphicFramePr/>
          <p:nvPr/>
        </p:nvGraphicFramePr>
        <p:xfrm>
          <a:off x="7064280" y="3494160"/>
          <a:ext cx="800280" cy="831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64280" y="3494160"/>
                    <a:ext cx="80028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"/>
          <p:cNvSpPr/>
          <p:nvPr/>
        </p:nvSpPr>
        <p:spPr>
          <a:xfrm>
            <a:off x="4626000" y="1938240"/>
            <a:ext cx="1028880" cy="280440"/>
          </a:xfrm>
          <a:prstGeom prst="rect">
            <a:avLst/>
          </a:prstGeom>
          <a:solidFill>
            <a:srgbClr val="f7c7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UNI públ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149960" y="2014560"/>
            <a:ext cx="1051560" cy="663480"/>
          </a:xfrm>
          <a:prstGeom prst="rect">
            <a:avLst/>
          </a:prstGeom>
          <a:solidFill>
            <a:srgbClr val="fd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onmut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83120" y="4300560"/>
            <a:ext cx="1051560" cy="663480"/>
          </a:xfrm>
          <a:prstGeom prst="rect">
            <a:avLst/>
          </a:prstGeom>
          <a:solidFill>
            <a:srgbClr val="fd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onmut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654440" y="3763800"/>
            <a:ext cx="2233800" cy="1924200"/>
          </a:xfrm>
          <a:custGeom>
            <a:avLst/>
            <a:gdLst/>
            <a:ahLst/>
            <a:rect l="l" t="t" r="r" b="b"/>
            <a:pathLst>
              <a:path w="1407" h="1212">
                <a:moveTo>
                  <a:pt x="224" y="287"/>
                </a:moveTo>
                <a:lnTo>
                  <a:pt x="235" y="254"/>
                </a:lnTo>
                <a:lnTo>
                  <a:pt x="253" y="219"/>
                </a:lnTo>
                <a:lnTo>
                  <a:pt x="281" y="193"/>
                </a:lnTo>
                <a:lnTo>
                  <a:pt x="316" y="170"/>
                </a:lnTo>
                <a:lnTo>
                  <a:pt x="345" y="159"/>
                </a:lnTo>
                <a:lnTo>
                  <a:pt x="381" y="146"/>
                </a:lnTo>
                <a:lnTo>
                  <a:pt x="435" y="141"/>
                </a:lnTo>
                <a:lnTo>
                  <a:pt x="488" y="146"/>
                </a:lnTo>
                <a:lnTo>
                  <a:pt x="537" y="160"/>
                </a:lnTo>
                <a:lnTo>
                  <a:pt x="573" y="177"/>
                </a:lnTo>
                <a:lnTo>
                  <a:pt x="594" y="121"/>
                </a:lnTo>
                <a:lnTo>
                  <a:pt x="621" y="79"/>
                </a:lnTo>
                <a:lnTo>
                  <a:pt x="659" y="44"/>
                </a:lnTo>
                <a:lnTo>
                  <a:pt x="708" y="20"/>
                </a:lnTo>
                <a:lnTo>
                  <a:pt x="768" y="1"/>
                </a:lnTo>
                <a:lnTo>
                  <a:pt x="826" y="0"/>
                </a:lnTo>
                <a:lnTo>
                  <a:pt x="879" y="10"/>
                </a:lnTo>
                <a:lnTo>
                  <a:pt x="937" y="31"/>
                </a:lnTo>
                <a:lnTo>
                  <a:pt x="982" y="69"/>
                </a:lnTo>
                <a:lnTo>
                  <a:pt x="1014" y="106"/>
                </a:lnTo>
                <a:lnTo>
                  <a:pt x="1035" y="142"/>
                </a:lnTo>
                <a:lnTo>
                  <a:pt x="1039" y="188"/>
                </a:lnTo>
                <a:lnTo>
                  <a:pt x="1081" y="173"/>
                </a:lnTo>
                <a:lnTo>
                  <a:pt x="1129" y="179"/>
                </a:lnTo>
                <a:lnTo>
                  <a:pt x="1169" y="193"/>
                </a:lnTo>
                <a:lnTo>
                  <a:pt x="1204" y="226"/>
                </a:lnTo>
                <a:lnTo>
                  <a:pt x="1229" y="267"/>
                </a:lnTo>
                <a:lnTo>
                  <a:pt x="1239" y="314"/>
                </a:lnTo>
                <a:lnTo>
                  <a:pt x="1238" y="348"/>
                </a:lnTo>
                <a:lnTo>
                  <a:pt x="1261" y="345"/>
                </a:lnTo>
                <a:lnTo>
                  <a:pt x="1290" y="354"/>
                </a:lnTo>
                <a:lnTo>
                  <a:pt x="1320" y="370"/>
                </a:lnTo>
                <a:lnTo>
                  <a:pt x="1343" y="388"/>
                </a:lnTo>
                <a:lnTo>
                  <a:pt x="1359" y="404"/>
                </a:lnTo>
                <a:lnTo>
                  <a:pt x="1373" y="426"/>
                </a:lnTo>
                <a:lnTo>
                  <a:pt x="1388" y="452"/>
                </a:lnTo>
                <a:lnTo>
                  <a:pt x="1396" y="485"/>
                </a:lnTo>
                <a:lnTo>
                  <a:pt x="1398" y="509"/>
                </a:lnTo>
                <a:lnTo>
                  <a:pt x="1394" y="535"/>
                </a:lnTo>
                <a:lnTo>
                  <a:pt x="1384" y="568"/>
                </a:lnTo>
                <a:lnTo>
                  <a:pt x="1396" y="602"/>
                </a:lnTo>
                <a:lnTo>
                  <a:pt x="1402" y="632"/>
                </a:lnTo>
                <a:lnTo>
                  <a:pt x="1405" y="666"/>
                </a:lnTo>
                <a:lnTo>
                  <a:pt x="1398" y="707"/>
                </a:lnTo>
                <a:lnTo>
                  <a:pt x="1392" y="732"/>
                </a:lnTo>
                <a:lnTo>
                  <a:pt x="1377" y="761"/>
                </a:lnTo>
                <a:lnTo>
                  <a:pt x="1398" y="802"/>
                </a:lnTo>
                <a:lnTo>
                  <a:pt x="1405" y="828"/>
                </a:lnTo>
                <a:lnTo>
                  <a:pt x="1406" y="866"/>
                </a:lnTo>
                <a:lnTo>
                  <a:pt x="1402" y="902"/>
                </a:lnTo>
                <a:lnTo>
                  <a:pt x="1389" y="944"/>
                </a:lnTo>
                <a:lnTo>
                  <a:pt x="1373" y="974"/>
                </a:lnTo>
                <a:lnTo>
                  <a:pt x="1348" y="1002"/>
                </a:lnTo>
                <a:lnTo>
                  <a:pt x="1306" y="1029"/>
                </a:lnTo>
                <a:lnTo>
                  <a:pt x="1261" y="1039"/>
                </a:lnTo>
                <a:lnTo>
                  <a:pt x="1221" y="1031"/>
                </a:lnTo>
                <a:lnTo>
                  <a:pt x="1195" y="1016"/>
                </a:lnTo>
                <a:lnTo>
                  <a:pt x="1176" y="1046"/>
                </a:lnTo>
                <a:lnTo>
                  <a:pt x="1157" y="1069"/>
                </a:lnTo>
                <a:lnTo>
                  <a:pt x="1140" y="1083"/>
                </a:lnTo>
                <a:lnTo>
                  <a:pt x="1108" y="1103"/>
                </a:lnTo>
                <a:lnTo>
                  <a:pt x="1081" y="1116"/>
                </a:lnTo>
                <a:lnTo>
                  <a:pt x="1039" y="1126"/>
                </a:lnTo>
                <a:lnTo>
                  <a:pt x="998" y="1124"/>
                </a:lnTo>
                <a:lnTo>
                  <a:pt x="958" y="1111"/>
                </a:lnTo>
                <a:lnTo>
                  <a:pt x="923" y="1088"/>
                </a:lnTo>
                <a:lnTo>
                  <a:pt x="903" y="1128"/>
                </a:lnTo>
                <a:lnTo>
                  <a:pt x="883" y="1151"/>
                </a:lnTo>
                <a:lnTo>
                  <a:pt x="858" y="1170"/>
                </a:lnTo>
                <a:lnTo>
                  <a:pt x="829" y="1186"/>
                </a:lnTo>
                <a:lnTo>
                  <a:pt x="795" y="1193"/>
                </a:lnTo>
                <a:lnTo>
                  <a:pt x="765" y="1193"/>
                </a:lnTo>
                <a:lnTo>
                  <a:pt x="736" y="1186"/>
                </a:lnTo>
                <a:lnTo>
                  <a:pt x="699" y="1165"/>
                </a:lnTo>
                <a:lnTo>
                  <a:pt x="679" y="1145"/>
                </a:lnTo>
                <a:lnTo>
                  <a:pt x="659" y="1170"/>
                </a:lnTo>
                <a:lnTo>
                  <a:pt x="638" y="1186"/>
                </a:lnTo>
                <a:lnTo>
                  <a:pt x="613" y="1200"/>
                </a:lnTo>
                <a:lnTo>
                  <a:pt x="577" y="1211"/>
                </a:lnTo>
                <a:lnTo>
                  <a:pt x="540" y="1208"/>
                </a:lnTo>
                <a:lnTo>
                  <a:pt x="500" y="1196"/>
                </a:lnTo>
                <a:lnTo>
                  <a:pt x="472" y="1177"/>
                </a:lnTo>
                <a:lnTo>
                  <a:pt x="444" y="1144"/>
                </a:lnTo>
                <a:lnTo>
                  <a:pt x="427" y="1111"/>
                </a:lnTo>
                <a:lnTo>
                  <a:pt x="398" y="1122"/>
                </a:lnTo>
                <a:lnTo>
                  <a:pt x="364" y="1131"/>
                </a:lnTo>
                <a:lnTo>
                  <a:pt x="324" y="1128"/>
                </a:lnTo>
                <a:lnTo>
                  <a:pt x="289" y="1113"/>
                </a:lnTo>
                <a:lnTo>
                  <a:pt x="263" y="1092"/>
                </a:lnTo>
                <a:lnTo>
                  <a:pt x="241" y="1069"/>
                </a:lnTo>
                <a:lnTo>
                  <a:pt x="223" y="1036"/>
                </a:lnTo>
                <a:lnTo>
                  <a:pt x="218" y="1002"/>
                </a:lnTo>
                <a:lnTo>
                  <a:pt x="199" y="1010"/>
                </a:lnTo>
                <a:lnTo>
                  <a:pt x="167" y="1012"/>
                </a:lnTo>
                <a:lnTo>
                  <a:pt x="131" y="1002"/>
                </a:lnTo>
                <a:lnTo>
                  <a:pt x="95" y="979"/>
                </a:lnTo>
                <a:lnTo>
                  <a:pt x="69" y="948"/>
                </a:lnTo>
                <a:lnTo>
                  <a:pt x="49" y="907"/>
                </a:lnTo>
                <a:lnTo>
                  <a:pt x="36" y="866"/>
                </a:lnTo>
                <a:lnTo>
                  <a:pt x="32" y="808"/>
                </a:lnTo>
                <a:lnTo>
                  <a:pt x="33" y="769"/>
                </a:lnTo>
                <a:lnTo>
                  <a:pt x="45" y="712"/>
                </a:lnTo>
                <a:lnTo>
                  <a:pt x="19" y="679"/>
                </a:lnTo>
                <a:lnTo>
                  <a:pt x="7" y="636"/>
                </a:lnTo>
                <a:lnTo>
                  <a:pt x="0" y="591"/>
                </a:lnTo>
                <a:lnTo>
                  <a:pt x="0" y="543"/>
                </a:lnTo>
                <a:lnTo>
                  <a:pt x="8" y="493"/>
                </a:lnTo>
                <a:lnTo>
                  <a:pt x="25" y="455"/>
                </a:lnTo>
                <a:lnTo>
                  <a:pt x="53" y="414"/>
                </a:lnTo>
                <a:lnTo>
                  <a:pt x="82" y="383"/>
                </a:lnTo>
                <a:lnTo>
                  <a:pt x="117" y="354"/>
                </a:lnTo>
                <a:lnTo>
                  <a:pt x="161" y="334"/>
                </a:lnTo>
                <a:lnTo>
                  <a:pt x="203" y="322"/>
                </a:lnTo>
                <a:lnTo>
                  <a:pt x="223" y="318"/>
                </a:lnTo>
                <a:lnTo>
                  <a:pt x="224" y="287"/>
                </a:lnTo>
              </a:path>
            </a:pathLst>
          </a:custGeom>
          <a:solidFill>
            <a:srgbClr val="c0fef9"/>
          </a:solidFill>
          <a:ln cap="rnd" w="1260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4890960" y="4148280"/>
            <a:ext cx="1468440" cy="1331640"/>
            <a:chOff x="4890960" y="4148280"/>
            <a:chExt cx="1468440" cy="1331640"/>
          </a:xfrm>
        </p:grpSpPr>
        <p:sp>
          <p:nvSpPr>
            <p:cNvPr id="889" name=""/>
            <p:cNvSpPr/>
            <p:nvPr/>
          </p:nvSpPr>
          <p:spPr>
            <a:xfrm flipV="1">
              <a:off x="5310360" y="4370040"/>
              <a:ext cx="7347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0" name=""/>
            <p:cNvGraphicFramePr/>
            <p:nvPr/>
          </p:nvGraphicFramePr>
          <p:xfrm>
            <a:off x="5958000" y="4148280"/>
            <a:ext cx="401400" cy="417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958000" y="4148280"/>
                      <a:ext cx="40140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2" name=""/>
            <p:cNvSpPr/>
            <p:nvPr/>
          </p:nvSpPr>
          <p:spPr>
            <a:xfrm>
              <a:off x="5234040" y="4853160"/>
              <a:ext cx="582480" cy="430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3" name=""/>
            <p:cNvGraphicFramePr/>
            <p:nvPr/>
          </p:nvGraphicFramePr>
          <p:xfrm>
            <a:off x="4890960" y="4452840"/>
            <a:ext cx="401760" cy="417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9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890960" y="4452840"/>
                      <a:ext cx="4017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5" name=""/>
            <p:cNvSpPr/>
            <p:nvPr/>
          </p:nvSpPr>
          <p:spPr>
            <a:xfrm flipH="1">
              <a:off x="6046560" y="4624560"/>
              <a:ext cx="176040" cy="430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6" name=""/>
            <p:cNvGraphicFramePr/>
            <p:nvPr/>
          </p:nvGraphicFramePr>
          <p:xfrm>
            <a:off x="5805360" y="5062680"/>
            <a:ext cx="401760" cy="4172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89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805360" y="5062680"/>
                      <a:ext cx="40176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8" name=""/>
          <p:cNvSpPr/>
          <p:nvPr/>
        </p:nvSpPr>
        <p:spPr>
          <a:xfrm>
            <a:off x="7216920" y="2928960"/>
            <a:ext cx="987480" cy="280440"/>
          </a:xfrm>
          <a:prstGeom prst="rect">
            <a:avLst/>
          </a:pr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NNI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788640" y="5533920"/>
            <a:ext cx="611280" cy="363240"/>
          </a:xfrm>
          <a:prstGeom prst="rect">
            <a:avLst/>
          </a:prstGeom>
          <a:solidFill>
            <a:srgbClr val="dc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475160" y="5533920"/>
            <a:ext cx="679680" cy="363240"/>
          </a:xfrm>
          <a:prstGeom prst="rect">
            <a:avLst/>
          </a:prstGeom>
          <a:solidFill>
            <a:srgbClr val="dc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W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95680" y="928800"/>
            <a:ext cx="0" cy="4925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176800" y="1079640"/>
            <a:ext cx="3514680" cy="745560"/>
          </a:xfrm>
          <a:prstGeom prst="rect">
            <a:avLst/>
          </a:prstGeom>
          <a:solidFill>
            <a:srgbClr val="e3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- Interfaz Usuario-Red (UN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- Interfaz de Nodo de Red (NN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- Interfaz de Conmutación de Datos (DX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1143000" y="1981080"/>
            <a:ext cx="4573440" cy="1144800"/>
          </a:xfrm>
          <a:custGeom>
            <a:avLst/>
            <a:gdLst/>
            <a:ahLst/>
            <a:rect l="l" t="t" r="r" b="b"/>
            <a:pathLst>
              <a:path w="2881" h="721">
                <a:moveTo>
                  <a:pt x="1680" y="0"/>
                </a:moveTo>
                <a:lnTo>
                  <a:pt x="0" y="720"/>
                </a:lnTo>
                <a:lnTo>
                  <a:pt x="2880" y="720"/>
                </a:lnTo>
                <a:lnTo>
                  <a:pt x="1920" y="0"/>
                </a:lnTo>
                <a:lnTo>
                  <a:pt x="1680" y="0"/>
                </a:lnTo>
              </a:path>
            </a:pathLst>
          </a:custGeom>
          <a:solidFill>
            <a:srgbClr val="fd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81080" y="3657600"/>
            <a:ext cx="3888000" cy="1476360"/>
          </a:xfrm>
          <a:custGeom>
            <a:avLst/>
            <a:gdLst/>
            <a:ahLst/>
            <a:rect l="l" t="t" r="r" b="b"/>
            <a:pathLst>
              <a:path w="2449" h="930">
                <a:moveTo>
                  <a:pt x="1488" y="0"/>
                </a:moveTo>
                <a:lnTo>
                  <a:pt x="0" y="929"/>
                </a:lnTo>
                <a:lnTo>
                  <a:pt x="2448" y="912"/>
                </a:lnTo>
                <a:lnTo>
                  <a:pt x="1776" y="0"/>
                </a:lnTo>
                <a:lnTo>
                  <a:pt x="1488" y="0"/>
                </a:lnTo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521080" y="3130560"/>
            <a:ext cx="1815840" cy="52056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50000">
                <a:srgbClr val="edee7d"/>
              </a:gs>
              <a:gs pos="100000">
                <a:srgbClr val="eaec5e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807080" y="3130560"/>
            <a:ext cx="901440" cy="52056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50000">
                <a:srgbClr val="65d2c8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H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349880" y="3130560"/>
            <a:ext cx="444240" cy="52056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c7c7c7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P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C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149480" y="3130560"/>
            <a:ext cx="1358640" cy="520560"/>
          </a:xfrm>
          <a:prstGeom prst="rect">
            <a:avLst/>
          </a:prstGeom>
          <a:gradFill rotWithShape="0">
            <a:gsLst>
              <a:gs pos="0">
                <a:srgbClr val="fdc0e5"/>
              </a:gs>
              <a:gs pos="50000">
                <a:srgbClr val="fcd8ee"/>
              </a:gs>
              <a:gs pos="100000">
                <a:srgbClr val="fdc0e5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V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95880" y="2286000"/>
            <a:ext cx="2438640" cy="3581280"/>
          </a:xfrm>
          <a:custGeom>
            <a:avLst/>
            <a:gdLst>
              <a:gd name="textAreaLeft" fmla="*/ 88920 w 2438640"/>
              <a:gd name="textAreaRight" fmla="*/ 2349720 w 2438640"/>
              <a:gd name="textAreaTop" fmla="*/ 88920 h 3581280"/>
              <a:gd name="textAreaBottom" fmla="*/ 3492360 h 3581280"/>
            </a:gdLst>
            <a:ahLst/>
            <a:rect l="textAreaLeft" t="textAreaTop" r="textAreaRight" b="textAreaBottom"/>
            <a:pathLst>
              <a:path w="21600" h="31719">
                <a:moveTo>
                  <a:pt x="2697" y="0"/>
                </a:moveTo>
                <a:arcTo wR="2697" hR="2697" stAng="16200000" swAng="-5400000"/>
                <a:lnTo>
                  <a:pt x="0" y="29022"/>
                </a:lnTo>
                <a:arcTo wR="2697" hR="2697" stAng="10800000" swAng="-5400000"/>
                <a:lnTo>
                  <a:pt x="18903" y="31719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790800" y="1344600"/>
            <a:ext cx="4822920" cy="641520"/>
          </a:xfrm>
          <a:custGeom>
            <a:avLst/>
            <a:gdLst/>
            <a:ahLst/>
            <a:rect l="l" t="t" r="r" b="b"/>
            <a:pathLst>
              <a:path w="3038" h="404">
                <a:moveTo>
                  <a:pt x="0" y="0"/>
                </a:moveTo>
                <a:lnTo>
                  <a:pt x="3037" y="0"/>
                </a:lnTo>
                <a:lnTo>
                  <a:pt x="3037" y="403"/>
                </a:lnTo>
                <a:lnTo>
                  <a:pt x="0" y="40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8db1"/>
              </a:gs>
              <a:gs pos="50000">
                <a:srgbClr val="00ccff"/>
              </a:gs>
              <a:gs pos="100000">
                <a:srgbClr val="008d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790800" y="1349280"/>
            <a:ext cx="436680" cy="641520"/>
          </a:xfrm>
          <a:custGeom>
            <a:avLst/>
            <a:gdLst/>
            <a:ahLst/>
            <a:rect l="l" t="t" r="r" b="b"/>
            <a:pathLst>
              <a:path w="275" h="404">
                <a:moveTo>
                  <a:pt x="0" y="0"/>
                </a:moveTo>
                <a:lnTo>
                  <a:pt x="274" y="0"/>
                </a:lnTo>
                <a:lnTo>
                  <a:pt x="274" y="403"/>
                </a:lnTo>
                <a:lnTo>
                  <a:pt x="0" y="40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f859f"/>
              </a:gs>
              <a:gs pos="50000">
                <a:srgbClr val="fdc0e5"/>
              </a:gs>
              <a:gs pos="100000">
                <a:srgbClr val="af85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052720" y="2813040"/>
            <a:ext cx="4680" cy="852480"/>
          </a:xfrm>
          <a:custGeom>
            <a:avLst/>
            <a:gdLst/>
            <a:ahLst/>
            <a:rect l="l" t="t" r="r" b="b"/>
            <a:pathLst>
              <a:path w="3" h="537">
                <a:moveTo>
                  <a:pt x="1" y="536"/>
                </a:moveTo>
                <a:lnTo>
                  <a:pt x="2" y="536"/>
                </a:lnTo>
                <a:lnTo>
                  <a:pt x="2" y="0"/>
                </a:lnTo>
                <a:lnTo>
                  <a:pt x="0" y="0"/>
                </a:lnTo>
                <a:lnTo>
                  <a:pt x="0" y="536"/>
                </a:lnTo>
                <a:lnTo>
                  <a:pt x="1" y="536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965320" y="2813040"/>
            <a:ext cx="3240" cy="852480"/>
          </a:xfrm>
          <a:custGeom>
            <a:avLst/>
            <a:gdLst/>
            <a:ahLst/>
            <a:rect l="l" t="t" r="r" b="b"/>
            <a:pathLst>
              <a:path w="2" h="537">
                <a:moveTo>
                  <a:pt x="1" y="536"/>
                </a:moveTo>
                <a:lnTo>
                  <a:pt x="1" y="0"/>
                </a:lnTo>
                <a:lnTo>
                  <a:pt x="0" y="0"/>
                </a:lnTo>
                <a:lnTo>
                  <a:pt x="0" y="536"/>
                </a:lnTo>
                <a:lnTo>
                  <a:pt x="1" y="536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76840" y="2813040"/>
            <a:ext cx="4680" cy="852480"/>
          </a:xfrm>
          <a:custGeom>
            <a:avLst/>
            <a:gdLst/>
            <a:ahLst/>
            <a:rect l="l" t="t" r="r" b="b"/>
            <a:pathLst>
              <a:path w="3" h="537">
                <a:moveTo>
                  <a:pt x="1" y="536"/>
                </a:moveTo>
                <a:lnTo>
                  <a:pt x="2" y="536"/>
                </a:lnTo>
                <a:lnTo>
                  <a:pt x="2" y="0"/>
                </a:lnTo>
                <a:lnTo>
                  <a:pt x="0" y="0"/>
                </a:lnTo>
                <a:lnTo>
                  <a:pt x="0" y="536"/>
                </a:lnTo>
                <a:lnTo>
                  <a:pt x="1" y="536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789440" y="2813040"/>
            <a:ext cx="4680" cy="852480"/>
          </a:xfrm>
          <a:custGeom>
            <a:avLst/>
            <a:gdLst/>
            <a:ahLst/>
            <a:rect l="l" t="t" r="r" b="b"/>
            <a:pathLst>
              <a:path w="3" h="537">
                <a:moveTo>
                  <a:pt x="1" y="536"/>
                </a:moveTo>
                <a:lnTo>
                  <a:pt x="2" y="536"/>
                </a:lnTo>
                <a:lnTo>
                  <a:pt x="2" y="0"/>
                </a:lnTo>
                <a:lnTo>
                  <a:pt x="0" y="0"/>
                </a:lnTo>
                <a:lnTo>
                  <a:pt x="0" y="536"/>
                </a:lnTo>
                <a:lnTo>
                  <a:pt x="1" y="536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47680" y="3733920"/>
            <a:ext cx="1343160" cy="106200"/>
          </a:xfrm>
          <a:custGeom>
            <a:avLst/>
            <a:gdLst/>
            <a:ahLst/>
            <a:rect l="l" t="t" r="r" b="b"/>
            <a:pathLst>
              <a:path w="846" h="67">
                <a:moveTo>
                  <a:pt x="432" y="66"/>
                </a:moveTo>
                <a:lnTo>
                  <a:pt x="412" y="66"/>
                </a:lnTo>
                <a:lnTo>
                  <a:pt x="409" y="63"/>
                </a:lnTo>
                <a:lnTo>
                  <a:pt x="405" y="60"/>
                </a:lnTo>
                <a:lnTo>
                  <a:pt x="401" y="56"/>
                </a:lnTo>
                <a:lnTo>
                  <a:pt x="396" y="54"/>
                </a:lnTo>
                <a:lnTo>
                  <a:pt x="392" y="51"/>
                </a:lnTo>
                <a:lnTo>
                  <a:pt x="386" y="50"/>
                </a:lnTo>
                <a:lnTo>
                  <a:pt x="380" y="47"/>
                </a:lnTo>
                <a:lnTo>
                  <a:pt x="375" y="46"/>
                </a:lnTo>
                <a:lnTo>
                  <a:pt x="368" y="44"/>
                </a:lnTo>
                <a:lnTo>
                  <a:pt x="360" y="43"/>
                </a:lnTo>
                <a:lnTo>
                  <a:pt x="353" y="42"/>
                </a:lnTo>
                <a:lnTo>
                  <a:pt x="345" y="41"/>
                </a:lnTo>
                <a:lnTo>
                  <a:pt x="338" y="40"/>
                </a:lnTo>
                <a:lnTo>
                  <a:pt x="330" y="39"/>
                </a:lnTo>
                <a:lnTo>
                  <a:pt x="322" y="39"/>
                </a:lnTo>
                <a:lnTo>
                  <a:pt x="314" y="39"/>
                </a:lnTo>
                <a:lnTo>
                  <a:pt x="309" y="39"/>
                </a:lnTo>
                <a:lnTo>
                  <a:pt x="302" y="39"/>
                </a:lnTo>
                <a:lnTo>
                  <a:pt x="296" y="39"/>
                </a:lnTo>
                <a:lnTo>
                  <a:pt x="288" y="40"/>
                </a:lnTo>
                <a:lnTo>
                  <a:pt x="279" y="40"/>
                </a:lnTo>
                <a:lnTo>
                  <a:pt x="270" y="41"/>
                </a:lnTo>
                <a:lnTo>
                  <a:pt x="260" y="42"/>
                </a:lnTo>
                <a:lnTo>
                  <a:pt x="249" y="43"/>
                </a:lnTo>
                <a:lnTo>
                  <a:pt x="239" y="43"/>
                </a:lnTo>
                <a:lnTo>
                  <a:pt x="229" y="43"/>
                </a:lnTo>
                <a:lnTo>
                  <a:pt x="219" y="44"/>
                </a:lnTo>
                <a:lnTo>
                  <a:pt x="211" y="44"/>
                </a:lnTo>
                <a:lnTo>
                  <a:pt x="202" y="45"/>
                </a:lnTo>
                <a:lnTo>
                  <a:pt x="193" y="45"/>
                </a:lnTo>
                <a:lnTo>
                  <a:pt x="185" y="46"/>
                </a:lnTo>
                <a:lnTo>
                  <a:pt x="177" y="46"/>
                </a:lnTo>
                <a:lnTo>
                  <a:pt x="169" y="46"/>
                </a:lnTo>
                <a:lnTo>
                  <a:pt x="161" y="46"/>
                </a:lnTo>
                <a:lnTo>
                  <a:pt x="153" y="45"/>
                </a:lnTo>
                <a:lnTo>
                  <a:pt x="146" y="44"/>
                </a:lnTo>
                <a:lnTo>
                  <a:pt x="138" y="44"/>
                </a:lnTo>
                <a:lnTo>
                  <a:pt x="131" y="43"/>
                </a:lnTo>
                <a:lnTo>
                  <a:pt x="124" y="43"/>
                </a:lnTo>
                <a:lnTo>
                  <a:pt x="117" y="43"/>
                </a:lnTo>
                <a:lnTo>
                  <a:pt x="110" y="42"/>
                </a:lnTo>
                <a:lnTo>
                  <a:pt x="103" y="41"/>
                </a:lnTo>
                <a:lnTo>
                  <a:pt x="96" y="40"/>
                </a:lnTo>
                <a:lnTo>
                  <a:pt x="89" y="39"/>
                </a:lnTo>
                <a:lnTo>
                  <a:pt x="83" y="37"/>
                </a:lnTo>
                <a:lnTo>
                  <a:pt x="76" y="36"/>
                </a:lnTo>
                <a:lnTo>
                  <a:pt x="70" y="35"/>
                </a:lnTo>
                <a:lnTo>
                  <a:pt x="63" y="33"/>
                </a:lnTo>
                <a:lnTo>
                  <a:pt x="50" y="30"/>
                </a:lnTo>
                <a:lnTo>
                  <a:pt x="40" y="26"/>
                </a:lnTo>
                <a:lnTo>
                  <a:pt x="29" y="22"/>
                </a:lnTo>
                <a:lnTo>
                  <a:pt x="20" y="17"/>
                </a:lnTo>
                <a:lnTo>
                  <a:pt x="12" y="14"/>
                </a:lnTo>
                <a:lnTo>
                  <a:pt x="6" y="10"/>
                </a:lnTo>
                <a:lnTo>
                  <a:pt x="2" y="4"/>
                </a:lnTo>
                <a:lnTo>
                  <a:pt x="0" y="0"/>
                </a:lnTo>
                <a:lnTo>
                  <a:pt x="22" y="0"/>
                </a:lnTo>
                <a:lnTo>
                  <a:pt x="24" y="3"/>
                </a:lnTo>
                <a:lnTo>
                  <a:pt x="26" y="6"/>
                </a:lnTo>
                <a:lnTo>
                  <a:pt x="30" y="9"/>
                </a:lnTo>
                <a:lnTo>
                  <a:pt x="34" y="11"/>
                </a:lnTo>
                <a:lnTo>
                  <a:pt x="39" y="14"/>
                </a:lnTo>
                <a:lnTo>
                  <a:pt x="43" y="17"/>
                </a:lnTo>
                <a:lnTo>
                  <a:pt x="49" y="18"/>
                </a:lnTo>
                <a:lnTo>
                  <a:pt x="55" y="20"/>
                </a:lnTo>
                <a:lnTo>
                  <a:pt x="63" y="22"/>
                </a:lnTo>
                <a:lnTo>
                  <a:pt x="72" y="23"/>
                </a:lnTo>
                <a:lnTo>
                  <a:pt x="81" y="24"/>
                </a:lnTo>
                <a:lnTo>
                  <a:pt x="90" y="26"/>
                </a:lnTo>
                <a:lnTo>
                  <a:pt x="99" y="27"/>
                </a:lnTo>
                <a:lnTo>
                  <a:pt x="109" y="27"/>
                </a:lnTo>
                <a:lnTo>
                  <a:pt x="119" y="28"/>
                </a:lnTo>
                <a:lnTo>
                  <a:pt x="128" y="28"/>
                </a:lnTo>
                <a:lnTo>
                  <a:pt x="135" y="28"/>
                </a:lnTo>
                <a:lnTo>
                  <a:pt x="142" y="28"/>
                </a:lnTo>
                <a:lnTo>
                  <a:pt x="150" y="27"/>
                </a:lnTo>
                <a:lnTo>
                  <a:pt x="159" y="27"/>
                </a:lnTo>
                <a:lnTo>
                  <a:pt x="168" y="27"/>
                </a:lnTo>
                <a:lnTo>
                  <a:pt x="178" y="26"/>
                </a:lnTo>
                <a:lnTo>
                  <a:pt x="188" y="25"/>
                </a:lnTo>
                <a:lnTo>
                  <a:pt x="198" y="24"/>
                </a:lnTo>
                <a:lnTo>
                  <a:pt x="207" y="24"/>
                </a:lnTo>
                <a:lnTo>
                  <a:pt x="215" y="23"/>
                </a:lnTo>
                <a:lnTo>
                  <a:pt x="225" y="23"/>
                </a:lnTo>
                <a:lnTo>
                  <a:pt x="234" y="23"/>
                </a:lnTo>
                <a:lnTo>
                  <a:pt x="244" y="23"/>
                </a:lnTo>
                <a:lnTo>
                  <a:pt x="252" y="22"/>
                </a:lnTo>
                <a:lnTo>
                  <a:pt x="260" y="22"/>
                </a:lnTo>
                <a:lnTo>
                  <a:pt x="267" y="22"/>
                </a:lnTo>
                <a:lnTo>
                  <a:pt x="277" y="22"/>
                </a:lnTo>
                <a:lnTo>
                  <a:pt x="288" y="23"/>
                </a:lnTo>
                <a:lnTo>
                  <a:pt x="298" y="23"/>
                </a:lnTo>
                <a:lnTo>
                  <a:pt x="310" y="23"/>
                </a:lnTo>
                <a:lnTo>
                  <a:pt x="321" y="25"/>
                </a:lnTo>
                <a:lnTo>
                  <a:pt x="332" y="27"/>
                </a:lnTo>
                <a:lnTo>
                  <a:pt x="343" y="28"/>
                </a:lnTo>
                <a:lnTo>
                  <a:pt x="354" y="30"/>
                </a:lnTo>
                <a:lnTo>
                  <a:pt x="364" y="32"/>
                </a:lnTo>
                <a:lnTo>
                  <a:pt x="374" y="35"/>
                </a:lnTo>
                <a:lnTo>
                  <a:pt x="382" y="37"/>
                </a:lnTo>
                <a:lnTo>
                  <a:pt x="390" y="41"/>
                </a:lnTo>
                <a:lnTo>
                  <a:pt x="398" y="44"/>
                </a:lnTo>
                <a:lnTo>
                  <a:pt x="406" y="48"/>
                </a:lnTo>
                <a:lnTo>
                  <a:pt x="413" y="52"/>
                </a:lnTo>
                <a:lnTo>
                  <a:pt x="419" y="56"/>
                </a:lnTo>
                <a:lnTo>
                  <a:pt x="426" y="52"/>
                </a:lnTo>
                <a:lnTo>
                  <a:pt x="433" y="48"/>
                </a:lnTo>
                <a:lnTo>
                  <a:pt x="441" y="44"/>
                </a:lnTo>
                <a:lnTo>
                  <a:pt x="450" y="41"/>
                </a:lnTo>
                <a:lnTo>
                  <a:pt x="458" y="37"/>
                </a:lnTo>
                <a:lnTo>
                  <a:pt x="466" y="35"/>
                </a:lnTo>
                <a:lnTo>
                  <a:pt x="475" y="32"/>
                </a:lnTo>
                <a:lnTo>
                  <a:pt x="484" y="30"/>
                </a:lnTo>
                <a:lnTo>
                  <a:pt x="495" y="28"/>
                </a:lnTo>
                <a:lnTo>
                  <a:pt x="505" y="27"/>
                </a:lnTo>
                <a:lnTo>
                  <a:pt x="516" y="25"/>
                </a:lnTo>
                <a:lnTo>
                  <a:pt x="527" y="23"/>
                </a:lnTo>
                <a:lnTo>
                  <a:pt x="538" y="23"/>
                </a:lnTo>
                <a:lnTo>
                  <a:pt x="549" y="23"/>
                </a:lnTo>
                <a:lnTo>
                  <a:pt x="559" y="22"/>
                </a:lnTo>
                <a:lnTo>
                  <a:pt x="570" y="22"/>
                </a:lnTo>
                <a:lnTo>
                  <a:pt x="577" y="22"/>
                </a:lnTo>
                <a:lnTo>
                  <a:pt x="585" y="22"/>
                </a:lnTo>
                <a:lnTo>
                  <a:pt x="594" y="23"/>
                </a:lnTo>
                <a:lnTo>
                  <a:pt x="603" y="23"/>
                </a:lnTo>
                <a:lnTo>
                  <a:pt x="613" y="23"/>
                </a:lnTo>
                <a:lnTo>
                  <a:pt x="623" y="23"/>
                </a:lnTo>
                <a:lnTo>
                  <a:pt x="633" y="24"/>
                </a:lnTo>
                <a:lnTo>
                  <a:pt x="643" y="24"/>
                </a:lnTo>
                <a:lnTo>
                  <a:pt x="653" y="25"/>
                </a:lnTo>
                <a:lnTo>
                  <a:pt x="663" y="26"/>
                </a:lnTo>
                <a:lnTo>
                  <a:pt x="673" y="27"/>
                </a:lnTo>
                <a:lnTo>
                  <a:pt x="683" y="27"/>
                </a:lnTo>
                <a:lnTo>
                  <a:pt x="691" y="27"/>
                </a:lnTo>
                <a:lnTo>
                  <a:pt x="700" y="28"/>
                </a:lnTo>
                <a:lnTo>
                  <a:pt x="708" y="28"/>
                </a:lnTo>
                <a:lnTo>
                  <a:pt x="715" y="28"/>
                </a:lnTo>
                <a:lnTo>
                  <a:pt x="723" y="28"/>
                </a:lnTo>
                <a:lnTo>
                  <a:pt x="732" y="27"/>
                </a:lnTo>
                <a:lnTo>
                  <a:pt x="741" y="27"/>
                </a:lnTo>
                <a:lnTo>
                  <a:pt x="750" y="26"/>
                </a:lnTo>
                <a:lnTo>
                  <a:pt x="758" y="24"/>
                </a:lnTo>
                <a:lnTo>
                  <a:pt x="766" y="23"/>
                </a:lnTo>
                <a:lnTo>
                  <a:pt x="773" y="23"/>
                </a:lnTo>
                <a:lnTo>
                  <a:pt x="780" y="21"/>
                </a:lnTo>
                <a:lnTo>
                  <a:pt x="788" y="19"/>
                </a:lnTo>
                <a:lnTo>
                  <a:pt x="795" y="17"/>
                </a:lnTo>
                <a:lnTo>
                  <a:pt x="802" y="15"/>
                </a:lnTo>
                <a:lnTo>
                  <a:pt x="807" y="12"/>
                </a:lnTo>
                <a:lnTo>
                  <a:pt x="813" y="10"/>
                </a:lnTo>
                <a:lnTo>
                  <a:pt x="818" y="6"/>
                </a:lnTo>
                <a:lnTo>
                  <a:pt x="822" y="3"/>
                </a:lnTo>
                <a:lnTo>
                  <a:pt x="824" y="0"/>
                </a:lnTo>
                <a:lnTo>
                  <a:pt x="845" y="0"/>
                </a:lnTo>
                <a:lnTo>
                  <a:pt x="842" y="4"/>
                </a:lnTo>
                <a:lnTo>
                  <a:pt x="838" y="10"/>
                </a:lnTo>
                <a:lnTo>
                  <a:pt x="832" y="14"/>
                </a:lnTo>
                <a:lnTo>
                  <a:pt x="825" y="18"/>
                </a:lnTo>
                <a:lnTo>
                  <a:pt x="817" y="23"/>
                </a:lnTo>
                <a:lnTo>
                  <a:pt x="807" y="26"/>
                </a:lnTo>
                <a:lnTo>
                  <a:pt x="796" y="30"/>
                </a:lnTo>
                <a:lnTo>
                  <a:pt x="783" y="33"/>
                </a:lnTo>
                <a:lnTo>
                  <a:pt x="777" y="35"/>
                </a:lnTo>
                <a:lnTo>
                  <a:pt x="770" y="36"/>
                </a:lnTo>
                <a:lnTo>
                  <a:pt x="764" y="37"/>
                </a:lnTo>
                <a:lnTo>
                  <a:pt x="756" y="39"/>
                </a:lnTo>
                <a:lnTo>
                  <a:pt x="750" y="40"/>
                </a:lnTo>
                <a:lnTo>
                  <a:pt x="743" y="41"/>
                </a:lnTo>
                <a:lnTo>
                  <a:pt x="735" y="42"/>
                </a:lnTo>
                <a:lnTo>
                  <a:pt x="728" y="43"/>
                </a:lnTo>
                <a:lnTo>
                  <a:pt x="720" y="43"/>
                </a:lnTo>
                <a:lnTo>
                  <a:pt x="713" y="43"/>
                </a:lnTo>
                <a:lnTo>
                  <a:pt x="706" y="44"/>
                </a:lnTo>
                <a:lnTo>
                  <a:pt x="698" y="44"/>
                </a:lnTo>
                <a:lnTo>
                  <a:pt x="690" y="45"/>
                </a:lnTo>
                <a:lnTo>
                  <a:pt x="682" y="46"/>
                </a:lnTo>
                <a:lnTo>
                  <a:pt x="674" y="46"/>
                </a:lnTo>
                <a:lnTo>
                  <a:pt x="666" y="46"/>
                </a:lnTo>
                <a:lnTo>
                  <a:pt x="657" y="46"/>
                </a:lnTo>
                <a:lnTo>
                  <a:pt x="649" y="45"/>
                </a:lnTo>
                <a:lnTo>
                  <a:pt x="641" y="45"/>
                </a:lnTo>
                <a:lnTo>
                  <a:pt x="633" y="44"/>
                </a:lnTo>
                <a:lnTo>
                  <a:pt x="623" y="44"/>
                </a:lnTo>
                <a:lnTo>
                  <a:pt x="614" y="43"/>
                </a:lnTo>
                <a:lnTo>
                  <a:pt x="604" y="43"/>
                </a:lnTo>
                <a:lnTo>
                  <a:pt x="595" y="43"/>
                </a:lnTo>
                <a:lnTo>
                  <a:pt x="584" y="42"/>
                </a:lnTo>
                <a:lnTo>
                  <a:pt x="574" y="41"/>
                </a:lnTo>
                <a:lnTo>
                  <a:pt x="564" y="40"/>
                </a:lnTo>
                <a:lnTo>
                  <a:pt x="554" y="40"/>
                </a:lnTo>
                <a:lnTo>
                  <a:pt x="546" y="39"/>
                </a:lnTo>
                <a:lnTo>
                  <a:pt x="539" y="39"/>
                </a:lnTo>
                <a:lnTo>
                  <a:pt x="532" y="39"/>
                </a:lnTo>
                <a:lnTo>
                  <a:pt x="526" y="39"/>
                </a:lnTo>
                <a:lnTo>
                  <a:pt x="518" y="39"/>
                </a:lnTo>
                <a:lnTo>
                  <a:pt x="510" y="39"/>
                </a:lnTo>
                <a:lnTo>
                  <a:pt x="503" y="40"/>
                </a:lnTo>
                <a:lnTo>
                  <a:pt x="495" y="40"/>
                </a:lnTo>
                <a:lnTo>
                  <a:pt x="487" y="41"/>
                </a:lnTo>
                <a:lnTo>
                  <a:pt x="480" y="43"/>
                </a:lnTo>
                <a:lnTo>
                  <a:pt x="473" y="43"/>
                </a:lnTo>
                <a:lnTo>
                  <a:pt x="465" y="45"/>
                </a:lnTo>
                <a:lnTo>
                  <a:pt x="460" y="47"/>
                </a:lnTo>
                <a:lnTo>
                  <a:pt x="455" y="49"/>
                </a:lnTo>
                <a:lnTo>
                  <a:pt x="449" y="51"/>
                </a:lnTo>
                <a:lnTo>
                  <a:pt x="444" y="54"/>
                </a:lnTo>
                <a:lnTo>
                  <a:pt x="440" y="56"/>
                </a:lnTo>
                <a:lnTo>
                  <a:pt x="437" y="60"/>
                </a:lnTo>
                <a:lnTo>
                  <a:pt x="434" y="63"/>
                </a:lnTo>
                <a:lnTo>
                  <a:pt x="432" y="66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01800" y="3844800"/>
            <a:ext cx="25560" cy="504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2"/>
                </a:moveTo>
                <a:lnTo>
                  <a:pt x="3" y="2"/>
                </a:lnTo>
                <a:lnTo>
                  <a:pt x="15" y="2"/>
                </a:lnTo>
                <a:lnTo>
                  <a:pt x="15" y="0"/>
                </a:lnTo>
                <a:lnTo>
                  <a:pt x="3" y="0"/>
                </a:lnTo>
                <a:lnTo>
                  <a:pt x="5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0" y="2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47800" y="3808440"/>
            <a:ext cx="54000" cy="36360"/>
          </a:xfrm>
          <a:custGeom>
            <a:avLst/>
            <a:gdLst/>
            <a:ahLst/>
            <a:rect l="l" t="t" r="r" b="b"/>
            <a:pathLst>
              <a:path w="34" h="23">
                <a:moveTo>
                  <a:pt x="0" y="8"/>
                </a:moveTo>
                <a:lnTo>
                  <a:pt x="4" y="8"/>
                </a:lnTo>
                <a:lnTo>
                  <a:pt x="8" y="10"/>
                </a:lnTo>
                <a:lnTo>
                  <a:pt x="12" y="12"/>
                </a:lnTo>
                <a:lnTo>
                  <a:pt x="15" y="14"/>
                </a:lnTo>
                <a:lnTo>
                  <a:pt x="19" y="16"/>
                </a:lnTo>
                <a:lnTo>
                  <a:pt x="21" y="18"/>
                </a:lnTo>
                <a:lnTo>
                  <a:pt x="25" y="20"/>
                </a:lnTo>
                <a:lnTo>
                  <a:pt x="26" y="22"/>
                </a:lnTo>
                <a:lnTo>
                  <a:pt x="33" y="18"/>
                </a:lnTo>
                <a:lnTo>
                  <a:pt x="31" y="15"/>
                </a:lnTo>
                <a:lnTo>
                  <a:pt x="27" y="12"/>
                </a:lnTo>
                <a:lnTo>
                  <a:pt x="24" y="10"/>
                </a:lnTo>
                <a:lnTo>
                  <a:pt x="20" y="8"/>
                </a:lnTo>
                <a:lnTo>
                  <a:pt x="16" y="6"/>
                </a:lnTo>
                <a:lnTo>
                  <a:pt x="12" y="3"/>
                </a:lnTo>
                <a:lnTo>
                  <a:pt x="7" y="1"/>
                </a:lnTo>
                <a:lnTo>
                  <a:pt x="2" y="0"/>
                </a:lnTo>
                <a:lnTo>
                  <a:pt x="0" y="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52760" y="3795840"/>
            <a:ext cx="83880" cy="15840"/>
          </a:xfrm>
          <a:custGeom>
            <a:avLst/>
            <a:gdLst/>
            <a:ahLst/>
            <a:rect l="l" t="t" r="r" b="b"/>
            <a:pathLst>
              <a:path w="53" h="10">
                <a:moveTo>
                  <a:pt x="0" y="5"/>
                </a:moveTo>
                <a:lnTo>
                  <a:pt x="7" y="5"/>
                </a:lnTo>
                <a:lnTo>
                  <a:pt x="13" y="5"/>
                </a:lnTo>
                <a:lnTo>
                  <a:pt x="19" y="6"/>
                </a:lnTo>
                <a:lnTo>
                  <a:pt x="26" y="6"/>
                </a:lnTo>
                <a:lnTo>
                  <a:pt x="32" y="7"/>
                </a:lnTo>
                <a:lnTo>
                  <a:pt x="39" y="7"/>
                </a:lnTo>
                <a:lnTo>
                  <a:pt x="44" y="8"/>
                </a:lnTo>
                <a:lnTo>
                  <a:pt x="50" y="9"/>
                </a:lnTo>
                <a:lnTo>
                  <a:pt x="52" y="4"/>
                </a:lnTo>
                <a:lnTo>
                  <a:pt x="46" y="3"/>
                </a:lnTo>
                <a:lnTo>
                  <a:pt x="39" y="2"/>
                </a:lnTo>
                <a:lnTo>
                  <a:pt x="33" y="2"/>
                </a:lnTo>
                <a:lnTo>
                  <a:pt x="27" y="1"/>
                </a:lnTo>
                <a:lnTo>
                  <a:pt x="21" y="0"/>
                </a:lnTo>
                <a:lnTo>
                  <a:pt x="13" y="0"/>
                </a:lnTo>
                <a:lnTo>
                  <a:pt x="7" y="0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547640" y="3795840"/>
            <a:ext cx="90720" cy="9360"/>
          </a:xfrm>
          <a:custGeom>
            <a:avLst/>
            <a:gdLst/>
            <a:ahLst/>
            <a:rect l="l" t="t" r="r" b="b"/>
            <a:pathLst>
              <a:path w="57" h="6">
                <a:moveTo>
                  <a:pt x="0" y="5"/>
                </a:moveTo>
                <a:lnTo>
                  <a:pt x="9" y="5"/>
                </a:lnTo>
                <a:lnTo>
                  <a:pt x="18" y="4"/>
                </a:lnTo>
                <a:lnTo>
                  <a:pt x="25" y="4"/>
                </a:lnTo>
                <a:lnTo>
                  <a:pt x="33" y="4"/>
                </a:lnTo>
                <a:lnTo>
                  <a:pt x="40" y="4"/>
                </a:lnTo>
                <a:lnTo>
                  <a:pt x="46" y="4"/>
                </a:lnTo>
                <a:lnTo>
                  <a:pt x="52" y="4"/>
                </a:lnTo>
                <a:lnTo>
                  <a:pt x="56" y="4"/>
                </a:lnTo>
                <a:lnTo>
                  <a:pt x="56" y="0"/>
                </a:lnTo>
                <a:lnTo>
                  <a:pt x="52" y="0"/>
                </a:lnTo>
                <a:lnTo>
                  <a:pt x="46" y="0"/>
                </a:lnTo>
                <a:lnTo>
                  <a:pt x="40" y="0"/>
                </a:lnTo>
                <a:lnTo>
                  <a:pt x="33" y="0"/>
                </a:lnTo>
                <a:lnTo>
                  <a:pt x="25" y="1"/>
                </a:lnTo>
                <a:lnTo>
                  <a:pt x="18" y="1"/>
                </a:lnTo>
                <a:lnTo>
                  <a:pt x="9" y="1"/>
                </a:lnTo>
                <a:lnTo>
                  <a:pt x="0" y="1"/>
                </a:lnTo>
                <a:lnTo>
                  <a:pt x="0" y="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432080" y="3801960"/>
            <a:ext cx="101520" cy="9720"/>
          </a:xfrm>
          <a:custGeom>
            <a:avLst/>
            <a:gdLst/>
            <a:ahLst/>
            <a:rect l="l" t="t" r="r" b="b"/>
            <a:pathLst>
              <a:path w="64" h="6">
                <a:moveTo>
                  <a:pt x="0" y="5"/>
                </a:moveTo>
                <a:lnTo>
                  <a:pt x="7" y="5"/>
                </a:lnTo>
                <a:lnTo>
                  <a:pt x="14" y="5"/>
                </a:lnTo>
                <a:lnTo>
                  <a:pt x="22" y="5"/>
                </a:lnTo>
                <a:lnTo>
                  <a:pt x="29" y="5"/>
                </a:lnTo>
                <a:lnTo>
                  <a:pt x="37" y="4"/>
                </a:lnTo>
                <a:lnTo>
                  <a:pt x="46" y="4"/>
                </a:lnTo>
                <a:lnTo>
                  <a:pt x="54" y="4"/>
                </a:lnTo>
                <a:lnTo>
                  <a:pt x="63" y="4"/>
                </a:lnTo>
                <a:lnTo>
                  <a:pt x="63" y="0"/>
                </a:lnTo>
                <a:lnTo>
                  <a:pt x="54" y="0"/>
                </a:lnTo>
                <a:lnTo>
                  <a:pt x="46" y="1"/>
                </a:lnTo>
                <a:lnTo>
                  <a:pt x="37" y="1"/>
                </a:lnTo>
                <a:lnTo>
                  <a:pt x="29" y="1"/>
                </a:lnTo>
                <a:lnTo>
                  <a:pt x="22" y="1"/>
                </a:lnTo>
                <a:lnTo>
                  <a:pt x="14" y="1"/>
                </a:lnTo>
                <a:lnTo>
                  <a:pt x="7" y="1"/>
                </a:lnTo>
                <a:lnTo>
                  <a:pt x="0" y="1"/>
                </a:lnTo>
                <a:lnTo>
                  <a:pt x="0" y="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47760" y="3786120"/>
            <a:ext cx="169920" cy="25560"/>
          </a:xfrm>
          <a:custGeom>
            <a:avLst/>
            <a:gdLst/>
            <a:ahLst/>
            <a:rect l="l" t="t" r="r" b="b"/>
            <a:pathLst>
              <a:path w="107" h="16">
                <a:moveTo>
                  <a:pt x="0" y="6"/>
                </a:moveTo>
                <a:lnTo>
                  <a:pt x="6" y="7"/>
                </a:lnTo>
                <a:lnTo>
                  <a:pt x="12" y="8"/>
                </a:lnTo>
                <a:lnTo>
                  <a:pt x="18" y="9"/>
                </a:lnTo>
                <a:lnTo>
                  <a:pt x="24" y="10"/>
                </a:lnTo>
                <a:lnTo>
                  <a:pt x="31" y="11"/>
                </a:lnTo>
                <a:lnTo>
                  <a:pt x="37" y="11"/>
                </a:lnTo>
                <a:lnTo>
                  <a:pt x="43" y="12"/>
                </a:lnTo>
                <a:lnTo>
                  <a:pt x="50" y="13"/>
                </a:lnTo>
                <a:lnTo>
                  <a:pt x="57" y="13"/>
                </a:lnTo>
                <a:lnTo>
                  <a:pt x="64" y="13"/>
                </a:lnTo>
                <a:lnTo>
                  <a:pt x="70" y="14"/>
                </a:lnTo>
                <a:lnTo>
                  <a:pt x="78" y="14"/>
                </a:lnTo>
                <a:lnTo>
                  <a:pt x="84" y="14"/>
                </a:lnTo>
                <a:lnTo>
                  <a:pt x="91" y="15"/>
                </a:lnTo>
                <a:lnTo>
                  <a:pt x="99" y="15"/>
                </a:lnTo>
                <a:lnTo>
                  <a:pt x="106" y="15"/>
                </a:lnTo>
                <a:lnTo>
                  <a:pt x="106" y="8"/>
                </a:lnTo>
                <a:lnTo>
                  <a:pt x="99" y="8"/>
                </a:lnTo>
                <a:lnTo>
                  <a:pt x="91" y="8"/>
                </a:lnTo>
                <a:lnTo>
                  <a:pt x="84" y="8"/>
                </a:lnTo>
                <a:lnTo>
                  <a:pt x="78" y="8"/>
                </a:lnTo>
                <a:lnTo>
                  <a:pt x="70" y="8"/>
                </a:lnTo>
                <a:lnTo>
                  <a:pt x="64" y="7"/>
                </a:lnTo>
                <a:lnTo>
                  <a:pt x="58" y="7"/>
                </a:lnTo>
                <a:lnTo>
                  <a:pt x="51" y="6"/>
                </a:lnTo>
                <a:lnTo>
                  <a:pt x="44" y="6"/>
                </a:lnTo>
                <a:lnTo>
                  <a:pt x="38" y="5"/>
                </a:lnTo>
                <a:lnTo>
                  <a:pt x="32" y="4"/>
                </a:lnTo>
                <a:lnTo>
                  <a:pt x="26" y="4"/>
                </a:lnTo>
                <a:lnTo>
                  <a:pt x="20" y="3"/>
                </a:lnTo>
                <a:lnTo>
                  <a:pt x="14" y="2"/>
                </a:lnTo>
                <a:lnTo>
                  <a:pt x="8" y="1"/>
                </a:lnTo>
                <a:lnTo>
                  <a:pt x="3" y="0"/>
                </a:lnTo>
                <a:lnTo>
                  <a:pt x="0" y="6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136520" y="3724200"/>
            <a:ext cx="101880" cy="63720"/>
          </a:xfrm>
          <a:custGeom>
            <a:avLst/>
            <a:gdLst/>
            <a:ahLst/>
            <a:rect l="l" t="t" r="r" b="b"/>
            <a:pathLst>
              <a:path w="64" h="40">
                <a:moveTo>
                  <a:pt x="6" y="0"/>
                </a:moveTo>
                <a:lnTo>
                  <a:pt x="2" y="6"/>
                </a:lnTo>
                <a:lnTo>
                  <a:pt x="4" y="11"/>
                </a:lnTo>
                <a:lnTo>
                  <a:pt x="8" y="16"/>
                </a:lnTo>
                <a:lnTo>
                  <a:pt x="14" y="21"/>
                </a:lnTo>
                <a:lnTo>
                  <a:pt x="22" y="25"/>
                </a:lnTo>
                <a:lnTo>
                  <a:pt x="28" y="29"/>
                </a:lnTo>
                <a:lnTo>
                  <a:pt x="39" y="33"/>
                </a:lnTo>
                <a:lnTo>
                  <a:pt x="48" y="36"/>
                </a:lnTo>
                <a:lnTo>
                  <a:pt x="60" y="39"/>
                </a:lnTo>
                <a:lnTo>
                  <a:pt x="63" y="31"/>
                </a:lnTo>
                <a:lnTo>
                  <a:pt x="52" y="28"/>
                </a:lnTo>
                <a:lnTo>
                  <a:pt x="41" y="24"/>
                </a:lnTo>
                <a:lnTo>
                  <a:pt x="33" y="21"/>
                </a:lnTo>
                <a:lnTo>
                  <a:pt x="25" y="18"/>
                </a:lnTo>
                <a:lnTo>
                  <a:pt x="19" y="14"/>
                </a:lnTo>
                <a:lnTo>
                  <a:pt x="15" y="10"/>
                </a:lnTo>
                <a:lnTo>
                  <a:pt x="12" y="7"/>
                </a:lnTo>
                <a:lnTo>
                  <a:pt x="10" y="4"/>
                </a:lnTo>
                <a:lnTo>
                  <a:pt x="6" y="9"/>
                </a:lnTo>
                <a:lnTo>
                  <a:pt x="6" y="0"/>
                </a:lnTo>
                <a:lnTo>
                  <a:pt x="0" y="1"/>
                </a:lnTo>
                <a:lnTo>
                  <a:pt x="2" y="6"/>
                </a:lnTo>
                <a:lnTo>
                  <a:pt x="6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147680" y="3724200"/>
            <a:ext cx="30240" cy="3240"/>
          </a:xfrm>
          <a:custGeom>
            <a:avLst/>
            <a:gdLst/>
            <a:ahLst/>
            <a:rect l="l" t="t" r="r" b="b"/>
            <a:pathLst>
              <a:path w="19" h="2">
                <a:moveTo>
                  <a:pt x="18" y="0"/>
                </a:moveTo>
                <a:lnTo>
                  <a:pt x="14" y="0"/>
                </a:lnTo>
                <a:lnTo>
                  <a:pt x="0" y="0"/>
                </a:lnTo>
                <a:lnTo>
                  <a:pt x="0" y="1"/>
                </a:lnTo>
                <a:lnTo>
                  <a:pt x="14" y="1"/>
                </a:lnTo>
                <a:lnTo>
                  <a:pt x="11" y="1"/>
                </a:lnTo>
                <a:lnTo>
                  <a:pt x="18" y="0"/>
                </a:lnTo>
                <a:lnTo>
                  <a:pt x="17" y="0"/>
                </a:lnTo>
                <a:lnTo>
                  <a:pt x="14" y="0"/>
                </a:lnTo>
                <a:lnTo>
                  <a:pt x="18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174680" y="3732120"/>
            <a:ext cx="49320" cy="31680"/>
          </a:xfrm>
          <a:custGeom>
            <a:avLst/>
            <a:gdLst/>
            <a:ahLst/>
            <a:rect l="l" t="t" r="r" b="b"/>
            <a:pathLst>
              <a:path w="31" h="20">
                <a:moveTo>
                  <a:pt x="30" y="12"/>
                </a:moveTo>
                <a:lnTo>
                  <a:pt x="26" y="11"/>
                </a:lnTo>
                <a:lnTo>
                  <a:pt x="22" y="10"/>
                </a:lnTo>
                <a:lnTo>
                  <a:pt x="18" y="9"/>
                </a:lnTo>
                <a:lnTo>
                  <a:pt x="15" y="6"/>
                </a:lnTo>
                <a:lnTo>
                  <a:pt x="12" y="5"/>
                </a:lnTo>
                <a:lnTo>
                  <a:pt x="10" y="3"/>
                </a:lnTo>
                <a:lnTo>
                  <a:pt x="8" y="1"/>
                </a:lnTo>
                <a:lnTo>
                  <a:pt x="8" y="0"/>
                </a:lnTo>
                <a:lnTo>
                  <a:pt x="0" y="1"/>
                </a:lnTo>
                <a:lnTo>
                  <a:pt x="2" y="5"/>
                </a:lnTo>
                <a:lnTo>
                  <a:pt x="4" y="7"/>
                </a:lnTo>
                <a:lnTo>
                  <a:pt x="7" y="10"/>
                </a:lnTo>
                <a:lnTo>
                  <a:pt x="11" y="12"/>
                </a:lnTo>
                <a:lnTo>
                  <a:pt x="15" y="14"/>
                </a:lnTo>
                <a:lnTo>
                  <a:pt x="20" y="16"/>
                </a:lnTo>
                <a:lnTo>
                  <a:pt x="23" y="18"/>
                </a:lnTo>
                <a:lnTo>
                  <a:pt x="29" y="19"/>
                </a:lnTo>
                <a:lnTo>
                  <a:pt x="30" y="12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235160" y="3762360"/>
            <a:ext cx="104760" cy="17640"/>
          </a:xfrm>
          <a:custGeom>
            <a:avLst/>
            <a:gdLst/>
            <a:ahLst/>
            <a:rect l="l" t="t" r="r" b="b"/>
            <a:pathLst>
              <a:path w="66" h="11">
                <a:moveTo>
                  <a:pt x="65" y="4"/>
                </a:moveTo>
                <a:lnTo>
                  <a:pt x="56" y="4"/>
                </a:lnTo>
                <a:lnTo>
                  <a:pt x="48" y="4"/>
                </a:lnTo>
                <a:lnTo>
                  <a:pt x="39" y="4"/>
                </a:lnTo>
                <a:lnTo>
                  <a:pt x="31" y="3"/>
                </a:lnTo>
                <a:lnTo>
                  <a:pt x="23" y="3"/>
                </a:lnTo>
                <a:lnTo>
                  <a:pt x="16" y="2"/>
                </a:lnTo>
                <a:lnTo>
                  <a:pt x="9" y="1"/>
                </a:lnTo>
                <a:lnTo>
                  <a:pt x="2" y="0"/>
                </a:lnTo>
                <a:lnTo>
                  <a:pt x="0" y="5"/>
                </a:lnTo>
                <a:lnTo>
                  <a:pt x="8" y="6"/>
                </a:lnTo>
                <a:lnTo>
                  <a:pt x="15" y="7"/>
                </a:lnTo>
                <a:lnTo>
                  <a:pt x="23" y="8"/>
                </a:lnTo>
                <a:lnTo>
                  <a:pt x="30" y="9"/>
                </a:lnTo>
                <a:lnTo>
                  <a:pt x="39" y="9"/>
                </a:lnTo>
                <a:lnTo>
                  <a:pt x="48" y="9"/>
                </a:lnTo>
                <a:lnTo>
                  <a:pt x="56" y="10"/>
                </a:lnTo>
                <a:lnTo>
                  <a:pt x="65" y="10"/>
                </a:lnTo>
                <a:lnTo>
                  <a:pt x="65" y="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353960" y="3770280"/>
            <a:ext cx="96840" cy="9720"/>
          </a:xfrm>
          <a:custGeom>
            <a:avLst/>
            <a:gdLst/>
            <a:ahLst/>
            <a:rect l="l" t="t" r="r" b="b"/>
            <a:pathLst>
              <a:path w="61" h="6">
                <a:moveTo>
                  <a:pt x="60" y="0"/>
                </a:moveTo>
                <a:lnTo>
                  <a:pt x="51" y="0"/>
                </a:lnTo>
                <a:lnTo>
                  <a:pt x="43" y="1"/>
                </a:lnTo>
                <a:lnTo>
                  <a:pt x="34" y="1"/>
                </a:lnTo>
                <a:lnTo>
                  <a:pt x="27" y="1"/>
                </a:lnTo>
                <a:lnTo>
                  <a:pt x="19" y="1"/>
                </a:lnTo>
                <a:lnTo>
                  <a:pt x="12" y="1"/>
                </a:lnTo>
                <a:lnTo>
                  <a:pt x="6" y="1"/>
                </a:lnTo>
                <a:lnTo>
                  <a:pt x="0" y="1"/>
                </a:lnTo>
                <a:lnTo>
                  <a:pt x="0" y="5"/>
                </a:lnTo>
                <a:lnTo>
                  <a:pt x="6" y="5"/>
                </a:lnTo>
                <a:lnTo>
                  <a:pt x="12" y="5"/>
                </a:lnTo>
                <a:lnTo>
                  <a:pt x="19" y="4"/>
                </a:lnTo>
                <a:lnTo>
                  <a:pt x="27" y="4"/>
                </a:lnTo>
                <a:lnTo>
                  <a:pt x="34" y="4"/>
                </a:lnTo>
                <a:lnTo>
                  <a:pt x="43" y="4"/>
                </a:lnTo>
                <a:lnTo>
                  <a:pt x="51" y="4"/>
                </a:lnTo>
                <a:lnTo>
                  <a:pt x="60" y="4"/>
                </a:lnTo>
                <a:lnTo>
                  <a:pt x="60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465200" y="3763800"/>
            <a:ext cx="96840" cy="9720"/>
          </a:xfrm>
          <a:custGeom>
            <a:avLst/>
            <a:gdLst/>
            <a:ahLst/>
            <a:rect l="l" t="t" r="r" b="b"/>
            <a:pathLst>
              <a:path w="61" h="6">
                <a:moveTo>
                  <a:pt x="60" y="0"/>
                </a:moveTo>
                <a:lnTo>
                  <a:pt x="54" y="0"/>
                </a:lnTo>
                <a:lnTo>
                  <a:pt x="47" y="0"/>
                </a:lnTo>
                <a:lnTo>
                  <a:pt x="40" y="0"/>
                </a:lnTo>
                <a:lnTo>
                  <a:pt x="32" y="0"/>
                </a:lnTo>
                <a:lnTo>
                  <a:pt x="24" y="1"/>
                </a:lnTo>
                <a:lnTo>
                  <a:pt x="15" y="1"/>
                </a:lnTo>
                <a:lnTo>
                  <a:pt x="8" y="1"/>
                </a:lnTo>
                <a:lnTo>
                  <a:pt x="0" y="1"/>
                </a:lnTo>
                <a:lnTo>
                  <a:pt x="0" y="5"/>
                </a:lnTo>
                <a:lnTo>
                  <a:pt x="8" y="5"/>
                </a:lnTo>
                <a:lnTo>
                  <a:pt x="15" y="4"/>
                </a:lnTo>
                <a:lnTo>
                  <a:pt x="24" y="4"/>
                </a:lnTo>
                <a:lnTo>
                  <a:pt x="32" y="4"/>
                </a:lnTo>
                <a:lnTo>
                  <a:pt x="40" y="4"/>
                </a:lnTo>
                <a:lnTo>
                  <a:pt x="47" y="4"/>
                </a:lnTo>
                <a:lnTo>
                  <a:pt x="54" y="4"/>
                </a:lnTo>
                <a:lnTo>
                  <a:pt x="60" y="4"/>
                </a:lnTo>
                <a:lnTo>
                  <a:pt x="60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576440" y="3763800"/>
            <a:ext cx="127080" cy="19080"/>
          </a:xfrm>
          <a:custGeom>
            <a:avLst/>
            <a:gdLst/>
            <a:ahLst/>
            <a:rect l="l" t="t" r="r" b="b"/>
            <a:pathLst>
              <a:path w="80" h="12">
                <a:moveTo>
                  <a:pt x="79" y="6"/>
                </a:moveTo>
                <a:lnTo>
                  <a:pt x="69" y="4"/>
                </a:lnTo>
                <a:lnTo>
                  <a:pt x="59" y="4"/>
                </a:lnTo>
                <a:lnTo>
                  <a:pt x="50" y="3"/>
                </a:lnTo>
                <a:lnTo>
                  <a:pt x="39" y="2"/>
                </a:lnTo>
                <a:lnTo>
                  <a:pt x="28" y="1"/>
                </a:lnTo>
                <a:lnTo>
                  <a:pt x="19" y="1"/>
                </a:lnTo>
                <a:lnTo>
                  <a:pt x="9" y="0"/>
                </a:lnTo>
                <a:lnTo>
                  <a:pt x="0" y="0"/>
                </a:lnTo>
                <a:lnTo>
                  <a:pt x="0" y="6"/>
                </a:lnTo>
                <a:lnTo>
                  <a:pt x="9" y="6"/>
                </a:lnTo>
                <a:lnTo>
                  <a:pt x="19" y="6"/>
                </a:lnTo>
                <a:lnTo>
                  <a:pt x="28" y="6"/>
                </a:lnTo>
                <a:lnTo>
                  <a:pt x="38" y="7"/>
                </a:lnTo>
                <a:lnTo>
                  <a:pt x="49" y="8"/>
                </a:lnTo>
                <a:lnTo>
                  <a:pt x="59" y="9"/>
                </a:lnTo>
                <a:lnTo>
                  <a:pt x="68" y="10"/>
                </a:lnTo>
                <a:lnTo>
                  <a:pt x="77" y="11"/>
                </a:lnTo>
                <a:lnTo>
                  <a:pt x="79" y="6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14680" y="3781440"/>
            <a:ext cx="98280" cy="50760"/>
          </a:xfrm>
          <a:custGeom>
            <a:avLst/>
            <a:gdLst/>
            <a:ahLst/>
            <a:rect l="l" t="t" r="r" b="b"/>
            <a:pathLst>
              <a:path w="62" h="32">
                <a:moveTo>
                  <a:pt x="55" y="23"/>
                </a:moveTo>
                <a:lnTo>
                  <a:pt x="61" y="23"/>
                </a:lnTo>
                <a:lnTo>
                  <a:pt x="55" y="19"/>
                </a:lnTo>
                <a:lnTo>
                  <a:pt x="49" y="16"/>
                </a:lnTo>
                <a:lnTo>
                  <a:pt x="42" y="13"/>
                </a:lnTo>
                <a:lnTo>
                  <a:pt x="35" y="10"/>
                </a:lnTo>
                <a:lnTo>
                  <a:pt x="27" y="6"/>
                </a:lnTo>
                <a:lnTo>
                  <a:pt x="19" y="4"/>
                </a:lnTo>
                <a:lnTo>
                  <a:pt x="10" y="2"/>
                </a:lnTo>
                <a:lnTo>
                  <a:pt x="2" y="0"/>
                </a:lnTo>
                <a:lnTo>
                  <a:pt x="0" y="8"/>
                </a:lnTo>
                <a:lnTo>
                  <a:pt x="9" y="9"/>
                </a:lnTo>
                <a:lnTo>
                  <a:pt x="16" y="12"/>
                </a:lnTo>
                <a:lnTo>
                  <a:pt x="24" y="14"/>
                </a:lnTo>
                <a:lnTo>
                  <a:pt x="31" y="17"/>
                </a:lnTo>
                <a:lnTo>
                  <a:pt x="38" y="20"/>
                </a:lnTo>
                <a:lnTo>
                  <a:pt x="45" y="23"/>
                </a:lnTo>
                <a:lnTo>
                  <a:pt x="50" y="26"/>
                </a:lnTo>
                <a:lnTo>
                  <a:pt x="55" y="29"/>
                </a:lnTo>
                <a:lnTo>
                  <a:pt x="60" y="29"/>
                </a:lnTo>
                <a:lnTo>
                  <a:pt x="55" y="29"/>
                </a:lnTo>
                <a:lnTo>
                  <a:pt x="58" y="31"/>
                </a:lnTo>
                <a:lnTo>
                  <a:pt x="60" y="29"/>
                </a:lnTo>
                <a:lnTo>
                  <a:pt x="55" y="23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816200" y="3781440"/>
            <a:ext cx="96840" cy="47520"/>
          </a:xfrm>
          <a:custGeom>
            <a:avLst/>
            <a:gdLst/>
            <a:ahLst/>
            <a:rect l="l" t="t" r="r" b="b"/>
            <a:pathLst>
              <a:path w="61" h="30">
                <a:moveTo>
                  <a:pt x="58" y="0"/>
                </a:moveTo>
                <a:lnTo>
                  <a:pt x="50" y="1"/>
                </a:lnTo>
                <a:lnTo>
                  <a:pt x="43" y="4"/>
                </a:lnTo>
                <a:lnTo>
                  <a:pt x="34" y="6"/>
                </a:lnTo>
                <a:lnTo>
                  <a:pt x="27" y="9"/>
                </a:lnTo>
                <a:lnTo>
                  <a:pt x="20" y="13"/>
                </a:lnTo>
                <a:lnTo>
                  <a:pt x="13" y="16"/>
                </a:lnTo>
                <a:lnTo>
                  <a:pt x="6" y="19"/>
                </a:lnTo>
                <a:lnTo>
                  <a:pt x="0" y="22"/>
                </a:lnTo>
                <a:lnTo>
                  <a:pt x="5" y="29"/>
                </a:lnTo>
                <a:lnTo>
                  <a:pt x="11" y="26"/>
                </a:lnTo>
                <a:lnTo>
                  <a:pt x="17" y="22"/>
                </a:lnTo>
                <a:lnTo>
                  <a:pt x="23" y="19"/>
                </a:lnTo>
                <a:lnTo>
                  <a:pt x="31" y="17"/>
                </a:lnTo>
                <a:lnTo>
                  <a:pt x="38" y="14"/>
                </a:lnTo>
                <a:lnTo>
                  <a:pt x="45" y="12"/>
                </a:lnTo>
                <a:lnTo>
                  <a:pt x="53" y="9"/>
                </a:lnTo>
                <a:lnTo>
                  <a:pt x="60" y="7"/>
                </a:lnTo>
                <a:lnTo>
                  <a:pt x="58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924200" y="3763800"/>
            <a:ext cx="125280" cy="19080"/>
          </a:xfrm>
          <a:custGeom>
            <a:avLst/>
            <a:gdLst/>
            <a:ahLst/>
            <a:rect l="l" t="t" r="r" b="b"/>
            <a:pathLst>
              <a:path w="79" h="12">
                <a:moveTo>
                  <a:pt x="78" y="0"/>
                </a:moveTo>
                <a:lnTo>
                  <a:pt x="68" y="0"/>
                </a:lnTo>
                <a:lnTo>
                  <a:pt x="59" y="1"/>
                </a:lnTo>
                <a:lnTo>
                  <a:pt x="49" y="1"/>
                </a:lnTo>
                <a:lnTo>
                  <a:pt x="38" y="2"/>
                </a:lnTo>
                <a:lnTo>
                  <a:pt x="28" y="3"/>
                </a:lnTo>
                <a:lnTo>
                  <a:pt x="19" y="4"/>
                </a:lnTo>
                <a:lnTo>
                  <a:pt x="10" y="4"/>
                </a:lnTo>
                <a:lnTo>
                  <a:pt x="0" y="6"/>
                </a:lnTo>
                <a:lnTo>
                  <a:pt x="2" y="11"/>
                </a:lnTo>
                <a:lnTo>
                  <a:pt x="11" y="10"/>
                </a:lnTo>
                <a:lnTo>
                  <a:pt x="20" y="9"/>
                </a:lnTo>
                <a:lnTo>
                  <a:pt x="29" y="8"/>
                </a:lnTo>
                <a:lnTo>
                  <a:pt x="39" y="7"/>
                </a:lnTo>
                <a:lnTo>
                  <a:pt x="49" y="6"/>
                </a:lnTo>
                <a:lnTo>
                  <a:pt x="59" y="6"/>
                </a:lnTo>
                <a:lnTo>
                  <a:pt x="68" y="6"/>
                </a:lnTo>
                <a:lnTo>
                  <a:pt x="78" y="6"/>
                </a:lnTo>
                <a:lnTo>
                  <a:pt x="78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063880" y="3763800"/>
            <a:ext cx="102960" cy="9720"/>
          </a:xfrm>
          <a:custGeom>
            <a:avLst/>
            <a:gdLst/>
            <a:ahLst/>
            <a:rect l="l" t="t" r="r" b="b"/>
            <a:pathLst>
              <a:path w="65" h="6">
                <a:moveTo>
                  <a:pt x="64" y="1"/>
                </a:moveTo>
                <a:lnTo>
                  <a:pt x="54" y="1"/>
                </a:lnTo>
                <a:lnTo>
                  <a:pt x="46" y="1"/>
                </a:lnTo>
                <a:lnTo>
                  <a:pt x="37" y="1"/>
                </a:lnTo>
                <a:lnTo>
                  <a:pt x="29" y="0"/>
                </a:lnTo>
                <a:lnTo>
                  <a:pt x="21" y="0"/>
                </a:lnTo>
                <a:lnTo>
                  <a:pt x="13" y="0"/>
                </a:lnTo>
                <a:lnTo>
                  <a:pt x="6" y="0"/>
                </a:lnTo>
                <a:lnTo>
                  <a:pt x="0" y="0"/>
                </a:lnTo>
                <a:lnTo>
                  <a:pt x="0" y="4"/>
                </a:lnTo>
                <a:lnTo>
                  <a:pt x="6" y="4"/>
                </a:lnTo>
                <a:lnTo>
                  <a:pt x="13" y="4"/>
                </a:lnTo>
                <a:lnTo>
                  <a:pt x="21" y="4"/>
                </a:lnTo>
                <a:lnTo>
                  <a:pt x="29" y="4"/>
                </a:lnTo>
                <a:lnTo>
                  <a:pt x="37" y="4"/>
                </a:lnTo>
                <a:lnTo>
                  <a:pt x="46" y="4"/>
                </a:lnTo>
                <a:lnTo>
                  <a:pt x="54" y="5"/>
                </a:lnTo>
                <a:lnTo>
                  <a:pt x="64" y="5"/>
                </a:lnTo>
                <a:lnTo>
                  <a:pt x="64" y="1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181240" y="3770280"/>
            <a:ext cx="100080" cy="9720"/>
          </a:xfrm>
          <a:custGeom>
            <a:avLst/>
            <a:gdLst/>
            <a:ahLst/>
            <a:rect l="l" t="t" r="r" b="b"/>
            <a:pathLst>
              <a:path w="63" h="6">
                <a:moveTo>
                  <a:pt x="62" y="1"/>
                </a:moveTo>
                <a:lnTo>
                  <a:pt x="56" y="1"/>
                </a:lnTo>
                <a:lnTo>
                  <a:pt x="49" y="1"/>
                </a:lnTo>
                <a:lnTo>
                  <a:pt x="41" y="1"/>
                </a:lnTo>
                <a:lnTo>
                  <a:pt x="34" y="1"/>
                </a:lnTo>
                <a:lnTo>
                  <a:pt x="26" y="1"/>
                </a:lnTo>
                <a:lnTo>
                  <a:pt x="17" y="1"/>
                </a:lnTo>
                <a:lnTo>
                  <a:pt x="9" y="0"/>
                </a:lnTo>
                <a:lnTo>
                  <a:pt x="0" y="0"/>
                </a:lnTo>
                <a:lnTo>
                  <a:pt x="0" y="4"/>
                </a:lnTo>
                <a:lnTo>
                  <a:pt x="9" y="4"/>
                </a:lnTo>
                <a:lnTo>
                  <a:pt x="17" y="4"/>
                </a:lnTo>
                <a:lnTo>
                  <a:pt x="26" y="4"/>
                </a:lnTo>
                <a:lnTo>
                  <a:pt x="34" y="4"/>
                </a:lnTo>
                <a:lnTo>
                  <a:pt x="41" y="4"/>
                </a:lnTo>
                <a:lnTo>
                  <a:pt x="49" y="5"/>
                </a:lnTo>
                <a:lnTo>
                  <a:pt x="56" y="5"/>
                </a:lnTo>
                <a:lnTo>
                  <a:pt x="62" y="5"/>
                </a:lnTo>
                <a:lnTo>
                  <a:pt x="62" y="1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295360" y="3763800"/>
            <a:ext cx="92160" cy="16200"/>
          </a:xfrm>
          <a:custGeom>
            <a:avLst/>
            <a:gdLst/>
            <a:ahLst/>
            <a:rect l="l" t="t" r="r" b="b"/>
            <a:pathLst>
              <a:path w="58" h="10">
                <a:moveTo>
                  <a:pt x="55" y="0"/>
                </a:moveTo>
                <a:lnTo>
                  <a:pt x="50" y="1"/>
                </a:lnTo>
                <a:lnTo>
                  <a:pt x="43" y="1"/>
                </a:lnTo>
                <a:lnTo>
                  <a:pt x="37" y="2"/>
                </a:lnTo>
                <a:lnTo>
                  <a:pt x="30" y="2"/>
                </a:lnTo>
                <a:lnTo>
                  <a:pt x="23" y="3"/>
                </a:lnTo>
                <a:lnTo>
                  <a:pt x="15" y="3"/>
                </a:lnTo>
                <a:lnTo>
                  <a:pt x="8" y="3"/>
                </a:lnTo>
                <a:lnTo>
                  <a:pt x="0" y="3"/>
                </a:lnTo>
                <a:lnTo>
                  <a:pt x="0" y="9"/>
                </a:lnTo>
                <a:lnTo>
                  <a:pt x="8" y="9"/>
                </a:lnTo>
                <a:lnTo>
                  <a:pt x="15" y="8"/>
                </a:lnTo>
                <a:lnTo>
                  <a:pt x="23" y="8"/>
                </a:lnTo>
                <a:lnTo>
                  <a:pt x="31" y="8"/>
                </a:lnTo>
                <a:lnTo>
                  <a:pt x="38" y="7"/>
                </a:lnTo>
                <a:lnTo>
                  <a:pt x="44" y="6"/>
                </a:lnTo>
                <a:lnTo>
                  <a:pt x="51" y="6"/>
                </a:lnTo>
                <a:lnTo>
                  <a:pt x="57" y="5"/>
                </a:lnTo>
                <a:lnTo>
                  <a:pt x="55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17600" y="3786120"/>
            <a:ext cx="176400" cy="25560"/>
          </a:xfrm>
          <a:custGeom>
            <a:avLst/>
            <a:gdLst/>
            <a:ahLst/>
            <a:rect l="l" t="t" r="r" b="b"/>
            <a:pathLst>
              <a:path w="111" h="16">
                <a:moveTo>
                  <a:pt x="0" y="15"/>
                </a:moveTo>
                <a:lnTo>
                  <a:pt x="7" y="15"/>
                </a:lnTo>
                <a:lnTo>
                  <a:pt x="15" y="15"/>
                </a:lnTo>
                <a:lnTo>
                  <a:pt x="22" y="14"/>
                </a:lnTo>
                <a:lnTo>
                  <a:pt x="29" y="14"/>
                </a:lnTo>
                <a:lnTo>
                  <a:pt x="37" y="14"/>
                </a:lnTo>
                <a:lnTo>
                  <a:pt x="43" y="13"/>
                </a:lnTo>
                <a:lnTo>
                  <a:pt x="51" y="13"/>
                </a:lnTo>
                <a:lnTo>
                  <a:pt x="58" y="13"/>
                </a:lnTo>
                <a:lnTo>
                  <a:pt x="65" y="12"/>
                </a:lnTo>
                <a:lnTo>
                  <a:pt x="72" y="11"/>
                </a:lnTo>
                <a:lnTo>
                  <a:pt x="78" y="11"/>
                </a:lnTo>
                <a:lnTo>
                  <a:pt x="84" y="10"/>
                </a:lnTo>
                <a:lnTo>
                  <a:pt x="92" y="9"/>
                </a:lnTo>
                <a:lnTo>
                  <a:pt x="97" y="8"/>
                </a:lnTo>
                <a:lnTo>
                  <a:pt x="104" y="7"/>
                </a:lnTo>
                <a:lnTo>
                  <a:pt x="110" y="6"/>
                </a:lnTo>
                <a:lnTo>
                  <a:pt x="107" y="0"/>
                </a:lnTo>
                <a:lnTo>
                  <a:pt x="102" y="1"/>
                </a:lnTo>
                <a:lnTo>
                  <a:pt x="95" y="2"/>
                </a:lnTo>
                <a:lnTo>
                  <a:pt x="90" y="3"/>
                </a:lnTo>
                <a:lnTo>
                  <a:pt x="83" y="4"/>
                </a:lnTo>
                <a:lnTo>
                  <a:pt x="77" y="4"/>
                </a:lnTo>
                <a:lnTo>
                  <a:pt x="71" y="5"/>
                </a:lnTo>
                <a:lnTo>
                  <a:pt x="64" y="6"/>
                </a:lnTo>
                <a:lnTo>
                  <a:pt x="57" y="6"/>
                </a:lnTo>
                <a:lnTo>
                  <a:pt x="50" y="7"/>
                </a:lnTo>
                <a:lnTo>
                  <a:pt x="43" y="7"/>
                </a:lnTo>
                <a:lnTo>
                  <a:pt x="37" y="8"/>
                </a:lnTo>
                <a:lnTo>
                  <a:pt x="29" y="8"/>
                </a:lnTo>
                <a:lnTo>
                  <a:pt x="22" y="8"/>
                </a:lnTo>
                <a:lnTo>
                  <a:pt x="15" y="8"/>
                </a:lnTo>
                <a:lnTo>
                  <a:pt x="7" y="8"/>
                </a:lnTo>
                <a:lnTo>
                  <a:pt x="0" y="8"/>
                </a:lnTo>
                <a:lnTo>
                  <a:pt x="0" y="1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103480" y="3801960"/>
            <a:ext cx="100080" cy="9720"/>
          </a:xfrm>
          <a:custGeom>
            <a:avLst/>
            <a:gdLst/>
            <a:ahLst/>
            <a:rect l="l" t="t" r="r" b="b"/>
            <a:pathLst>
              <a:path w="63" h="6">
                <a:moveTo>
                  <a:pt x="0" y="4"/>
                </a:moveTo>
                <a:lnTo>
                  <a:pt x="8" y="4"/>
                </a:lnTo>
                <a:lnTo>
                  <a:pt x="16" y="4"/>
                </a:lnTo>
                <a:lnTo>
                  <a:pt x="24" y="4"/>
                </a:lnTo>
                <a:lnTo>
                  <a:pt x="33" y="5"/>
                </a:lnTo>
                <a:lnTo>
                  <a:pt x="40" y="5"/>
                </a:lnTo>
                <a:lnTo>
                  <a:pt x="47" y="5"/>
                </a:lnTo>
                <a:lnTo>
                  <a:pt x="54" y="5"/>
                </a:lnTo>
                <a:lnTo>
                  <a:pt x="62" y="5"/>
                </a:lnTo>
                <a:lnTo>
                  <a:pt x="62" y="1"/>
                </a:lnTo>
                <a:lnTo>
                  <a:pt x="54" y="1"/>
                </a:lnTo>
                <a:lnTo>
                  <a:pt x="47" y="1"/>
                </a:lnTo>
                <a:lnTo>
                  <a:pt x="40" y="1"/>
                </a:lnTo>
                <a:lnTo>
                  <a:pt x="33" y="1"/>
                </a:lnTo>
                <a:lnTo>
                  <a:pt x="24" y="1"/>
                </a:lnTo>
                <a:lnTo>
                  <a:pt x="16" y="1"/>
                </a:lnTo>
                <a:lnTo>
                  <a:pt x="8" y="0"/>
                </a:lnTo>
                <a:lnTo>
                  <a:pt x="0" y="0"/>
                </a:lnTo>
                <a:lnTo>
                  <a:pt x="0" y="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992240" y="3795840"/>
            <a:ext cx="96840" cy="9360"/>
          </a:xfrm>
          <a:custGeom>
            <a:avLst/>
            <a:gdLst/>
            <a:ahLst/>
            <a:rect l="l" t="t" r="r" b="b"/>
            <a:pathLst>
              <a:path w="61" h="6">
                <a:moveTo>
                  <a:pt x="0" y="4"/>
                </a:moveTo>
                <a:lnTo>
                  <a:pt x="5" y="4"/>
                </a:lnTo>
                <a:lnTo>
                  <a:pt x="11" y="4"/>
                </a:lnTo>
                <a:lnTo>
                  <a:pt x="17" y="4"/>
                </a:lnTo>
                <a:lnTo>
                  <a:pt x="25" y="4"/>
                </a:lnTo>
                <a:lnTo>
                  <a:pt x="33" y="4"/>
                </a:lnTo>
                <a:lnTo>
                  <a:pt x="42" y="4"/>
                </a:lnTo>
                <a:lnTo>
                  <a:pt x="51" y="5"/>
                </a:lnTo>
                <a:lnTo>
                  <a:pt x="60" y="5"/>
                </a:lnTo>
                <a:lnTo>
                  <a:pt x="60" y="1"/>
                </a:lnTo>
                <a:lnTo>
                  <a:pt x="51" y="1"/>
                </a:lnTo>
                <a:lnTo>
                  <a:pt x="42" y="1"/>
                </a:lnTo>
                <a:lnTo>
                  <a:pt x="33" y="1"/>
                </a:lnTo>
                <a:lnTo>
                  <a:pt x="25" y="0"/>
                </a:lnTo>
                <a:lnTo>
                  <a:pt x="17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893960" y="3795840"/>
            <a:ext cx="84240" cy="14040"/>
          </a:xfrm>
          <a:custGeom>
            <a:avLst/>
            <a:gdLst/>
            <a:ahLst/>
            <a:rect l="l" t="t" r="r" b="b"/>
            <a:pathLst>
              <a:path w="53" h="9">
                <a:moveTo>
                  <a:pt x="2" y="8"/>
                </a:moveTo>
                <a:lnTo>
                  <a:pt x="8" y="7"/>
                </a:lnTo>
                <a:lnTo>
                  <a:pt x="13" y="7"/>
                </a:lnTo>
                <a:lnTo>
                  <a:pt x="20" y="6"/>
                </a:lnTo>
                <a:lnTo>
                  <a:pt x="27" y="5"/>
                </a:lnTo>
                <a:lnTo>
                  <a:pt x="33" y="5"/>
                </a:lnTo>
                <a:lnTo>
                  <a:pt x="39" y="5"/>
                </a:lnTo>
                <a:lnTo>
                  <a:pt x="45" y="5"/>
                </a:lnTo>
                <a:lnTo>
                  <a:pt x="52" y="5"/>
                </a:lnTo>
                <a:lnTo>
                  <a:pt x="52" y="0"/>
                </a:lnTo>
                <a:lnTo>
                  <a:pt x="45" y="0"/>
                </a:lnTo>
                <a:lnTo>
                  <a:pt x="39" y="0"/>
                </a:lnTo>
                <a:lnTo>
                  <a:pt x="33" y="0"/>
                </a:lnTo>
                <a:lnTo>
                  <a:pt x="26" y="1"/>
                </a:lnTo>
                <a:lnTo>
                  <a:pt x="19" y="1"/>
                </a:lnTo>
                <a:lnTo>
                  <a:pt x="13" y="2"/>
                </a:lnTo>
                <a:lnTo>
                  <a:pt x="7" y="3"/>
                </a:lnTo>
                <a:lnTo>
                  <a:pt x="0" y="4"/>
                </a:lnTo>
                <a:lnTo>
                  <a:pt x="2" y="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833480" y="3808440"/>
            <a:ext cx="49320" cy="41400"/>
          </a:xfrm>
          <a:custGeom>
            <a:avLst/>
            <a:gdLst/>
            <a:ahLst/>
            <a:rect l="l" t="t" r="r" b="b"/>
            <a:pathLst>
              <a:path w="31" h="26">
                <a:moveTo>
                  <a:pt x="4" y="25"/>
                </a:moveTo>
                <a:lnTo>
                  <a:pt x="8" y="22"/>
                </a:lnTo>
                <a:lnTo>
                  <a:pt x="9" y="20"/>
                </a:lnTo>
                <a:lnTo>
                  <a:pt x="11" y="18"/>
                </a:lnTo>
                <a:lnTo>
                  <a:pt x="13" y="16"/>
                </a:lnTo>
                <a:lnTo>
                  <a:pt x="15" y="14"/>
                </a:lnTo>
                <a:lnTo>
                  <a:pt x="18" y="11"/>
                </a:lnTo>
                <a:lnTo>
                  <a:pt x="23" y="10"/>
                </a:lnTo>
                <a:lnTo>
                  <a:pt x="26" y="9"/>
                </a:lnTo>
                <a:lnTo>
                  <a:pt x="30" y="7"/>
                </a:lnTo>
                <a:lnTo>
                  <a:pt x="29" y="0"/>
                </a:lnTo>
                <a:lnTo>
                  <a:pt x="23" y="1"/>
                </a:lnTo>
                <a:lnTo>
                  <a:pt x="19" y="3"/>
                </a:lnTo>
                <a:lnTo>
                  <a:pt x="15" y="5"/>
                </a:lnTo>
                <a:lnTo>
                  <a:pt x="11" y="7"/>
                </a:lnTo>
                <a:lnTo>
                  <a:pt x="8" y="10"/>
                </a:lnTo>
                <a:lnTo>
                  <a:pt x="5" y="13"/>
                </a:lnTo>
                <a:lnTo>
                  <a:pt x="2" y="16"/>
                </a:lnTo>
                <a:lnTo>
                  <a:pt x="0" y="19"/>
                </a:lnTo>
                <a:lnTo>
                  <a:pt x="4" y="16"/>
                </a:lnTo>
                <a:lnTo>
                  <a:pt x="4" y="25"/>
                </a:lnTo>
                <a:lnTo>
                  <a:pt x="7" y="24"/>
                </a:lnTo>
                <a:lnTo>
                  <a:pt x="8" y="22"/>
                </a:lnTo>
                <a:lnTo>
                  <a:pt x="4" y="2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535120" y="3733920"/>
            <a:ext cx="1784520" cy="106200"/>
          </a:xfrm>
          <a:custGeom>
            <a:avLst/>
            <a:gdLst/>
            <a:ahLst/>
            <a:rect l="l" t="t" r="r" b="b"/>
            <a:pathLst>
              <a:path w="1124" h="67">
                <a:moveTo>
                  <a:pt x="575" y="66"/>
                </a:moveTo>
                <a:lnTo>
                  <a:pt x="547" y="66"/>
                </a:lnTo>
                <a:lnTo>
                  <a:pt x="543" y="63"/>
                </a:lnTo>
                <a:lnTo>
                  <a:pt x="539" y="60"/>
                </a:lnTo>
                <a:lnTo>
                  <a:pt x="533" y="56"/>
                </a:lnTo>
                <a:lnTo>
                  <a:pt x="527" y="54"/>
                </a:lnTo>
                <a:lnTo>
                  <a:pt x="520" y="51"/>
                </a:lnTo>
                <a:lnTo>
                  <a:pt x="513" y="50"/>
                </a:lnTo>
                <a:lnTo>
                  <a:pt x="505" y="47"/>
                </a:lnTo>
                <a:lnTo>
                  <a:pt x="498" y="46"/>
                </a:lnTo>
                <a:lnTo>
                  <a:pt x="489" y="44"/>
                </a:lnTo>
                <a:lnTo>
                  <a:pt x="479" y="43"/>
                </a:lnTo>
                <a:lnTo>
                  <a:pt x="470" y="42"/>
                </a:lnTo>
                <a:lnTo>
                  <a:pt x="459" y="41"/>
                </a:lnTo>
                <a:lnTo>
                  <a:pt x="450" y="40"/>
                </a:lnTo>
                <a:lnTo>
                  <a:pt x="439" y="39"/>
                </a:lnTo>
                <a:lnTo>
                  <a:pt x="429" y="39"/>
                </a:lnTo>
                <a:lnTo>
                  <a:pt x="418" y="39"/>
                </a:lnTo>
                <a:lnTo>
                  <a:pt x="411" y="39"/>
                </a:lnTo>
                <a:lnTo>
                  <a:pt x="402" y="39"/>
                </a:lnTo>
                <a:lnTo>
                  <a:pt x="393" y="39"/>
                </a:lnTo>
                <a:lnTo>
                  <a:pt x="383" y="40"/>
                </a:lnTo>
                <a:lnTo>
                  <a:pt x="371" y="40"/>
                </a:lnTo>
                <a:lnTo>
                  <a:pt x="359" y="41"/>
                </a:lnTo>
                <a:lnTo>
                  <a:pt x="345" y="42"/>
                </a:lnTo>
                <a:lnTo>
                  <a:pt x="332" y="43"/>
                </a:lnTo>
                <a:lnTo>
                  <a:pt x="325" y="43"/>
                </a:lnTo>
                <a:lnTo>
                  <a:pt x="318" y="43"/>
                </a:lnTo>
                <a:lnTo>
                  <a:pt x="311" y="43"/>
                </a:lnTo>
                <a:lnTo>
                  <a:pt x="305" y="43"/>
                </a:lnTo>
                <a:lnTo>
                  <a:pt x="298" y="43"/>
                </a:lnTo>
                <a:lnTo>
                  <a:pt x="292" y="44"/>
                </a:lnTo>
                <a:lnTo>
                  <a:pt x="286" y="44"/>
                </a:lnTo>
                <a:lnTo>
                  <a:pt x="280" y="44"/>
                </a:lnTo>
                <a:lnTo>
                  <a:pt x="275" y="44"/>
                </a:lnTo>
                <a:lnTo>
                  <a:pt x="268" y="45"/>
                </a:lnTo>
                <a:lnTo>
                  <a:pt x="262" y="45"/>
                </a:lnTo>
                <a:lnTo>
                  <a:pt x="257" y="45"/>
                </a:lnTo>
                <a:lnTo>
                  <a:pt x="252" y="46"/>
                </a:lnTo>
                <a:lnTo>
                  <a:pt x="246" y="46"/>
                </a:lnTo>
                <a:lnTo>
                  <a:pt x="241" y="46"/>
                </a:lnTo>
                <a:lnTo>
                  <a:pt x="235" y="46"/>
                </a:lnTo>
                <a:lnTo>
                  <a:pt x="225" y="46"/>
                </a:lnTo>
                <a:lnTo>
                  <a:pt x="214" y="46"/>
                </a:lnTo>
                <a:lnTo>
                  <a:pt x="204" y="45"/>
                </a:lnTo>
                <a:lnTo>
                  <a:pt x="193" y="44"/>
                </a:lnTo>
                <a:lnTo>
                  <a:pt x="184" y="44"/>
                </a:lnTo>
                <a:lnTo>
                  <a:pt x="174" y="43"/>
                </a:lnTo>
                <a:lnTo>
                  <a:pt x="165" y="43"/>
                </a:lnTo>
                <a:lnTo>
                  <a:pt x="155" y="43"/>
                </a:lnTo>
                <a:lnTo>
                  <a:pt x="146" y="42"/>
                </a:lnTo>
                <a:lnTo>
                  <a:pt x="137" y="41"/>
                </a:lnTo>
                <a:lnTo>
                  <a:pt x="128" y="40"/>
                </a:lnTo>
                <a:lnTo>
                  <a:pt x="119" y="39"/>
                </a:lnTo>
                <a:lnTo>
                  <a:pt x="109" y="37"/>
                </a:lnTo>
                <a:lnTo>
                  <a:pt x="101" y="36"/>
                </a:lnTo>
                <a:lnTo>
                  <a:pt x="92" y="35"/>
                </a:lnTo>
                <a:lnTo>
                  <a:pt x="84" y="33"/>
                </a:lnTo>
                <a:lnTo>
                  <a:pt x="66" y="30"/>
                </a:lnTo>
                <a:lnTo>
                  <a:pt x="52" y="26"/>
                </a:lnTo>
                <a:lnTo>
                  <a:pt x="39" y="22"/>
                </a:lnTo>
                <a:lnTo>
                  <a:pt x="27" y="17"/>
                </a:lnTo>
                <a:lnTo>
                  <a:pt x="16" y="14"/>
                </a:lnTo>
                <a:lnTo>
                  <a:pt x="8" y="10"/>
                </a:lnTo>
                <a:lnTo>
                  <a:pt x="3" y="4"/>
                </a:lnTo>
                <a:lnTo>
                  <a:pt x="0" y="0"/>
                </a:lnTo>
                <a:lnTo>
                  <a:pt x="29" y="0"/>
                </a:lnTo>
                <a:lnTo>
                  <a:pt x="31" y="3"/>
                </a:lnTo>
                <a:lnTo>
                  <a:pt x="35" y="6"/>
                </a:lnTo>
                <a:lnTo>
                  <a:pt x="39" y="9"/>
                </a:lnTo>
                <a:lnTo>
                  <a:pt x="45" y="11"/>
                </a:lnTo>
                <a:lnTo>
                  <a:pt x="51" y="14"/>
                </a:lnTo>
                <a:lnTo>
                  <a:pt x="58" y="17"/>
                </a:lnTo>
                <a:lnTo>
                  <a:pt x="66" y="18"/>
                </a:lnTo>
                <a:lnTo>
                  <a:pt x="74" y="20"/>
                </a:lnTo>
                <a:lnTo>
                  <a:pt x="79" y="21"/>
                </a:lnTo>
                <a:lnTo>
                  <a:pt x="84" y="22"/>
                </a:lnTo>
                <a:lnTo>
                  <a:pt x="90" y="23"/>
                </a:lnTo>
                <a:lnTo>
                  <a:pt x="96" y="23"/>
                </a:lnTo>
                <a:lnTo>
                  <a:pt x="101" y="23"/>
                </a:lnTo>
                <a:lnTo>
                  <a:pt x="107" y="24"/>
                </a:lnTo>
                <a:lnTo>
                  <a:pt x="113" y="25"/>
                </a:lnTo>
                <a:lnTo>
                  <a:pt x="119" y="26"/>
                </a:lnTo>
                <a:lnTo>
                  <a:pt x="125" y="26"/>
                </a:lnTo>
                <a:lnTo>
                  <a:pt x="131" y="27"/>
                </a:lnTo>
                <a:lnTo>
                  <a:pt x="138" y="27"/>
                </a:lnTo>
                <a:lnTo>
                  <a:pt x="144" y="27"/>
                </a:lnTo>
                <a:lnTo>
                  <a:pt x="151" y="27"/>
                </a:lnTo>
                <a:lnTo>
                  <a:pt x="158" y="28"/>
                </a:lnTo>
                <a:lnTo>
                  <a:pt x="165" y="28"/>
                </a:lnTo>
                <a:lnTo>
                  <a:pt x="171" y="28"/>
                </a:lnTo>
                <a:lnTo>
                  <a:pt x="175" y="28"/>
                </a:lnTo>
                <a:lnTo>
                  <a:pt x="179" y="28"/>
                </a:lnTo>
                <a:lnTo>
                  <a:pt x="184" y="28"/>
                </a:lnTo>
                <a:lnTo>
                  <a:pt x="189" y="28"/>
                </a:lnTo>
                <a:lnTo>
                  <a:pt x="195" y="27"/>
                </a:lnTo>
                <a:lnTo>
                  <a:pt x="200" y="27"/>
                </a:lnTo>
                <a:lnTo>
                  <a:pt x="206" y="27"/>
                </a:lnTo>
                <a:lnTo>
                  <a:pt x="211" y="27"/>
                </a:lnTo>
                <a:lnTo>
                  <a:pt x="217" y="27"/>
                </a:lnTo>
                <a:lnTo>
                  <a:pt x="223" y="27"/>
                </a:lnTo>
                <a:lnTo>
                  <a:pt x="230" y="26"/>
                </a:lnTo>
                <a:lnTo>
                  <a:pt x="236" y="26"/>
                </a:lnTo>
                <a:lnTo>
                  <a:pt x="242" y="26"/>
                </a:lnTo>
                <a:lnTo>
                  <a:pt x="249" y="25"/>
                </a:lnTo>
                <a:lnTo>
                  <a:pt x="256" y="25"/>
                </a:lnTo>
                <a:lnTo>
                  <a:pt x="263" y="24"/>
                </a:lnTo>
                <a:lnTo>
                  <a:pt x="269" y="24"/>
                </a:lnTo>
                <a:lnTo>
                  <a:pt x="275" y="24"/>
                </a:lnTo>
                <a:lnTo>
                  <a:pt x="281" y="23"/>
                </a:lnTo>
                <a:lnTo>
                  <a:pt x="287" y="23"/>
                </a:lnTo>
                <a:lnTo>
                  <a:pt x="293" y="23"/>
                </a:lnTo>
                <a:lnTo>
                  <a:pt x="299" y="23"/>
                </a:lnTo>
                <a:lnTo>
                  <a:pt x="306" y="23"/>
                </a:lnTo>
                <a:lnTo>
                  <a:pt x="311" y="23"/>
                </a:lnTo>
                <a:lnTo>
                  <a:pt x="318" y="23"/>
                </a:lnTo>
                <a:lnTo>
                  <a:pt x="324" y="23"/>
                </a:lnTo>
                <a:lnTo>
                  <a:pt x="329" y="23"/>
                </a:lnTo>
                <a:lnTo>
                  <a:pt x="334" y="22"/>
                </a:lnTo>
                <a:lnTo>
                  <a:pt x="340" y="22"/>
                </a:lnTo>
                <a:lnTo>
                  <a:pt x="345" y="22"/>
                </a:lnTo>
                <a:lnTo>
                  <a:pt x="349" y="22"/>
                </a:lnTo>
                <a:lnTo>
                  <a:pt x="354" y="22"/>
                </a:lnTo>
                <a:lnTo>
                  <a:pt x="361" y="22"/>
                </a:lnTo>
                <a:lnTo>
                  <a:pt x="368" y="22"/>
                </a:lnTo>
                <a:lnTo>
                  <a:pt x="376" y="23"/>
                </a:lnTo>
                <a:lnTo>
                  <a:pt x="383" y="23"/>
                </a:lnTo>
                <a:lnTo>
                  <a:pt x="391" y="23"/>
                </a:lnTo>
                <a:lnTo>
                  <a:pt x="397" y="23"/>
                </a:lnTo>
                <a:lnTo>
                  <a:pt x="405" y="23"/>
                </a:lnTo>
                <a:lnTo>
                  <a:pt x="412" y="23"/>
                </a:lnTo>
                <a:lnTo>
                  <a:pt x="420" y="24"/>
                </a:lnTo>
                <a:lnTo>
                  <a:pt x="427" y="25"/>
                </a:lnTo>
                <a:lnTo>
                  <a:pt x="435" y="26"/>
                </a:lnTo>
                <a:lnTo>
                  <a:pt x="442" y="27"/>
                </a:lnTo>
                <a:lnTo>
                  <a:pt x="450" y="27"/>
                </a:lnTo>
                <a:lnTo>
                  <a:pt x="456" y="28"/>
                </a:lnTo>
                <a:lnTo>
                  <a:pt x="464" y="30"/>
                </a:lnTo>
                <a:lnTo>
                  <a:pt x="471" y="30"/>
                </a:lnTo>
                <a:lnTo>
                  <a:pt x="484" y="32"/>
                </a:lnTo>
                <a:lnTo>
                  <a:pt x="497" y="35"/>
                </a:lnTo>
                <a:lnTo>
                  <a:pt x="508" y="37"/>
                </a:lnTo>
                <a:lnTo>
                  <a:pt x="519" y="41"/>
                </a:lnTo>
                <a:lnTo>
                  <a:pt x="530" y="44"/>
                </a:lnTo>
                <a:lnTo>
                  <a:pt x="540" y="48"/>
                </a:lnTo>
                <a:lnTo>
                  <a:pt x="550" y="52"/>
                </a:lnTo>
                <a:lnTo>
                  <a:pt x="558" y="56"/>
                </a:lnTo>
                <a:lnTo>
                  <a:pt x="566" y="52"/>
                </a:lnTo>
                <a:lnTo>
                  <a:pt x="576" y="48"/>
                </a:lnTo>
                <a:lnTo>
                  <a:pt x="586" y="44"/>
                </a:lnTo>
                <a:lnTo>
                  <a:pt x="598" y="41"/>
                </a:lnTo>
                <a:lnTo>
                  <a:pt x="609" y="37"/>
                </a:lnTo>
                <a:lnTo>
                  <a:pt x="620" y="35"/>
                </a:lnTo>
                <a:lnTo>
                  <a:pt x="632" y="32"/>
                </a:lnTo>
                <a:lnTo>
                  <a:pt x="644" y="30"/>
                </a:lnTo>
                <a:lnTo>
                  <a:pt x="651" y="30"/>
                </a:lnTo>
                <a:lnTo>
                  <a:pt x="657" y="28"/>
                </a:lnTo>
                <a:lnTo>
                  <a:pt x="665" y="27"/>
                </a:lnTo>
                <a:lnTo>
                  <a:pt x="672" y="27"/>
                </a:lnTo>
                <a:lnTo>
                  <a:pt x="679" y="26"/>
                </a:lnTo>
                <a:lnTo>
                  <a:pt x="686" y="25"/>
                </a:lnTo>
                <a:lnTo>
                  <a:pt x="693" y="24"/>
                </a:lnTo>
                <a:lnTo>
                  <a:pt x="701" y="23"/>
                </a:lnTo>
                <a:lnTo>
                  <a:pt x="708" y="23"/>
                </a:lnTo>
                <a:lnTo>
                  <a:pt x="715" y="23"/>
                </a:lnTo>
                <a:lnTo>
                  <a:pt x="723" y="23"/>
                </a:lnTo>
                <a:lnTo>
                  <a:pt x="730" y="23"/>
                </a:lnTo>
                <a:lnTo>
                  <a:pt x="737" y="23"/>
                </a:lnTo>
                <a:lnTo>
                  <a:pt x="744" y="22"/>
                </a:lnTo>
                <a:lnTo>
                  <a:pt x="752" y="22"/>
                </a:lnTo>
                <a:lnTo>
                  <a:pt x="759" y="22"/>
                </a:lnTo>
                <a:lnTo>
                  <a:pt x="763" y="22"/>
                </a:lnTo>
                <a:lnTo>
                  <a:pt x="768" y="22"/>
                </a:lnTo>
                <a:lnTo>
                  <a:pt x="773" y="22"/>
                </a:lnTo>
                <a:lnTo>
                  <a:pt x="778" y="22"/>
                </a:lnTo>
                <a:lnTo>
                  <a:pt x="783" y="23"/>
                </a:lnTo>
                <a:lnTo>
                  <a:pt x="790" y="23"/>
                </a:lnTo>
                <a:lnTo>
                  <a:pt x="795" y="23"/>
                </a:lnTo>
                <a:lnTo>
                  <a:pt x="802" y="23"/>
                </a:lnTo>
                <a:lnTo>
                  <a:pt x="808" y="23"/>
                </a:lnTo>
                <a:lnTo>
                  <a:pt x="814" y="23"/>
                </a:lnTo>
                <a:lnTo>
                  <a:pt x="821" y="23"/>
                </a:lnTo>
                <a:lnTo>
                  <a:pt x="828" y="23"/>
                </a:lnTo>
                <a:lnTo>
                  <a:pt x="835" y="23"/>
                </a:lnTo>
                <a:lnTo>
                  <a:pt x="842" y="24"/>
                </a:lnTo>
                <a:lnTo>
                  <a:pt x="848" y="24"/>
                </a:lnTo>
                <a:lnTo>
                  <a:pt x="855" y="24"/>
                </a:lnTo>
                <a:lnTo>
                  <a:pt x="862" y="25"/>
                </a:lnTo>
                <a:lnTo>
                  <a:pt x="868" y="25"/>
                </a:lnTo>
                <a:lnTo>
                  <a:pt x="875" y="26"/>
                </a:lnTo>
                <a:lnTo>
                  <a:pt x="882" y="26"/>
                </a:lnTo>
                <a:lnTo>
                  <a:pt x="888" y="26"/>
                </a:lnTo>
                <a:lnTo>
                  <a:pt x="895" y="27"/>
                </a:lnTo>
                <a:lnTo>
                  <a:pt x="901" y="27"/>
                </a:lnTo>
                <a:lnTo>
                  <a:pt x="908" y="27"/>
                </a:lnTo>
                <a:lnTo>
                  <a:pt x="913" y="27"/>
                </a:lnTo>
                <a:lnTo>
                  <a:pt x="920" y="27"/>
                </a:lnTo>
                <a:lnTo>
                  <a:pt x="925" y="27"/>
                </a:lnTo>
                <a:lnTo>
                  <a:pt x="931" y="28"/>
                </a:lnTo>
                <a:lnTo>
                  <a:pt x="936" y="28"/>
                </a:lnTo>
                <a:lnTo>
                  <a:pt x="941" y="28"/>
                </a:lnTo>
                <a:lnTo>
                  <a:pt x="946" y="28"/>
                </a:lnTo>
                <a:lnTo>
                  <a:pt x="950" y="28"/>
                </a:lnTo>
                <a:lnTo>
                  <a:pt x="961" y="28"/>
                </a:lnTo>
                <a:lnTo>
                  <a:pt x="973" y="27"/>
                </a:lnTo>
                <a:lnTo>
                  <a:pt x="985" y="27"/>
                </a:lnTo>
                <a:lnTo>
                  <a:pt x="997" y="26"/>
                </a:lnTo>
                <a:lnTo>
                  <a:pt x="1008" y="24"/>
                </a:lnTo>
                <a:lnTo>
                  <a:pt x="1019" y="23"/>
                </a:lnTo>
                <a:lnTo>
                  <a:pt x="1028" y="23"/>
                </a:lnTo>
                <a:lnTo>
                  <a:pt x="1037" y="21"/>
                </a:lnTo>
                <a:lnTo>
                  <a:pt x="1047" y="19"/>
                </a:lnTo>
                <a:lnTo>
                  <a:pt x="1057" y="17"/>
                </a:lnTo>
                <a:lnTo>
                  <a:pt x="1066" y="15"/>
                </a:lnTo>
                <a:lnTo>
                  <a:pt x="1073" y="12"/>
                </a:lnTo>
                <a:lnTo>
                  <a:pt x="1081" y="10"/>
                </a:lnTo>
                <a:lnTo>
                  <a:pt x="1087" y="6"/>
                </a:lnTo>
                <a:lnTo>
                  <a:pt x="1092" y="3"/>
                </a:lnTo>
                <a:lnTo>
                  <a:pt x="1096" y="0"/>
                </a:lnTo>
                <a:lnTo>
                  <a:pt x="1123" y="0"/>
                </a:lnTo>
                <a:lnTo>
                  <a:pt x="1119" y="4"/>
                </a:lnTo>
                <a:lnTo>
                  <a:pt x="1114" y="10"/>
                </a:lnTo>
                <a:lnTo>
                  <a:pt x="1107" y="14"/>
                </a:lnTo>
                <a:lnTo>
                  <a:pt x="1097" y="18"/>
                </a:lnTo>
                <a:lnTo>
                  <a:pt x="1086" y="23"/>
                </a:lnTo>
                <a:lnTo>
                  <a:pt x="1073" y="26"/>
                </a:lnTo>
                <a:lnTo>
                  <a:pt x="1059" y="30"/>
                </a:lnTo>
                <a:lnTo>
                  <a:pt x="1042" y="33"/>
                </a:lnTo>
                <a:lnTo>
                  <a:pt x="1034" y="35"/>
                </a:lnTo>
                <a:lnTo>
                  <a:pt x="1025" y="36"/>
                </a:lnTo>
                <a:lnTo>
                  <a:pt x="1016" y="37"/>
                </a:lnTo>
                <a:lnTo>
                  <a:pt x="1007" y="39"/>
                </a:lnTo>
                <a:lnTo>
                  <a:pt x="997" y="40"/>
                </a:lnTo>
                <a:lnTo>
                  <a:pt x="988" y="41"/>
                </a:lnTo>
                <a:lnTo>
                  <a:pt x="978" y="42"/>
                </a:lnTo>
                <a:lnTo>
                  <a:pt x="967" y="43"/>
                </a:lnTo>
                <a:lnTo>
                  <a:pt x="958" y="43"/>
                </a:lnTo>
                <a:lnTo>
                  <a:pt x="948" y="43"/>
                </a:lnTo>
                <a:lnTo>
                  <a:pt x="938" y="44"/>
                </a:lnTo>
                <a:lnTo>
                  <a:pt x="928" y="44"/>
                </a:lnTo>
                <a:lnTo>
                  <a:pt x="917" y="45"/>
                </a:lnTo>
                <a:lnTo>
                  <a:pt x="906" y="46"/>
                </a:lnTo>
                <a:lnTo>
                  <a:pt x="896" y="46"/>
                </a:lnTo>
                <a:lnTo>
                  <a:pt x="885" y="46"/>
                </a:lnTo>
                <a:lnTo>
                  <a:pt x="880" y="46"/>
                </a:lnTo>
                <a:lnTo>
                  <a:pt x="875" y="46"/>
                </a:lnTo>
                <a:lnTo>
                  <a:pt x="869" y="46"/>
                </a:lnTo>
                <a:lnTo>
                  <a:pt x="863" y="45"/>
                </a:lnTo>
                <a:lnTo>
                  <a:pt x="858" y="45"/>
                </a:lnTo>
                <a:lnTo>
                  <a:pt x="852" y="45"/>
                </a:lnTo>
                <a:lnTo>
                  <a:pt x="846" y="44"/>
                </a:lnTo>
                <a:lnTo>
                  <a:pt x="841" y="44"/>
                </a:lnTo>
                <a:lnTo>
                  <a:pt x="835" y="44"/>
                </a:lnTo>
                <a:lnTo>
                  <a:pt x="829" y="44"/>
                </a:lnTo>
                <a:lnTo>
                  <a:pt x="823" y="43"/>
                </a:lnTo>
                <a:lnTo>
                  <a:pt x="817" y="43"/>
                </a:lnTo>
                <a:lnTo>
                  <a:pt x="810" y="43"/>
                </a:lnTo>
                <a:lnTo>
                  <a:pt x="804" y="43"/>
                </a:lnTo>
                <a:lnTo>
                  <a:pt x="797" y="43"/>
                </a:lnTo>
                <a:lnTo>
                  <a:pt x="791" y="43"/>
                </a:lnTo>
                <a:lnTo>
                  <a:pt x="784" y="42"/>
                </a:lnTo>
                <a:lnTo>
                  <a:pt x="777" y="42"/>
                </a:lnTo>
                <a:lnTo>
                  <a:pt x="770" y="41"/>
                </a:lnTo>
                <a:lnTo>
                  <a:pt x="763" y="41"/>
                </a:lnTo>
                <a:lnTo>
                  <a:pt x="756" y="41"/>
                </a:lnTo>
                <a:lnTo>
                  <a:pt x="750" y="40"/>
                </a:lnTo>
                <a:lnTo>
                  <a:pt x="744" y="40"/>
                </a:lnTo>
                <a:lnTo>
                  <a:pt x="737" y="40"/>
                </a:lnTo>
                <a:lnTo>
                  <a:pt x="731" y="40"/>
                </a:lnTo>
                <a:lnTo>
                  <a:pt x="726" y="39"/>
                </a:lnTo>
                <a:lnTo>
                  <a:pt x="721" y="39"/>
                </a:lnTo>
                <a:lnTo>
                  <a:pt x="716" y="39"/>
                </a:lnTo>
                <a:lnTo>
                  <a:pt x="711" y="39"/>
                </a:lnTo>
                <a:lnTo>
                  <a:pt x="707" y="39"/>
                </a:lnTo>
                <a:lnTo>
                  <a:pt x="703" y="39"/>
                </a:lnTo>
                <a:lnTo>
                  <a:pt x="699" y="39"/>
                </a:lnTo>
                <a:lnTo>
                  <a:pt x="689" y="39"/>
                </a:lnTo>
                <a:lnTo>
                  <a:pt x="679" y="39"/>
                </a:lnTo>
                <a:lnTo>
                  <a:pt x="668" y="40"/>
                </a:lnTo>
                <a:lnTo>
                  <a:pt x="658" y="40"/>
                </a:lnTo>
                <a:lnTo>
                  <a:pt x="648" y="41"/>
                </a:lnTo>
                <a:lnTo>
                  <a:pt x="638" y="43"/>
                </a:lnTo>
                <a:lnTo>
                  <a:pt x="629" y="43"/>
                </a:lnTo>
                <a:lnTo>
                  <a:pt x="619" y="45"/>
                </a:lnTo>
                <a:lnTo>
                  <a:pt x="612" y="47"/>
                </a:lnTo>
                <a:lnTo>
                  <a:pt x="604" y="49"/>
                </a:lnTo>
                <a:lnTo>
                  <a:pt x="597" y="51"/>
                </a:lnTo>
                <a:lnTo>
                  <a:pt x="591" y="54"/>
                </a:lnTo>
                <a:lnTo>
                  <a:pt x="585" y="56"/>
                </a:lnTo>
                <a:lnTo>
                  <a:pt x="581" y="60"/>
                </a:lnTo>
                <a:lnTo>
                  <a:pt x="577" y="63"/>
                </a:lnTo>
                <a:lnTo>
                  <a:pt x="575" y="66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405240" y="3844800"/>
            <a:ext cx="36360" cy="5040"/>
          </a:xfrm>
          <a:custGeom>
            <a:avLst/>
            <a:gdLst/>
            <a:ahLst/>
            <a:rect l="l" t="t" r="r" b="b"/>
            <a:pathLst>
              <a:path w="23" h="3">
                <a:moveTo>
                  <a:pt x="0" y="2"/>
                </a:moveTo>
                <a:lnTo>
                  <a:pt x="3" y="2"/>
                </a:lnTo>
                <a:lnTo>
                  <a:pt x="22" y="2"/>
                </a:lnTo>
                <a:lnTo>
                  <a:pt x="22" y="0"/>
                </a:lnTo>
                <a:lnTo>
                  <a:pt x="3" y="0"/>
                </a:lnTo>
                <a:lnTo>
                  <a:pt x="6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0" y="2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330720" y="3808440"/>
            <a:ext cx="72720" cy="38160"/>
          </a:xfrm>
          <a:custGeom>
            <a:avLst/>
            <a:gdLst/>
            <a:ahLst/>
            <a:rect l="l" t="t" r="r" b="b"/>
            <a:pathLst>
              <a:path w="46" h="24">
                <a:moveTo>
                  <a:pt x="0" y="8"/>
                </a:moveTo>
                <a:lnTo>
                  <a:pt x="1" y="8"/>
                </a:lnTo>
                <a:lnTo>
                  <a:pt x="7" y="8"/>
                </a:lnTo>
                <a:lnTo>
                  <a:pt x="13" y="10"/>
                </a:lnTo>
                <a:lnTo>
                  <a:pt x="19" y="13"/>
                </a:lnTo>
                <a:lnTo>
                  <a:pt x="24" y="14"/>
                </a:lnTo>
                <a:lnTo>
                  <a:pt x="29" y="16"/>
                </a:lnTo>
                <a:lnTo>
                  <a:pt x="33" y="18"/>
                </a:lnTo>
                <a:lnTo>
                  <a:pt x="36" y="20"/>
                </a:lnTo>
                <a:lnTo>
                  <a:pt x="38" y="23"/>
                </a:lnTo>
                <a:lnTo>
                  <a:pt x="45" y="18"/>
                </a:lnTo>
                <a:lnTo>
                  <a:pt x="42" y="15"/>
                </a:lnTo>
                <a:lnTo>
                  <a:pt x="38" y="12"/>
                </a:lnTo>
                <a:lnTo>
                  <a:pt x="32" y="10"/>
                </a:lnTo>
                <a:lnTo>
                  <a:pt x="28" y="7"/>
                </a:lnTo>
                <a:lnTo>
                  <a:pt x="21" y="5"/>
                </a:lnTo>
                <a:lnTo>
                  <a:pt x="16" y="3"/>
                </a:lnTo>
                <a:lnTo>
                  <a:pt x="9" y="1"/>
                </a:lnTo>
                <a:lnTo>
                  <a:pt x="2" y="0"/>
                </a:lnTo>
                <a:lnTo>
                  <a:pt x="0" y="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205080" y="3795840"/>
            <a:ext cx="115920" cy="15840"/>
          </a:xfrm>
          <a:custGeom>
            <a:avLst/>
            <a:gdLst/>
            <a:ahLst/>
            <a:rect l="l" t="t" r="r" b="b"/>
            <a:pathLst>
              <a:path w="73" h="10">
                <a:moveTo>
                  <a:pt x="0" y="5"/>
                </a:moveTo>
                <a:lnTo>
                  <a:pt x="10" y="5"/>
                </a:lnTo>
                <a:lnTo>
                  <a:pt x="18" y="5"/>
                </a:lnTo>
                <a:lnTo>
                  <a:pt x="28" y="6"/>
                </a:lnTo>
                <a:lnTo>
                  <a:pt x="36" y="6"/>
                </a:lnTo>
                <a:lnTo>
                  <a:pt x="45" y="7"/>
                </a:lnTo>
                <a:lnTo>
                  <a:pt x="54" y="7"/>
                </a:lnTo>
                <a:lnTo>
                  <a:pt x="62" y="8"/>
                </a:lnTo>
                <a:lnTo>
                  <a:pt x="69" y="9"/>
                </a:lnTo>
                <a:lnTo>
                  <a:pt x="72" y="4"/>
                </a:lnTo>
                <a:lnTo>
                  <a:pt x="63" y="3"/>
                </a:lnTo>
                <a:lnTo>
                  <a:pt x="54" y="2"/>
                </a:lnTo>
                <a:lnTo>
                  <a:pt x="46" y="2"/>
                </a:lnTo>
                <a:lnTo>
                  <a:pt x="37" y="1"/>
                </a:lnTo>
                <a:lnTo>
                  <a:pt x="28" y="0"/>
                </a:lnTo>
                <a:lnTo>
                  <a:pt x="18" y="0"/>
                </a:lnTo>
                <a:lnTo>
                  <a:pt x="10" y="0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067200" y="3795840"/>
            <a:ext cx="123840" cy="9360"/>
          </a:xfrm>
          <a:custGeom>
            <a:avLst/>
            <a:gdLst/>
            <a:ahLst/>
            <a:rect l="l" t="t" r="r" b="b"/>
            <a:pathLst>
              <a:path w="78" h="6">
                <a:moveTo>
                  <a:pt x="0" y="5"/>
                </a:moveTo>
                <a:lnTo>
                  <a:pt x="12" y="5"/>
                </a:lnTo>
                <a:lnTo>
                  <a:pt x="24" y="4"/>
                </a:lnTo>
                <a:lnTo>
                  <a:pt x="35" y="4"/>
                </a:lnTo>
                <a:lnTo>
                  <a:pt x="45" y="4"/>
                </a:lnTo>
                <a:lnTo>
                  <a:pt x="55" y="4"/>
                </a:lnTo>
                <a:lnTo>
                  <a:pt x="63" y="4"/>
                </a:lnTo>
                <a:lnTo>
                  <a:pt x="71" y="4"/>
                </a:lnTo>
                <a:lnTo>
                  <a:pt x="77" y="4"/>
                </a:lnTo>
                <a:lnTo>
                  <a:pt x="77" y="0"/>
                </a:lnTo>
                <a:lnTo>
                  <a:pt x="71" y="0"/>
                </a:lnTo>
                <a:lnTo>
                  <a:pt x="63" y="0"/>
                </a:lnTo>
                <a:lnTo>
                  <a:pt x="55" y="0"/>
                </a:lnTo>
                <a:lnTo>
                  <a:pt x="45" y="0"/>
                </a:lnTo>
                <a:lnTo>
                  <a:pt x="35" y="1"/>
                </a:lnTo>
                <a:lnTo>
                  <a:pt x="24" y="1"/>
                </a:lnTo>
                <a:lnTo>
                  <a:pt x="12" y="1"/>
                </a:lnTo>
                <a:lnTo>
                  <a:pt x="0" y="1"/>
                </a:lnTo>
                <a:lnTo>
                  <a:pt x="0" y="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911320" y="3801960"/>
            <a:ext cx="141480" cy="9720"/>
          </a:xfrm>
          <a:custGeom>
            <a:avLst/>
            <a:gdLst/>
            <a:ahLst/>
            <a:rect l="l" t="t" r="r" b="b"/>
            <a:pathLst>
              <a:path w="89" h="6">
                <a:moveTo>
                  <a:pt x="0" y="5"/>
                </a:moveTo>
                <a:lnTo>
                  <a:pt x="5" y="5"/>
                </a:lnTo>
                <a:lnTo>
                  <a:pt x="10" y="5"/>
                </a:lnTo>
                <a:lnTo>
                  <a:pt x="15" y="5"/>
                </a:lnTo>
                <a:lnTo>
                  <a:pt x="20" y="5"/>
                </a:lnTo>
                <a:lnTo>
                  <a:pt x="24" y="5"/>
                </a:lnTo>
                <a:lnTo>
                  <a:pt x="30" y="5"/>
                </a:lnTo>
                <a:lnTo>
                  <a:pt x="36" y="5"/>
                </a:lnTo>
                <a:lnTo>
                  <a:pt x="40" y="5"/>
                </a:lnTo>
                <a:lnTo>
                  <a:pt x="47" y="5"/>
                </a:lnTo>
                <a:lnTo>
                  <a:pt x="52" y="4"/>
                </a:lnTo>
                <a:lnTo>
                  <a:pt x="57" y="4"/>
                </a:lnTo>
                <a:lnTo>
                  <a:pt x="64" y="4"/>
                </a:lnTo>
                <a:lnTo>
                  <a:pt x="69" y="4"/>
                </a:lnTo>
                <a:lnTo>
                  <a:pt x="75" y="4"/>
                </a:lnTo>
                <a:lnTo>
                  <a:pt x="82" y="4"/>
                </a:lnTo>
                <a:lnTo>
                  <a:pt x="88" y="4"/>
                </a:lnTo>
                <a:lnTo>
                  <a:pt x="88" y="0"/>
                </a:lnTo>
                <a:lnTo>
                  <a:pt x="82" y="0"/>
                </a:lnTo>
                <a:lnTo>
                  <a:pt x="75" y="0"/>
                </a:lnTo>
                <a:lnTo>
                  <a:pt x="69" y="1"/>
                </a:lnTo>
                <a:lnTo>
                  <a:pt x="64" y="1"/>
                </a:lnTo>
                <a:lnTo>
                  <a:pt x="57" y="1"/>
                </a:lnTo>
                <a:lnTo>
                  <a:pt x="52" y="1"/>
                </a:lnTo>
                <a:lnTo>
                  <a:pt x="47" y="1"/>
                </a:lnTo>
                <a:lnTo>
                  <a:pt x="40" y="1"/>
                </a:lnTo>
                <a:lnTo>
                  <a:pt x="36" y="1"/>
                </a:lnTo>
                <a:lnTo>
                  <a:pt x="30" y="1"/>
                </a:lnTo>
                <a:lnTo>
                  <a:pt x="24" y="1"/>
                </a:lnTo>
                <a:lnTo>
                  <a:pt x="20" y="1"/>
                </a:lnTo>
                <a:lnTo>
                  <a:pt x="15" y="1"/>
                </a:lnTo>
                <a:lnTo>
                  <a:pt x="10" y="1"/>
                </a:lnTo>
                <a:lnTo>
                  <a:pt x="5" y="1"/>
                </a:lnTo>
                <a:lnTo>
                  <a:pt x="0" y="1"/>
                </a:lnTo>
                <a:lnTo>
                  <a:pt x="0" y="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666880" y="3786120"/>
            <a:ext cx="230400" cy="25560"/>
          </a:xfrm>
          <a:custGeom>
            <a:avLst/>
            <a:gdLst/>
            <a:ahLst/>
            <a:rect l="l" t="t" r="r" b="b"/>
            <a:pathLst>
              <a:path w="145" h="16">
                <a:moveTo>
                  <a:pt x="0" y="6"/>
                </a:moveTo>
                <a:lnTo>
                  <a:pt x="1" y="6"/>
                </a:lnTo>
                <a:lnTo>
                  <a:pt x="9" y="7"/>
                </a:lnTo>
                <a:lnTo>
                  <a:pt x="17" y="8"/>
                </a:lnTo>
                <a:lnTo>
                  <a:pt x="25" y="9"/>
                </a:lnTo>
                <a:lnTo>
                  <a:pt x="34" y="10"/>
                </a:lnTo>
                <a:lnTo>
                  <a:pt x="42" y="11"/>
                </a:lnTo>
                <a:lnTo>
                  <a:pt x="50" y="11"/>
                </a:lnTo>
                <a:lnTo>
                  <a:pt x="60" y="12"/>
                </a:lnTo>
                <a:lnTo>
                  <a:pt x="68" y="13"/>
                </a:lnTo>
                <a:lnTo>
                  <a:pt x="78" y="13"/>
                </a:lnTo>
                <a:lnTo>
                  <a:pt x="87" y="13"/>
                </a:lnTo>
                <a:lnTo>
                  <a:pt x="96" y="14"/>
                </a:lnTo>
                <a:lnTo>
                  <a:pt x="105" y="14"/>
                </a:lnTo>
                <a:lnTo>
                  <a:pt x="115" y="14"/>
                </a:lnTo>
                <a:lnTo>
                  <a:pt x="124" y="15"/>
                </a:lnTo>
                <a:lnTo>
                  <a:pt x="135" y="15"/>
                </a:lnTo>
                <a:lnTo>
                  <a:pt x="144" y="15"/>
                </a:lnTo>
                <a:lnTo>
                  <a:pt x="144" y="8"/>
                </a:lnTo>
                <a:lnTo>
                  <a:pt x="135" y="8"/>
                </a:lnTo>
                <a:lnTo>
                  <a:pt x="124" y="8"/>
                </a:lnTo>
                <a:lnTo>
                  <a:pt x="115" y="8"/>
                </a:lnTo>
                <a:lnTo>
                  <a:pt x="105" y="8"/>
                </a:lnTo>
                <a:lnTo>
                  <a:pt x="96" y="8"/>
                </a:lnTo>
                <a:lnTo>
                  <a:pt x="87" y="7"/>
                </a:lnTo>
                <a:lnTo>
                  <a:pt x="78" y="7"/>
                </a:lnTo>
                <a:lnTo>
                  <a:pt x="68" y="6"/>
                </a:lnTo>
                <a:lnTo>
                  <a:pt x="60" y="6"/>
                </a:lnTo>
                <a:lnTo>
                  <a:pt x="52" y="5"/>
                </a:lnTo>
                <a:lnTo>
                  <a:pt x="43" y="4"/>
                </a:lnTo>
                <a:lnTo>
                  <a:pt x="35" y="4"/>
                </a:lnTo>
                <a:lnTo>
                  <a:pt x="26" y="3"/>
                </a:lnTo>
                <a:lnTo>
                  <a:pt x="18" y="2"/>
                </a:lnTo>
                <a:lnTo>
                  <a:pt x="10" y="1"/>
                </a:lnTo>
                <a:lnTo>
                  <a:pt x="2" y="0"/>
                </a:lnTo>
                <a:lnTo>
                  <a:pt x="3" y="0"/>
                </a:lnTo>
                <a:lnTo>
                  <a:pt x="0" y="6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652840" y="3762360"/>
            <a:ext cx="142920" cy="17640"/>
          </a:xfrm>
          <a:custGeom>
            <a:avLst/>
            <a:gdLst/>
            <a:ahLst/>
            <a:rect l="l" t="t" r="r" b="b"/>
            <a:pathLst>
              <a:path w="90" h="11">
                <a:moveTo>
                  <a:pt x="89" y="4"/>
                </a:moveTo>
                <a:lnTo>
                  <a:pt x="83" y="4"/>
                </a:lnTo>
                <a:lnTo>
                  <a:pt x="76" y="4"/>
                </a:lnTo>
                <a:lnTo>
                  <a:pt x="70" y="4"/>
                </a:lnTo>
                <a:lnTo>
                  <a:pt x="64" y="4"/>
                </a:lnTo>
                <a:lnTo>
                  <a:pt x="58" y="4"/>
                </a:lnTo>
                <a:lnTo>
                  <a:pt x="52" y="4"/>
                </a:lnTo>
                <a:lnTo>
                  <a:pt x="47" y="4"/>
                </a:lnTo>
                <a:lnTo>
                  <a:pt x="41" y="3"/>
                </a:lnTo>
                <a:lnTo>
                  <a:pt x="36" y="3"/>
                </a:lnTo>
                <a:lnTo>
                  <a:pt x="31" y="3"/>
                </a:lnTo>
                <a:lnTo>
                  <a:pt x="26" y="2"/>
                </a:lnTo>
                <a:lnTo>
                  <a:pt x="21" y="2"/>
                </a:lnTo>
                <a:lnTo>
                  <a:pt x="15" y="2"/>
                </a:lnTo>
                <a:lnTo>
                  <a:pt x="11" y="1"/>
                </a:lnTo>
                <a:lnTo>
                  <a:pt x="6" y="1"/>
                </a:lnTo>
                <a:lnTo>
                  <a:pt x="1" y="0"/>
                </a:lnTo>
                <a:lnTo>
                  <a:pt x="0" y="5"/>
                </a:lnTo>
                <a:lnTo>
                  <a:pt x="4" y="6"/>
                </a:lnTo>
                <a:lnTo>
                  <a:pt x="10" y="6"/>
                </a:lnTo>
                <a:lnTo>
                  <a:pt x="14" y="7"/>
                </a:lnTo>
                <a:lnTo>
                  <a:pt x="21" y="7"/>
                </a:lnTo>
                <a:lnTo>
                  <a:pt x="25" y="7"/>
                </a:lnTo>
                <a:lnTo>
                  <a:pt x="31" y="8"/>
                </a:lnTo>
                <a:lnTo>
                  <a:pt x="36" y="8"/>
                </a:lnTo>
                <a:lnTo>
                  <a:pt x="41" y="9"/>
                </a:lnTo>
                <a:lnTo>
                  <a:pt x="47" y="9"/>
                </a:lnTo>
                <a:lnTo>
                  <a:pt x="52" y="9"/>
                </a:lnTo>
                <a:lnTo>
                  <a:pt x="58" y="9"/>
                </a:lnTo>
                <a:lnTo>
                  <a:pt x="64" y="10"/>
                </a:lnTo>
                <a:lnTo>
                  <a:pt x="70" y="10"/>
                </a:lnTo>
                <a:lnTo>
                  <a:pt x="76" y="10"/>
                </a:lnTo>
                <a:lnTo>
                  <a:pt x="83" y="10"/>
                </a:lnTo>
                <a:lnTo>
                  <a:pt x="89" y="10"/>
                </a:lnTo>
                <a:lnTo>
                  <a:pt x="89" y="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809800" y="3770280"/>
            <a:ext cx="131760" cy="9720"/>
          </a:xfrm>
          <a:custGeom>
            <a:avLst/>
            <a:gdLst/>
            <a:ahLst/>
            <a:rect l="l" t="t" r="r" b="b"/>
            <a:pathLst>
              <a:path w="83" h="6">
                <a:moveTo>
                  <a:pt x="82" y="0"/>
                </a:moveTo>
                <a:lnTo>
                  <a:pt x="76" y="0"/>
                </a:lnTo>
                <a:lnTo>
                  <a:pt x="70" y="0"/>
                </a:lnTo>
                <a:lnTo>
                  <a:pt x="63" y="0"/>
                </a:lnTo>
                <a:lnTo>
                  <a:pt x="58" y="0"/>
                </a:lnTo>
                <a:lnTo>
                  <a:pt x="53" y="0"/>
                </a:lnTo>
                <a:lnTo>
                  <a:pt x="46" y="1"/>
                </a:lnTo>
                <a:lnTo>
                  <a:pt x="41" y="1"/>
                </a:lnTo>
                <a:lnTo>
                  <a:pt x="36" y="1"/>
                </a:lnTo>
                <a:lnTo>
                  <a:pt x="31" y="1"/>
                </a:lnTo>
                <a:lnTo>
                  <a:pt x="26" y="1"/>
                </a:lnTo>
                <a:lnTo>
                  <a:pt x="21" y="1"/>
                </a:lnTo>
                <a:lnTo>
                  <a:pt x="16" y="1"/>
                </a:lnTo>
                <a:lnTo>
                  <a:pt x="12" y="1"/>
                </a:lnTo>
                <a:lnTo>
                  <a:pt x="7" y="1"/>
                </a:lnTo>
                <a:lnTo>
                  <a:pt x="4" y="1"/>
                </a:lnTo>
                <a:lnTo>
                  <a:pt x="0" y="1"/>
                </a:lnTo>
                <a:lnTo>
                  <a:pt x="0" y="5"/>
                </a:lnTo>
                <a:lnTo>
                  <a:pt x="4" y="5"/>
                </a:lnTo>
                <a:lnTo>
                  <a:pt x="7" y="5"/>
                </a:lnTo>
                <a:lnTo>
                  <a:pt x="12" y="5"/>
                </a:lnTo>
                <a:lnTo>
                  <a:pt x="16" y="5"/>
                </a:lnTo>
                <a:lnTo>
                  <a:pt x="21" y="5"/>
                </a:lnTo>
                <a:lnTo>
                  <a:pt x="26" y="5"/>
                </a:lnTo>
                <a:lnTo>
                  <a:pt x="31" y="5"/>
                </a:lnTo>
                <a:lnTo>
                  <a:pt x="36" y="4"/>
                </a:lnTo>
                <a:lnTo>
                  <a:pt x="41" y="4"/>
                </a:lnTo>
                <a:lnTo>
                  <a:pt x="46" y="4"/>
                </a:lnTo>
                <a:lnTo>
                  <a:pt x="53" y="4"/>
                </a:lnTo>
                <a:lnTo>
                  <a:pt x="58" y="4"/>
                </a:lnTo>
                <a:lnTo>
                  <a:pt x="63" y="4"/>
                </a:lnTo>
                <a:lnTo>
                  <a:pt x="70" y="4"/>
                </a:lnTo>
                <a:lnTo>
                  <a:pt x="76" y="4"/>
                </a:lnTo>
                <a:lnTo>
                  <a:pt x="82" y="4"/>
                </a:lnTo>
                <a:lnTo>
                  <a:pt x="82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955960" y="3763800"/>
            <a:ext cx="131760" cy="9720"/>
          </a:xfrm>
          <a:custGeom>
            <a:avLst/>
            <a:gdLst/>
            <a:ahLst/>
            <a:rect l="l" t="t" r="r" b="b"/>
            <a:pathLst>
              <a:path w="83" h="6">
                <a:moveTo>
                  <a:pt x="82" y="0"/>
                </a:moveTo>
                <a:lnTo>
                  <a:pt x="78" y="0"/>
                </a:lnTo>
                <a:lnTo>
                  <a:pt x="74" y="0"/>
                </a:lnTo>
                <a:lnTo>
                  <a:pt x="70" y="0"/>
                </a:lnTo>
                <a:lnTo>
                  <a:pt x="64" y="0"/>
                </a:lnTo>
                <a:lnTo>
                  <a:pt x="60" y="0"/>
                </a:lnTo>
                <a:lnTo>
                  <a:pt x="55" y="0"/>
                </a:lnTo>
                <a:lnTo>
                  <a:pt x="50" y="0"/>
                </a:lnTo>
                <a:lnTo>
                  <a:pt x="44" y="0"/>
                </a:lnTo>
                <a:lnTo>
                  <a:pt x="39" y="0"/>
                </a:lnTo>
                <a:lnTo>
                  <a:pt x="33" y="0"/>
                </a:lnTo>
                <a:lnTo>
                  <a:pt x="28" y="1"/>
                </a:lnTo>
                <a:lnTo>
                  <a:pt x="22" y="1"/>
                </a:lnTo>
                <a:lnTo>
                  <a:pt x="16" y="1"/>
                </a:lnTo>
                <a:lnTo>
                  <a:pt x="11" y="1"/>
                </a:lnTo>
                <a:lnTo>
                  <a:pt x="5" y="1"/>
                </a:lnTo>
                <a:lnTo>
                  <a:pt x="0" y="1"/>
                </a:lnTo>
                <a:lnTo>
                  <a:pt x="0" y="5"/>
                </a:lnTo>
                <a:lnTo>
                  <a:pt x="5" y="5"/>
                </a:lnTo>
                <a:lnTo>
                  <a:pt x="11" y="5"/>
                </a:lnTo>
                <a:lnTo>
                  <a:pt x="16" y="4"/>
                </a:lnTo>
                <a:lnTo>
                  <a:pt x="22" y="4"/>
                </a:lnTo>
                <a:lnTo>
                  <a:pt x="28" y="4"/>
                </a:lnTo>
                <a:lnTo>
                  <a:pt x="33" y="4"/>
                </a:lnTo>
                <a:lnTo>
                  <a:pt x="39" y="4"/>
                </a:lnTo>
                <a:lnTo>
                  <a:pt x="44" y="4"/>
                </a:lnTo>
                <a:lnTo>
                  <a:pt x="50" y="4"/>
                </a:lnTo>
                <a:lnTo>
                  <a:pt x="55" y="4"/>
                </a:lnTo>
                <a:lnTo>
                  <a:pt x="60" y="4"/>
                </a:lnTo>
                <a:lnTo>
                  <a:pt x="64" y="4"/>
                </a:lnTo>
                <a:lnTo>
                  <a:pt x="70" y="4"/>
                </a:lnTo>
                <a:lnTo>
                  <a:pt x="74" y="4"/>
                </a:lnTo>
                <a:lnTo>
                  <a:pt x="78" y="4"/>
                </a:lnTo>
                <a:lnTo>
                  <a:pt x="82" y="4"/>
                </a:lnTo>
                <a:lnTo>
                  <a:pt x="82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102120" y="3763800"/>
            <a:ext cx="172800" cy="19080"/>
          </a:xfrm>
          <a:custGeom>
            <a:avLst/>
            <a:gdLst/>
            <a:ahLst/>
            <a:rect l="l" t="t" r="r" b="b"/>
            <a:pathLst>
              <a:path w="109" h="12">
                <a:moveTo>
                  <a:pt x="108" y="6"/>
                </a:moveTo>
                <a:lnTo>
                  <a:pt x="102" y="5"/>
                </a:lnTo>
                <a:lnTo>
                  <a:pt x="95" y="4"/>
                </a:lnTo>
                <a:lnTo>
                  <a:pt x="89" y="4"/>
                </a:lnTo>
                <a:lnTo>
                  <a:pt x="82" y="4"/>
                </a:lnTo>
                <a:lnTo>
                  <a:pt x="75" y="3"/>
                </a:lnTo>
                <a:lnTo>
                  <a:pt x="68" y="3"/>
                </a:lnTo>
                <a:lnTo>
                  <a:pt x="61" y="2"/>
                </a:lnTo>
                <a:lnTo>
                  <a:pt x="55" y="2"/>
                </a:lnTo>
                <a:lnTo>
                  <a:pt x="48" y="2"/>
                </a:lnTo>
                <a:lnTo>
                  <a:pt x="40" y="1"/>
                </a:lnTo>
                <a:lnTo>
                  <a:pt x="34" y="1"/>
                </a:lnTo>
                <a:lnTo>
                  <a:pt x="27" y="1"/>
                </a:lnTo>
                <a:lnTo>
                  <a:pt x="20" y="1"/>
                </a:lnTo>
                <a:lnTo>
                  <a:pt x="13" y="0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6"/>
                </a:lnTo>
                <a:lnTo>
                  <a:pt x="13" y="6"/>
                </a:lnTo>
                <a:lnTo>
                  <a:pt x="20" y="6"/>
                </a:lnTo>
                <a:lnTo>
                  <a:pt x="27" y="6"/>
                </a:lnTo>
                <a:lnTo>
                  <a:pt x="34" y="7"/>
                </a:lnTo>
                <a:lnTo>
                  <a:pt x="40" y="7"/>
                </a:lnTo>
                <a:lnTo>
                  <a:pt x="48" y="7"/>
                </a:lnTo>
                <a:lnTo>
                  <a:pt x="54" y="7"/>
                </a:lnTo>
                <a:lnTo>
                  <a:pt x="60" y="8"/>
                </a:lnTo>
                <a:lnTo>
                  <a:pt x="68" y="8"/>
                </a:lnTo>
                <a:lnTo>
                  <a:pt x="74" y="8"/>
                </a:lnTo>
                <a:lnTo>
                  <a:pt x="81" y="9"/>
                </a:lnTo>
                <a:lnTo>
                  <a:pt x="88" y="9"/>
                </a:lnTo>
                <a:lnTo>
                  <a:pt x="94" y="10"/>
                </a:lnTo>
                <a:lnTo>
                  <a:pt x="101" y="10"/>
                </a:lnTo>
                <a:lnTo>
                  <a:pt x="107" y="11"/>
                </a:lnTo>
                <a:lnTo>
                  <a:pt x="108" y="6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87880" y="3781440"/>
            <a:ext cx="131760" cy="50760"/>
          </a:xfrm>
          <a:custGeom>
            <a:avLst/>
            <a:gdLst/>
            <a:ahLst/>
            <a:rect l="l" t="t" r="r" b="b"/>
            <a:pathLst>
              <a:path w="83" h="32">
                <a:moveTo>
                  <a:pt x="77" y="23"/>
                </a:moveTo>
                <a:lnTo>
                  <a:pt x="82" y="23"/>
                </a:lnTo>
                <a:lnTo>
                  <a:pt x="74" y="19"/>
                </a:lnTo>
                <a:lnTo>
                  <a:pt x="66" y="15"/>
                </a:lnTo>
                <a:lnTo>
                  <a:pt x="56" y="12"/>
                </a:lnTo>
                <a:lnTo>
                  <a:pt x="46" y="9"/>
                </a:lnTo>
                <a:lnTo>
                  <a:pt x="36" y="6"/>
                </a:lnTo>
                <a:lnTo>
                  <a:pt x="25" y="4"/>
                </a:lnTo>
                <a:lnTo>
                  <a:pt x="13" y="2"/>
                </a:lnTo>
                <a:lnTo>
                  <a:pt x="1" y="0"/>
                </a:lnTo>
                <a:lnTo>
                  <a:pt x="0" y="8"/>
                </a:lnTo>
                <a:lnTo>
                  <a:pt x="12" y="9"/>
                </a:lnTo>
                <a:lnTo>
                  <a:pt x="23" y="12"/>
                </a:lnTo>
                <a:lnTo>
                  <a:pt x="34" y="14"/>
                </a:lnTo>
                <a:lnTo>
                  <a:pt x="43" y="17"/>
                </a:lnTo>
                <a:lnTo>
                  <a:pt x="53" y="20"/>
                </a:lnTo>
                <a:lnTo>
                  <a:pt x="62" y="23"/>
                </a:lnTo>
                <a:lnTo>
                  <a:pt x="70" y="26"/>
                </a:lnTo>
                <a:lnTo>
                  <a:pt x="77" y="29"/>
                </a:lnTo>
                <a:lnTo>
                  <a:pt x="81" y="29"/>
                </a:lnTo>
                <a:lnTo>
                  <a:pt x="77" y="29"/>
                </a:lnTo>
                <a:lnTo>
                  <a:pt x="79" y="31"/>
                </a:lnTo>
                <a:lnTo>
                  <a:pt x="81" y="29"/>
                </a:lnTo>
                <a:lnTo>
                  <a:pt x="77" y="23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24320" y="3781440"/>
            <a:ext cx="129960" cy="47520"/>
          </a:xfrm>
          <a:custGeom>
            <a:avLst/>
            <a:gdLst/>
            <a:ahLst/>
            <a:rect l="l" t="t" r="r" b="b"/>
            <a:pathLst>
              <a:path w="82" h="30">
                <a:moveTo>
                  <a:pt x="79" y="0"/>
                </a:moveTo>
                <a:lnTo>
                  <a:pt x="69" y="1"/>
                </a:lnTo>
                <a:lnTo>
                  <a:pt x="58" y="4"/>
                </a:lnTo>
                <a:lnTo>
                  <a:pt x="47" y="6"/>
                </a:lnTo>
                <a:lnTo>
                  <a:pt x="36" y="9"/>
                </a:lnTo>
                <a:lnTo>
                  <a:pt x="27" y="12"/>
                </a:lnTo>
                <a:lnTo>
                  <a:pt x="17" y="15"/>
                </a:lnTo>
                <a:lnTo>
                  <a:pt x="8" y="19"/>
                </a:lnTo>
                <a:lnTo>
                  <a:pt x="0" y="22"/>
                </a:lnTo>
                <a:lnTo>
                  <a:pt x="4" y="29"/>
                </a:lnTo>
                <a:lnTo>
                  <a:pt x="12" y="26"/>
                </a:lnTo>
                <a:lnTo>
                  <a:pt x="20" y="23"/>
                </a:lnTo>
                <a:lnTo>
                  <a:pt x="29" y="20"/>
                </a:lnTo>
                <a:lnTo>
                  <a:pt x="40" y="17"/>
                </a:lnTo>
                <a:lnTo>
                  <a:pt x="50" y="14"/>
                </a:lnTo>
                <a:lnTo>
                  <a:pt x="60" y="12"/>
                </a:lnTo>
                <a:lnTo>
                  <a:pt x="70" y="9"/>
                </a:lnTo>
                <a:lnTo>
                  <a:pt x="81" y="7"/>
                </a:lnTo>
                <a:lnTo>
                  <a:pt x="79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65440" y="3763800"/>
            <a:ext cx="171360" cy="19080"/>
          </a:xfrm>
          <a:custGeom>
            <a:avLst/>
            <a:gdLst/>
            <a:ahLst/>
            <a:rect l="l" t="t" r="r" b="b"/>
            <a:pathLst>
              <a:path w="108" h="12">
                <a:moveTo>
                  <a:pt x="107" y="0"/>
                </a:moveTo>
                <a:lnTo>
                  <a:pt x="101" y="0"/>
                </a:lnTo>
                <a:lnTo>
                  <a:pt x="93" y="0"/>
                </a:lnTo>
                <a:lnTo>
                  <a:pt x="87" y="1"/>
                </a:lnTo>
                <a:lnTo>
                  <a:pt x="80" y="1"/>
                </a:lnTo>
                <a:lnTo>
                  <a:pt x="73" y="1"/>
                </a:lnTo>
                <a:lnTo>
                  <a:pt x="66" y="1"/>
                </a:lnTo>
                <a:lnTo>
                  <a:pt x="59" y="2"/>
                </a:lnTo>
                <a:lnTo>
                  <a:pt x="52" y="2"/>
                </a:lnTo>
                <a:lnTo>
                  <a:pt x="46" y="2"/>
                </a:lnTo>
                <a:lnTo>
                  <a:pt x="39" y="3"/>
                </a:lnTo>
                <a:lnTo>
                  <a:pt x="32" y="3"/>
                </a:lnTo>
                <a:lnTo>
                  <a:pt x="26" y="4"/>
                </a:lnTo>
                <a:lnTo>
                  <a:pt x="19" y="4"/>
                </a:lnTo>
                <a:lnTo>
                  <a:pt x="13" y="4"/>
                </a:lnTo>
                <a:lnTo>
                  <a:pt x="6" y="5"/>
                </a:lnTo>
                <a:lnTo>
                  <a:pt x="0" y="6"/>
                </a:lnTo>
                <a:lnTo>
                  <a:pt x="2" y="11"/>
                </a:lnTo>
                <a:lnTo>
                  <a:pt x="8" y="10"/>
                </a:lnTo>
                <a:lnTo>
                  <a:pt x="14" y="10"/>
                </a:lnTo>
                <a:lnTo>
                  <a:pt x="20" y="9"/>
                </a:lnTo>
                <a:lnTo>
                  <a:pt x="27" y="9"/>
                </a:lnTo>
                <a:lnTo>
                  <a:pt x="33" y="8"/>
                </a:lnTo>
                <a:lnTo>
                  <a:pt x="39" y="8"/>
                </a:lnTo>
                <a:lnTo>
                  <a:pt x="47" y="8"/>
                </a:lnTo>
                <a:lnTo>
                  <a:pt x="54" y="7"/>
                </a:lnTo>
                <a:lnTo>
                  <a:pt x="59" y="7"/>
                </a:lnTo>
                <a:lnTo>
                  <a:pt x="66" y="7"/>
                </a:lnTo>
                <a:lnTo>
                  <a:pt x="73" y="7"/>
                </a:lnTo>
                <a:lnTo>
                  <a:pt x="80" y="6"/>
                </a:lnTo>
                <a:lnTo>
                  <a:pt x="87" y="6"/>
                </a:lnTo>
                <a:lnTo>
                  <a:pt x="93" y="6"/>
                </a:lnTo>
                <a:lnTo>
                  <a:pt x="101" y="6"/>
                </a:lnTo>
                <a:lnTo>
                  <a:pt x="107" y="6"/>
                </a:lnTo>
                <a:lnTo>
                  <a:pt x="107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51200" y="3763800"/>
            <a:ext cx="139680" cy="9720"/>
          </a:xfrm>
          <a:custGeom>
            <a:avLst/>
            <a:gdLst/>
            <a:ahLst/>
            <a:rect l="l" t="t" r="r" b="b"/>
            <a:pathLst>
              <a:path w="88" h="6">
                <a:moveTo>
                  <a:pt x="87" y="1"/>
                </a:moveTo>
                <a:lnTo>
                  <a:pt x="81" y="1"/>
                </a:lnTo>
                <a:lnTo>
                  <a:pt x="74" y="1"/>
                </a:lnTo>
                <a:lnTo>
                  <a:pt x="68" y="1"/>
                </a:lnTo>
                <a:lnTo>
                  <a:pt x="62" y="1"/>
                </a:lnTo>
                <a:lnTo>
                  <a:pt x="56" y="1"/>
                </a:lnTo>
                <a:lnTo>
                  <a:pt x="49" y="0"/>
                </a:lnTo>
                <a:lnTo>
                  <a:pt x="44" y="0"/>
                </a:lnTo>
                <a:lnTo>
                  <a:pt x="39" y="0"/>
                </a:lnTo>
                <a:lnTo>
                  <a:pt x="32" y="0"/>
                </a:lnTo>
                <a:lnTo>
                  <a:pt x="28" y="0"/>
                </a:lnTo>
                <a:lnTo>
                  <a:pt x="22" y="0"/>
                </a:lnTo>
                <a:lnTo>
                  <a:pt x="17" y="0"/>
                </a:lnTo>
                <a:lnTo>
                  <a:pt x="13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4" y="4"/>
                </a:lnTo>
                <a:lnTo>
                  <a:pt x="8" y="4"/>
                </a:lnTo>
                <a:lnTo>
                  <a:pt x="13" y="4"/>
                </a:lnTo>
                <a:lnTo>
                  <a:pt x="17" y="4"/>
                </a:lnTo>
                <a:lnTo>
                  <a:pt x="22" y="4"/>
                </a:lnTo>
                <a:lnTo>
                  <a:pt x="28" y="4"/>
                </a:lnTo>
                <a:lnTo>
                  <a:pt x="32" y="4"/>
                </a:lnTo>
                <a:lnTo>
                  <a:pt x="39" y="4"/>
                </a:lnTo>
                <a:lnTo>
                  <a:pt x="44" y="4"/>
                </a:lnTo>
                <a:lnTo>
                  <a:pt x="49" y="4"/>
                </a:lnTo>
                <a:lnTo>
                  <a:pt x="56" y="4"/>
                </a:lnTo>
                <a:lnTo>
                  <a:pt x="62" y="4"/>
                </a:lnTo>
                <a:lnTo>
                  <a:pt x="68" y="4"/>
                </a:lnTo>
                <a:lnTo>
                  <a:pt x="74" y="5"/>
                </a:lnTo>
                <a:lnTo>
                  <a:pt x="81" y="5"/>
                </a:lnTo>
                <a:lnTo>
                  <a:pt x="87" y="5"/>
                </a:lnTo>
                <a:lnTo>
                  <a:pt x="87" y="1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905280" y="3770280"/>
            <a:ext cx="136440" cy="9720"/>
          </a:xfrm>
          <a:custGeom>
            <a:avLst/>
            <a:gdLst/>
            <a:ahLst/>
            <a:rect l="l" t="t" r="r" b="b"/>
            <a:pathLst>
              <a:path w="86" h="6">
                <a:moveTo>
                  <a:pt x="85" y="1"/>
                </a:moveTo>
                <a:lnTo>
                  <a:pt x="81" y="1"/>
                </a:lnTo>
                <a:lnTo>
                  <a:pt x="77" y="1"/>
                </a:lnTo>
                <a:lnTo>
                  <a:pt x="72" y="1"/>
                </a:lnTo>
                <a:lnTo>
                  <a:pt x="68" y="1"/>
                </a:lnTo>
                <a:lnTo>
                  <a:pt x="63" y="1"/>
                </a:lnTo>
                <a:lnTo>
                  <a:pt x="58" y="1"/>
                </a:lnTo>
                <a:lnTo>
                  <a:pt x="52" y="1"/>
                </a:lnTo>
                <a:lnTo>
                  <a:pt x="47" y="1"/>
                </a:lnTo>
                <a:lnTo>
                  <a:pt x="41" y="1"/>
                </a:lnTo>
                <a:lnTo>
                  <a:pt x="36" y="1"/>
                </a:lnTo>
                <a:lnTo>
                  <a:pt x="30" y="0"/>
                </a:lnTo>
                <a:lnTo>
                  <a:pt x="24" y="0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0" y="4"/>
                </a:lnTo>
                <a:lnTo>
                  <a:pt x="6" y="4"/>
                </a:lnTo>
                <a:lnTo>
                  <a:pt x="12" y="4"/>
                </a:lnTo>
                <a:lnTo>
                  <a:pt x="18" y="4"/>
                </a:lnTo>
                <a:lnTo>
                  <a:pt x="24" y="4"/>
                </a:lnTo>
                <a:lnTo>
                  <a:pt x="30" y="4"/>
                </a:lnTo>
                <a:lnTo>
                  <a:pt x="36" y="4"/>
                </a:lnTo>
                <a:lnTo>
                  <a:pt x="41" y="4"/>
                </a:lnTo>
                <a:lnTo>
                  <a:pt x="47" y="4"/>
                </a:lnTo>
                <a:lnTo>
                  <a:pt x="52" y="5"/>
                </a:lnTo>
                <a:lnTo>
                  <a:pt x="58" y="5"/>
                </a:lnTo>
                <a:lnTo>
                  <a:pt x="63" y="5"/>
                </a:lnTo>
                <a:lnTo>
                  <a:pt x="68" y="5"/>
                </a:lnTo>
                <a:lnTo>
                  <a:pt x="72" y="5"/>
                </a:lnTo>
                <a:lnTo>
                  <a:pt x="77" y="5"/>
                </a:lnTo>
                <a:lnTo>
                  <a:pt x="81" y="5"/>
                </a:lnTo>
                <a:lnTo>
                  <a:pt x="85" y="5"/>
                </a:lnTo>
                <a:lnTo>
                  <a:pt x="85" y="1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056120" y="3763800"/>
            <a:ext cx="127080" cy="16200"/>
          </a:xfrm>
          <a:custGeom>
            <a:avLst/>
            <a:gdLst/>
            <a:ahLst/>
            <a:rect l="l" t="t" r="r" b="b"/>
            <a:pathLst>
              <a:path w="80" h="10">
                <a:moveTo>
                  <a:pt x="77" y="0"/>
                </a:moveTo>
                <a:lnTo>
                  <a:pt x="70" y="1"/>
                </a:lnTo>
                <a:lnTo>
                  <a:pt x="61" y="1"/>
                </a:lnTo>
                <a:lnTo>
                  <a:pt x="51" y="2"/>
                </a:lnTo>
                <a:lnTo>
                  <a:pt x="42" y="2"/>
                </a:lnTo>
                <a:lnTo>
                  <a:pt x="32" y="3"/>
                </a:lnTo>
                <a:lnTo>
                  <a:pt x="21" y="3"/>
                </a:lnTo>
                <a:lnTo>
                  <a:pt x="11" y="3"/>
                </a:lnTo>
                <a:lnTo>
                  <a:pt x="0" y="3"/>
                </a:lnTo>
                <a:lnTo>
                  <a:pt x="0" y="9"/>
                </a:lnTo>
                <a:lnTo>
                  <a:pt x="11" y="9"/>
                </a:lnTo>
                <a:lnTo>
                  <a:pt x="21" y="8"/>
                </a:lnTo>
                <a:lnTo>
                  <a:pt x="32" y="8"/>
                </a:lnTo>
                <a:lnTo>
                  <a:pt x="43" y="8"/>
                </a:lnTo>
                <a:lnTo>
                  <a:pt x="52" y="7"/>
                </a:lnTo>
                <a:lnTo>
                  <a:pt x="62" y="6"/>
                </a:lnTo>
                <a:lnTo>
                  <a:pt x="71" y="6"/>
                </a:lnTo>
                <a:lnTo>
                  <a:pt x="79" y="5"/>
                </a:lnTo>
                <a:lnTo>
                  <a:pt x="77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52800" y="3786120"/>
            <a:ext cx="238320" cy="25560"/>
          </a:xfrm>
          <a:custGeom>
            <a:avLst/>
            <a:gdLst/>
            <a:ahLst/>
            <a:rect l="l" t="t" r="r" b="b"/>
            <a:pathLst>
              <a:path w="150" h="16">
                <a:moveTo>
                  <a:pt x="0" y="15"/>
                </a:moveTo>
                <a:lnTo>
                  <a:pt x="10" y="15"/>
                </a:lnTo>
                <a:lnTo>
                  <a:pt x="20" y="15"/>
                </a:lnTo>
                <a:lnTo>
                  <a:pt x="30" y="14"/>
                </a:lnTo>
                <a:lnTo>
                  <a:pt x="40" y="14"/>
                </a:lnTo>
                <a:lnTo>
                  <a:pt x="50" y="14"/>
                </a:lnTo>
                <a:lnTo>
                  <a:pt x="59" y="13"/>
                </a:lnTo>
                <a:lnTo>
                  <a:pt x="69" y="13"/>
                </a:lnTo>
                <a:lnTo>
                  <a:pt x="78" y="13"/>
                </a:lnTo>
                <a:lnTo>
                  <a:pt x="88" y="12"/>
                </a:lnTo>
                <a:lnTo>
                  <a:pt x="97" y="11"/>
                </a:lnTo>
                <a:lnTo>
                  <a:pt x="106" y="11"/>
                </a:lnTo>
                <a:lnTo>
                  <a:pt x="115" y="10"/>
                </a:lnTo>
                <a:lnTo>
                  <a:pt x="124" y="9"/>
                </a:lnTo>
                <a:lnTo>
                  <a:pt x="133" y="8"/>
                </a:lnTo>
                <a:lnTo>
                  <a:pt x="141" y="7"/>
                </a:lnTo>
                <a:lnTo>
                  <a:pt x="149" y="6"/>
                </a:lnTo>
                <a:lnTo>
                  <a:pt x="148" y="0"/>
                </a:lnTo>
                <a:lnTo>
                  <a:pt x="140" y="1"/>
                </a:lnTo>
                <a:lnTo>
                  <a:pt x="131" y="2"/>
                </a:lnTo>
                <a:lnTo>
                  <a:pt x="123" y="3"/>
                </a:lnTo>
                <a:lnTo>
                  <a:pt x="114" y="4"/>
                </a:lnTo>
                <a:lnTo>
                  <a:pt x="105" y="4"/>
                </a:lnTo>
                <a:lnTo>
                  <a:pt x="97" y="5"/>
                </a:lnTo>
                <a:lnTo>
                  <a:pt x="88" y="6"/>
                </a:lnTo>
                <a:lnTo>
                  <a:pt x="78" y="6"/>
                </a:lnTo>
                <a:lnTo>
                  <a:pt x="69" y="7"/>
                </a:lnTo>
                <a:lnTo>
                  <a:pt x="59" y="7"/>
                </a:lnTo>
                <a:lnTo>
                  <a:pt x="50" y="8"/>
                </a:lnTo>
                <a:lnTo>
                  <a:pt x="40" y="8"/>
                </a:lnTo>
                <a:lnTo>
                  <a:pt x="30" y="8"/>
                </a:lnTo>
                <a:lnTo>
                  <a:pt x="20" y="8"/>
                </a:lnTo>
                <a:lnTo>
                  <a:pt x="10" y="8"/>
                </a:lnTo>
                <a:lnTo>
                  <a:pt x="0" y="8"/>
                </a:lnTo>
                <a:lnTo>
                  <a:pt x="0" y="1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801960" y="3801960"/>
            <a:ext cx="136800" cy="9720"/>
          </a:xfrm>
          <a:custGeom>
            <a:avLst/>
            <a:gdLst/>
            <a:ahLst/>
            <a:rect l="l" t="t" r="r" b="b"/>
            <a:pathLst>
              <a:path w="86" h="6">
                <a:moveTo>
                  <a:pt x="0" y="4"/>
                </a:moveTo>
                <a:lnTo>
                  <a:pt x="5" y="4"/>
                </a:lnTo>
                <a:lnTo>
                  <a:pt x="12" y="4"/>
                </a:lnTo>
                <a:lnTo>
                  <a:pt x="17" y="4"/>
                </a:lnTo>
                <a:lnTo>
                  <a:pt x="23" y="4"/>
                </a:lnTo>
                <a:lnTo>
                  <a:pt x="29" y="4"/>
                </a:lnTo>
                <a:lnTo>
                  <a:pt x="34" y="4"/>
                </a:lnTo>
                <a:lnTo>
                  <a:pt x="39" y="5"/>
                </a:lnTo>
                <a:lnTo>
                  <a:pt x="45" y="5"/>
                </a:lnTo>
                <a:lnTo>
                  <a:pt x="50" y="5"/>
                </a:lnTo>
                <a:lnTo>
                  <a:pt x="55" y="5"/>
                </a:lnTo>
                <a:lnTo>
                  <a:pt x="61" y="5"/>
                </a:lnTo>
                <a:lnTo>
                  <a:pt x="65" y="5"/>
                </a:lnTo>
                <a:lnTo>
                  <a:pt x="71" y="5"/>
                </a:lnTo>
                <a:lnTo>
                  <a:pt x="76" y="5"/>
                </a:lnTo>
                <a:lnTo>
                  <a:pt x="81" y="5"/>
                </a:lnTo>
                <a:lnTo>
                  <a:pt x="85" y="5"/>
                </a:lnTo>
                <a:lnTo>
                  <a:pt x="85" y="1"/>
                </a:lnTo>
                <a:lnTo>
                  <a:pt x="81" y="1"/>
                </a:lnTo>
                <a:lnTo>
                  <a:pt x="76" y="1"/>
                </a:lnTo>
                <a:lnTo>
                  <a:pt x="71" y="1"/>
                </a:lnTo>
                <a:lnTo>
                  <a:pt x="65" y="1"/>
                </a:lnTo>
                <a:lnTo>
                  <a:pt x="61" y="1"/>
                </a:lnTo>
                <a:lnTo>
                  <a:pt x="55" y="1"/>
                </a:lnTo>
                <a:lnTo>
                  <a:pt x="50" y="1"/>
                </a:lnTo>
                <a:lnTo>
                  <a:pt x="45" y="1"/>
                </a:lnTo>
                <a:lnTo>
                  <a:pt x="39" y="1"/>
                </a:lnTo>
                <a:lnTo>
                  <a:pt x="34" y="1"/>
                </a:lnTo>
                <a:lnTo>
                  <a:pt x="29" y="1"/>
                </a:lnTo>
                <a:lnTo>
                  <a:pt x="23" y="1"/>
                </a:lnTo>
                <a:lnTo>
                  <a:pt x="17" y="1"/>
                </a:lnTo>
                <a:lnTo>
                  <a:pt x="12" y="0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4360" y="3795840"/>
            <a:ext cx="133560" cy="9360"/>
          </a:xfrm>
          <a:custGeom>
            <a:avLst/>
            <a:gdLst/>
            <a:ahLst/>
            <a:rect l="l" t="t" r="r" b="b"/>
            <a:pathLst>
              <a:path w="84" h="6">
                <a:moveTo>
                  <a:pt x="0" y="4"/>
                </a:moveTo>
                <a:lnTo>
                  <a:pt x="4" y="4"/>
                </a:lnTo>
                <a:lnTo>
                  <a:pt x="7" y="4"/>
                </a:lnTo>
                <a:lnTo>
                  <a:pt x="11" y="4"/>
                </a:lnTo>
                <a:lnTo>
                  <a:pt x="15" y="4"/>
                </a:lnTo>
                <a:lnTo>
                  <a:pt x="20" y="4"/>
                </a:lnTo>
                <a:lnTo>
                  <a:pt x="24" y="4"/>
                </a:lnTo>
                <a:lnTo>
                  <a:pt x="29" y="4"/>
                </a:lnTo>
                <a:lnTo>
                  <a:pt x="35" y="4"/>
                </a:lnTo>
                <a:lnTo>
                  <a:pt x="41" y="4"/>
                </a:lnTo>
                <a:lnTo>
                  <a:pt x="46" y="4"/>
                </a:lnTo>
                <a:lnTo>
                  <a:pt x="52" y="5"/>
                </a:lnTo>
                <a:lnTo>
                  <a:pt x="58" y="5"/>
                </a:lnTo>
                <a:lnTo>
                  <a:pt x="64" y="5"/>
                </a:lnTo>
                <a:lnTo>
                  <a:pt x="71" y="5"/>
                </a:lnTo>
                <a:lnTo>
                  <a:pt x="77" y="5"/>
                </a:lnTo>
                <a:lnTo>
                  <a:pt x="83" y="5"/>
                </a:lnTo>
                <a:lnTo>
                  <a:pt x="83" y="1"/>
                </a:lnTo>
                <a:lnTo>
                  <a:pt x="77" y="1"/>
                </a:lnTo>
                <a:lnTo>
                  <a:pt x="71" y="1"/>
                </a:lnTo>
                <a:lnTo>
                  <a:pt x="64" y="1"/>
                </a:lnTo>
                <a:lnTo>
                  <a:pt x="58" y="1"/>
                </a:lnTo>
                <a:lnTo>
                  <a:pt x="52" y="1"/>
                </a:lnTo>
                <a:lnTo>
                  <a:pt x="46" y="1"/>
                </a:lnTo>
                <a:lnTo>
                  <a:pt x="41" y="0"/>
                </a:lnTo>
                <a:lnTo>
                  <a:pt x="35" y="0"/>
                </a:lnTo>
                <a:lnTo>
                  <a:pt x="29" y="0"/>
                </a:lnTo>
                <a:lnTo>
                  <a:pt x="24" y="0"/>
                </a:lnTo>
                <a:lnTo>
                  <a:pt x="20" y="0"/>
                </a:lnTo>
                <a:lnTo>
                  <a:pt x="15" y="0"/>
                </a:lnTo>
                <a:lnTo>
                  <a:pt x="11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527280" y="3795840"/>
            <a:ext cx="112680" cy="14040"/>
          </a:xfrm>
          <a:custGeom>
            <a:avLst/>
            <a:gdLst/>
            <a:ahLst/>
            <a:rect l="l" t="t" r="r" b="b"/>
            <a:pathLst>
              <a:path w="71" h="9">
                <a:moveTo>
                  <a:pt x="1" y="8"/>
                </a:moveTo>
                <a:lnTo>
                  <a:pt x="9" y="7"/>
                </a:lnTo>
                <a:lnTo>
                  <a:pt x="18" y="7"/>
                </a:lnTo>
                <a:lnTo>
                  <a:pt x="26" y="6"/>
                </a:lnTo>
                <a:lnTo>
                  <a:pt x="34" y="5"/>
                </a:lnTo>
                <a:lnTo>
                  <a:pt x="43" y="5"/>
                </a:lnTo>
                <a:lnTo>
                  <a:pt x="53" y="5"/>
                </a:lnTo>
                <a:lnTo>
                  <a:pt x="61" y="5"/>
                </a:lnTo>
                <a:lnTo>
                  <a:pt x="70" y="5"/>
                </a:lnTo>
                <a:lnTo>
                  <a:pt x="70" y="0"/>
                </a:lnTo>
                <a:lnTo>
                  <a:pt x="61" y="0"/>
                </a:lnTo>
                <a:lnTo>
                  <a:pt x="53" y="0"/>
                </a:lnTo>
                <a:lnTo>
                  <a:pt x="43" y="0"/>
                </a:lnTo>
                <a:lnTo>
                  <a:pt x="34" y="1"/>
                </a:lnTo>
                <a:lnTo>
                  <a:pt x="25" y="1"/>
                </a:lnTo>
                <a:lnTo>
                  <a:pt x="17" y="2"/>
                </a:lnTo>
                <a:lnTo>
                  <a:pt x="8" y="3"/>
                </a:lnTo>
                <a:lnTo>
                  <a:pt x="0" y="4"/>
                </a:lnTo>
                <a:lnTo>
                  <a:pt x="1" y="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448080" y="3808440"/>
            <a:ext cx="66600" cy="41400"/>
          </a:xfrm>
          <a:custGeom>
            <a:avLst/>
            <a:gdLst/>
            <a:ahLst/>
            <a:rect l="l" t="t" r="r" b="b"/>
            <a:pathLst>
              <a:path w="42" h="26">
                <a:moveTo>
                  <a:pt x="4" y="25"/>
                </a:moveTo>
                <a:lnTo>
                  <a:pt x="8" y="22"/>
                </a:lnTo>
                <a:lnTo>
                  <a:pt x="9" y="21"/>
                </a:lnTo>
                <a:lnTo>
                  <a:pt x="12" y="19"/>
                </a:lnTo>
                <a:lnTo>
                  <a:pt x="14" y="16"/>
                </a:lnTo>
                <a:lnTo>
                  <a:pt x="18" y="14"/>
                </a:lnTo>
                <a:lnTo>
                  <a:pt x="23" y="12"/>
                </a:lnTo>
                <a:lnTo>
                  <a:pt x="29" y="10"/>
                </a:lnTo>
                <a:lnTo>
                  <a:pt x="35" y="9"/>
                </a:lnTo>
                <a:lnTo>
                  <a:pt x="41" y="7"/>
                </a:lnTo>
                <a:lnTo>
                  <a:pt x="40" y="0"/>
                </a:lnTo>
                <a:lnTo>
                  <a:pt x="33" y="1"/>
                </a:lnTo>
                <a:lnTo>
                  <a:pt x="27" y="3"/>
                </a:lnTo>
                <a:lnTo>
                  <a:pt x="21" y="5"/>
                </a:lnTo>
                <a:lnTo>
                  <a:pt x="15" y="7"/>
                </a:lnTo>
                <a:lnTo>
                  <a:pt x="10" y="10"/>
                </a:lnTo>
                <a:lnTo>
                  <a:pt x="6" y="13"/>
                </a:lnTo>
                <a:lnTo>
                  <a:pt x="2" y="16"/>
                </a:lnTo>
                <a:lnTo>
                  <a:pt x="0" y="19"/>
                </a:lnTo>
                <a:lnTo>
                  <a:pt x="4" y="16"/>
                </a:lnTo>
                <a:lnTo>
                  <a:pt x="4" y="25"/>
                </a:lnTo>
                <a:lnTo>
                  <a:pt x="6" y="25"/>
                </a:lnTo>
                <a:lnTo>
                  <a:pt x="8" y="22"/>
                </a:lnTo>
                <a:lnTo>
                  <a:pt x="4" y="2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818240" y="3733920"/>
            <a:ext cx="909360" cy="106200"/>
          </a:xfrm>
          <a:custGeom>
            <a:avLst/>
            <a:gdLst/>
            <a:ahLst/>
            <a:rect l="l" t="t" r="r" b="b"/>
            <a:pathLst>
              <a:path w="573" h="67">
                <a:moveTo>
                  <a:pt x="293" y="66"/>
                </a:moveTo>
                <a:lnTo>
                  <a:pt x="279" y="66"/>
                </a:lnTo>
                <a:lnTo>
                  <a:pt x="277" y="63"/>
                </a:lnTo>
                <a:lnTo>
                  <a:pt x="274" y="60"/>
                </a:lnTo>
                <a:lnTo>
                  <a:pt x="271" y="56"/>
                </a:lnTo>
                <a:lnTo>
                  <a:pt x="269" y="54"/>
                </a:lnTo>
                <a:lnTo>
                  <a:pt x="265" y="51"/>
                </a:lnTo>
                <a:lnTo>
                  <a:pt x="261" y="50"/>
                </a:lnTo>
                <a:lnTo>
                  <a:pt x="257" y="47"/>
                </a:lnTo>
                <a:lnTo>
                  <a:pt x="254" y="46"/>
                </a:lnTo>
                <a:lnTo>
                  <a:pt x="249" y="44"/>
                </a:lnTo>
                <a:lnTo>
                  <a:pt x="244" y="43"/>
                </a:lnTo>
                <a:lnTo>
                  <a:pt x="239" y="42"/>
                </a:lnTo>
                <a:lnTo>
                  <a:pt x="234" y="41"/>
                </a:lnTo>
                <a:lnTo>
                  <a:pt x="229" y="40"/>
                </a:lnTo>
                <a:lnTo>
                  <a:pt x="224" y="39"/>
                </a:lnTo>
                <a:lnTo>
                  <a:pt x="218" y="39"/>
                </a:lnTo>
                <a:lnTo>
                  <a:pt x="213" y="39"/>
                </a:lnTo>
                <a:lnTo>
                  <a:pt x="209" y="39"/>
                </a:lnTo>
                <a:lnTo>
                  <a:pt x="205" y="39"/>
                </a:lnTo>
                <a:lnTo>
                  <a:pt x="200" y="39"/>
                </a:lnTo>
                <a:lnTo>
                  <a:pt x="195" y="40"/>
                </a:lnTo>
                <a:lnTo>
                  <a:pt x="189" y="40"/>
                </a:lnTo>
                <a:lnTo>
                  <a:pt x="183" y="41"/>
                </a:lnTo>
                <a:lnTo>
                  <a:pt x="176" y="42"/>
                </a:lnTo>
                <a:lnTo>
                  <a:pt x="169" y="43"/>
                </a:lnTo>
                <a:lnTo>
                  <a:pt x="162" y="43"/>
                </a:lnTo>
                <a:lnTo>
                  <a:pt x="155" y="43"/>
                </a:lnTo>
                <a:lnTo>
                  <a:pt x="148" y="44"/>
                </a:lnTo>
                <a:lnTo>
                  <a:pt x="143" y="44"/>
                </a:lnTo>
                <a:lnTo>
                  <a:pt x="137" y="45"/>
                </a:lnTo>
                <a:lnTo>
                  <a:pt x="131" y="45"/>
                </a:lnTo>
                <a:lnTo>
                  <a:pt x="126" y="46"/>
                </a:lnTo>
                <a:lnTo>
                  <a:pt x="120" y="46"/>
                </a:lnTo>
                <a:lnTo>
                  <a:pt x="109" y="46"/>
                </a:lnTo>
                <a:lnTo>
                  <a:pt x="99" y="44"/>
                </a:lnTo>
                <a:lnTo>
                  <a:pt x="88" y="43"/>
                </a:lnTo>
                <a:lnTo>
                  <a:pt x="79" y="43"/>
                </a:lnTo>
                <a:lnTo>
                  <a:pt x="70" y="41"/>
                </a:lnTo>
                <a:lnTo>
                  <a:pt x="60" y="39"/>
                </a:lnTo>
                <a:lnTo>
                  <a:pt x="51" y="36"/>
                </a:lnTo>
                <a:lnTo>
                  <a:pt x="43" y="33"/>
                </a:lnTo>
                <a:lnTo>
                  <a:pt x="34" y="30"/>
                </a:lnTo>
                <a:lnTo>
                  <a:pt x="27" y="26"/>
                </a:lnTo>
                <a:lnTo>
                  <a:pt x="20" y="22"/>
                </a:lnTo>
                <a:lnTo>
                  <a:pt x="14" y="17"/>
                </a:lnTo>
                <a:lnTo>
                  <a:pt x="9" y="14"/>
                </a:lnTo>
                <a:lnTo>
                  <a:pt x="5" y="10"/>
                </a:lnTo>
                <a:lnTo>
                  <a:pt x="2" y="4"/>
                </a:lnTo>
                <a:lnTo>
                  <a:pt x="0" y="0"/>
                </a:lnTo>
                <a:lnTo>
                  <a:pt x="15" y="0"/>
                </a:lnTo>
                <a:lnTo>
                  <a:pt x="16" y="3"/>
                </a:lnTo>
                <a:lnTo>
                  <a:pt x="18" y="6"/>
                </a:lnTo>
                <a:lnTo>
                  <a:pt x="20" y="9"/>
                </a:lnTo>
                <a:lnTo>
                  <a:pt x="23" y="11"/>
                </a:lnTo>
                <a:lnTo>
                  <a:pt x="26" y="14"/>
                </a:lnTo>
                <a:lnTo>
                  <a:pt x="29" y="17"/>
                </a:lnTo>
                <a:lnTo>
                  <a:pt x="33" y="18"/>
                </a:lnTo>
                <a:lnTo>
                  <a:pt x="37" y="20"/>
                </a:lnTo>
                <a:lnTo>
                  <a:pt x="43" y="22"/>
                </a:lnTo>
                <a:lnTo>
                  <a:pt x="49" y="23"/>
                </a:lnTo>
                <a:lnTo>
                  <a:pt x="55" y="24"/>
                </a:lnTo>
                <a:lnTo>
                  <a:pt x="61" y="26"/>
                </a:lnTo>
                <a:lnTo>
                  <a:pt x="67" y="27"/>
                </a:lnTo>
                <a:lnTo>
                  <a:pt x="74" y="27"/>
                </a:lnTo>
                <a:lnTo>
                  <a:pt x="81" y="28"/>
                </a:lnTo>
                <a:lnTo>
                  <a:pt x="86" y="28"/>
                </a:lnTo>
                <a:lnTo>
                  <a:pt x="91" y="28"/>
                </a:lnTo>
                <a:lnTo>
                  <a:pt x="96" y="28"/>
                </a:lnTo>
                <a:lnTo>
                  <a:pt x="102" y="27"/>
                </a:lnTo>
                <a:lnTo>
                  <a:pt x="108" y="27"/>
                </a:lnTo>
                <a:lnTo>
                  <a:pt x="114" y="27"/>
                </a:lnTo>
                <a:lnTo>
                  <a:pt x="120" y="26"/>
                </a:lnTo>
                <a:lnTo>
                  <a:pt x="127" y="25"/>
                </a:lnTo>
                <a:lnTo>
                  <a:pt x="134" y="24"/>
                </a:lnTo>
                <a:lnTo>
                  <a:pt x="140" y="24"/>
                </a:lnTo>
                <a:lnTo>
                  <a:pt x="146" y="23"/>
                </a:lnTo>
                <a:lnTo>
                  <a:pt x="152" y="23"/>
                </a:lnTo>
                <a:lnTo>
                  <a:pt x="158" y="23"/>
                </a:lnTo>
                <a:lnTo>
                  <a:pt x="165" y="23"/>
                </a:lnTo>
                <a:lnTo>
                  <a:pt x="171" y="22"/>
                </a:lnTo>
                <a:lnTo>
                  <a:pt x="176" y="22"/>
                </a:lnTo>
                <a:lnTo>
                  <a:pt x="180" y="22"/>
                </a:lnTo>
                <a:lnTo>
                  <a:pt x="188" y="22"/>
                </a:lnTo>
                <a:lnTo>
                  <a:pt x="195" y="23"/>
                </a:lnTo>
                <a:lnTo>
                  <a:pt x="202" y="23"/>
                </a:lnTo>
                <a:lnTo>
                  <a:pt x="210" y="23"/>
                </a:lnTo>
                <a:lnTo>
                  <a:pt x="217" y="25"/>
                </a:lnTo>
                <a:lnTo>
                  <a:pt x="225" y="27"/>
                </a:lnTo>
                <a:lnTo>
                  <a:pt x="232" y="28"/>
                </a:lnTo>
                <a:lnTo>
                  <a:pt x="240" y="30"/>
                </a:lnTo>
                <a:lnTo>
                  <a:pt x="247" y="32"/>
                </a:lnTo>
                <a:lnTo>
                  <a:pt x="253" y="35"/>
                </a:lnTo>
                <a:lnTo>
                  <a:pt x="258" y="37"/>
                </a:lnTo>
                <a:lnTo>
                  <a:pt x="264" y="41"/>
                </a:lnTo>
                <a:lnTo>
                  <a:pt x="270" y="44"/>
                </a:lnTo>
                <a:lnTo>
                  <a:pt x="275" y="48"/>
                </a:lnTo>
                <a:lnTo>
                  <a:pt x="280" y="52"/>
                </a:lnTo>
                <a:lnTo>
                  <a:pt x="284" y="56"/>
                </a:lnTo>
                <a:lnTo>
                  <a:pt x="289" y="52"/>
                </a:lnTo>
                <a:lnTo>
                  <a:pt x="294" y="48"/>
                </a:lnTo>
                <a:lnTo>
                  <a:pt x="299" y="44"/>
                </a:lnTo>
                <a:lnTo>
                  <a:pt x="305" y="41"/>
                </a:lnTo>
                <a:lnTo>
                  <a:pt x="310" y="37"/>
                </a:lnTo>
                <a:lnTo>
                  <a:pt x="315" y="35"/>
                </a:lnTo>
                <a:lnTo>
                  <a:pt x="322" y="32"/>
                </a:lnTo>
                <a:lnTo>
                  <a:pt x="328" y="30"/>
                </a:lnTo>
                <a:lnTo>
                  <a:pt x="335" y="28"/>
                </a:lnTo>
                <a:lnTo>
                  <a:pt x="342" y="27"/>
                </a:lnTo>
                <a:lnTo>
                  <a:pt x="349" y="25"/>
                </a:lnTo>
                <a:lnTo>
                  <a:pt x="357" y="23"/>
                </a:lnTo>
                <a:lnTo>
                  <a:pt x="365" y="23"/>
                </a:lnTo>
                <a:lnTo>
                  <a:pt x="372" y="23"/>
                </a:lnTo>
                <a:lnTo>
                  <a:pt x="379" y="22"/>
                </a:lnTo>
                <a:lnTo>
                  <a:pt x="386" y="22"/>
                </a:lnTo>
                <a:lnTo>
                  <a:pt x="391" y="22"/>
                </a:lnTo>
                <a:lnTo>
                  <a:pt x="396" y="22"/>
                </a:lnTo>
                <a:lnTo>
                  <a:pt x="402" y="23"/>
                </a:lnTo>
                <a:lnTo>
                  <a:pt x="408" y="23"/>
                </a:lnTo>
                <a:lnTo>
                  <a:pt x="415" y="23"/>
                </a:lnTo>
                <a:lnTo>
                  <a:pt x="422" y="23"/>
                </a:lnTo>
                <a:lnTo>
                  <a:pt x="429" y="24"/>
                </a:lnTo>
                <a:lnTo>
                  <a:pt x="435" y="24"/>
                </a:lnTo>
                <a:lnTo>
                  <a:pt x="442" y="25"/>
                </a:lnTo>
                <a:lnTo>
                  <a:pt x="449" y="26"/>
                </a:lnTo>
                <a:lnTo>
                  <a:pt x="456" y="27"/>
                </a:lnTo>
                <a:lnTo>
                  <a:pt x="462" y="27"/>
                </a:lnTo>
                <a:lnTo>
                  <a:pt x="468" y="27"/>
                </a:lnTo>
                <a:lnTo>
                  <a:pt x="474" y="28"/>
                </a:lnTo>
                <a:lnTo>
                  <a:pt x="479" y="28"/>
                </a:lnTo>
                <a:lnTo>
                  <a:pt x="484" y="28"/>
                </a:lnTo>
                <a:lnTo>
                  <a:pt x="489" y="28"/>
                </a:lnTo>
                <a:lnTo>
                  <a:pt x="496" y="27"/>
                </a:lnTo>
                <a:lnTo>
                  <a:pt x="502" y="27"/>
                </a:lnTo>
                <a:lnTo>
                  <a:pt x="508" y="26"/>
                </a:lnTo>
                <a:lnTo>
                  <a:pt x="513" y="24"/>
                </a:lnTo>
                <a:lnTo>
                  <a:pt x="519" y="23"/>
                </a:lnTo>
                <a:lnTo>
                  <a:pt x="524" y="23"/>
                </a:lnTo>
                <a:lnTo>
                  <a:pt x="528" y="21"/>
                </a:lnTo>
                <a:lnTo>
                  <a:pt x="533" y="19"/>
                </a:lnTo>
                <a:lnTo>
                  <a:pt x="539" y="17"/>
                </a:lnTo>
                <a:lnTo>
                  <a:pt x="543" y="15"/>
                </a:lnTo>
                <a:lnTo>
                  <a:pt x="546" y="12"/>
                </a:lnTo>
                <a:lnTo>
                  <a:pt x="550" y="10"/>
                </a:lnTo>
                <a:lnTo>
                  <a:pt x="554" y="6"/>
                </a:lnTo>
                <a:lnTo>
                  <a:pt x="557" y="3"/>
                </a:lnTo>
                <a:lnTo>
                  <a:pt x="558" y="0"/>
                </a:lnTo>
                <a:lnTo>
                  <a:pt x="572" y="0"/>
                </a:lnTo>
                <a:lnTo>
                  <a:pt x="570" y="4"/>
                </a:lnTo>
                <a:lnTo>
                  <a:pt x="568" y="10"/>
                </a:lnTo>
                <a:lnTo>
                  <a:pt x="564" y="14"/>
                </a:lnTo>
                <a:lnTo>
                  <a:pt x="559" y="18"/>
                </a:lnTo>
                <a:lnTo>
                  <a:pt x="553" y="23"/>
                </a:lnTo>
                <a:lnTo>
                  <a:pt x="546" y="26"/>
                </a:lnTo>
                <a:lnTo>
                  <a:pt x="539" y="30"/>
                </a:lnTo>
                <a:lnTo>
                  <a:pt x="531" y="33"/>
                </a:lnTo>
                <a:lnTo>
                  <a:pt x="522" y="36"/>
                </a:lnTo>
                <a:lnTo>
                  <a:pt x="512" y="39"/>
                </a:lnTo>
                <a:lnTo>
                  <a:pt x="503" y="41"/>
                </a:lnTo>
                <a:lnTo>
                  <a:pt x="493" y="43"/>
                </a:lnTo>
                <a:lnTo>
                  <a:pt x="483" y="43"/>
                </a:lnTo>
                <a:lnTo>
                  <a:pt x="472" y="44"/>
                </a:lnTo>
                <a:lnTo>
                  <a:pt x="461" y="46"/>
                </a:lnTo>
                <a:lnTo>
                  <a:pt x="451" y="46"/>
                </a:lnTo>
                <a:lnTo>
                  <a:pt x="445" y="46"/>
                </a:lnTo>
                <a:lnTo>
                  <a:pt x="440" y="45"/>
                </a:lnTo>
                <a:lnTo>
                  <a:pt x="434" y="45"/>
                </a:lnTo>
                <a:lnTo>
                  <a:pt x="429" y="44"/>
                </a:lnTo>
                <a:lnTo>
                  <a:pt x="423" y="44"/>
                </a:lnTo>
                <a:lnTo>
                  <a:pt x="416" y="43"/>
                </a:lnTo>
                <a:lnTo>
                  <a:pt x="410" y="43"/>
                </a:lnTo>
                <a:lnTo>
                  <a:pt x="403" y="43"/>
                </a:lnTo>
                <a:lnTo>
                  <a:pt x="396" y="42"/>
                </a:lnTo>
                <a:lnTo>
                  <a:pt x="388" y="41"/>
                </a:lnTo>
                <a:lnTo>
                  <a:pt x="381" y="40"/>
                </a:lnTo>
                <a:lnTo>
                  <a:pt x="375" y="40"/>
                </a:lnTo>
                <a:lnTo>
                  <a:pt x="370" y="39"/>
                </a:lnTo>
                <a:lnTo>
                  <a:pt x="365" y="39"/>
                </a:lnTo>
                <a:lnTo>
                  <a:pt x="360" y="39"/>
                </a:lnTo>
                <a:lnTo>
                  <a:pt x="356" y="39"/>
                </a:lnTo>
                <a:lnTo>
                  <a:pt x="351" y="39"/>
                </a:lnTo>
                <a:lnTo>
                  <a:pt x="346" y="39"/>
                </a:lnTo>
                <a:lnTo>
                  <a:pt x="341" y="40"/>
                </a:lnTo>
                <a:lnTo>
                  <a:pt x="335" y="40"/>
                </a:lnTo>
                <a:lnTo>
                  <a:pt x="330" y="41"/>
                </a:lnTo>
                <a:lnTo>
                  <a:pt x="325" y="43"/>
                </a:lnTo>
                <a:lnTo>
                  <a:pt x="320" y="43"/>
                </a:lnTo>
                <a:lnTo>
                  <a:pt x="315" y="45"/>
                </a:lnTo>
                <a:lnTo>
                  <a:pt x="312" y="47"/>
                </a:lnTo>
                <a:lnTo>
                  <a:pt x="308" y="49"/>
                </a:lnTo>
                <a:lnTo>
                  <a:pt x="305" y="51"/>
                </a:lnTo>
                <a:lnTo>
                  <a:pt x="301" y="54"/>
                </a:lnTo>
                <a:lnTo>
                  <a:pt x="298" y="56"/>
                </a:lnTo>
                <a:lnTo>
                  <a:pt x="296" y="60"/>
                </a:lnTo>
                <a:lnTo>
                  <a:pt x="294" y="63"/>
                </a:lnTo>
                <a:lnTo>
                  <a:pt x="293" y="66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261040" y="3844800"/>
            <a:ext cx="1584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1"/>
                </a:moveTo>
                <a:lnTo>
                  <a:pt x="2" y="2"/>
                </a:lnTo>
                <a:lnTo>
                  <a:pt x="9" y="2"/>
                </a:lnTo>
                <a:lnTo>
                  <a:pt x="9" y="0"/>
                </a:lnTo>
                <a:lnTo>
                  <a:pt x="2" y="0"/>
                </a:lnTo>
                <a:lnTo>
                  <a:pt x="4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0" y="1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224320" y="38084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7"/>
                </a:moveTo>
                <a:lnTo>
                  <a:pt x="3" y="8"/>
                </a:lnTo>
                <a:lnTo>
                  <a:pt x="5" y="9"/>
                </a:lnTo>
                <a:lnTo>
                  <a:pt x="8" y="11"/>
                </a:lnTo>
                <a:lnTo>
                  <a:pt x="10" y="13"/>
                </a:lnTo>
                <a:lnTo>
                  <a:pt x="11" y="15"/>
                </a:lnTo>
                <a:lnTo>
                  <a:pt x="13" y="16"/>
                </a:lnTo>
                <a:lnTo>
                  <a:pt x="14" y="19"/>
                </a:lnTo>
                <a:lnTo>
                  <a:pt x="16" y="21"/>
                </a:lnTo>
                <a:lnTo>
                  <a:pt x="22" y="18"/>
                </a:lnTo>
                <a:lnTo>
                  <a:pt x="21" y="15"/>
                </a:lnTo>
                <a:lnTo>
                  <a:pt x="19" y="13"/>
                </a:lnTo>
                <a:lnTo>
                  <a:pt x="17" y="10"/>
                </a:lnTo>
                <a:lnTo>
                  <a:pt x="14" y="7"/>
                </a:lnTo>
                <a:lnTo>
                  <a:pt x="12" y="5"/>
                </a:lnTo>
                <a:lnTo>
                  <a:pt x="9" y="3"/>
                </a:lnTo>
                <a:lnTo>
                  <a:pt x="6" y="2"/>
                </a:lnTo>
                <a:lnTo>
                  <a:pt x="3" y="0"/>
                </a:lnTo>
                <a:lnTo>
                  <a:pt x="0" y="7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162400" y="3795840"/>
            <a:ext cx="54000" cy="15840"/>
          </a:xfrm>
          <a:custGeom>
            <a:avLst/>
            <a:gdLst/>
            <a:ahLst/>
            <a:rect l="l" t="t" r="r" b="b"/>
            <a:pathLst>
              <a:path w="34" h="10">
                <a:moveTo>
                  <a:pt x="0" y="5"/>
                </a:moveTo>
                <a:lnTo>
                  <a:pt x="4" y="5"/>
                </a:lnTo>
                <a:lnTo>
                  <a:pt x="8" y="5"/>
                </a:lnTo>
                <a:lnTo>
                  <a:pt x="12" y="6"/>
                </a:lnTo>
                <a:lnTo>
                  <a:pt x="15" y="6"/>
                </a:lnTo>
                <a:lnTo>
                  <a:pt x="19" y="7"/>
                </a:lnTo>
                <a:lnTo>
                  <a:pt x="23" y="7"/>
                </a:lnTo>
                <a:lnTo>
                  <a:pt x="27" y="8"/>
                </a:lnTo>
                <a:lnTo>
                  <a:pt x="30" y="9"/>
                </a:lnTo>
                <a:lnTo>
                  <a:pt x="33" y="4"/>
                </a:lnTo>
                <a:lnTo>
                  <a:pt x="29" y="3"/>
                </a:lnTo>
                <a:lnTo>
                  <a:pt x="25" y="2"/>
                </a:lnTo>
                <a:lnTo>
                  <a:pt x="21" y="2"/>
                </a:lnTo>
                <a:lnTo>
                  <a:pt x="17" y="1"/>
                </a:ln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89680" y="3795840"/>
            <a:ext cx="58680" cy="9360"/>
          </a:xfrm>
          <a:custGeom>
            <a:avLst/>
            <a:gdLst/>
            <a:ahLst/>
            <a:rect l="l" t="t" r="r" b="b"/>
            <a:pathLst>
              <a:path w="37" h="6">
                <a:moveTo>
                  <a:pt x="1" y="5"/>
                </a:moveTo>
                <a:lnTo>
                  <a:pt x="6" y="5"/>
                </a:lnTo>
                <a:lnTo>
                  <a:pt x="12" y="4"/>
                </a:lnTo>
                <a:lnTo>
                  <a:pt x="16" y="4"/>
                </a:lnTo>
                <a:lnTo>
                  <a:pt x="21" y="4"/>
                </a:lnTo>
                <a:lnTo>
                  <a:pt x="26" y="4"/>
                </a:lnTo>
                <a:lnTo>
                  <a:pt x="30" y="4"/>
                </a:lnTo>
                <a:lnTo>
                  <a:pt x="33" y="4"/>
                </a:lnTo>
                <a:lnTo>
                  <a:pt x="36" y="4"/>
                </a:lnTo>
                <a:lnTo>
                  <a:pt x="36" y="0"/>
                </a:lnTo>
                <a:lnTo>
                  <a:pt x="33" y="0"/>
                </a:lnTo>
                <a:lnTo>
                  <a:pt x="30" y="0"/>
                </a:lnTo>
                <a:lnTo>
                  <a:pt x="26" y="0"/>
                </a:lnTo>
                <a:lnTo>
                  <a:pt x="21" y="0"/>
                </a:lnTo>
                <a:lnTo>
                  <a:pt x="16" y="1"/>
                </a:lnTo>
                <a:lnTo>
                  <a:pt x="11" y="1"/>
                </a:lnTo>
                <a:lnTo>
                  <a:pt x="5" y="1"/>
                </a:lnTo>
                <a:lnTo>
                  <a:pt x="0" y="1"/>
                </a:lnTo>
                <a:lnTo>
                  <a:pt x="1" y="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11560" y="3801960"/>
            <a:ext cx="65160" cy="972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5"/>
                </a:moveTo>
                <a:lnTo>
                  <a:pt x="5" y="5"/>
                </a:lnTo>
                <a:lnTo>
                  <a:pt x="9" y="5"/>
                </a:lnTo>
                <a:lnTo>
                  <a:pt x="14" y="5"/>
                </a:lnTo>
                <a:lnTo>
                  <a:pt x="18" y="5"/>
                </a:lnTo>
                <a:lnTo>
                  <a:pt x="23" y="4"/>
                </a:lnTo>
                <a:lnTo>
                  <a:pt x="30" y="4"/>
                </a:lnTo>
                <a:lnTo>
                  <a:pt x="34" y="4"/>
                </a:lnTo>
                <a:lnTo>
                  <a:pt x="40" y="4"/>
                </a:lnTo>
                <a:lnTo>
                  <a:pt x="39" y="0"/>
                </a:lnTo>
                <a:lnTo>
                  <a:pt x="34" y="0"/>
                </a:lnTo>
                <a:lnTo>
                  <a:pt x="28" y="1"/>
                </a:lnTo>
                <a:lnTo>
                  <a:pt x="23" y="1"/>
                </a:lnTo>
                <a:lnTo>
                  <a:pt x="18" y="1"/>
                </a:lnTo>
                <a:lnTo>
                  <a:pt x="14" y="1"/>
                </a:lnTo>
                <a:lnTo>
                  <a:pt x="9" y="1"/>
                </a:lnTo>
                <a:lnTo>
                  <a:pt x="5" y="1"/>
                </a:lnTo>
                <a:lnTo>
                  <a:pt x="0" y="1"/>
                </a:lnTo>
                <a:lnTo>
                  <a:pt x="0" y="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883040" y="3786120"/>
            <a:ext cx="114480" cy="25560"/>
          </a:xfrm>
          <a:custGeom>
            <a:avLst/>
            <a:gdLst/>
            <a:ahLst/>
            <a:rect l="l" t="t" r="r" b="b"/>
            <a:pathLst>
              <a:path w="72" h="16">
                <a:moveTo>
                  <a:pt x="0" y="6"/>
                </a:moveTo>
                <a:lnTo>
                  <a:pt x="1" y="6"/>
                </a:lnTo>
                <a:lnTo>
                  <a:pt x="9" y="8"/>
                </a:lnTo>
                <a:lnTo>
                  <a:pt x="17" y="10"/>
                </a:lnTo>
                <a:lnTo>
                  <a:pt x="25" y="11"/>
                </a:lnTo>
                <a:lnTo>
                  <a:pt x="34" y="13"/>
                </a:lnTo>
                <a:lnTo>
                  <a:pt x="43" y="13"/>
                </a:lnTo>
                <a:lnTo>
                  <a:pt x="52" y="14"/>
                </a:lnTo>
                <a:lnTo>
                  <a:pt x="61" y="15"/>
                </a:lnTo>
                <a:lnTo>
                  <a:pt x="71" y="15"/>
                </a:lnTo>
                <a:lnTo>
                  <a:pt x="71" y="8"/>
                </a:lnTo>
                <a:lnTo>
                  <a:pt x="61" y="8"/>
                </a:lnTo>
                <a:lnTo>
                  <a:pt x="53" y="8"/>
                </a:lnTo>
                <a:lnTo>
                  <a:pt x="44" y="7"/>
                </a:lnTo>
                <a:lnTo>
                  <a:pt x="35" y="6"/>
                </a:lnTo>
                <a:lnTo>
                  <a:pt x="27" y="5"/>
                </a:lnTo>
                <a:lnTo>
                  <a:pt x="19" y="4"/>
                </a:lnTo>
                <a:lnTo>
                  <a:pt x="11" y="2"/>
                </a:lnTo>
                <a:lnTo>
                  <a:pt x="4" y="0"/>
                </a:lnTo>
                <a:lnTo>
                  <a:pt x="0" y="6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08520" y="3724200"/>
            <a:ext cx="68400" cy="63720"/>
          </a:xfrm>
          <a:custGeom>
            <a:avLst/>
            <a:gdLst/>
            <a:ahLst/>
            <a:rect l="l" t="t" r="r" b="b"/>
            <a:pathLst>
              <a:path w="43" h="40">
                <a:moveTo>
                  <a:pt x="5" y="0"/>
                </a:moveTo>
                <a:lnTo>
                  <a:pt x="1" y="5"/>
                </a:lnTo>
                <a:lnTo>
                  <a:pt x="2" y="10"/>
                </a:lnTo>
                <a:lnTo>
                  <a:pt x="5" y="16"/>
                </a:lnTo>
                <a:lnTo>
                  <a:pt x="9" y="20"/>
                </a:lnTo>
                <a:lnTo>
                  <a:pt x="13" y="24"/>
                </a:lnTo>
                <a:lnTo>
                  <a:pt x="19" y="29"/>
                </a:lnTo>
                <a:lnTo>
                  <a:pt x="24" y="32"/>
                </a:lnTo>
                <a:lnTo>
                  <a:pt x="32" y="36"/>
                </a:lnTo>
                <a:lnTo>
                  <a:pt x="38" y="39"/>
                </a:lnTo>
                <a:lnTo>
                  <a:pt x="42" y="31"/>
                </a:lnTo>
                <a:lnTo>
                  <a:pt x="35" y="29"/>
                </a:lnTo>
                <a:lnTo>
                  <a:pt x="29" y="25"/>
                </a:lnTo>
                <a:lnTo>
                  <a:pt x="23" y="21"/>
                </a:lnTo>
                <a:lnTo>
                  <a:pt x="19" y="18"/>
                </a:lnTo>
                <a:lnTo>
                  <a:pt x="15" y="14"/>
                </a:lnTo>
                <a:lnTo>
                  <a:pt x="12" y="11"/>
                </a:lnTo>
                <a:lnTo>
                  <a:pt x="11" y="8"/>
                </a:lnTo>
                <a:lnTo>
                  <a:pt x="9" y="4"/>
                </a:lnTo>
                <a:lnTo>
                  <a:pt x="5" y="9"/>
                </a:lnTo>
                <a:lnTo>
                  <a:pt x="5" y="0"/>
                </a:lnTo>
                <a:lnTo>
                  <a:pt x="0" y="1"/>
                </a:lnTo>
                <a:lnTo>
                  <a:pt x="1" y="5"/>
                </a:lnTo>
                <a:lnTo>
                  <a:pt x="5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818240" y="3724200"/>
            <a:ext cx="18720" cy="3240"/>
          </a:xfrm>
          <a:custGeom>
            <a:avLst/>
            <a:gdLst/>
            <a:ahLst/>
            <a:rect l="l" t="t" r="r" b="b"/>
            <a:pathLst>
              <a:path w="12" h="2">
                <a:moveTo>
                  <a:pt x="11" y="0"/>
                </a:moveTo>
                <a:lnTo>
                  <a:pt x="8" y="0"/>
                </a:lnTo>
                <a:lnTo>
                  <a:pt x="0" y="0"/>
                </a:lnTo>
                <a:lnTo>
                  <a:pt x="0" y="1"/>
                </a:lnTo>
                <a:lnTo>
                  <a:pt x="8" y="1"/>
                </a:lnTo>
                <a:lnTo>
                  <a:pt x="5" y="1"/>
                </a:lnTo>
                <a:lnTo>
                  <a:pt x="11" y="0"/>
                </a:lnTo>
                <a:lnTo>
                  <a:pt x="10" y="0"/>
                </a:lnTo>
                <a:lnTo>
                  <a:pt x="8" y="0"/>
                </a:lnTo>
                <a:lnTo>
                  <a:pt x="11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34080" y="3732120"/>
            <a:ext cx="34920" cy="31680"/>
          </a:xfrm>
          <a:custGeom>
            <a:avLst/>
            <a:gdLst/>
            <a:ahLst/>
            <a:rect l="l" t="t" r="r" b="b"/>
            <a:pathLst>
              <a:path w="22" h="20">
                <a:moveTo>
                  <a:pt x="20" y="12"/>
                </a:moveTo>
                <a:lnTo>
                  <a:pt x="21" y="12"/>
                </a:lnTo>
                <a:lnTo>
                  <a:pt x="18" y="11"/>
                </a:lnTo>
                <a:lnTo>
                  <a:pt x="16" y="10"/>
                </a:lnTo>
                <a:lnTo>
                  <a:pt x="14" y="9"/>
                </a:lnTo>
                <a:lnTo>
                  <a:pt x="12" y="7"/>
                </a:lnTo>
                <a:lnTo>
                  <a:pt x="9" y="5"/>
                </a:lnTo>
                <a:lnTo>
                  <a:pt x="8" y="3"/>
                </a:lnTo>
                <a:lnTo>
                  <a:pt x="7" y="1"/>
                </a:lnTo>
                <a:lnTo>
                  <a:pt x="7" y="0"/>
                </a:lnTo>
                <a:lnTo>
                  <a:pt x="0" y="1"/>
                </a:lnTo>
                <a:lnTo>
                  <a:pt x="1" y="4"/>
                </a:lnTo>
                <a:lnTo>
                  <a:pt x="2" y="7"/>
                </a:lnTo>
                <a:lnTo>
                  <a:pt x="4" y="10"/>
                </a:lnTo>
                <a:lnTo>
                  <a:pt x="6" y="12"/>
                </a:lnTo>
                <a:lnTo>
                  <a:pt x="9" y="14"/>
                </a:lnTo>
                <a:lnTo>
                  <a:pt x="12" y="16"/>
                </a:lnTo>
                <a:lnTo>
                  <a:pt x="15" y="18"/>
                </a:lnTo>
                <a:lnTo>
                  <a:pt x="18" y="19"/>
                </a:lnTo>
                <a:lnTo>
                  <a:pt x="20" y="12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876920" y="376236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1" y="4"/>
                </a:moveTo>
                <a:lnTo>
                  <a:pt x="36" y="4"/>
                </a:lnTo>
                <a:lnTo>
                  <a:pt x="31" y="4"/>
                </a:lnTo>
                <a:lnTo>
                  <a:pt x="26" y="4"/>
                </a:lnTo>
                <a:lnTo>
                  <a:pt x="21" y="3"/>
                </a:lnTo>
                <a:lnTo>
                  <a:pt x="16" y="3"/>
                </a:lnTo>
                <a:lnTo>
                  <a:pt x="11" y="2"/>
                </a:lnTo>
                <a:lnTo>
                  <a:pt x="6" y="1"/>
                </a:lnTo>
                <a:lnTo>
                  <a:pt x="2" y="0"/>
                </a:lnTo>
                <a:lnTo>
                  <a:pt x="0" y="5"/>
                </a:lnTo>
                <a:lnTo>
                  <a:pt x="5" y="6"/>
                </a:lnTo>
                <a:lnTo>
                  <a:pt x="10" y="7"/>
                </a:lnTo>
                <a:lnTo>
                  <a:pt x="14" y="8"/>
                </a:lnTo>
                <a:lnTo>
                  <a:pt x="19" y="9"/>
                </a:lnTo>
                <a:lnTo>
                  <a:pt x="25" y="9"/>
                </a:lnTo>
                <a:lnTo>
                  <a:pt x="31" y="9"/>
                </a:lnTo>
                <a:lnTo>
                  <a:pt x="36" y="10"/>
                </a:lnTo>
                <a:lnTo>
                  <a:pt x="41" y="10"/>
                </a:lnTo>
                <a:lnTo>
                  <a:pt x="41" y="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957920" y="3770280"/>
            <a:ext cx="63360" cy="9720"/>
          </a:xfrm>
          <a:custGeom>
            <a:avLst/>
            <a:gdLst/>
            <a:ahLst/>
            <a:rect l="l" t="t" r="r" b="b"/>
            <a:pathLst>
              <a:path w="40" h="6">
                <a:moveTo>
                  <a:pt x="38" y="0"/>
                </a:moveTo>
                <a:lnTo>
                  <a:pt x="33" y="0"/>
                </a:lnTo>
                <a:lnTo>
                  <a:pt x="27" y="1"/>
                </a:lnTo>
                <a:lnTo>
                  <a:pt x="22" y="1"/>
                </a:lnTo>
                <a:lnTo>
                  <a:pt x="18" y="1"/>
                </a:lnTo>
                <a:lnTo>
                  <a:pt x="13" y="1"/>
                </a:lnTo>
                <a:lnTo>
                  <a:pt x="8" y="1"/>
                </a:lnTo>
                <a:lnTo>
                  <a:pt x="4" y="1"/>
                </a:lnTo>
                <a:lnTo>
                  <a:pt x="0" y="1"/>
                </a:lnTo>
                <a:lnTo>
                  <a:pt x="0" y="5"/>
                </a:lnTo>
                <a:lnTo>
                  <a:pt x="4" y="5"/>
                </a:lnTo>
                <a:lnTo>
                  <a:pt x="8" y="5"/>
                </a:lnTo>
                <a:lnTo>
                  <a:pt x="13" y="4"/>
                </a:lnTo>
                <a:lnTo>
                  <a:pt x="18" y="4"/>
                </a:lnTo>
                <a:lnTo>
                  <a:pt x="22" y="4"/>
                </a:lnTo>
                <a:lnTo>
                  <a:pt x="28" y="4"/>
                </a:lnTo>
                <a:lnTo>
                  <a:pt x="33" y="4"/>
                </a:lnTo>
                <a:lnTo>
                  <a:pt x="39" y="4"/>
                </a:lnTo>
                <a:lnTo>
                  <a:pt x="38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033880" y="3763800"/>
            <a:ext cx="60480" cy="9720"/>
          </a:xfrm>
          <a:custGeom>
            <a:avLst/>
            <a:gdLst/>
            <a:ahLst/>
            <a:rect l="l" t="t" r="r" b="b"/>
            <a:pathLst>
              <a:path w="38" h="6">
                <a:moveTo>
                  <a:pt x="37" y="0"/>
                </a:moveTo>
                <a:lnTo>
                  <a:pt x="34" y="0"/>
                </a:lnTo>
                <a:lnTo>
                  <a:pt x="30" y="0"/>
                </a:lnTo>
                <a:lnTo>
                  <a:pt x="25" y="0"/>
                </a:lnTo>
                <a:lnTo>
                  <a:pt x="20" y="0"/>
                </a:lnTo>
                <a:lnTo>
                  <a:pt x="15" y="1"/>
                </a:lnTo>
                <a:lnTo>
                  <a:pt x="9" y="1"/>
                </a:lnTo>
                <a:lnTo>
                  <a:pt x="5" y="1"/>
                </a:lnTo>
                <a:lnTo>
                  <a:pt x="0" y="1"/>
                </a:lnTo>
                <a:lnTo>
                  <a:pt x="1" y="5"/>
                </a:lnTo>
                <a:lnTo>
                  <a:pt x="6" y="5"/>
                </a:lnTo>
                <a:lnTo>
                  <a:pt x="10" y="4"/>
                </a:lnTo>
                <a:lnTo>
                  <a:pt x="15" y="4"/>
                </a:lnTo>
                <a:lnTo>
                  <a:pt x="20" y="4"/>
                </a:lnTo>
                <a:lnTo>
                  <a:pt x="25" y="4"/>
                </a:lnTo>
                <a:lnTo>
                  <a:pt x="30" y="4"/>
                </a:lnTo>
                <a:lnTo>
                  <a:pt x="34" y="4"/>
                </a:lnTo>
                <a:lnTo>
                  <a:pt x="37" y="4"/>
                </a:lnTo>
                <a:lnTo>
                  <a:pt x="37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108400" y="3763800"/>
            <a:ext cx="84240" cy="19080"/>
          </a:xfrm>
          <a:custGeom>
            <a:avLst/>
            <a:gdLst/>
            <a:ahLst/>
            <a:rect l="l" t="t" r="r" b="b"/>
            <a:pathLst>
              <a:path w="53" h="12">
                <a:moveTo>
                  <a:pt x="52" y="6"/>
                </a:moveTo>
                <a:lnTo>
                  <a:pt x="45" y="4"/>
                </a:lnTo>
                <a:lnTo>
                  <a:pt x="39" y="4"/>
                </a:lnTo>
                <a:lnTo>
                  <a:pt x="33" y="3"/>
                </a:lnTo>
                <a:lnTo>
                  <a:pt x="26" y="2"/>
                </a:lnTo>
                <a:lnTo>
                  <a:pt x="19" y="1"/>
                </a:lnTo>
                <a:lnTo>
                  <a:pt x="13" y="1"/>
                </a:lnTo>
                <a:lnTo>
                  <a:pt x="7" y="0"/>
                </a:lnTo>
                <a:lnTo>
                  <a:pt x="0" y="0"/>
                </a:lnTo>
                <a:lnTo>
                  <a:pt x="0" y="6"/>
                </a:lnTo>
                <a:lnTo>
                  <a:pt x="7" y="6"/>
                </a:lnTo>
                <a:lnTo>
                  <a:pt x="13" y="6"/>
                </a:lnTo>
                <a:lnTo>
                  <a:pt x="18" y="6"/>
                </a:lnTo>
                <a:lnTo>
                  <a:pt x="25" y="7"/>
                </a:lnTo>
                <a:lnTo>
                  <a:pt x="31" y="8"/>
                </a:lnTo>
                <a:lnTo>
                  <a:pt x="38" y="9"/>
                </a:lnTo>
                <a:lnTo>
                  <a:pt x="44" y="10"/>
                </a:lnTo>
                <a:lnTo>
                  <a:pt x="49" y="11"/>
                </a:lnTo>
                <a:lnTo>
                  <a:pt x="52" y="6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202360" y="3781440"/>
            <a:ext cx="66600" cy="54000"/>
          </a:xfrm>
          <a:custGeom>
            <a:avLst/>
            <a:gdLst/>
            <a:ahLst/>
            <a:rect l="l" t="t" r="r" b="b"/>
            <a:pathLst>
              <a:path w="42" h="34">
                <a:moveTo>
                  <a:pt x="35" y="24"/>
                </a:moveTo>
                <a:lnTo>
                  <a:pt x="41" y="24"/>
                </a:lnTo>
                <a:lnTo>
                  <a:pt x="38" y="21"/>
                </a:lnTo>
                <a:lnTo>
                  <a:pt x="34" y="16"/>
                </a:lnTo>
                <a:lnTo>
                  <a:pt x="29" y="13"/>
                </a:lnTo>
                <a:lnTo>
                  <a:pt x="24" y="10"/>
                </a:lnTo>
                <a:lnTo>
                  <a:pt x="18" y="7"/>
                </a:lnTo>
                <a:lnTo>
                  <a:pt x="14" y="5"/>
                </a:lnTo>
                <a:lnTo>
                  <a:pt x="8" y="2"/>
                </a:lnTo>
                <a:lnTo>
                  <a:pt x="2" y="0"/>
                </a:lnTo>
                <a:lnTo>
                  <a:pt x="0" y="8"/>
                </a:lnTo>
                <a:lnTo>
                  <a:pt x="6" y="9"/>
                </a:lnTo>
                <a:lnTo>
                  <a:pt x="10" y="12"/>
                </a:lnTo>
                <a:lnTo>
                  <a:pt x="15" y="14"/>
                </a:lnTo>
                <a:lnTo>
                  <a:pt x="20" y="17"/>
                </a:lnTo>
                <a:lnTo>
                  <a:pt x="24" y="20"/>
                </a:lnTo>
                <a:lnTo>
                  <a:pt x="28" y="22"/>
                </a:lnTo>
                <a:lnTo>
                  <a:pt x="31" y="25"/>
                </a:lnTo>
                <a:lnTo>
                  <a:pt x="35" y="29"/>
                </a:lnTo>
                <a:lnTo>
                  <a:pt x="41" y="29"/>
                </a:lnTo>
                <a:lnTo>
                  <a:pt x="35" y="29"/>
                </a:lnTo>
                <a:lnTo>
                  <a:pt x="38" y="33"/>
                </a:lnTo>
                <a:lnTo>
                  <a:pt x="41" y="29"/>
                </a:lnTo>
                <a:lnTo>
                  <a:pt x="35" y="2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270400" y="3781440"/>
            <a:ext cx="66600" cy="46080"/>
          </a:xfrm>
          <a:custGeom>
            <a:avLst/>
            <a:gdLst/>
            <a:ahLst/>
            <a:rect l="l" t="t" r="r" b="b"/>
            <a:pathLst>
              <a:path w="42" h="29">
                <a:moveTo>
                  <a:pt x="38" y="0"/>
                </a:moveTo>
                <a:lnTo>
                  <a:pt x="32" y="1"/>
                </a:lnTo>
                <a:lnTo>
                  <a:pt x="27" y="4"/>
                </a:lnTo>
                <a:lnTo>
                  <a:pt x="23" y="7"/>
                </a:lnTo>
                <a:lnTo>
                  <a:pt x="18" y="10"/>
                </a:lnTo>
                <a:lnTo>
                  <a:pt x="13" y="13"/>
                </a:lnTo>
                <a:lnTo>
                  <a:pt x="8" y="15"/>
                </a:lnTo>
                <a:lnTo>
                  <a:pt x="4" y="19"/>
                </a:lnTo>
                <a:lnTo>
                  <a:pt x="0" y="23"/>
                </a:lnTo>
                <a:lnTo>
                  <a:pt x="6" y="28"/>
                </a:lnTo>
                <a:lnTo>
                  <a:pt x="10" y="25"/>
                </a:lnTo>
                <a:lnTo>
                  <a:pt x="14" y="21"/>
                </a:lnTo>
                <a:lnTo>
                  <a:pt x="18" y="19"/>
                </a:lnTo>
                <a:lnTo>
                  <a:pt x="23" y="16"/>
                </a:lnTo>
                <a:lnTo>
                  <a:pt x="27" y="13"/>
                </a:lnTo>
                <a:lnTo>
                  <a:pt x="31" y="11"/>
                </a:lnTo>
                <a:lnTo>
                  <a:pt x="36" y="9"/>
                </a:lnTo>
                <a:lnTo>
                  <a:pt x="41" y="7"/>
                </a:lnTo>
                <a:lnTo>
                  <a:pt x="38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345280" y="3763800"/>
            <a:ext cx="82440" cy="19080"/>
          </a:xfrm>
          <a:custGeom>
            <a:avLst/>
            <a:gdLst/>
            <a:ahLst/>
            <a:rect l="l" t="t" r="r" b="b"/>
            <a:pathLst>
              <a:path w="52" h="12">
                <a:moveTo>
                  <a:pt x="51" y="0"/>
                </a:moveTo>
                <a:lnTo>
                  <a:pt x="45" y="0"/>
                </a:lnTo>
                <a:lnTo>
                  <a:pt x="38" y="1"/>
                </a:lnTo>
                <a:lnTo>
                  <a:pt x="32" y="1"/>
                </a:lnTo>
                <a:lnTo>
                  <a:pt x="25" y="2"/>
                </a:lnTo>
                <a:lnTo>
                  <a:pt x="18" y="3"/>
                </a:lnTo>
                <a:lnTo>
                  <a:pt x="13" y="4"/>
                </a:lnTo>
                <a:lnTo>
                  <a:pt x="7" y="4"/>
                </a:lnTo>
                <a:lnTo>
                  <a:pt x="0" y="6"/>
                </a:lnTo>
                <a:lnTo>
                  <a:pt x="3" y="11"/>
                </a:lnTo>
                <a:lnTo>
                  <a:pt x="8" y="10"/>
                </a:lnTo>
                <a:lnTo>
                  <a:pt x="14" y="9"/>
                </a:lnTo>
                <a:lnTo>
                  <a:pt x="20" y="8"/>
                </a:lnTo>
                <a:lnTo>
                  <a:pt x="26" y="7"/>
                </a:lnTo>
                <a:lnTo>
                  <a:pt x="33" y="6"/>
                </a:lnTo>
                <a:lnTo>
                  <a:pt x="38" y="6"/>
                </a:lnTo>
                <a:lnTo>
                  <a:pt x="45" y="6"/>
                </a:lnTo>
                <a:lnTo>
                  <a:pt x="51" y="6"/>
                </a:lnTo>
                <a:lnTo>
                  <a:pt x="51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442120" y="3763800"/>
            <a:ext cx="66600" cy="9720"/>
          </a:xfrm>
          <a:custGeom>
            <a:avLst/>
            <a:gdLst/>
            <a:ahLst/>
            <a:rect l="l" t="t" r="r" b="b"/>
            <a:pathLst>
              <a:path w="42" h="6">
                <a:moveTo>
                  <a:pt x="41" y="1"/>
                </a:moveTo>
                <a:lnTo>
                  <a:pt x="35" y="1"/>
                </a:lnTo>
                <a:lnTo>
                  <a:pt x="29" y="1"/>
                </a:lnTo>
                <a:lnTo>
                  <a:pt x="23" y="1"/>
                </a:lnTo>
                <a:lnTo>
                  <a:pt x="18" y="0"/>
                </a:lnTo>
                <a:lnTo>
                  <a:pt x="13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4" y="4"/>
                </a:lnTo>
                <a:lnTo>
                  <a:pt x="8" y="4"/>
                </a:lnTo>
                <a:lnTo>
                  <a:pt x="13" y="4"/>
                </a:lnTo>
                <a:lnTo>
                  <a:pt x="18" y="4"/>
                </a:lnTo>
                <a:lnTo>
                  <a:pt x="23" y="4"/>
                </a:lnTo>
                <a:lnTo>
                  <a:pt x="28" y="4"/>
                </a:lnTo>
                <a:lnTo>
                  <a:pt x="35" y="5"/>
                </a:lnTo>
                <a:lnTo>
                  <a:pt x="39" y="5"/>
                </a:lnTo>
                <a:lnTo>
                  <a:pt x="41" y="1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519880" y="3770280"/>
            <a:ext cx="64800" cy="9720"/>
          </a:xfrm>
          <a:custGeom>
            <a:avLst/>
            <a:gdLst/>
            <a:ahLst/>
            <a:rect l="l" t="t" r="r" b="b"/>
            <a:pathLst>
              <a:path w="41" h="6">
                <a:moveTo>
                  <a:pt x="40" y="1"/>
                </a:moveTo>
                <a:lnTo>
                  <a:pt x="36" y="1"/>
                </a:lnTo>
                <a:lnTo>
                  <a:pt x="32" y="1"/>
                </a:lnTo>
                <a:lnTo>
                  <a:pt x="27" y="1"/>
                </a:lnTo>
                <a:lnTo>
                  <a:pt x="22" y="1"/>
                </a:lnTo>
                <a:lnTo>
                  <a:pt x="18" y="1"/>
                </a:lnTo>
                <a:lnTo>
                  <a:pt x="12" y="1"/>
                </a:lnTo>
                <a:lnTo>
                  <a:pt x="7" y="0"/>
                </a:lnTo>
                <a:lnTo>
                  <a:pt x="2" y="0"/>
                </a:lnTo>
                <a:lnTo>
                  <a:pt x="0" y="4"/>
                </a:lnTo>
                <a:lnTo>
                  <a:pt x="6" y="4"/>
                </a:lnTo>
                <a:lnTo>
                  <a:pt x="11" y="4"/>
                </a:lnTo>
                <a:lnTo>
                  <a:pt x="18" y="4"/>
                </a:lnTo>
                <a:lnTo>
                  <a:pt x="22" y="4"/>
                </a:lnTo>
                <a:lnTo>
                  <a:pt x="27" y="4"/>
                </a:lnTo>
                <a:lnTo>
                  <a:pt x="32" y="5"/>
                </a:lnTo>
                <a:lnTo>
                  <a:pt x="36" y="5"/>
                </a:lnTo>
                <a:lnTo>
                  <a:pt x="40" y="5"/>
                </a:lnTo>
                <a:lnTo>
                  <a:pt x="40" y="1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599080" y="3763800"/>
            <a:ext cx="60480" cy="16200"/>
          </a:xfrm>
          <a:custGeom>
            <a:avLst/>
            <a:gdLst/>
            <a:ahLst/>
            <a:rect l="l" t="t" r="r" b="b"/>
            <a:pathLst>
              <a:path w="38" h="10">
                <a:moveTo>
                  <a:pt x="35" y="0"/>
                </a:moveTo>
                <a:lnTo>
                  <a:pt x="31" y="1"/>
                </a:lnTo>
                <a:lnTo>
                  <a:pt x="27" y="1"/>
                </a:lnTo>
                <a:lnTo>
                  <a:pt x="23" y="2"/>
                </a:lnTo>
                <a:lnTo>
                  <a:pt x="19" y="2"/>
                </a:lnTo>
                <a:lnTo>
                  <a:pt x="14" y="3"/>
                </a:lnTo>
                <a:lnTo>
                  <a:pt x="10" y="3"/>
                </a:lnTo>
                <a:lnTo>
                  <a:pt x="5" y="3"/>
                </a:lnTo>
                <a:lnTo>
                  <a:pt x="0" y="3"/>
                </a:lnTo>
                <a:lnTo>
                  <a:pt x="0" y="9"/>
                </a:lnTo>
                <a:lnTo>
                  <a:pt x="5" y="9"/>
                </a:lnTo>
                <a:lnTo>
                  <a:pt x="10" y="8"/>
                </a:lnTo>
                <a:lnTo>
                  <a:pt x="15" y="8"/>
                </a:lnTo>
                <a:lnTo>
                  <a:pt x="20" y="8"/>
                </a:lnTo>
                <a:lnTo>
                  <a:pt x="25" y="7"/>
                </a:lnTo>
                <a:lnTo>
                  <a:pt x="29" y="6"/>
                </a:lnTo>
                <a:lnTo>
                  <a:pt x="33" y="6"/>
                </a:lnTo>
                <a:lnTo>
                  <a:pt x="37" y="5"/>
                </a:lnTo>
                <a:lnTo>
                  <a:pt x="35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668920" y="372420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24" y="0"/>
                </a:moveTo>
                <a:lnTo>
                  <a:pt x="20" y="3"/>
                </a:lnTo>
                <a:lnTo>
                  <a:pt x="19" y="5"/>
                </a:lnTo>
                <a:lnTo>
                  <a:pt x="18" y="7"/>
                </a:lnTo>
                <a:lnTo>
                  <a:pt x="15" y="9"/>
                </a:lnTo>
                <a:lnTo>
                  <a:pt x="13" y="12"/>
                </a:lnTo>
                <a:lnTo>
                  <a:pt x="10" y="13"/>
                </a:lnTo>
                <a:lnTo>
                  <a:pt x="7" y="15"/>
                </a:lnTo>
                <a:lnTo>
                  <a:pt x="3" y="17"/>
                </a:lnTo>
                <a:lnTo>
                  <a:pt x="0" y="18"/>
                </a:lnTo>
                <a:lnTo>
                  <a:pt x="2" y="26"/>
                </a:lnTo>
                <a:lnTo>
                  <a:pt x="7" y="24"/>
                </a:lnTo>
                <a:lnTo>
                  <a:pt x="10" y="22"/>
                </a:lnTo>
                <a:lnTo>
                  <a:pt x="14" y="20"/>
                </a:lnTo>
                <a:lnTo>
                  <a:pt x="18" y="17"/>
                </a:lnTo>
                <a:lnTo>
                  <a:pt x="21" y="15"/>
                </a:lnTo>
                <a:lnTo>
                  <a:pt x="24" y="12"/>
                </a:lnTo>
                <a:lnTo>
                  <a:pt x="26" y="9"/>
                </a:lnTo>
                <a:lnTo>
                  <a:pt x="28" y="5"/>
                </a:lnTo>
                <a:lnTo>
                  <a:pt x="24" y="8"/>
                </a:lnTo>
                <a:lnTo>
                  <a:pt x="24" y="0"/>
                </a:lnTo>
                <a:lnTo>
                  <a:pt x="21" y="1"/>
                </a:lnTo>
                <a:lnTo>
                  <a:pt x="20" y="3"/>
                </a:lnTo>
                <a:lnTo>
                  <a:pt x="24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719680" y="3724200"/>
            <a:ext cx="19080" cy="3240"/>
          </a:xfrm>
          <a:custGeom>
            <a:avLst/>
            <a:gdLst/>
            <a:ahLst/>
            <a:rect l="l" t="t" r="r" b="b"/>
            <a:pathLst>
              <a:path w="12" h="2">
                <a:moveTo>
                  <a:pt x="10" y="1"/>
                </a:moveTo>
                <a:lnTo>
                  <a:pt x="7" y="0"/>
                </a:lnTo>
                <a:lnTo>
                  <a:pt x="0" y="0"/>
                </a:lnTo>
                <a:lnTo>
                  <a:pt x="0" y="1"/>
                </a:lnTo>
                <a:lnTo>
                  <a:pt x="7" y="1"/>
                </a:lnTo>
                <a:lnTo>
                  <a:pt x="5" y="0"/>
                </a:lnTo>
                <a:lnTo>
                  <a:pt x="10" y="1"/>
                </a:lnTo>
                <a:lnTo>
                  <a:pt x="11" y="0"/>
                </a:lnTo>
                <a:lnTo>
                  <a:pt x="7" y="0"/>
                </a:lnTo>
                <a:lnTo>
                  <a:pt x="10" y="1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672160" y="3732120"/>
            <a:ext cx="63360" cy="55800"/>
          </a:xfrm>
          <a:custGeom>
            <a:avLst/>
            <a:gdLst/>
            <a:ahLst/>
            <a:rect l="l" t="t" r="r" b="b"/>
            <a:pathLst>
              <a:path w="40" h="35">
                <a:moveTo>
                  <a:pt x="2" y="34"/>
                </a:moveTo>
                <a:lnTo>
                  <a:pt x="10" y="31"/>
                </a:lnTo>
                <a:lnTo>
                  <a:pt x="17" y="28"/>
                </a:lnTo>
                <a:lnTo>
                  <a:pt x="21" y="24"/>
                </a:lnTo>
                <a:lnTo>
                  <a:pt x="27" y="20"/>
                </a:lnTo>
                <a:lnTo>
                  <a:pt x="32" y="15"/>
                </a:lnTo>
                <a:lnTo>
                  <a:pt x="35" y="12"/>
                </a:lnTo>
                <a:lnTo>
                  <a:pt x="38" y="6"/>
                </a:lnTo>
                <a:lnTo>
                  <a:pt x="39" y="2"/>
                </a:lnTo>
                <a:lnTo>
                  <a:pt x="31" y="0"/>
                </a:lnTo>
                <a:lnTo>
                  <a:pt x="29" y="4"/>
                </a:lnTo>
                <a:lnTo>
                  <a:pt x="28" y="7"/>
                </a:lnTo>
                <a:lnTo>
                  <a:pt x="25" y="10"/>
                </a:lnTo>
                <a:lnTo>
                  <a:pt x="21" y="14"/>
                </a:lnTo>
                <a:lnTo>
                  <a:pt x="18" y="17"/>
                </a:lnTo>
                <a:lnTo>
                  <a:pt x="12" y="21"/>
                </a:lnTo>
                <a:lnTo>
                  <a:pt x="6" y="24"/>
                </a:lnTo>
                <a:lnTo>
                  <a:pt x="0" y="26"/>
                </a:lnTo>
                <a:lnTo>
                  <a:pt x="2" y="3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546880" y="3786120"/>
            <a:ext cx="115560" cy="25560"/>
          </a:xfrm>
          <a:custGeom>
            <a:avLst/>
            <a:gdLst/>
            <a:ahLst/>
            <a:rect l="l" t="t" r="r" b="b"/>
            <a:pathLst>
              <a:path w="73" h="16">
                <a:moveTo>
                  <a:pt x="0" y="15"/>
                </a:moveTo>
                <a:lnTo>
                  <a:pt x="9" y="15"/>
                </a:lnTo>
                <a:lnTo>
                  <a:pt x="19" y="14"/>
                </a:lnTo>
                <a:lnTo>
                  <a:pt x="29" y="13"/>
                </a:lnTo>
                <a:lnTo>
                  <a:pt x="38" y="13"/>
                </a:lnTo>
                <a:lnTo>
                  <a:pt x="47" y="11"/>
                </a:lnTo>
                <a:lnTo>
                  <a:pt x="55" y="10"/>
                </a:lnTo>
                <a:lnTo>
                  <a:pt x="65" y="8"/>
                </a:lnTo>
                <a:lnTo>
                  <a:pt x="72" y="6"/>
                </a:lnTo>
                <a:lnTo>
                  <a:pt x="69" y="0"/>
                </a:lnTo>
                <a:lnTo>
                  <a:pt x="61" y="2"/>
                </a:lnTo>
                <a:lnTo>
                  <a:pt x="54" y="4"/>
                </a:lnTo>
                <a:lnTo>
                  <a:pt x="46" y="5"/>
                </a:lnTo>
                <a:lnTo>
                  <a:pt x="37" y="6"/>
                </a:lnTo>
                <a:lnTo>
                  <a:pt x="28" y="7"/>
                </a:lnTo>
                <a:lnTo>
                  <a:pt x="18" y="8"/>
                </a:lnTo>
                <a:lnTo>
                  <a:pt x="9" y="8"/>
                </a:lnTo>
                <a:lnTo>
                  <a:pt x="0" y="8"/>
                </a:lnTo>
                <a:lnTo>
                  <a:pt x="0" y="1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67320" y="3801960"/>
            <a:ext cx="65160" cy="9720"/>
          </a:xfrm>
          <a:custGeom>
            <a:avLst/>
            <a:gdLst/>
            <a:ahLst/>
            <a:rect l="l" t="t" r="r" b="b"/>
            <a:pathLst>
              <a:path w="41" h="6">
                <a:moveTo>
                  <a:pt x="0" y="4"/>
                </a:moveTo>
                <a:lnTo>
                  <a:pt x="6" y="4"/>
                </a:lnTo>
                <a:lnTo>
                  <a:pt x="10" y="4"/>
                </a:lnTo>
                <a:lnTo>
                  <a:pt x="17" y="4"/>
                </a:lnTo>
                <a:lnTo>
                  <a:pt x="22" y="5"/>
                </a:lnTo>
                <a:lnTo>
                  <a:pt x="26" y="5"/>
                </a:lnTo>
                <a:lnTo>
                  <a:pt x="31" y="5"/>
                </a:lnTo>
                <a:lnTo>
                  <a:pt x="35" y="5"/>
                </a:lnTo>
                <a:lnTo>
                  <a:pt x="40" y="5"/>
                </a:lnTo>
                <a:lnTo>
                  <a:pt x="40" y="1"/>
                </a:lnTo>
                <a:lnTo>
                  <a:pt x="35" y="1"/>
                </a:lnTo>
                <a:lnTo>
                  <a:pt x="31" y="1"/>
                </a:lnTo>
                <a:lnTo>
                  <a:pt x="26" y="1"/>
                </a:lnTo>
                <a:lnTo>
                  <a:pt x="22" y="1"/>
                </a:lnTo>
                <a:lnTo>
                  <a:pt x="17" y="1"/>
                </a:lnTo>
                <a:lnTo>
                  <a:pt x="12" y="1"/>
                </a:lnTo>
                <a:lnTo>
                  <a:pt x="6" y="0"/>
                </a:lnTo>
                <a:lnTo>
                  <a:pt x="1" y="0"/>
                </a:lnTo>
                <a:lnTo>
                  <a:pt x="0" y="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392800" y="3795840"/>
            <a:ext cx="61920" cy="9360"/>
          </a:xfrm>
          <a:custGeom>
            <a:avLst/>
            <a:gdLst/>
            <a:ahLst/>
            <a:rect l="l" t="t" r="r" b="b"/>
            <a:pathLst>
              <a:path w="39" h="6">
                <a:moveTo>
                  <a:pt x="0" y="4"/>
                </a:moveTo>
                <a:lnTo>
                  <a:pt x="3" y="4"/>
                </a:lnTo>
                <a:lnTo>
                  <a:pt x="7" y="4"/>
                </a:lnTo>
                <a:lnTo>
                  <a:pt x="11" y="4"/>
                </a:lnTo>
                <a:lnTo>
                  <a:pt x="16" y="4"/>
                </a:lnTo>
                <a:lnTo>
                  <a:pt x="21" y="4"/>
                </a:lnTo>
                <a:lnTo>
                  <a:pt x="26" y="4"/>
                </a:lnTo>
                <a:lnTo>
                  <a:pt x="32" y="5"/>
                </a:lnTo>
                <a:lnTo>
                  <a:pt x="37" y="5"/>
                </a:lnTo>
                <a:lnTo>
                  <a:pt x="38" y="1"/>
                </a:lnTo>
                <a:lnTo>
                  <a:pt x="32" y="1"/>
                </a:lnTo>
                <a:lnTo>
                  <a:pt x="27" y="1"/>
                </a:lnTo>
                <a:lnTo>
                  <a:pt x="21" y="1"/>
                </a:lnTo>
                <a:lnTo>
                  <a:pt x="16" y="0"/>
                </a:lnTo>
                <a:lnTo>
                  <a:pt x="11" y="0"/>
                </a:lnTo>
                <a:lnTo>
                  <a:pt x="7" y="0"/>
                </a:ln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324400" y="3795840"/>
            <a:ext cx="54000" cy="14040"/>
          </a:xfrm>
          <a:custGeom>
            <a:avLst/>
            <a:gdLst/>
            <a:ahLst/>
            <a:rect l="l" t="t" r="r" b="b"/>
            <a:pathLst>
              <a:path w="34" h="9">
                <a:moveTo>
                  <a:pt x="3" y="8"/>
                </a:moveTo>
                <a:lnTo>
                  <a:pt x="6" y="7"/>
                </a:lnTo>
                <a:lnTo>
                  <a:pt x="10" y="7"/>
                </a:lnTo>
                <a:lnTo>
                  <a:pt x="14" y="6"/>
                </a:lnTo>
                <a:lnTo>
                  <a:pt x="18" y="5"/>
                </a:lnTo>
                <a:lnTo>
                  <a:pt x="21" y="5"/>
                </a:lnTo>
                <a:lnTo>
                  <a:pt x="25" y="5"/>
                </a:lnTo>
                <a:lnTo>
                  <a:pt x="29" y="5"/>
                </a:lnTo>
                <a:lnTo>
                  <a:pt x="33" y="5"/>
                </a:lnTo>
                <a:lnTo>
                  <a:pt x="33" y="0"/>
                </a:lnTo>
                <a:lnTo>
                  <a:pt x="29" y="0"/>
                </a:lnTo>
                <a:lnTo>
                  <a:pt x="25" y="0"/>
                </a:lnTo>
                <a:lnTo>
                  <a:pt x="21" y="0"/>
                </a:lnTo>
                <a:lnTo>
                  <a:pt x="17" y="1"/>
                </a:lnTo>
                <a:lnTo>
                  <a:pt x="12" y="1"/>
                </a:lnTo>
                <a:lnTo>
                  <a:pt x="8" y="2"/>
                </a:lnTo>
                <a:lnTo>
                  <a:pt x="5" y="3"/>
                </a:lnTo>
                <a:lnTo>
                  <a:pt x="0" y="4"/>
                </a:lnTo>
                <a:lnTo>
                  <a:pt x="3" y="8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281560" y="3808440"/>
            <a:ext cx="34920" cy="41400"/>
          </a:xfrm>
          <a:custGeom>
            <a:avLst/>
            <a:gdLst/>
            <a:ahLst/>
            <a:rect l="l" t="t" r="r" b="b"/>
            <a:pathLst>
              <a:path w="22" h="26">
                <a:moveTo>
                  <a:pt x="4" y="25"/>
                </a:moveTo>
                <a:lnTo>
                  <a:pt x="7" y="21"/>
                </a:lnTo>
                <a:lnTo>
                  <a:pt x="8" y="19"/>
                </a:lnTo>
                <a:lnTo>
                  <a:pt x="9" y="17"/>
                </a:lnTo>
                <a:lnTo>
                  <a:pt x="10" y="15"/>
                </a:lnTo>
                <a:lnTo>
                  <a:pt x="12" y="14"/>
                </a:lnTo>
                <a:lnTo>
                  <a:pt x="14" y="11"/>
                </a:lnTo>
                <a:lnTo>
                  <a:pt x="16" y="10"/>
                </a:lnTo>
                <a:lnTo>
                  <a:pt x="18" y="8"/>
                </a:lnTo>
                <a:lnTo>
                  <a:pt x="21" y="7"/>
                </a:lnTo>
                <a:lnTo>
                  <a:pt x="18" y="0"/>
                </a:lnTo>
                <a:lnTo>
                  <a:pt x="16" y="1"/>
                </a:lnTo>
                <a:lnTo>
                  <a:pt x="12" y="3"/>
                </a:lnTo>
                <a:lnTo>
                  <a:pt x="9" y="6"/>
                </a:lnTo>
                <a:lnTo>
                  <a:pt x="7" y="8"/>
                </a:lnTo>
                <a:lnTo>
                  <a:pt x="5" y="11"/>
                </a:lnTo>
                <a:lnTo>
                  <a:pt x="3" y="14"/>
                </a:lnTo>
                <a:lnTo>
                  <a:pt x="1" y="16"/>
                </a:lnTo>
                <a:lnTo>
                  <a:pt x="0" y="20"/>
                </a:lnTo>
                <a:lnTo>
                  <a:pt x="4" y="16"/>
                </a:lnTo>
                <a:lnTo>
                  <a:pt x="4" y="25"/>
                </a:lnTo>
                <a:lnTo>
                  <a:pt x="7" y="25"/>
                </a:lnTo>
                <a:lnTo>
                  <a:pt x="7" y="21"/>
                </a:lnTo>
                <a:lnTo>
                  <a:pt x="4" y="25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919680" y="587520"/>
            <a:ext cx="1376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encabe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(5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519520" y="587520"/>
            <a:ext cx="1897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area de carga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(48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170680" y="1498680"/>
            <a:ext cx="1411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CELDA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56240" y="2778120"/>
            <a:ext cx="105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63de8"/>
                </a:solidFill>
                <a:latin typeface="Arial Narrow"/>
              </a:rPr>
              <a:t>1er OCT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010960" y="2778120"/>
            <a:ext cx="100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63de8"/>
                </a:solidFill>
                <a:latin typeface="Arial Narrow"/>
              </a:rPr>
              <a:t>2o OCT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902680" y="2778120"/>
            <a:ext cx="105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63de8"/>
                </a:solidFill>
                <a:latin typeface="Arial Narrow"/>
              </a:rPr>
              <a:t>3er OCT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41200" y="2778120"/>
            <a:ext cx="100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63de8"/>
                </a:solidFill>
                <a:latin typeface="Arial Narrow"/>
              </a:rPr>
              <a:t>4o OCT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496240" y="3873600"/>
            <a:ext cx="1865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VCI (16 BIT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IDENTIFICADOR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CANAL 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394880" y="3873600"/>
            <a:ext cx="1800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HEC (8 BIT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SECUENCI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VERIFICACIÓN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ENCABE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POR 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07000" y="4879800"/>
            <a:ext cx="571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4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709200" y="362880"/>
            <a:ext cx="2813760" cy="14835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l Nivel ATM: Encabezado</a:t>
            </a:r>
            <a:br>
              <a:rPr sz="3200"/>
            </a:b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     en la NNI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002" name=""/>
          <p:cNvSpPr/>
          <p:nvPr/>
        </p:nvSpPr>
        <p:spPr>
          <a:xfrm>
            <a:off x="633240" y="3873600"/>
            <a:ext cx="18669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VPI (12 BIT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IDENTIFICADOR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TRAYECTO 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343400" y="3151080"/>
            <a:ext cx="0" cy="480960"/>
          </a:xfrm>
          <a:prstGeom prst="line">
            <a:avLst/>
          </a:prstGeom>
          <a:ln w="2556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14600" y="3151080"/>
            <a:ext cx="0" cy="480960"/>
          </a:xfrm>
          <a:prstGeom prst="line">
            <a:avLst/>
          </a:prstGeom>
          <a:ln w="2556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483240" y="3154320"/>
            <a:ext cx="1879560" cy="336600"/>
          </a:xfrm>
          <a:prstGeom prst="rect">
            <a:avLst/>
          </a:prstGeom>
          <a:gradFill rotWithShape="0">
            <a:gsLst>
              <a:gs pos="0">
                <a:srgbClr val="fdc0e5"/>
              </a:gs>
              <a:gs pos="50000">
                <a:srgbClr val="fcd8ee"/>
              </a:gs>
              <a:gs pos="100000">
                <a:srgbClr val="fdc0e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V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483240" y="3498840"/>
            <a:ext cx="933480" cy="338040"/>
          </a:xfrm>
          <a:prstGeom prst="rect">
            <a:avLst/>
          </a:prstGeom>
          <a:gradFill rotWithShape="0">
            <a:gsLst>
              <a:gs pos="0">
                <a:srgbClr val="fdc0e5"/>
              </a:gs>
              <a:gs pos="50000">
                <a:srgbClr val="fcd8ee"/>
              </a:gs>
              <a:gs pos="100000">
                <a:srgbClr val="fdc0e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426440" y="3498840"/>
            <a:ext cx="936360" cy="33804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50000">
                <a:srgbClr val="edee7d"/>
              </a:gs>
              <a:gs pos="100000">
                <a:srgbClr val="eaec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483240" y="3846600"/>
            <a:ext cx="1879560" cy="33660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50000">
                <a:srgbClr val="edee7d"/>
              </a:gs>
              <a:gs pos="100000">
                <a:srgbClr val="eaec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83240" y="4192560"/>
            <a:ext cx="933480" cy="33804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50000">
                <a:srgbClr val="edee7d"/>
              </a:gs>
              <a:gs pos="100000">
                <a:srgbClr val="eaec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426440" y="4192560"/>
            <a:ext cx="936360" cy="33804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c7c7c7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83240" y="4538520"/>
            <a:ext cx="1879560" cy="33840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50000">
                <a:srgbClr val="65d2c8"/>
              </a:gs>
              <a:gs pos="100000">
                <a:srgbClr val="00b7a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698160" y="3486240"/>
            <a:ext cx="51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V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43880" y="3486240"/>
            <a:ext cx="52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170840" y="3832200"/>
            <a:ext cx="52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697800" y="4178160"/>
            <a:ext cx="52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486200" y="4178160"/>
            <a:ext cx="50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P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4524480"/>
            <a:ext cx="62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H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404040" y="4859280"/>
            <a:ext cx="20102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 Narrow"/>
              </a:rPr>
              <a:t>8  7  6  5  4  3  2 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226200" y="3138480"/>
            <a:ext cx="29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226200" y="3486240"/>
            <a:ext cx="29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226200" y="3832200"/>
            <a:ext cx="29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226200" y="4176720"/>
            <a:ext cx="29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226200" y="4522680"/>
            <a:ext cx="29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854040" y="5275440"/>
            <a:ext cx="17449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osición de los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003000" y="5243400"/>
            <a:ext cx="79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Oct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362640" y="4803480"/>
            <a:ext cx="0" cy="452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55000" y="4197240"/>
            <a:ext cx="306360" cy="3319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c7c7c7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C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831920" y="2778120"/>
            <a:ext cx="100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63de8"/>
                </a:solidFill>
                <a:latin typeface="Arial Narrow"/>
              </a:rPr>
              <a:t>5o OCT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873760" y="3206880"/>
            <a:ext cx="368280" cy="444240"/>
          </a:xfrm>
          <a:prstGeom prst="right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lin ang="10800000"/>
          </a:gra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178680" y="2444760"/>
            <a:ext cx="2273040" cy="59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encabezado (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 Narrow"/>
              </a:rPr>
              <a:t>header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de 5 bytes en la 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33520" y="1981080"/>
            <a:ext cx="1676160" cy="762120"/>
          </a:xfrm>
          <a:prstGeom prst="rect">
            <a:avLst/>
          </a:prstGeom>
          <a:gradFill rotWithShape="0">
            <a:gsLst>
              <a:gs pos="0">
                <a:srgbClr val="fdc0e5"/>
              </a:gs>
              <a:gs pos="50000">
                <a:srgbClr val="fcd1eb"/>
              </a:gs>
              <a:gs pos="100000">
                <a:srgbClr val="fdc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encabezado (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 Narrow"/>
              </a:rPr>
              <a:t>header</a:t>
            </a: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) de 5 bytes en la 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02040" y="930240"/>
            <a:ext cx="431640" cy="73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3"/>
                </a:moveTo>
                <a:arcTo wR="10800" hR="10800" stAng="-10785182" swAng="5359905"/>
                <a:lnTo>
                  <a:pt x="10800" y="10800"/>
                </a:lnTo>
                <a:close/>
              </a:path>
              <a:path fill="none" w="21600" h="21600">
                <a:moveTo>
                  <a:pt x="0" y="10753"/>
                </a:moveTo>
                <a:arcTo wR="10800" hR="10800" stAng="-10785182" swAng="5359905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273640" y="930240"/>
            <a:ext cx="431640" cy="73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3"/>
                </a:moveTo>
                <a:arcTo wR="10800" hR="10800" stAng="-10785182" swAng="5359905"/>
                <a:lnTo>
                  <a:pt x="10800" y="10800"/>
                </a:lnTo>
                <a:close/>
              </a:path>
              <a:path fill="none" w="21600" h="21600">
                <a:moveTo>
                  <a:pt x="0" y="10753"/>
                </a:moveTo>
                <a:arcTo wR="10800" hR="10800" stAng="-10785182" swAng="5359905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1195200" y="2008080"/>
            <a:ext cx="2639880" cy="1090800"/>
          </a:xfrm>
          <a:prstGeom prst="line">
            <a:avLst/>
          </a:prstGeom>
          <a:ln w="25560">
            <a:solidFill>
              <a:srgbClr val="00ae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218120" y="2008080"/>
            <a:ext cx="1471320" cy="1090800"/>
          </a:xfrm>
          <a:prstGeom prst="line">
            <a:avLst/>
          </a:prstGeom>
          <a:ln w="25560">
            <a:solidFill>
              <a:srgbClr val="00ae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827600" y="3684600"/>
            <a:ext cx="1014480" cy="1395360"/>
          </a:xfrm>
          <a:prstGeom prst="line">
            <a:avLst/>
          </a:prstGeom>
          <a:ln w="25560">
            <a:solidFill>
              <a:srgbClr val="00ae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11240" y="5111640"/>
            <a:ext cx="2959200" cy="105408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dcdcdc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 Narrow"/>
              </a:rPr>
              <a:t>PAYLOAD TYPE IDENTIFIE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TIPO DE CAR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(3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1881360" y="3684600"/>
            <a:ext cx="2487600" cy="1471680"/>
          </a:xfrm>
          <a:prstGeom prst="line">
            <a:avLst/>
          </a:prstGeom>
          <a:ln w="25560">
            <a:solidFill>
              <a:srgbClr val="00ae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883040" y="5111640"/>
            <a:ext cx="978120" cy="105408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dcdcdc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 Narrow"/>
              </a:rPr>
              <a:t>CELL L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 Narrow"/>
              </a:rPr>
              <a:t>PRIO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(CL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7432200" y="525780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ormato del Encabezado en la UNI de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042" name=""/>
          <p:cNvSpPr/>
          <p:nvPr/>
        </p:nvSpPr>
        <p:spPr>
          <a:xfrm>
            <a:off x="3400560" y="5784840"/>
            <a:ext cx="1072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234db"/>
                </a:solidFill>
                <a:latin typeface="Arial Narrow"/>
              </a:rPr>
              <a:t>Celda </a:t>
            </a:r>
            <a:r>
              <a:rPr b="1" lang="es-ES_tradnl" sz="2000" spc="-1" strike="noStrike">
                <a:solidFill>
                  <a:srgbClr val="9234db"/>
                </a:solidFill>
                <a:latin typeface="Arial Narrow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981080" y="1859040"/>
            <a:ext cx="1065240" cy="3888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054240" y="1859040"/>
            <a:ext cx="1065240" cy="38880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81080" y="2255760"/>
            <a:ext cx="1065240" cy="39204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054240" y="2255760"/>
            <a:ext cx="1065240" cy="392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981080" y="2655720"/>
            <a:ext cx="2138400" cy="3906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981080" y="3056040"/>
            <a:ext cx="1065240" cy="3906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054240" y="3056040"/>
            <a:ext cx="1065240" cy="390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981080" y="3454560"/>
            <a:ext cx="2138400" cy="39204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40280" y="1851120"/>
            <a:ext cx="62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G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316680" y="1851120"/>
            <a:ext cx="51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V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242080" y="2249640"/>
            <a:ext cx="51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V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316320" y="2249640"/>
            <a:ext cx="52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778120" y="2647800"/>
            <a:ext cx="52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241720" y="3048120"/>
            <a:ext cx="52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136320" y="3048120"/>
            <a:ext cx="50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P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91000" y="3446640"/>
            <a:ext cx="62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H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703880" y="1341360"/>
            <a:ext cx="2776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ncabezado en la 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299120" y="1808280"/>
            <a:ext cx="4341600" cy="2013120"/>
            <a:chOff x="4299120" y="1808280"/>
            <a:chExt cx="4341600" cy="2013120"/>
          </a:xfrm>
        </p:grpSpPr>
        <p:sp>
          <p:nvSpPr>
            <p:cNvPr id="1061" name=""/>
            <p:cNvSpPr/>
            <p:nvPr/>
          </p:nvSpPr>
          <p:spPr>
            <a:xfrm>
              <a:off x="4299480" y="1808280"/>
              <a:ext cx="7786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Narrow"/>
                </a:rPr>
                <a:t>GF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99120" y="2127240"/>
              <a:ext cx="65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Narrow"/>
                </a:rPr>
                <a:t>VP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99480" y="2446200"/>
              <a:ext cx="6674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Narrow"/>
                </a:rPr>
                <a:t>VC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299120" y="2765520"/>
              <a:ext cx="6400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Narrow"/>
                </a:rPr>
                <a:t>PT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299840" y="3084480"/>
              <a:ext cx="736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Narrow"/>
                </a:rPr>
                <a:t>CLP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300200" y="3403440"/>
              <a:ext cx="7772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Narrow"/>
                </a:rPr>
                <a:t>HE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749120" y="1808280"/>
              <a:ext cx="34322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Arial Narrow"/>
                </a:rPr>
                <a:t>Generic Flow Control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 Narrow"/>
                </a:rPr>
                <a:t>(4 bi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748760" y="2127240"/>
              <a:ext cx="33361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Arial Narrow"/>
                </a:rPr>
                <a:t>Virtual Path Identifier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 Narrow"/>
                </a:rPr>
                <a:t>(8 bi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751640" y="2432160"/>
              <a:ext cx="38890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Arial Narrow"/>
                </a:rPr>
                <a:t>Virtual Channel Identifier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 Narrow"/>
                </a:rPr>
                <a:t>(16 bi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750200" y="2765520"/>
              <a:ext cx="35708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Arial Narrow"/>
                </a:rPr>
                <a:t>Payload Type Identifier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 Narrow"/>
                </a:rPr>
                <a:t>(3 bi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747680" y="3084480"/>
              <a:ext cx="2764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Arial Narrow"/>
                </a:rPr>
                <a:t>Cell Loss Priority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 Narrow"/>
                </a:rPr>
                <a:t>(1 b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746960" y="3403440"/>
              <a:ext cx="3406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Arial Narrow"/>
                </a:rPr>
                <a:t>Header Error Control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 Narrow"/>
                </a:rPr>
                <a:t>(8 bi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1903320" y="3844800"/>
            <a:ext cx="232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8   7   6   5   4   3   2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706400" y="1849320"/>
            <a:ext cx="29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706400" y="2249640"/>
            <a:ext cx="29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706400" y="2647800"/>
            <a:ext cx="29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706400" y="3046320"/>
            <a:ext cx="29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706400" y="3444840"/>
            <a:ext cx="29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856240" y="4351320"/>
            <a:ext cx="195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Posición de los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453320" y="4275000"/>
            <a:ext cx="79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Oct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1847880" y="3760560"/>
            <a:ext cx="0" cy="51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768840" y="3054240"/>
            <a:ext cx="349200" cy="39060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664080" y="3056040"/>
            <a:ext cx="565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 Narrow"/>
              </a:rPr>
              <a:t>CL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909720" y="2509920"/>
            <a:ext cx="1333080" cy="2628360"/>
            <a:chOff x="909720" y="2509920"/>
            <a:chExt cx="1333080" cy="2628360"/>
          </a:xfrm>
        </p:grpSpPr>
        <p:sp>
          <p:nvSpPr>
            <p:cNvPr id="1085" name=""/>
            <p:cNvSpPr/>
            <p:nvPr/>
          </p:nvSpPr>
          <p:spPr>
            <a:xfrm>
              <a:off x="909720" y="2541600"/>
              <a:ext cx="1333080" cy="25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7"/>
                  </a:moveTo>
                  <a:arcTo wR="10800" hR="10800" stAng="-10795798" swAng="538761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7"/>
                  </a:moveTo>
                  <a:arcTo wR="10800" hR="10800" stAng="-10795798" swAng="5387613"/>
                </a:path>
              </a:pathLst>
            </a:custGeom>
            <a:noFill/>
            <a:ln cap="rnd" w="5076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909720" y="2509920"/>
              <a:ext cx="983520" cy="24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014640" y="4853160"/>
            <a:ext cx="684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205160" y="4038480"/>
            <a:ext cx="430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648320" y="4052880"/>
            <a:ext cx="0" cy="35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371600" y="4876920"/>
            <a:ext cx="1219320" cy="914400"/>
          </a:xfrm>
          <a:prstGeom prst="rect">
            <a:avLst/>
          </a:prstGeom>
          <a:gradFill rotWithShape="0">
            <a:gsLst>
              <a:gs pos="0">
                <a:srgbClr val="af859f"/>
              </a:gs>
              <a:gs pos="50000">
                <a:srgbClr val="fdc0e5"/>
              </a:gs>
              <a:gs pos="100000">
                <a:srgbClr val="af85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00093"/>
                </a:solidFill>
                <a:latin typeface="Arial Narrow"/>
              </a:rPr>
              <a:t>Encabezado</a:t>
            </a:r>
            <a:br>
              <a:rPr sz="2000"/>
            </a:br>
            <a:r>
              <a:rPr b="1" lang="es-ES_tradnl" sz="2000" spc="-1" strike="noStrike">
                <a:solidFill>
                  <a:srgbClr val="500093"/>
                </a:solidFill>
                <a:latin typeface="Arial Narrow"/>
              </a:rPr>
              <a:t>5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90920" y="4876920"/>
            <a:ext cx="5715000" cy="914400"/>
          </a:xfrm>
          <a:prstGeom prst="rect">
            <a:avLst/>
          </a:prstGeom>
          <a:gradFill rotWithShape="0">
            <a:gsLst>
              <a:gs pos="0">
                <a:srgbClr val="008db1"/>
              </a:gs>
              <a:gs pos="50000">
                <a:srgbClr val="00ccff"/>
              </a:gs>
              <a:gs pos="100000">
                <a:srgbClr val="008d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Carga útil</a:t>
            </a:r>
            <a:br>
              <a:rPr sz="2000"/>
            </a:br>
            <a:r>
              <a:rPr b="1" lang="es-ES_tradnl" sz="2000" spc="-1" strike="noStrike">
                <a:solidFill>
                  <a:srgbClr val="fafd00"/>
                </a:solidFill>
                <a:latin typeface="Arial Narrow"/>
              </a:rPr>
              <a:t>48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244520" y="4597560"/>
            <a:ext cx="1397160" cy="1396800"/>
          </a:xfrm>
          <a:prstGeom prst="ellipse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5000"/>
              </a:lnSpc>
              <a:spcBef>
                <a:spcPts val="134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279f"/>
                </a:solidFill>
                <a:latin typeface="Arial Narrow"/>
              </a:rPr>
              <a:t>Red orientada a conexión</a:t>
            </a:r>
            <a:endParaRPr b="1" lang="en-US" sz="3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1199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 red realiza las conexiones en modo circuito virtual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1199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 red asigna un camino fijo para todas las celdas con informaciones mientras dura la conexión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pa ATM: Características y Procedimientos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s ventajas de la multiplexación determinística son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simplicidad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retardo pequeñ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ero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signa parte de la capacidad del agregado a una comunicación, habiendo tráfico o n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ada usuario solo dispone de una fracción de la velocidad total de la linea que comparte con otros dispositivo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, por lo tanto, ineficiente para aplicaciones en transmisión de datos, cuya naturaleza es </a:t>
            </a:r>
            <a:r>
              <a:rPr b="1" lang="es-ES_tradnl" sz="2600" spc="-1" strike="noStrike" u="sng">
                <a:solidFill>
                  <a:srgbClr val="fc0128"/>
                </a:solidFill>
                <a:uFillTx/>
                <a:latin typeface="Arial Narrow"/>
              </a:rPr>
              <a:t>anisócron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TDM: Multiplexación Determinística (3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5000"/>
              </a:lnSpc>
              <a:spcBef>
                <a:spcPts val="10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El encabezado no contiene toda la información para llevar la celda a su destino final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876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ontiene apenas la información para el procesamiento de la celda al llegar al nodo de conmutac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876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l conmutador establece tablas de conmutación (VCI, VPI de entrada por cierta ruta   --&gt; nuevo VPI, VCI de salida por otra ruta) al establecer la conex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pa ATM: Características y Procedimientos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5000"/>
              </a:lnSpc>
              <a:spcBef>
                <a:spcPts val="10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s tablas de conmutación permanecen válidas solo mientras dura la conferencia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115000"/>
              </a:lnSpc>
              <a:spcBef>
                <a:spcPts val="10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Una vez establecidas las tablas, permanece una relación lógica de conmutación por tramos nodo a nodo, permitiendo que cada celda sea encaminada a su destino final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pa ATM: Características y Procedimientos (3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5000"/>
              </a:lnSpc>
              <a:spcBef>
                <a:spcPts val="1001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Al establecer la llamada, el usuario informa a la red (en un procedimiento de negociación) algunas características de la llamada: volúmen promedio y máximo de celdas, p. ej.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pa ATM: Características y Procedimientos (4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5187960" y="1301760"/>
            <a:ext cx="2120760" cy="67320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funciones de c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superi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87960" y="2978280"/>
            <a:ext cx="2120760" cy="67284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unciones de capa P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(uno o varios enl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Ísic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187960" y="1987560"/>
            <a:ext cx="2120760" cy="97776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apa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unciones de canal 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unciones de tra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353360" y="1512720"/>
            <a:ext cx="809640" cy="1479600"/>
          </a:xfrm>
          <a:custGeom>
            <a:avLst/>
            <a:gdLst/>
            <a:ahLst/>
            <a:rect l="l" t="t" r="r" b="b"/>
            <a:pathLst>
              <a:path w="510" h="932">
                <a:moveTo>
                  <a:pt x="0" y="283"/>
                </a:moveTo>
                <a:lnTo>
                  <a:pt x="509" y="0"/>
                </a:lnTo>
                <a:lnTo>
                  <a:pt x="509" y="648"/>
                </a:lnTo>
                <a:lnTo>
                  <a:pt x="0" y="931"/>
                </a:lnTo>
                <a:lnTo>
                  <a:pt x="0" y="28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294160" y="1285920"/>
            <a:ext cx="1924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153040" y="865080"/>
            <a:ext cx="3009960" cy="439920"/>
          </a:xfrm>
          <a:custGeom>
            <a:avLst/>
            <a:gdLst/>
            <a:ahLst/>
            <a:rect l="l" t="t" r="r" b="b"/>
            <a:pathLst>
              <a:path w="1896" h="277">
                <a:moveTo>
                  <a:pt x="0" y="276"/>
                </a:moveTo>
                <a:lnTo>
                  <a:pt x="516" y="0"/>
                </a:lnTo>
                <a:lnTo>
                  <a:pt x="1895" y="0"/>
                </a:lnTo>
                <a:lnTo>
                  <a:pt x="1379" y="276"/>
                </a:lnTo>
                <a:lnTo>
                  <a:pt x="0" y="276"/>
                </a:lnTo>
              </a:path>
            </a:pathLst>
          </a:custGeom>
          <a:solidFill>
            <a:srgbClr val="00ae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353360" y="865080"/>
            <a:ext cx="809640" cy="1084320"/>
          </a:xfrm>
          <a:custGeom>
            <a:avLst/>
            <a:gdLst/>
            <a:ahLst/>
            <a:rect l="l" t="t" r="r" b="b"/>
            <a:pathLst>
              <a:path w="510" h="683">
                <a:moveTo>
                  <a:pt x="0" y="282"/>
                </a:moveTo>
                <a:lnTo>
                  <a:pt x="509" y="0"/>
                </a:lnTo>
                <a:lnTo>
                  <a:pt x="509" y="400"/>
                </a:lnTo>
                <a:lnTo>
                  <a:pt x="0" y="682"/>
                </a:lnTo>
                <a:lnTo>
                  <a:pt x="0" y="282"/>
                </a:lnTo>
              </a:path>
            </a:pathLst>
          </a:custGeom>
          <a:solidFill>
            <a:srgbClr val="00ae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353360" y="2552760"/>
            <a:ext cx="809640" cy="1106280"/>
          </a:xfrm>
          <a:custGeom>
            <a:avLst/>
            <a:gdLst/>
            <a:ahLst/>
            <a:rect l="l" t="t" r="r" b="b"/>
            <a:pathLst>
              <a:path w="510" h="697">
                <a:moveTo>
                  <a:pt x="0" y="270"/>
                </a:moveTo>
                <a:lnTo>
                  <a:pt x="509" y="0"/>
                </a:lnTo>
                <a:lnTo>
                  <a:pt x="509" y="426"/>
                </a:lnTo>
                <a:lnTo>
                  <a:pt x="0" y="696"/>
                </a:lnTo>
                <a:lnTo>
                  <a:pt x="0" y="27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995480" y="4303800"/>
            <a:ext cx="466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V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722320" y="4805280"/>
            <a:ext cx="66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VPI =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275840" y="5129280"/>
            <a:ext cx="464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41320" y="5497560"/>
            <a:ext cx="1676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ae00"/>
                </a:solidFill>
                <a:latin typeface="Arial Narrow"/>
              </a:rPr>
              <a:t>el VPT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ae00"/>
                </a:solidFill>
                <a:latin typeface="Arial Narrow"/>
              </a:rPr>
              <a:t>el VPI y el 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993000" y="4010040"/>
            <a:ext cx="1755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ae00"/>
                </a:solidFill>
                <a:latin typeface="Arial Narrow"/>
              </a:rPr>
              <a:t>el VPT proc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ae00"/>
                </a:solidFill>
                <a:latin typeface="Arial Narrow"/>
              </a:rPr>
              <a:t>el VPI y el V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688440" y="4741920"/>
            <a:ext cx="466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V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21120" y="5335560"/>
            <a:ext cx="66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VPI =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756960" y="3954600"/>
            <a:ext cx="167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 Narrow"/>
              </a:rPr>
              <a:t>trayecto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495560" y="5178600"/>
            <a:ext cx="464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727800" y="4203720"/>
            <a:ext cx="1621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16501"/>
                </a:solidFill>
                <a:latin typeface="Arial Narrow"/>
              </a:rPr>
              <a:t>p. ej. </a:t>
            </a:r>
            <a:r>
              <a:rPr b="1" i="1" lang="es-ES_tradnl" sz="1400" spc="-1" strike="noStrike">
                <a:solidFill>
                  <a:srgbClr val="316501"/>
                </a:solidFill>
                <a:latin typeface="Arial Narrow"/>
              </a:rPr>
              <a:t>cross-conn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16501"/>
                </a:solidFill>
                <a:latin typeface="Arial Narrow"/>
              </a:rPr>
              <a:t>(procesa solo el VP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684000" y="338040"/>
            <a:ext cx="431208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ATM: Jerarquía Funcional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120" name=""/>
          <p:cNvSpPr/>
          <p:nvPr/>
        </p:nvSpPr>
        <p:spPr>
          <a:xfrm>
            <a:off x="1925640" y="4514760"/>
            <a:ext cx="582480" cy="57240"/>
          </a:xfrm>
          <a:custGeom>
            <a:avLst/>
            <a:gdLst/>
            <a:ahLst/>
            <a:rect l="l" t="t" r="r" b="b"/>
            <a:pathLst>
              <a:path w="367" h="36">
                <a:moveTo>
                  <a:pt x="0" y="35"/>
                </a:moveTo>
                <a:lnTo>
                  <a:pt x="62" y="0"/>
                </a:lnTo>
                <a:lnTo>
                  <a:pt x="366" y="0"/>
                </a:lnTo>
                <a:lnTo>
                  <a:pt x="304" y="35"/>
                </a:lnTo>
                <a:lnTo>
                  <a:pt x="0" y="35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925640" y="4514760"/>
            <a:ext cx="598320" cy="73080"/>
          </a:xfrm>
          <a:custGeom>
            <a:avLst/>
            <a:gdLst/>
            <a:ahLst/>
            <a:rect l="l" t="t" r="r" b="b"/>
            <a:pathLst>
              <a:path w="377" h="46">
                <a:moveTo>
                  <a:pt x="0" y="45"/>
                </a:moveTo>
                <a:lnTo>
                  <a:pt x="64" y="0"/>
                </a:lnTo>
                <a:lnTo>
                  <a:pt x="376" y="0"/>
                </a:lnTo>
                <a:lnTo>
                  <a:pt x="312" y="45"/>
                </a:lnTo>
                <a:lnTo>
                  <a:pt x="0" y="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421000" y="4514760"/>
            <a:ext cx="87120" cy="809640"/>
          </a:xfrm>
          <a:custGeom>
            <a:avLst/>
            <a:gdLst/>
            <a:ahLst/>
            <a:rect l="l" t="t" r="r" b="b"/>
            <a:pathLst>
              <a:path w="55" h="510">
                <a:moveTo>
                  <a:pt x="0" y="44"/>
                </a:moveTo>
                <a:lnTo>
                  <a:pt x="54" y="0"/>
                </a:lnTo>
                <a:lnTo>
                  <a:pt x="54" y="465"/>
                </a:lnTo>
                <a:lnTo>
                  <a:pt x="0" y="509"/>
                </a:lnTo>
                <a:lnTo>
                  <a:pt x="0" y="44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421000" y="4514760"/>
            <a:ext cx="102960" cy="825480"/>
          </a:xfrm>
          <a:custGeom>
            <a:avLst/>
            <a:gdLst/>
            <a:ahLst/>
            <a:rect l="l" t="t" r="r" b="b"/>
            <a:pathLst>
              <a:path w="65" h="520">
                <a:moveTo>
                  <a:pt x="0" y="45"/>
                </a:moveTo>
                <a:lnTo>
                  <a:pt x="64" y="0"/>
                </a:lnTo>
                <a:lnTo>
                  <a:pt x="64" y="474"/>
                </a:lnTo>
                <a:lnTo>
                  <a:pt x="0" y="519"/>
                </a:lnTo>
                <a:lnTo>
                  <a:pt x="0" y="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925640" y="4586400"/>
            <a:ext cx="480960" cy="738000"/>
          </a:xfrm>
          <a:custGeom>
            <a:avLst/>
            <a:gdLst/>
            <a:ahLst/>
            <a:rect l="l" t="t" r="r" b="b"/>
            <a:pathLst>
              <a:path w="303" h="465">
                <a:moveTo>
                  <a:pt x="0" y="0"/>
                </a:moveTo>
                <a:lnTo>
                  <a:pt x="302" y="0"/>
                </a:lnTo>
                <a:lnTo>
                  <a:pt x="302" y="464"/>
                </a:lnTo>
                <a:lnTo>
                  <a:pt x="0" y="464"/>
                </a:lnTo>
                <a:lnTo>
                  <a:pt x="0" y="0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925640" y="4586400"/>
            <a:ext cx="496800" cy="753840"/>
          </a:xfrm>
          <a:custGeom>
            <a:avLst/>
            <a:gdLst/>
            <a:ahLst/>
            <a:rect l="l" t="t" r="r" b="b"/>
            <a:pathLst>
              <a:path w="313" h="475">
                <a:moveTo>
                  <a:pt x="0" y="0"/>
                </a:moveTo>
                <a:lnTo>
                  <a:pt x="312" y="0"/>
                </a:lnTo>
                <a:lnTo>
                  <a:pt x="312" y="474"/>
                </a:lnTo>
                <a:lnTo>
                  <a:pt x="0" y="47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449440" y="4838760"/>
            <a:ext cx="1284480" cy="196920"/>
          </a:xfrm>
          <a:custGeom>
            <a:avLst/>
            <a:gdLst/>
            <a:ahLst/>
            <a:rect l="l" t="t" r="r" b="b"/>
            <a:pathLst>
              <a:path w="809" h="124">
                <a:moveTo>
                  <a:pt x="779" y="122"/>
                </a:moveTo>
                <a:lnTo>
                  <a:pt x="24" y="123"/>
                </a:lnTo>
                <a:lnTo>
                  <a:pt x="16" y="114"/>
                </a:lnTo>
                <a:lnTo>
                  <a:pt x="8" y="101"/>
                </a:lnTo>
                <a:lnTo>
                  <a:pt x="3" y="86"/>
                </a:lnTo>
                <a:lnTo>
                  <a:pt x="0" y="69"/>
                </a:lnTo>
                <a:lnTo>
                  <a:pt x="0" y="52"/>
                </a:lnTo>
                <a:lnTo>
                  <a:pt x="4" y="34"/>
                </a:lnTo>
                <a:lnTo>
                  <a:pt x="13" y="17"/>
                </a:lnTo>
                <a:lnTo>
                  <a:pt x="27" y="1"/>
                </a:lnTo>
                <a:lnTo>
                  <a:pt x="53" y="1"/>
                </a:lnTo>
                <a:lnTo>
                  <a:pt x="79" y="1"/>
                </a:lnTo>
                <a:lnTo>
                  <a:pt x="105" y="1"/>
                </a:lnTo>
                <a:lnTo>
                  <a:pt x="128" y="1"/>
                </a:lnTo>
                <a:lnTo>
                  <a:pt x="152" y="1"/>
                </a:lnTo>
                <a:lnTo>
                  <a:pt x="175" y="0"/>
                </a:lnTo>
                <a:lnTo>
                  <a:pt x="198" y="0"/>
                </a:lnTo>
                <a:lnTo>
                  <a:pt x="219" y="0"/>
                </a:lnTo>
                <a:lnTo>
                  <a:pt x="241" y="0"/>
                </a:lnTo>
                <a:lnTo>
                  <a:pt x="262" y="1"/>
                </a:lnTo>
                <a:lnTo>
                  <a:pt x="283" y="1"/>
                </a:lnTo>
                <a:lnTo>
                  <a:pt x="303" y="1"/>
                </a:lnTo>
                <a:lnTo>
                  <a:pt x="324" y="1"/>
                </a:lnTo>
                <a:lnTo>
                  <a:pt x="345" y="1"/>
                </a:lnTo>
                <a:lnTo>
                  <a:pt x="364" y="1"/>
                </a:lnTo>
                <a:lnTo>
                  <a:pt x="385" y="1"/>
                </a:lnTo>
                <a:lnTo>
                  <a:pt x="406" y="1"/>
                </a:lnTo>
                <a:lnTo>
                  <a:pt x="427" y="1"/>
                </a:lnTo>
                <a:lnTo>
                  <a:pt x="447" y="1"/>
                </a:lnTo>
                <a:lnTo>
                  <a:pt x="469" y="1"/>
                </a:lnTo>
                <a:lnTo>
                  <a:pt x="491" y="1"/>
                </a:lnTo>
                <a:lnTo>
                  <a:pt x="513" y="1"/>
                </a:lnTo>
                <a:lnTo>
                  <a:pt x="535" y="1"/>
                </a:lnTo>
                <a:lnTo>
                  <a:pt x="559" y="1"/>
                </a:lnTo>
                <a:lnTo>
                  <a:pt x="583" y="1"/>
                </a:lnTo>
                <a:lnTo>
                  <a:pt x="607" y="1"/>
                </a:lnTo>
                <a:lnTo>
                  <a:pt x="633" y="1"/>
                </a:lnTo>
                <a:lnTo>
                  <a:pt x="660" y="1"/>
                </a:lnTo>
                <a:lnTo>
                  <a:pt x="687" y="1"/>
                </a:lnTo>
                <a:lnTo>
                  <a:pt x="716" y="1"/>
                </a:lnTo>
                <a:lnTo>
                  <a:pt x="746" y="1"/>
                </a:lnTo>
                <a:lnTo>
                  <a:pt x="776" y="0"/>
                </a:lnTo>
                <a:lnTo>
                  <a:pt x="767" y="6"/>
                </a:lnTo>
                <a:lnTo>
                  <a:pt x="759" y="18"/>
                </a:lnTo>
                <a:lnTo>
                  <a:pt x="753" y="35"/>
                </a:lnTo>
                <a:lnTo>
                  <a:pt x="750" y="55"/>
                </a:lnTo>
                <a:lnTo>
                  <a:pt x="751" y="77"/>
                </a:lnTo>
                <a:lnTo>
                  <a:pt x="756" y="96"/>
                </a:lnTo>
                <a:lnTo>
                  <a:pt x="765" y="112"/>
                </a:lnTo>
                <a:lnTo>
                  <a:pt x="779" y="122"/>
                </a:lnTo>
                <a:lnTo>
                  <a:pt x="779" y="121"/>
                </a:lnTo>
                <a:lnTo>
                  <a:pt x="773" y="120"/>
                </a:lnTo>
                <a:lnTo>
                  <a:pt x="768" y="117"/>
                </a:lnTo>
                <a:lnTo>
                  <a:pt x="764" y="111"/>
                </a:lnTo>
                <a:lnTo>
                  <a:pt x="759" y="104"/>
                </a:lnTo>
                <a:lnTo>
                  <a:pt x="756" y="94"/>
                </a:lnTo>
                <a:lnTo>
                  <a:pt x="753" y="84"/>
                </a:lnTo>
                <a:lnTo>
                  <a:pt x="751" y="73"/>
                </a:lnTo>
                <a:lnTo>
                  <a:pt x="751" y="60"/>
                </a:lnTo>
                <a:lnTo>
                  <a:pt x="751" y="48"/>
                </a:lnTo>
                <a:lnTo>
                  <a:pt x="753" y="37"/>
                </a:lnTo>
                <a:lnTo>
                  <a:pt x="756" y="27"/>
                </a:lnTo>
                <a:lnTo>
                  <a:pt x="759" y="18"/>
                </a:lnTo>
                <a:lnTo>
                  <a:pt x="764" y="10"/>
                </a:lnTo>
                <a:lnTo>
                  <a:pt x="768" y="5"/>
                </a:lnTo>
                <a:lnTo>
                  <a:pt x="773" y="1"/>
                </a:lnTo>
                <a:lnTo>
                  <a:pt x="779" y="0"/>
                </a:lnTo>
                <a:lnTo>
                  <a:pt x="785" y="1"/>
                </a:lnTo>
                <a:lnTo>
                  <a:pt x="790" y="5"/>
                </a:lnTo>
                <a:lnTo>
                  <a:pt x="795" y="10"/>
                </a:lnTo>
                <a:lnTo>
                  <a:pt x="800" y="18"/>
                </a:lnTo>
                <a:lnTo>
                  <a:pt x="803" y="27"/>
                </a:lnTo>
                <a:lnTo>
                  <a:pt x="806" y="37"/>
                </a:lnTo>
                <a:lnTo>
                  <a:pt x="808" y="48"/>
                </a:lnTo>
                <a:lnTo>
                  <a:pt x="808" y="60"/>
                </a:lnTo>
                <a:lnTo>
                  <a:pt x="808" y="73"/>
                </a:lnTo>
                <a:lnTo>
                  <a:pt x="806" y="84"/>
                </a:lnTo>
                <a:lnTo>
                  <a:pt x="803" y="94"/>
                </a:lnTo>
                <a:lnTo>
                  <a:pt x="800" y="104"/>
                </a:lnTo>
                <a:lnTo>
                  <a:pt x="795" y="111"/>
                </a:lnTo>
                <a:lnTo>
                  <a:pt x="790" y="117"/>
                </a:lnTo>
                <a:lnTo>
                  <a:pt x="785" y="120"/>
                </a:lnTo>
                <a:lnTo>
                  <a:pt x="779" y="121"/>
                </a:lnTo>
                <a:lnTo>
                  <a:pt x="779" y="122"/>
                </a:lnTo>
              </a:path>
            </a:pathLst>
          </a:cu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449440" y="4838760"/>
            <a:ext cx="1254240" cy="212760"/>
          </a:xfrm>
          <a:custGeom>
            <a:avLst/>
            <a:gdLst/>
            <a:ahLst/>
            <a:rect l="l" t="t" r="r" b="b"/>
            <a:pathLst>
              <a:path w="790" h="134">
                <a:moveTo>
                  <a:pt x="789" y="132"/>
                </a:moveTo>
                <a:lnTo>
                  <a:pt x="24" y="133"/>
                </a:lnTo>
                <a:lnTo>
                  <a:pt x="16" y="123"/>
                </a:lnTo>
                <a:lnTo>
                  <a:pt x="8" y="109"/>
                </a:lnTo>
                <a:lnTo>
                  <a:pt x="3" y="93"/>
                </a:lnTo>
                <a:lnTo>
                  <a:pt x="0" y="75"/>
                </a:lnTo>
                <a:lnTo>
                  <a:pt x="0" y="56"/>
                </a:lnTo>
                <a:lnTo>
                  <a:pt x="4" y="37"/>
                </a:lnTo>
                <a:lnTo>
                  <a:pt x="13" y="18"/>
                </a:lnTo>
                <a:lnTo>
                  <a:pt x="27" y="1"/>
                </a:lnTo>
                <a:lnTo>
                  <a:pt x="54" y="1"/>
                </a:lnTo>
                <a:lnTo>
                  <a:pt x="80" y="1"/>
                </a:lnTo>
                <a:lnTo>
                  <a:pt x="106" y="1"/>
                </a:lnTo>
                <a:lnTo>
                  <a:pt x="130" y="1"/>
                </a:lnTo>
                <a:lnTo>
                  <a:pt x="154" y="1"/>
                </a:lnTo>
                <a:lnTo>
                  <a:pt x="177" y="0"/>
                </a:lnTo>
                <a:lnTo>
                  <a:pt x="200" y="0"/>
                </a:lnTo>
                <a:lnTo>
                  <a:pt x="222" y="0"/>
                </a:lnTo>
                <a:lnTo>
                  <a:pt x="244" y="0"/>
                </a:lnTo>
                <a:lnTo>
                  <a:pt x="265" y="1"/>
                </a:lnTo>
                <a:lnTo>
                  <a:pt x="286" y="1"/>
                </a:lnTo>
                <a:lnTo>
                  <a:pt x="307" y="1"/>
                </a:lnTo>
                <a:lnTo>
                  <a:pt x="328" y="1"/>
                </a:lnTo>
                <a:lnTo>
                  <a:pt x="349" y="1"/>
                </a:lnTo>
                <a:lnTo>
                  <a:pt x="369" y="1"/>
                </a:lnTo>
                <a:lnTo>
                  <a:pt x="390" y="1"/>
                </a:lnTo>
                <a:lnTo>
                  <a:pt x="411" y="1"/>
                </a:lnTo>
                <a:lnTo>
                  <a:pt x="432" y="1"/>
                </a:lnTo>
                <a:lnTo>
                  <a:pt x="453" y="1"/>
                </a:lnTo>
                <a:lnTo>
                  <a:pt x="475" y="1"/>
                </a:lnTo>
                <a:lnTo>
                  <a:pt x="497" y="1"/>
                </a:lnTo>
                <a:lnTo>
                  <a:pt x="519" y="1"/>
                </a:lnTo>
                <a:lnTo>
                  <a:pt x="542" y="1"/>
                </a:lnTo>
                <a:lnTo>
                  <a:pt x="566" y="1"/>
                </a:lnTo>
                <a:lnTo>
                  <a:pt x="590" y="1"/>
                </a:lnTo>
                <a:lnTo>
                  <a:pt x="615" y="1"/>
                </a:lnTo>
                <a:lnTo>
                  <a:pt x="641" y="1"/>
                </a:lnTo>
                <a:lnTo>
                  <a:pt x="668" y="1"/>
                </a:lnTo>
                <a:lnTo>
                  <a:pt x="696" y="1"/>
                </a:lnTo>
                <a:lnTo>
                  <a:pt x="725" y="1"/>
                </a:lnTo>
                <a:lnTo>
                  <a:pt x="755" y="1"/>
                </a:lnTo>
                <a:lnTo>
                  <a:pt x="786" y="0"/>
                </a:lnTo>
                <a:lnTo>
                  <a:pt x="776" y="6"/>
                </a:lnTo>
                <a:lnTo>
                  <a:pt x="768" y="19"/>
                </a:lnTo>
                <a:lnTo>
                  <a:pt x="762" y="38"/>
                </a:lnTo>
                <a:lnTo>
                  <a:pt x="759" y="60"/>
                </a:lnTo>
                <a:lnTo>
                  <a:pt x="760" y="83"/>
                </a:lnTo>
                <a:lnTo>
                  <a:pt x="765" y="104"/>
                </a:lnTo>
                <a:lnTo>
                  <a:pt x="774" y="121"/>
                </a:lnTo>
                <a:lnTo>
                  <a:pt x="789" y="1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656160" y="4838760"/>
            <a:ext cx="93600" cy="209520"/>
          </a:xfrm>
          <a:custGeom>
            <a:avLst/>
            <a:gdLst/>
            <a:ahLst/>
            <a:rect l="l" t="t" r="r" b="b"/>
            <a:pathLst>
              <a:path w="59" h="132">
                <a:moveTo>
                  <a:pt x="29" y="131"/>
                </a:moveTo>
                <a:lnTo>
                  <a:pt x="23" y="130"/>
                </a:lnTo>
                <a:lnTo>
                  <a:pt x="17" y="126"/>
                </a:lnTo>
                <a:lnTo>
                  <a:pt x="13" y="120"/>
                </a:lnTo>
                <a:lnTo>
                  <a:pt x="8" y="112"/>
                </a:lnTo>
                <a:lnTo>
                  <a:pt x="5" y="102"/>
                </a:lnTo>
                <a:lnTo>
                  <a:pt x="2" y="91"/>
                </a:lnTo>
                <a:lnTo>
                  <a:pt x="0" y="79"/>
                </a:lnTo>
                <a:lnTo>
                  <a:pt x="0" y="65"/>
                </a:lnTo>
                <a:lnTo>
                  <a:pt x="0" y="52"/>
                </a:lnTo>
                <a:lnTo>
                  <a:pt x="2" y="40"/>
                </a:lnTo>
                <a:lnTo>
                  <a:pt x="5" y="29"/>
                </a:lnTo>
                <a:lnTo>
                  <a:pt x="8" y="19"/>
                </a:lnTo>
                <a:lnTo>
                  <a:pt x="13" y="11"/>
                </a:lnTo>
                <a:lnTo>
                  <a:pt x="17" y="5"/>
                </a:lnTo>
                <a:lnTo>
                  <a:pt x="23" y="1"/>
                </a:lnTo>
                <a:lnTo>
                  <a:pt x="29" y="0"/>
                </a:lnTo>
                <a:lnTo>
                  <a:pt x="35" y="1"/>
                </a:lnTo>
                <a:lnTo>
                  <a:pt x="40" y="5"/>
                </a:lnTo>
                <a:lnTo>
                  <a:pt x="45" y="11"/>
                </a:lnTo>
                <a:lnTo>
                  <a:pt x="50" y="19"/>
                </a:lnTo>
                <a:lnTo>
                  <a:pt x="53" y="29"/>
                </a:lnTo>
                <a:lnTo>
                  <a:pt x="56" y="40"/>
                </a:lnTo>
                <a:lnTo>
                  <a:pt x="58" y="52"/>
                </a:lnTo>
                <a:lnTo>
                  <a:pt x="58" y="65"/>
                </a:lnTo>
                <a:lnTo>
                  <a:pt x="58" y="79"/>
                </a:lnTo>
                <a:lnTo>
                  <a:pt x="56" y="91"/>
                </a:lnTo>
                <a:lnTo>
                  <a:pt x="53" y="102"/>
                </a:lnTo>
                <a:lnTo>
                  <a:pt x="50" y="112"/>
                </a:lnTo>
                <a:lnTo>
                  <a:pt x="45" y="120"/>
                </a:lnTo>
                <a:lnTo>
                  <a:pt x="40" y="126"/>
                </a:lnTo>
                <a:lnTo>
                  <a:pt x="35" y="130"/>
                </a:lnTo>
                <a:lnTo>
                  <a:pt x="29" y="1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840120" y="4757760"/>
            <a:ext cx="1447920" cy="1293840"/>
          </a:xfrm>
          <a:custGeom>
            <a:avLst/>
            <a:gdLst/>
            <a:ahLst/>
            <a:rect l="l" t="t" r="r" b="b"/>
            <a:pathLst>
              <a:path w="912" h="815">
                <a:moveTo>
                  <a:pt x="911" y="47"/>
                </a:moveTo>
                <a:lnTo>
                  <a:pt x="911" y="0"/>
                </a:lnTo>
                <a:lnTo>
                  <a:pt x="869" y="0"/>
                </a:lnTo>
                <a:lnTo>
                  <a:pt x="875" y="6"/>
                </a:lnTo>
                <a:lnTo>
                  <a:pt x="881" y="12"/>
                </a:lnTo>
                <a:lnTo>
                  <a:pt x="886" y="18"/>
                </a:lnTo>
                <a:lnTo>
                  <a:pt x="892" y="24"/>
                </a:lnTo>
                <a:lnTo>
                  <a:pt x="897" y="30"/>
                </a:lnTo>
                <a:lnTo>
                  <a:pt x="902" y="36"/>
                </a:lnTo>
                <a:lnTo>
                  <a:pt x="907" y="41"/>
                </a:lnTo>
                <a:lnTo>
                  <a:pt x="911" y="47"/>
                </a:lnTo>
                <a:lnTo>
                  <a:pt x="42" y="0"/>
                </a:lnTo>
                <a:lnTo>
                  <a:pt x="0" y="0"/>
                </a:lnTo>
                <a:lnTo>
                  <a:pt x="0" y="47"/>
                </a:lnTo>
                <a:lnTo>
                  <a:pt x="4" y="41"/>
                </a:lnTo>
                <a:lnTo>
                  <a:pt x="9" y="36"/>
                </a:lnTo>
                <a:lnTo>
                  <a:pt x="14" y="30"/>
                </a:lnTo>
                <a:lnTo>
                  <a:pt x="20" y="24"/>
                </a:lnTo>
                <a:lnTo>
                  <a:pt x="25" y="18"/>
                </a:lnTo>
                <a:lnTo>
                  <a:pt x="31" y="12"/>
                </a:lnTo>
                <a:lnTo>
                  <a:pt x="36" y="6"/>
                </a:lnTo>
                <a:lnTo>
                  <a:pt x="42" y="0"/>
                </a:lnTo>
                <a:lnTo>
                  <a:pt x="0" y="766"/>
                </a:lnTo>
                <a:lnTo>
                  <a:pt x="0" y="814"/>
                </a:lnTo>
                <a:lnTo>
                  <a:pt x="43" y="814"/>
                </a:lnTo>
                <a:lnTo>
                  <a:pt x="37" y="808"/>
                </a:lnTo>
                <a:lnTo>
                  <a:pt x="31" y="802"/>
                </a:lnTo>
                <a:lnTo>
                  <a:pt x="26" y="796"/>
                </a:lnTo>
                <a:lnTo>
                  <a:pt x="20" y="790"/>
                </a:lnTo>
                <a:lnTo>
                  <a:pt x="15" y="784"/>
                </a:lnTo>
                <a:lnTo>
                  <a:pt x="10" y="778"/>
                </a:lnTo>
                <a:lnTo>
                  <a:pt x="5" y="772"/>
                </a:lnTo>
                <a:lnTo>
                  <a:pt x="0" y="766"/>
                </a:lnTo>
                <a:lnTo>
                  <a:pt x="869" y="814"/>
                </a:lnTo>
                <a:lnTo>
                  <a:pt x="911" y="814"/>
                </a:lnTo>
                <a:lnTo>
                  <a:pt x="911" y="767"/>
                </a:lnTo>
                <a:lnTo>
                  <a:pt x="906" y="773"/>
                </a:lnTo>
                <a:lnTo>
                  <a:pt x="902" y="778"/>
                </a:lnTo>
                <a:lnTo>
                  <a:pt x="896" y="784"/>
                </a:lnTo>
                <a:lnTo>
                  <a:pt x="891" y="790"/>
                </a:lnTo>
                <a:lnTo>
                  <a:pt x="886" y="796"/>
                </a:lnTo>
                <a:lnTo>
                  <a:pt x="880" y="802"/>
                </a:lnTo>
                <a:lnTo>
                  <a:pt x="875" y="808"/>
                </a:lnTo>
                <a:lnTo>
                  <a:pt x="869" y="814"/>
                </a:lnTo>
                <a:lnTo>
                  <a:pt x="911" y="47"/>
                </a:lnTo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840120" y="4757760"/>
            <a:ext cx="1447920" cy="1293840"/>
          </a:xfrm>
          <a:custGeom>
            <a:avLst/>
            <a:gdLst/>
            <a:ahLst/>
            <a:rect l="l" t="t" r="r" b="b"/>
            <a:pathLst>
              <a:path w="912" h="815">
                <a:moveTo>
                  <a:pt x="911" y="47"/>
                </a:moveTo>
                <a:lnTo>
                  <a:pt x="911" y="98"/>
                </a:lnTo>
                <a:lnTo>
                  <a:pt x="907" y="92"/>
                </a:lnTo>
                <a:lnTo>
                  <a:pt x="902" y="85"/>
                </a:lnTo>
                <a:lnTo>
                  <a:pt x="897" y="78"/>
                </a:lnTo>
                <a:lnTo>
                  <a:pt x="892" y="72"/>
                </a:lnTo>
                <a:lnTo>
                  <a:pt x="887" y="65"/>
                </a:lnTo>
                <a:lnTo>
                  <a:pt x="882" y="59"/>
                </a:lnTo>
                <a:lnTo>
                  <a:pt x="877" y="53"/>
                </a:lnTo>
                <a:lnTo>
                  <a:pt x="871" y="46"/>
                </a:lnTo>
                <a:lnTo>
                  <a:pt x="866" y="41"/>
                </a:lnTo>
                <a:lnTo>
                  <a:pt x="861" y="35"/>
                </a:lnTo>
                <a:lnTo>
                  <a:pt x="856" y="29"/>
                </a:lnTo>
                <a:lnTo>
                  <a:pt x="850" y="23"/>
                </a:lnTo>
                <a:lnTo>
                  <a:pt x="844" y="17"/>
                </a:lnTo>
                <a:lnTo>
                  <a:pt x="838" y="11"/>
                </a:lnTo>
                <a:lnTo>
                  <a:pt x="832" y="5"/>
                </a:lnTo>
                <a:lnTo>
                  <a:pt x="826" y="0"/>
                </a:lnTo>
                <a:lnTo>
                  <a:pt x="869" y="0"/>
                </a:lnTo>
                <a:lnTo>
                  <a:pt x="875" y="6"/>
                </a:lnTo>
                <a:lnTo>
                  <a:pt x="881" y="12"/>
                </a:lnTo>
                <a:lnTo>
                  <a:pt x="886" y="18"/>
                </a:lnTo>
                <a:lnTo>
                  <a:pt x="892" y="24"/>
                </a:lnTo>
                <a:lnTo>
                  <a:pt x="897" y="30"/>
                </a:lnTo>
                <a:lnTo>
                  <a:pt x="902" y="36"/>
                </a:lnTo>
                <a:lnTo>
                  <a:pt x="907" y="41"/>
                </a:lnTo>
                <a:lnTo>
                  <a:pt x="911" y="47"/>
                </a:lnTo>
                <a:lnTo>
                  <a:pt x="42" y="0"/>
                </a:lnTo>
                <a:lnTo>
                  <a:pt x="86" y="0"/>
                </a:lnTo>
                <a:lnTo>
                  <a:pt x="80" y="5"/>
                </a:lnTo>
                <a:lnTo>
                  <a:pt x="73" y="11"/>
                </a:lnTo>
                <a:lnTo>
                  <a:pt x="67" y="17"/>
                </a:lnTo>
                <a:lnTo>
                  <a:pt x="61" y="23"/>
                </a:lnTo>
                <a:lnTo>
                  <a:pt x="56" y="29"/>
                </a:lnTo>
                <a:lnTo>
                  <a:pt x="50" y="35"/>
                </a:lnTo>
                <a:lnTo>
                  <a:pt x="45" y="41"/>
                </a:lnTo>
                <a:lnTo>
                  <a:pt x="40" y="47"/>
                </a:lnTo>
                <a:lnTo>
                  <a:pt x="34" y="53"/>
                </a:lnTo>
                <a:lnTo>
                  <a:pt x="29" y="60"/>
                </a:lnTo>
                <a:lnTo>
                  <a:pt x="24" y="66"/>
                </a:lnTo>
                <a:lnTo>
                  <a:pt x="19" y="73"/>
                </a:lnTo>
                <a:lnTo>
                  <a:pt x="14" y="79"/>
                </a:lnTo>
                <a:lnTo>
                  <a:pt x="9" y="86"/>
                </a:lnTo>
                <a:lnTo>
                  <a:pt x="4" y="93"/>
                </a:lnTo>
                <a:lnTo>
                  <a:pt x="0" y="99"/>
                </a:lnTo>
                <a:lnTo>
                  <a:pt x="0" y="47"/>
                </a:lnTo>
                <a:lnTo>
                  <a:pt x="4" y="41"/>
                </a:lnTo>
                <a:lnTo>
                  <a:pt x="9" y="36"/>
                </a:lnTo>
                <a:lnTo>
                  <a:pt x="14" y="30"/>
                </a:lnTo>
                <a:lnTo>
                  <a:pt x="20" y="24"/>
                </a:lnTo>
                <a:lnTo>
                  <a:pt x="25" y="18"/>
                </a:lnTo>
                <a:lnTo>
                  <a:pt x="31" y="12"/>
                </a:lnTo>
                <a:lnTo>
                  <a:pt x="36" y="6"/>
                </a:lnTo>
                <a:lnTo>
                  <a:pt x="42" y="0"/>
                </a:lnTo>
                <a:lnTo>
                  <a:pt x="0" y="766"/>
                </a:lnTo>
                <a:lnTo>
                  <a:pt x="0" y="714"/>
                </a:lnTo>
                <a:lnTo>
                  <a:pt x="4" y="721"/>
                </a:lnTo>
                <a:lnTo>
                  <a:pt x="9" y="728"/>
                </a:lnTo>
                <a:lnTo>
                  <a:pt x="14" y="734"/>
                </a:lnTo>
                <a:lnTo>
                  <a:pt x="19" y="741"/>
                </a:lnTo>
                <a:lnTo>
                  <a:pt x="24" y="748"/>
                </a:lnTo>
                <a:lnTo>
                  <a:pt x="29" y="754"/>
                </a:lnTo>
                <a:lnTo>
                  <a:pt x="34" y="761"/>
                </a:lnTo>
                <a:lnTo>
                  <a:pt x="40" y="767"/>
                </a:lnTo>
                <a:lnTo>
                  <a:pt x="46" y="773"/>
                </a:lnTo>
                <a:lnTo>
                  <a:pt x="50" y="779"/>
                </a:lnTo>
                <a:lnTo>
                  <a:pt x="56" y="785"/>
                </a:lnTo>
                <a:lnTo>
                  <a:pt x="62" y="791"/>
                </a:lnTo>
                <a:lnTo>
                  <a:pt x="68" y="797"/>
                </a:lnTo>
                <a:lnTo>
                  <a:pt x="74" y="803"/>
                </a:lnTo>
                <a:lnTo>
                  <a:pt x="80" y="809"/>
                </a:lnTo>
                <a:lnTo>
                  <a:pt x="86" y="814"/>
                </a:lnTo>
                <a:lnTo>
                  <a:pt x="43" y="814"/>
                </a:lnTo>
                <a:lnTo>
                  <a:pt x="37" y="808"/>
                </a:lnTo>
                <a:lnTo>
                  <a:pt x="31" y="802"/>
                </a:lnTo>
                <a:lnTo>
                  <a:pt x="26" y="796"/>
                </a:lnTo>
                <a:lnTo>
                  <a:pt x="20" y="790"/>
                </a:lnTo>
                <a:lnTo>
                  <a:pt x="15" y="784"/>
                </a:lnTo>
                <a:lnTo>
                  <a:pt x="10" y="778"/>
                </a:lnTo>
                <a:lnTo>
                  <a:pt x="5" y="772"/>
                </a:lnTo>
                <a:lnTo>
                  <a:pt x="0" y="766"/>
                </a:lnTo>
                <a:lnTo>
                  <a:pt x="869" y="814"/>
                </a:lnTo>
                <a:lnTo>
                  <a:pt x="825" y="814"/>
                </a:lnTo>
                <a:lnTo>
                  <a:pt x="831" y="809"/>
                </a:lnTo>
                <a:lnTo>
                  <a:pt x="837" y="803"/>
                </a:lnTo>
                <a:lnTo>
                  <a:pt x="843" y="797"/>
                </a:lnTo>
                <a:lnTo>
                  <a:pt x="849" y="791"/>
                </a:lnTo>
                <a:lnTo>
                  <a:pt x="855" y="785"/>
                </a:lnTo>
                <a:lnTo>
                  <a:pt x="861" y="779"/>
                </a:lnTo>
                <a:lnTo>
                  <a:pt x="866" y="773"/>
                </a:lnTo>
                <a:lnTo>
                  <a:pt x="871" y="767"/>
                </a:lnTo>
                <a:lnTo>
                  <a:pt x="877" y="761"/>
                </a:lnTo>
                <a:lnTo>
                  <a:pt x="882" y="755"/>
                </a:lnTo>
                <a:lnTo>
                  <a:pt x="887" y="748"/>
                </a:lnTo>
                <a:lnTo>
                  <a:pt x="892" y="742"/>
                </a:lnTo>
                <a:lnTo>
                  <a:pt x="897" y="735"/>
                </a:lnTo>
                <a:lnTo>
                  <a:pt x="902" y="729"/>
                </a:lnTo>
                <a:lnTo>
                  <a:pt x="907" y="722"/>
                </a:lnTo>
                <a:lnTo>
                  <a:pt x="911" y="715"/>
                </a:lnTo>
                <a:lnTo>
                  <a:pt x="911" y="767"/>
                </a:lnTo>
                <a:lnTo>
                  <a:pt x="906" y="773"/>
                </a:lnTo>
                <a:lnTo>
                  <a:pt x="902" y="778"/>
                </a:lnTo>
                <a:lnTo>
                  <a:pt x="896" y="784"/>
                </a:lnTo>
                <a:lnTo>
                  <a:pt x="891" y="790"/>
                </a:lnTo>
                <a:lnTo>
                  <a:pt x="886" y="796"/>
                </a:lnTo>
                <a:lnTo>
                  <a:pt x="880" y="802"/>
                </a:lnTo>
                <a:lnTo>
                  <a:pt x="875" y="808"/>
                </a:lnTo>
                <a:lnTo>
                  <a:pt x="869" y="814"/>
                </a:lnTo>
                <a:lnTo>
                  <a:pt x="911" y="47"/>
                </a:lnTo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840120" y="4757760"/>
            <a:ext cx="1447920" cy="1293840"/>
          </a:xfrm>
          <a:custGeom>
            <a:avLst/>
            <a:gdLst/>
            <a:ahLst/>
            <a:rect l="l" t="t" r="r" b="b"/>
            <a:pathLst>
              <a:path w="912" h="815">
                <a:moveTo>
                  <a:pt x="911" y="98"/>
                </a:moveTo>
                <a:lnTo>
                  <a:pt x="911" y="157"/>
                </a:lnTo>
                <a:lnTo>
                  <a:pt x="905" y="145"/>
                </a:lnTo>
                <a:lnTo>
                  <a:pt x="898" y="134"/>
                </a:lnTo>
                <a:lnTo>
                  <a:pt x="891" y="123"/>
                </a:lnTo>
                <a:lnTo>
                  <a:pt x="884" y="113"/>
                </a:lnTo>
                <a:lnTo>
                  <a:pt x="877" y="103"/>
                </a:lnTo>
                <a:lnTo>
                  <a:pt x="869" y="92"/>
                </a:lnTo>
                <a:lnTo>
                  <a:pt x="862" y="82"/>
                </a:lnTo>
                <a:lnTo>
                  <a:pt x="853" y="72"/>
                </a:lnTo>
                <a:lnTo>
                  <a:pt x="845" y="62"/>
                </a:lnTo>
                <a:lnTo>
                  <a:pt x="836" y="52"/>
                </a:lnTo>
                <a:lnTo>
                  <a:pt x="827" y="43"/>
                </a:lnTo>
                <a:lnTo>
                  <a:pt x="817" y="34"/>
                </a:lnTo>
                <a:lnTo>
                  <a:pt x="808" y="25"/>
                </a:lnTo>
                <a:lnTo>
                  <a:pt x="798" y="17"/>
                </a:lnTo>
                <a:lnTo>
                  <a:pt x="788" y="8"/>
                </a:lnTo>
                <a:lnTo>
                  <a:pt x="778" y="0"/>
                </a:lnTo>
                <a:lnTo>
                  <a:pt x="826" y="0"/>
                </a:lnTo>
                <a:lnTo>
                  <a:pt x="832" y="5"/>
                </a:lnTo>
                <a:lnTo>
                  <a:pt x="838" y="11"/>
                </a:lnTo>
                <a:lnTo>
                  <a:pt x="844" y="17"/>
                </a:lnTo>
                <a:lnTo>
                  <a:pt x="850" y="23"/>
                </a:lnTo>
                <a:lnTo>
                  <a:pt x="856" y="29"/>
                </a:lnTo>
                <a:lnTo>
                  <a:pt x="861" y="35"/>
                </a:lnTo>
                <a:lnTo>
                  <a:pt x="866" y="41"/>
                </a:lnTo>
                <a:lnTo>
                  <a:pt x="871" y="46"/>
                </a:lnTo>
                <a:lnTo>
                  <a:pt x="877" y="53"/>
                </a:lnTo>
                <a:lnTo>
                  <a:pt x="882" y="59"/>
                </a:lnTo>
                <a:lnTo>
                  <a:pt x="887" y="65"/>
                </a:lnTo>
                <a:lnTo>
                  <a:pt x="892" y="72"/>
                </a:lnTo>
                <a:lnTo>
                  <a:pt x="897" y="78"/>
                </a:lnTo>
                <a:lnTo>
                  <a:pt x="902" y="85"/>
                </a:lnTo>
                <a:lnTo>
                  <a:pt x="907" y="92"/>
                </a:lnTo>
                <a:lnTo>
                  <a:pt x="911" y="98"/>
                </a:lnTo>
                <a:lnTo>
                  <a:pt x="86" y="0"/>
                </a:lnTo>
                <a:lnTo>
                  <a:pt x="134" y="0"/>
                </a:lnTo>
                <a:lnTo>
                  <a:pt x="123" y="8"/>
                </a:lnTo>
                <a:lnTo>
                  <a:pt x="113" y="17"/>
                </a:lnTo>
                <a:lnTo>
                  <a:pt x="103" y="25"/>
                </a:lnTo>
                <a:lnTo>
                  <a:pt x="94" y="35"/>
                </a:lnTo>
                <a:lnTo>
                  <a:pt x="84" y="43"/>
                </a:lnTo>
                <a:lnTo>
                  <a:pt x="75" y="52"/>
                </a:lnTo>
                <a:lnTo>
                  <a:pt x="66" y="62"/>
                </a:lnTo>
                <a:lnTo>
                  <a:pt x="58" y="72"/>
                </a:lnTo>
                <a:lnTo>
                  <a:pt x="49" y="82"/>
                </a:lnTo>
                <a:lnTo>
                  <a:pt x="42" y="93"/>
                </a:lnTo>
                <a:lnTo>
                  <a:pt x="34" y="103"/>
                </a:lnTo>
                <a:lnTo>
                  <a:pt x="27" y="114"/>
                </a:lnTo>
                <a:lnTo>
                  <a:pt x="20" y="124"/>
                </a:lnTo>
                <a:lnTo>
                  <a:pt x="13" y="135"/>
                </a:lnTo>
                <a:lnTo>
                  <a:pt x="6" y="146"/>
                </a:lnTo>
                <a:lnTo>
                  <a:pt x="0" y="157"/>
                </a:lnTo>
                <a:lnTo>
                  <a:pt x="0" y="99"/>
                </a:lnTo>
                <a:lnTo>
                  <a:pt x="4" y="93"/>
                </a:lnTo>
                <a:lnTo>
                  <a:pt x="9" y="86"/>
                </a:lnTo>
                <a:lnTo>
                  <a:pt x="14" y="79"/>
                </a:lnTo>
                <a:lnTo>
                  <a:pt x="19" y="73"/>
                </a:lnTo>
                <a:lnTo>
                  <a:pt x="24" y="66"/>
                </a:lnTo>
                <a:lnTo>
                  <a:pt x="29" y="60"/>
                </a:lnTo>
                <a:lnTo>
                  <a:pt x="34" y="53"/>
                </a:lnTo>
                <a:lnTo>
                  <a:pt x="40" y="47"/>
                </a:lnTo>
                <a:lnTo>
                  <a:pt x="45" y="41"/>
                </a:lnTo>
                <a:lnTo>
                  <a:pt x="50" y="35"/>
                </a:lnTo>
                <a:lnTo>
                  <a:pt x="56" y="29"/>
                </a:lnTo>
                <a:lnTo>
                  <a:pt x="61" y="23"/>
                </a:lnTo>
                <a:lnTo>
                  <a:pt x="67" y="17"/>
                </a:lnTo>
                <a:lnTo>
                  <a:pt x="73" y="11"/>
                </a:lnTo>
                <a:lnTo>
                  <a:pt x="80" y="5"/>
                </a:lnTo>
                <a:lnTo>
                  <a:pt x="86" y="0"/>
                </a:lnTo>
                <a:lnTo>
                  <a:pt x="0" y="714"/>
                </a:lnTo>
                <a:lnTo>
                  <a:pt x="0" y="656"/>
                </a:lnTo>
                <a:lnTo>
                  <a:pt x="6" y="668"/>
                </a:lnTo>
                <a:lnTo>
                  <a:pt x="13" y="679"/>
                </a:lnTo>
                <a:lnTo>
                  <a:pt x="20" y="690"/>
                </a:lnTo>
                <a:lnTo>
                  <a:pt x="27" y="700"/>
                </a:lnTo>
                <a:lnTo>
                  <a:pt x="35" y="710"/>
                </a:lnTo>
                <a:lnTo>
                  <a:pt x="43" y="721"/>
                </a:lnTo>
                <a:lnTo>
                  <a:pt x="50" y="731"/>
                </a:lnTo>
                <a:lnTo>
                  <a:pt x="58" y="742"/>
                </a:lnTo>
                <a:lnTo>
                  <a:pt x="67" y="752"/>
                </a:lnTo>
                <a:lnTo>
                  <a:pt x="76" y="761"/>
                </a:lnTo>
                <a:lnTo>
                  <a:pt x="85" y="771"/>
                </a:lnTo>
                <a:lnTo>
                  <a:pt x="95" y="779"/>
                </a:lnTo>
                <a:lnTo>
                  <a:pt x="104" y="789"/>
                </a:lnTo>
                <a:lnTo>
                  <a:pt x="114" y="797"/>
                </a:lnTo>
                <a:lnTo>
                  <a:pt x="124" y="806"/>
                </a:lnTo>
                <a:lnTo>
                  <a:pt x="135" y="814"/>
                </a:lnTo>
                <a:lnTo>
                  <a:pt x="86" y="814"/>
                </a:lnTo>
                <a:lnTo>
                  <a:pt x="80" y="809"/>
                </a:lnTo>
                <a:lnTo>
                  <a:pt x="74" y="803"/>
                </a:lnTo>
                <a:lnTo>
                  <a:pt x="68" y="797"/>
                </a:lnTo>
                <a:lnTo>
                  <a:pt x="62" y="791"/>
                </a:lnTo>
                <a:lnTo>
                  <a:pt x="56" y="785"/>
                </a:lnTo>
                <a:lnTo>
                  <a:pt x="50" y="779"/>
                </a:lnTo>
                <a:lnTo>
                  <a:pt x="46" y="773"/>
                </a:lnTo>
                <a:lnTo>
                  <a:pt x="40" y="767"/>
                </a:lnTo>
                <a:lnTo>
                  <a:pt x="34" y="761"/>
                </a:lnTo>
                <a:lnTo>
                  <a:pt x="29" y="754"/>
                </a:lnTo>
                <a:lnTo>
                  <a:pt x="24" y="748"/>
                </a:lnTo>
                <a:lnTo>
                  <a:pt x="19" y="741"/>
                </a:lnTo>
                <a:lnTo>
                  <a:pt x="14" y="734"/>
                </a:lnTo>
                <a:lnTo>
                  <a:pt x="9" y="728"/>
                </a:lnTo>
                <a:lnTo>
                  <a:pt x="4" y="721"/>
                </a:lnTo>
                <a:lnTo>
                  <a:pt x="0" y="714"/>
                </a:lnTo>
                <a:lnTo>
                  <a:pt x="825" y="814"/>
                </a:lnTo>
                <a:lnTo>
                  <a:pt x="777" y="814"/>
                </a:lnTo>
                <a:lnTo>
                  <a:pt x="787" y="806"/>
                </a:lnTo>
                <a:lnTo>
                  <a:pt x="797" y="797"/>
                </a:lnTo>
                <a:lnTo>
                  <a:pt x="807" y="789"/>
                </a:lnTo>
                <a:lnTo>
                  <a:pt x="817" y="779"/>
                </a:lnTo>
                <a:lnTo>
                  <a:pt x="826" y="771"/>
                </a:lnTo>
                <a:lnTo>
                  <a:pt x="836" y="762"/>
                </a:lnTo>
                <a:lnTo>
                  <a:pt x="844" y="752"/>
                </a:lnTo>
                <a:lnTo>
                  <a:pt x="853" y="742"/>
                </a:lnTo>
                <a:lnTo>
                  <a:pt x="862" y="732"/>
                </a:lnTo>
                <a:lnTo>
                  <a:pt x="869" y="721"/>
                </a:lnTo>
                <a:lnTo>
                  <a:pt x="876" y="711"/>
                </a:lnTo>
                <a:lnTo>
                  <a:pt x="884" y="700"/>
                </a:lnTo>
                <a:lnTo>
                  <a:pt x="891" y="690"/>
                </a:lnTo>
                <a:lnTo>
                  <a:pt x="898" y="679"/>
                </a:lnTo>
                <a:lnTo>
                  <a:pt x="905" y="668"/>
                </a:lnTo>
                <a:lnTo>
                  <a:pt x="911" y="657"/>
                </a:lnTo>
                <a:lnTo>
                  <a:pt x="911" y="715"/>
                </a:lnTo>
                <a:lnTo>
                  <a:pt x="907" y="722"/>
                </a:lnTo>
                <a:lnTo>
                  <a:pt x="902" y="729"/>
                </a:lnTo>
                <a:lnTo>
                  <a:pt x="897" y="735"/>
                </a:lnTo>
                <a:lnTo>
                  <a:pt x="892" y="742"/>
                </a:lnTo>
                <a:lnTo>
                  <a:pt x="887" y="748"/>
                </a:lnTo>
                <a:lnTo>
                  <a:pt x="882" y="755"/>
                </a:lnTo>
                <a:lnTo>
                  <a:pt x="877" y="761"/>
                </a:lnTo>
                <a:lnTo>
                  <a:pt x="871" y="767"/>
                </a:lnTo>
                <a:lnTo>
                  <a:pt x="866" y="773"/>
                </a:lnTo>
                <a:lnTo>
                  <a:pt x="861" y="779"/>
                </a:lnTo>
                <a:lnTo>
                  <a:pt x="855" y="785"/>
                </a:lnTo>
                <a:lnTo>
                  <a:pt x="849" y="791"/>
                </a:lnTo>
                <a:lnTo>
                  <a:pt x="843" y="797"/>
                </a:lnTo>
                <a:lnTo>
                  <a:pt x="837" y="803"/>
                </a:lnTo>
                <a:lnTo>
                  <a:pt x="831" y="809"/>
                </a:lnTo>
                <a:lnTo>
                  <a:pt x="825" y="814"/>
                </a:lnTo>
                <a:lnTo>
                  <a:pt x="911" y="98"/>
                </a:lnTo>
              </a:path>
            </a:pathLst>
          </a:custGeom>
          <a:solidFill>
            <a:srgbClr val="9e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40120" y="4757760"/>
            <a:ext cx="1447920" cy="1293840"/>
          </a:xfrm>
          <a:custGeom>
            <a:avLst/>
            <a:gdLst/>
            <a:ahLst/>
            <a:rect l="l" t="t" r="r" b="b"/>
            <a:pathLst>
              <a:path w="912" h="815">
                <a:moveTo>
                  <a:pt x="911" y="157"/>
                </a:moveTo>
                <a:lnTo>
                  <a:pt x="911" y="229"/>
                </a:lnTo>
                <a:lnTo>
                  <a:pt x="904" y="211"/>
                </a:lnTo>
                <a:lnTo>
                  <a:pt x="897" y="195"/>
                </a:lnTo>
                <a:lnTo>
                  <a:pt x="888" y="178"/>
                </a:lnTo>
                <a:lnTo>
                  <a:pt x="879" y="162"/>
                </a:lnTo>
                <a:lnTo>
                  <a:pt x="869" y="146"/>
                </a:lnTo>
                <a:lnTo>
                  <a:pt x="860" y="130"/>
                </a:lnTo>
                <a:lnTo>
                  <a:pt x="849" y="115"/>
                </a:lnTo>
                <a:lnTo>
                  <a:pt x="837" y="100"/>
                </a:lnTo>
                <a:lnTo>
                  <a:pt x="825" y="86"/>
                </a:lnTo>
                <a:lnTo>
                  <a:pt x="812" y="72"/>
                </a:lnTo>
                <a:lnTo>
                  <a:pt x="799" y="58"/>
                </a:lnTo>
                <a:lnTo>
                  <a:pt x="785" y="45"/>
                </a:lnTo>
                <a:lnTo>
                  <a:pt x="772" y="34"/>
                </a:lnTo>
                <a:lnTo>
                  <a:pt x="757" y="22"/>
                </a:lnTo>
                <a:lnTo>
                  <a:pt x="742" y="10"/>
                </a:lnTo>
                <a:lnTo>
                  <a:pt x="726" y="0"/>
                </a:lnTo>
                <a:lnTo>
                  <a:pt x="778" y="0"/>
                </a:lnTo>
                <a:lnTo>
                  <a:pt x="788" y="8"/>
                </a:lnTo>
                <a:lnTo>
                  <a:pt x="798" y="17"/>
                </a:lnTo>
                <a:lnTo>
                  <a:pt x="808" y="25"/>
                </a:lnTo>
                <a:lnTo>
                  <a:pt x="817" y="34"/>
                </a:lnTo>
                <a:lnTo>
                  <a:pt x="827" y="43"/>
                </a:lnTo>
                <a:lnTo>
                  <a:pt x="836" y="52"/>
                </a:lnTo>
                <a:lnTo>
                  <a:pt x="845" y="62"/>
                </a:lnTo>
                <a:lnTo>
                  <a:pt x="853" y="72"/>
                </a:lnTo>
                <a:lnTo>
                  <a:pt x="862" y="82"/>
                </a:lnTo>
                <a:lnTo>
                  <a:pt x="869" y="92"/>
                </a:lnTo>
                <a:lnTo>
                  <a:pt x="877" y="103"/>
                </a:lnTo>
                <a:lnTo>
                  <a:pt x="884" y="113"/>
                </a:lnTo>
                <a:lnTo>
                  <a:pt x="891" y="123"/>
                </a:lnTo>
                <a:lnTo>
                  <a:pt x="898" y="134"/>
                </a:lnTo>
                <a:lnTo>
                  <a:pt x="905" y="145"/>
                </a:lnTo>
                <a:lnTo>
                  <a:pt x="911" y="157"/>
                </a:lnTo>
                <a:lnTo>
                  <a:pt x="134" y="0"/>
                </a:lnTo>
                <a:lnTo>
                  <a:pt x="185" y="0"/>
                </a:lnTo>
                <a:lnTo>
                  <a:pt x="170" y="11"/>
                </a:lnTo>
                <a:lnTo>
                  <a:pt x="154" y="22"/>
                </a:lnTo>
                <a:lnTo>
                  <a:pt x="139" y="34"/>
                </a:lnTo>
                <a:lnTo>
                  <a:pt x="126" y="46"/>
                </a:lnTo>
                <a:lnTo>
                  <a:pt x="112" y="59"/>
                </a:lnTo>
                <a:lnTo>
                  <a:pt x="99" y="72"/>
                </a:lnTo>
                <a:lnTo>
                  <a:pt x="86" y="86"/>
                </a:lnTo>
                <a:lnTo>
                  <a:pt x="74" y="101"/>
                </a:lnTo>
                <a:lnTo>
                  <a:pt x="62" y="116"/>
                </a:lnTo>
                <a:lnTo>
                  <a:pt x="51" y="130"/>
                </a:lnTo>
                <a:lnTo>
                  <a:pt x="42" y="146"/>
                </a:lnTo>
                <a:lnTo>
                  <a:pt x="32" y="163"/>
                </a:lnTo>
                <a:lnTo>
                  <a:pt x="23" y="179"/>
                </a:lnTo>
                <a:lnTo>
                  <a:pt x="15" y="196"/>
                </a:lnTo>
                <a:lnTo>
                  <a:pt x="7" y="212"/>
                </a:lnTo>
                <a:lnTo>
                  <a:pt x="0" y="230"/>
                </a:lnTo>
                <a:lnTo>
                  <a:pt x="0" y="157"/>
                </a:lnTo>
                <a:lnTo>
                  <a:pt x="6" y="146"/>
                </a:lnTo>
                <a:lnTo>
                  <a:pt x="13" y="135"/>
                </a:lnTo>
                <a:lnTo>
                  <a:pt x="20" y="124"/>
                </a:lnTo>
                <a:lnTo>
                  <a:pt x="27" y="114"/>
                </a:lnTo>
                <a:lnTo>
                  <a:pt x="34" y="103"/>
                </a:lnTo>
                <a:lnTo>
                  <a:pt x="42" y="93"/>
                </a:lnTo>
                <a:lnTo>
                  <a:pt x="49" y="82"/>
                </a:lnTo>
                <a:lnTo>
                  <a:pt x="58" y="72"/>
                </a:lnTo>
                <a:lnTo>
                  <a:pt x="66" y="62"/>
                </a:lnTo>
                <a:lnTo>
                  <a:pt x="75" y="52"/>
                </a:lnTo>
                <a:lnTo>
                  <a:pt x="84" y="43"/>
                </a:lnTo>
                <a:lnTo>
                  <a:pt x="94" y="35"/>
                </a:lnTo>
                <a:lnTo>
                  <a:pt x="103" y="25"/>
                </a:lnTo>
                <a:lnTo>
                  <a:pt x="113" y="17"/>
                </a:lnTo>
                <a:lnTo>
                  <a:pt x="123" y="8"/>
                </a:lnTo>
                <a:lnTo>
                  <a:pt x="134" y="0"/>
                </a:lnTo>
                <a:lnTo>
                  <a:pt x="0" y="656"/>
                </a:lnTo>
                <a:lnTo>
                  <a:pt x="0" y="583"/>
                </a:lnTo>
                <a:lnTo>
                  <a:pt x="7" y="601"/>
                </a:lnTo>
                <a:lnTo>
                  <a:pt x="15" y="617"/>
                </a:lnTo>
                <a:lnTo>
                  <a:pt x="23" y="634"/>
                </a:lnTo>
                <a:lnTo>
                  <a:pt x="32" y="651"/>
                </a:lnTo>
                <a:lnTo>
                  <a:pt x="42" y="667"/>
                </a:lnTo>
                <a:lnTo>
                  <a:pt x="51" y="683"/>
                </a:lnTo>
                <a:lnTo>
                  <a:pt x="63" y="698"/>
                </a:lnTo>
                <a:lnTo>
                  <a:pt x="74" y="713"/>
                </a:lnTo>
                <a:lnTo>
                  <a:pt x="87" y="727"/>
                </a:lnTo>
                <a:lnTo>
                  <a:pt x="99" y="742"/>
                </a:lnTo>
                <a:lnTo>
                  <a:pt x="113" y="755"/>
                </a:lnTo>
                <a:lnTo>
                  <a:pt x="127" y="768"/>
                </a:lnTo>
                <a:lnTo>
                  <a:pt x="140" y="780"/>
                </a:lnTo>
                <a:lnTo>
                  <a:pt x="155" y="792"/>
                </a:lnTo>
                <a:lnTo>
                  <a:pt x="170" y="803"/>
                </a:lnTo>
                <a:lnTo>
                  <a:pt x="186" y="814"/>
                </a:lnTo>
                <a:lnTo>
                  <a:pt x="135" y="814"/>
                </a:lnTo>
                <a:lnTo>
                  <a:pt x="124" y="806"/>
                </a:lnTo>
                <a:lnTo>
                  <a:pt x="114" y="797"/>
                </a:lnTo>
                <a:lnTo>
                  <a:pt x="104" y="789"/>
                </a:lnTo>
                <a:lnTo>
                  <a:pt x="95" y="779"/>
                </a:lnTo>
                <a:lnTo>
                  <a:pt x="85" y="771"/>
                </a:lnTo>
                <a:lnTo>
                  <a:pt x="76" y="761"/>
                </a:lnTo>
                <a:lnTo>
                  <a:pt x="67" y="752"/>
                </a:lnTo>
                <a:lnTo>
                  <a:pt x="58" y="742"/>
                </a:lnTo>
                <a:lnTo>
                  <a:pt x="50" y="731"/>
                </a:lnTo>
                <a:lnTo>
                  <a:pt x="43" y="721"/>
                </a:lnTo>
                <a:lnTo>
                  <a:pt x="35" y="710"/>
                </a:lnTo>
                <a:lnTo>
                  <a:pt x="27" y="700"/>
                </a:lnTo>
                <a:lnTo>
                  <a:pt x="20" y="690"/>
                </a:lnTo>
                <a:lnTo>
                  <a:pt x="13" y="679"/>
                </a:lnTo>
                <a:lnTo>
                  <a:pt x="6" y="668"/>
                </a:lnTo>
                <a:lnTo>
                  <a:pt x="0" y="656"/>
                </a:lnTo>
                <a:lnTo>
                  <a:pt x="777" y="814"/>
                </a:lnTo>
                <a:lnTo>
                  <a:pt x="725" y="814"/>
                </a:lnTo>
                <a:lnTo>
                  <a:pt x="741" y="804"/>
                </a:lnTo>
                <a:lnTo>
                  <a:pt x="756" y="792"/>
                </a:lnTo>
                <a:lnTo>
                  <a:pt x="771" y="780"/>
                </a:lnTo>
                <a:lnTo>
                  <a:pt x="785" y="769"/>
                </a:lnTo>
                <a:lnTo>
                  <a:pt x="798" y="756"/>
                </a:lnTo>
                <a:lnTo>
                  <a:pt x="812" y="742"/>
                </a:lnTo>
                <a:lnTo>
                  <a:pt x="825" y="728"/>
                </a:lnTo>
                <a:lnTo>
                  <a:pt x="837" y="713"/>
                </a:lnTo>
                <a:lnTo>
                  <a:pt x="848" y="698"/>
                </a:lnTo>
                <a:lnTo>
                  <a:pt x="859" y="684"/>
                </a:lnTo>
                <a:lnTo>
                  <a:pt x="869" y="668"/>
                </a:lnTo>
                <a:lnTo>
                  <a:pt x="879" y="652"/>
                </a:lnTo>
                <a:lnTo>
                  <a:pt x="888" y="635"/>
                </a:lnTo>
                <a:lnTo>
                  <a:pt x="896" y="618"/>
                </a:lnTo>
                <a:lnTo>
                  <a:pt x="904" y="602"/>
                </a:lnTo>
                <a:lnTo>
                  <a:pt x="911" y="585"/>
                </a:lnTo>
                <a:lnTo>
                  <a:pt x="911" y="657"/>
                </a:lnTo>
                <a:lnTo>
                  <a:pt x="905" y="668"/>
                </a:lnTo>
                <a:lnTo>
                  <a:pt x="898" y="679"/>
                </a:lnTo>
                <a:lnTo>
                  <a:pt x="891" y="690"/>
                </a:lnTo>
                <a:lnTo>
                  <a:pt x="884" y="700"/>
                </a:lnTo>
                <a:lnTo>
                  <a:pt x="876" y="711"/>
                </a:lnTo>
                <a:lnTo>
                  <a:pt x="869" y="721"/>
                </a:lnTo>
                <a:lnTo>
                  <a:pt x="862" y="732"/>
                </a:lnTo>
                <a:lnTo>
                  <a:pt x="853" y="742"/>
                </a:lnTo>
                <a:lnTo>
                  <a:pt x="844" y="752"/>
                </a:lnTo>
                <a:lnTo>
                  <a:pt x="836" y="762"/>
                </a:lnTo>
                <a:lnTo>
                  <a:pt x="826" y="771"/>
                </a:lnTo>
                <a:lnTo>
                  <a:pt x="817" y="779"/>
                </a:lnTo>
                <a:lnTo>
                  <a:pt x="807" y="789"/>
                </a:lnTo>
                <a:lnTo>
                  <a:pt x="797" y="797"/>
                </a:lnTo>
                <a:lnTo>
                  <a:pt x="787" y="806"/>
                </a:lnTo>
                <a:lnTo>
                  <a:pt x="777" y="814"/>
                </a:lnTo>
                <a:lnTo>
                  <a:pt x="911" y="157"/>
                </a:lnTo>
              </a:path>
            </a:pathLst>
          </a:custGeom>
          <a:solidFill>
            <a:srgbClr val="a1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840120" y="4757760"/>
            <a:ext cx="1447920" cy="1293840"/>
          </a:xfrm>
          <a:custGeom>
            <a:avLst/>
            <a:gdLst/>
            <a:ahLst/>
            <a:rect l="l" t="t" r="r" b="b"/>
            <a:pathLst>
              <a:path w="912" h="815">
                <a:moveTo>
                  <a:pt x="911" y="229"/>
                </a:moveTo>
                <a:lnTo>
                  <a:pt x="911" y="356"/>
                </a:lnTo>
                <a:lnTo>
                  <a:pt x="907" y="328"/>
                </a:lnTo>
                <a:lnTo>
                  <a:pt x="901" y="299"/>
                </a:lnTo>
                <a:lnTo>
                  <a:pt x="894" y="273"/>
                </a:lnTo>
                <a:lnTo>
                  <a:pt x="885" y="246"/>
                </a:lnTo>
                <a:lnTo>
                  <a:pt x="874" y="219"/>
                </a:lnTo>
                <a:lnTo>
                  <a:pt x="863" y="195"/>
                </a:lnTo>
                <a:lnTo>
                  <a:pt x="849" y="170"/>
                </a:lnTo>
                <a:lnTo>
                  <a:pt x="833" y="146"/>
                </a:lnTo>
                <a:lnTo>
                  <a:pt x="817" y="123"/>
                </a:lnTo>
                <a:lnTo>
                  <a:pt x="798" y="103"/>
                </a:lnTo>
                <a:lnTo>
                  <a:pt x="779" y="82"/>
                </a:lnTo>
                <a:lnTo>
                  <a:pt x="759" y="63"/>
                </a:lnTo>
                <a:lnTo>
                  <a:pt x="737" y="45"/>
                </a:lnTo>
                <a:lnTo>
                  <a:pt x="714" y="29"/>
                </a:lnTo>
                <a:lnTo>
                  <a:pt x="690" y="14"/>
                </a:lnTo>
                <a:lnTo>
                  <a:pt x="665" y="0"/>
                </a:lnTo>
                <a:lnTo>
                  <a:pt x="726" y="0"/>
                </a:lnTo>
                <a:lnTo>
                  <a:pt x="742" y="10"/>
                </a:lnTo>
                <a:lnTo>
                  <a:pt x="757" y="22"/>
                </a:lnTo>
                <a:lnTo>
                  <a:pt x="772" y="34"/>
                </a:lnTo>
                <a:lnTo>
                  <a:pt x="785" y="45"/>
                </a:lnTo>
                <a:lnTo>
                  <a:pt x="799" y="58"/>
                </a:lnTo>
                <a:lnTo>
                  <a:pt x="812" y="72"/>
                </a:lnTo>
                <a:lnTo>
                  <a:pt x="825" y="86"/>
                </a:lnTo>
                <a:lnTo>
                  <a:pt x="837" y="100"/>
                </a:lnTo>
                <a:lnTo>
                  <a:pt x="849" y="115"/>
                </a:lnTo>
                <a:lnTo>
                  <a:pt x="860" y="130"/>
                </a:lnTo>
                <a:lnTo>
                  <a:pt x="869" y="146"/>
                </a:lnTo>
                <a:lnTo>
                  <a:pt x="879" y="162"/>
                </a:lnTo>
                <a:lnTo>
                  <a:pt x="888" y="178"/>
                </a:lnTo>
                <a:lnTo>
                  <a:pt x="897" y="195"/>
                </a:lnTo>
                <a:lnTo>
                  <a:pt x="904" y="211"/>
                </a:lnTo>
                <a:lnTo>
                  <a:pt x="911" y="229"/>
                </a:lnTo>
                <a:lnTo>
                  <a:pt x="185" y="0"/>
                </a:lnTo>
                <a:lnTo>
                  <a:pt x="246" y="0"/>
                </a:lnTo>
                <a:lnTo>
                  <a:pt x="222" y="14"/>
                </a:lnTo>
                <a:lnTo>
                  <a:pt x="197" y="29"/>
                </a:lnTo>
                <a:lnTo>
                  <a:pt x="174" y="45"/>
                </a:lnTo>
                <a:lnTo>
                  <a:pt x="152" y="63"/>
                </a:lnTo>
                <a:lnTo>
                  <a:pt x="132" y="83"/>
                </a:lnTo>
                <a:lnTo>
                  <a:pt x="112" y="104"/>
                </a:lnTo>
                <a:lnTo>
                  <a:pt x="94" y="125"/>
                </a:lnTo>
                <a:lnTo>
                  <a:pt x="77" y="148"/>
                </a:lnTo>
                <a:lnTo>
                  <a:pt x="62" y="172"/>
                </a:lnTo>
                <a:lnTo>
                  <a:pt x="48" y="197"/>
                </a:lnTo>
                <a:lnTo>
                  <a:pt x="36" y="222"/>
                </a:lnTo>
                <a:lnTo>
                  <a:pt x="26" y="249"/>
                </a:lnTo>
                <a:lnTo>
                  <a:pt x="17" y="276"/>
                </a:lnTo>
                <a:lnTo>
                  <a:pt x="9" y="303"/>
                </a:lnTo>
                <a:lnTo>
                  <a:pt x="4" y="331"/>
                </a:lnTo>
                <a:lnTo>
                  <a:pt x="0" y="360"/>
                </a:lnTo>
                <a:lnTo>
                  <a:pt x="0" y="230"/>
                </a:lnTo>
                <a:lnTo>
                  <a:pt x="7" y="212"/>
                </a:lnTo>
                <a:lnTo>
                  <a:pt x="15" y="196"/>
                </a:lnTo>
                <a:lnTo>
                  <a:pt x="23" y="179"/>
                </a:lnTo>
                <a:lnTo>
                  <a:pt x="32" y="163"/>
                </a:lnTo>
                <a:lnTo>
                  <a:pt x="42" y="146"/>
                </a:lnTo>
                <a:lnTo>
                  <a:pt x="51" y="130"/>
                </a:lnTo>
                <a:lnTo>
                  <a:pt x="62" y="116"/>
                </a:lnTo>
                <a:lnTo>
                  <a:pt x="74" y="101"/>
                </a:lnTo>
                <a:lnTo>
                  <a:pt x="86" y="86"/>
                </a:lnTo>
                <a:lnTo>
                  <a:pt x="99" y="72"/>
                </a:lnTo>
                <a:lnTo>
                  <a:pt x="112" y="59"/>
                </a:lnTo>
                <a:lnTo>
                  <a:pt x="126" y="46"/>
                </a:lnTo>
                <a:lnTo>
                  <a:pt x="139" y="34"/>
                </a:lnTo>
                <a:lnTo>
                  <a:pt x="154" y="22"/>
                </a:lnTo>
                <a:lnTo>
                  <a:pt x="170" y="11"/>
                </a:lnTo>
                <a:lnTo>
                  <a:pt x="185" y="0"/>
                </a:lnTo>
                <a:lnTo>
                  <a:pt x="0" y="583"/>
                </a:lnTo>
                <a:lnTo>
                  <a:pt x="0" y="453"/>
                </a:lnTo>
                <a:lnTo>
                  <a:pt x="4" y="482"/>
                </a:lnTo>
                <a:lnTo>
                  <a:pt x="9" y="511"/>
                </a:lnTo>
                <a:lnTo>
                  <a:pt x="17" y="538"/>
                </a:lnTo>
                <a:lnTo>
                  <a:pt x="26" y="565"/>
                </a:lnTo>
                <a:lnTo>
                  <a:pt x="37" y="592"/>
                </a:lnTo>
                <a:lnTo>
                  <a:pt x="48" y="617"/>
                </a:lnTo>
                <a:lnTo>
                  <a:pt x="62" y="642"/>
                </a:lnTo>
                <a:lnTo>
                  <a:pt x="77" y="666"/>
                </a:lnTo>
                <a:lnTo>
                  <a:pt x="94" y="689"/>
                </a:lnTo>
                <a:lnTo>
                  <a:pt x="113" y="710"/>
                </a:lnTo>
                <a:lnTo>
                  <a:pt x="132" y="731"/>
                </a:lnTo>
                <a:lnTo>
                  <a:pt x="152" y="751"/>
                </a:lnTo>
                <a:lnTo>
                  <a:pt x="174" y="769"/>
                </a:lnTo>
                <a:lnTo>
                  <a:pt x="198" y="785"/>
                </a:lnTo>
                <a:lnTo>
                  <a:pt x="223" y="800"/>
                </a:lnTo>
                <a:lnTo>
                  <a:pt x="247" y="814"/>
                </a:lnTo>
                <a:lnTo>
                  <a:pt x="186" y="814"/>
                </a:lnTo>
                <a:lnTo>
                  <a:pt x="170" y="803"/>
                </a:lnTo>
                <a:lnTo>
                  <a:pt x="155" y="792"/>
                </a:lnTo>
                <a:lnTo>
                  <a:pt x="140" y="780"/>
                </a:lnTo>
                <a:lnTo>
                  <a:pt x="127" y="768"/>
                </a:lnTo>
                <a:lnTo>
                  <a:pt x="113" y="755"/>
                </a:lnTo>
                <a:lnTo>
                  <a:pt x="99" y="742"/>
                </a:lnTo>
                <a:lnTo>
                  <a:pt x="87" y="727"/>
                </a:lnTo>
                <a:lnTo>
                  <a:pt x="74" y="713"/>
                </a:lnTo>
                <a:lnTo>
                  <a:pt x="63" y="698"/>
                </a:lnTo>
                <a:lnTo>
                  <a:pt x="51" y="683"/>
                </a:lnTo>
                <a:lnTo>
                  <a:pt x="42" y="667"/>
                </a:lnTo>
                <a:lnTo>
                  <a:pt x="32" y="651"/>
                </a:lnTo>
                <a:lnTo>
                  <a:pt x="23" y="634"/>
                </a:lnTo>
                <a:lnTo>
                  <a:pt x="15" y="617"/>
                </a:lnTo>
                <a:lnTo>
                  <a:pt x="7" y="601"/>
                </a:lnTo>
                <a:lnTo>
                  <a:pt x="0" y="583"/>
                </a:lnTo>
                <a:lnTo>
                  <a:pt x="725" y="814"/>
                </a:lnTo>
                <a:lnTo>
                  <a:pt x="664" y="814"/>
                </a:lnTo>
                <a:lnTo>
                  <a:pt x="689" y="800"/>
                </a:lnTo>
                <a:lnTo>
                  <a:pt x="713" y="785"/>
                </a:lnTo>
                <a:lnTo>
                  <a:pt x="736" y="769"/>
                </a:lnTo>
                <a:lnTo>
                  <a:pt x="758" y="751"/>
                </a:lnTo>
                <a:lnTo>
                  <a:pt x="778" y="732"/>
                </a:lnTo>
                <a:lnTo>
                  <a:pt x="798" y="711"/>
                </a:lnTo>
                <a:lnTo>
                  <a:pt x="816" y="690"/>
                </a:lnTo>
                <a:lnTo>
                  <a:pt x="833" y="668"/>
                </a:lnTo>
                <a:lnTo>
                  <a:pt x="848" y="644"/>
                </a:lnTo>
                <a:lnTo>
                  <a:pt x="862" y="619"/>
                </a:lnTo>
                <a:lnTo>
                  <a:pt x="874" y="594"/>
                </a:lnTo>
                <a:lnTo>
                  <a:pt x="885" y="568"/>
                </a:lnTo>
                <a:lnTo>
                  <a:pt x="894" y="541"/>
                </a:lnTo>
                <a:lnTo>
                  <a:pt x="901" y="514"/>
                </a:lnTo>
                <a:lnTo>
                  <a:pt x="907" y="486"/>
                </a:lnTo>
                <a:lnTo>
                  <a:pt x="911" y="457"/>
                </a:lnTo>
                <a:lnTo>
                  <a:pt x="911" y="585"/>
                </a:lnTo>
                <a:lnTo>
                  <a:pt x="904" y="602"/>
                </a:lnTo>
                <a:lnTo>
                  <a:pt x="896" y="618"/>
                </a:lnTo>
                <a:lnTo>
                  <a:pt x="888" y="635"/>
                </a:lnTo>
                <a:lnTo>
                  <a:pt x="879" y="652"/>
                </a:lnTo>
                <a:lnTo>
                  <a:pt x="869" y="668"/>
                </a:lnTo>
                <a:lnTo>
                  <a:pt x="859" y="684"/>
                </a:lnTo>
                <a:lnTo>
                  <a:pt x="848" y="698"/>
                </a:lnTo>
                <a:lnTo>
                  <a:pt x="837" y="713"/>
                </a:lnTo>
                <a:lnTo>
                  <a:pt x="825" y="728"/>
                </a:lnTo>
                <a:lnTo>
                  <a:pt x="812" y="742"/>
                </a:lnTo>
                <a:lnTo>
                  <a:pt x="798" y="756"/>
                </a:lnTo>
                <a:lnTo>
                  <a:pt x="785" y="769"/>
                </a:lnTo>
                <a:lnTo>
                  <a:pt x="771" y="780"/>
                </a:lnTo>
                <a:lnTo>
                  <a:pt x="756" y="792"/>
                </a:lnTo>
                <a:lnTo>
                  <a:pt x="741" y="804"/>
                </a:lnTo>
                <a:lnTo>
                  <a:pt x="725" y="814"/>
                </a:lnTo>
                <a:lnTo>
                  <a:pt x="911" y="229"/>
                </a:lnTo>
              </a:path>
            </a:pathLst>
          </a:custGeom>
          <a:solidFill>
            <a:srgbClr val="a3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40120" y="4757760"/>
            <a:ext cx="1447920" cy="1293840"/>
          </a:xfrm>
          <a:custGeom>
            <a:avLst/>
            <a:gdLst/>
            <a:ahLst/>
            <a:rect l="l" t="t" r="r" b="b"/>
            <a:pathLst>
              <a:path w="912" h="815">
                <a:moveTo>
                  <a:pt x="911" y="356"/>
                </a:moveTo>
                <a:lnTo>
                  <a:pt x="911" y="457"/>
                </a:lnTo>
                <a:lnTo>
                  <a:pt x="907" y="486"/>
                </a:lnTo>
                <a:lnTo>
                  <a:pt x="901" y="514"/>
                </a:lnTo>
                <a:lnTo>
                  <a:pt x="894" y="541"/>
                </a:lnTo>
                <a:lnTo>
                  <a:pt x="885" y="568"/>
                </a:lnTo>
                <a:lnTo>
                  <a:pt x="874" y="594"/>
                </a:lnTo>
                <a:lnTo>
                  <a:pt x="862" y="619"/>
                </a:lnTo>
                <a:lnTo>
                  <a:pt x="848" y="644"/>
                </a:lnTo>
                <a:lnTo>
                  <a:pt x="833" y="668"/>
                </a:lnTo>
                <a:lnTo>
                  <a:pt x="816" y="690"/>
                </a:lnTo>
                <a:lnTo>
                  <a:pt x="798" y="711"/>
                </a:lnTo>
                <a:lnTo>
                  <a:pt x="778" y="732"/>
                </a:lnTo>
                <a:lnTo>
                  <a:pt x="758" y="751"/>
                </a:lnTo>
                <a:lnTo>
                  <a:pt x="736" y="769"/>
                </a:lnTo>
                <a:lnTo>
                  <a:pt x="713" y="785"/>
                </a:lnTo>
                <a:lnTo>
                  <a:pt x="689" y="800"/>
                </a:lnTo>
                <a:lnTo>
                  <a:pt x="664" y="814"/>
                </a:lnTo>
                <a:lnTo>
                  <a:pt x="585" y="814"/>
                </a:lnTo>
                <a:lnTo>
                  <a:pt x="617" y="803"/>
                </a:lnTo>
                <a:lnTo>
                  <a:pt x="648" y="789"/>
                </a:lnTo>
                <a:lnTo>
                  <a:pt x="678" y="773"/>
                </a:lnTo>
                <a:lnTo>
                  <a:pt x="705" y="754"/>
                </a:lnTo>
                <a:lnTo>
                  <a:pt x="732" y="734"/>
                </a:lnTo>
                <a:lnTo>
                  <a:pt x="757" y="711"/>
                </a:lnTo>
                <a:lnTo>
                  <a:pt x="779" y="687"/>
                </a:lnTo>
                <a:lnTo>
                  <a:pt x="800" y="661"/>
                </a:lnTo>
                <a:lnTo>
                  <a:pt x="819" y="633"/>
                </a:lnTo>
                <a:lnTo>
                  <a:pt x="835" y="605"/>
                </a:lnTo>
                <a:lnTo>
                  <a:pt x="850" y="574"/>
                </a:lnTo>
                <a:lnTo>
                  <a:pt x="862" y="542"/>
                </a:lnTo>
                <a:lnTo>
                  <a:pt x="870" y="510"/>
                </a:lnTo>
                <a:lnTo>
                  <a:pt x="877" y="477"/>
                </a:lnTo>
                <a:lnTo>
                  <a:pt x="882" y="443"/>
                </a:lnTo>
                <a:lnTo>
                  <a:pt x="883" y="408"/>
                </a:lnTo>
                <a:lnTo>
                  <a:pt x="882" y="372"/>
                </a:lnTo>
                <a:lnTo>
                  <a:pt x="878" y="339"/>
                </a:lnTo>
                <a:lnTo>
                  <a:pt x="871" y="305"/>
                </a:lnTo>
                <a:lnTo>
                  <a:pt x="862" y="273"/>
                </a:lnTo>
                <a:lnTo>
                  <a:pt x="851" y="241"/>
                </a:lnTo>
                <a:lnTo>
                  <a:pt x="836" y="210"/>
                </a:lnTo>
                <a:lnTo>
                  <a:pt x="820" y="182"/>
                </a:lnTo>
                <a:lnTo>
                  <a:pt x="801" y="154"/>
                </a:lnTo>
                <a:lnTo>
                  <a:pt x="780" y="127"/>
                </a:lnTo>
                <a:lnTo>
                  <a:pt x="758" y="104"/>
                </a:lnTo>
                <a:lnTo>
                  <a:pt x="733" y="81"/>
                </a:lnTo>
                <a:lnTo>
                  <a:pt x="706" y="60"/>
                </a:lnTo>
                <a:lnTo>
                  <a:pt x="679" y="41"/>
                </a:lnTo>
                <a:lnTo>
                  <a:pt x="649" y="26"/>
                </a:lnTo>
                <a:lnTo>
                  <a:pt x="618" y="11"/>
                </a:lnTo>
                <a:lnTo>
                  <a:pt x="586" y="0"/>
                </a:lnTo>
                <a:lnTo>
                  <a:pt x="665" y="0"/>
                </a:lnTo>
                <a:lnTo>
                  <a:pt x="690" y="14"/>
                </a:lnTo>
                <a:lnTo>
                  <a:pt x="714" y="29"/>
                </a:lnTo>
                <a:lnTo>
                  <a:pt x="737" y="45"/>
                </a:lnTo>
                <a:lnTo>
                  <a:pt x="759" y="63"/>
                </a:lnTo>
                <a:lnTo>
                  <a:pt x="779" y="82"/>
                </a:lnTo>
                <a:lnTo>
                  <a:pt x="798" y="103"/>
                </a:lnTo>
                <a:lnTo>
                  <a:pt x="817" y="123"/>
                </a:lnTo>
                <a:lnTo>
                  <a:pt x="833" y="146"/>
                </a:lnTo>
                <a:lnTo>
                  <a:pt x="849" y="170"/>
                </a:lnTo>
                <a:lnTo>
                  <a:pt x="863" y="195"/>
                </a:lnTo>
                <a:lnTo>
                  <a:pt x="874" y="219"/>
                </a:lnTo>
                <a:lnTo>
                  <a:pt x="885" y="246"/>
                </a:lnTo>
                <a:lnTo>
                  <a:pt x="894" y="273"/>
                </a:lnTo>
                <a:lnTo>
                  <a:pt x="901" y="299"/>
                </a:lnTo>
                <a:lnTo>
                  <a:pt x="907" y="328"/>
                </a:lnTo>
                <a:lnTo>
                  <a:pt x="911" y="356"/>
                </a:lnTo>
                <a:lnTo>
                  <a:pt x="246" y="0"/>
                </a:lnTo>
                <a:lnTo>
                  <a:pt x="325" y="0"/>
                </a:lnTo>
                <a:lnTo>
                  <a:pt x="294" y="11"/>
                </a:lnTo>
                <a:lnTo>
                  <a:pt x="262" y="26"/>
                </a:lnTo>
                <a:lnTo>
                  <a:pt x="232" y="41"/>
                </a:lnTo>
                <a:lnTo>
                  <a:pt x="205" y="60"/>
                </a:lnTo>
                <a:lnTo>
                  <a:pt x="178" y="81"/>
                </a:lnTo>
                <a:lnTo>
                  <a:pt x="154" y="104"/>
                </a:lnTo>
                <a:lnTo>
                  <a:pt x="132" y="127"/>
                </a:lnTo>
                <a:lnTo>
                  <a:pt x="111" y="154"/>
                </a:lnTo>
                <a:lnTo>
                  <a:pt x="92" y="182"/>
                </a:lnTo>
                <a:lnTo>
                  <a:pt x="75" y="210"/>
                </a:lnTo>
                <a:lnTo>
                  <a:pt x="61" y="241"/>
                </a:lnTo>
                <a:lnTo>
                  <a:pt x="49" y="273"/>
                </a:lnTo>
                <a:lnTo>
                  <a:pt x="41" y="305"/>
                </a:lnTo>
                <a:lnTo>
                  <a:pt x="34" y="339"/>
                </a:lnTo>
                <a:lnTo>
                  <a:pt x="30" y="372"/>
                </a:lnTo>
                <a:lnTo>
                  <a:pt x="28" y="408"/>
                </a:lnTo>
                <a:lnTo>
                  <a:pt x="30" y="443"/>
                </a:lnTo>
                <a:lnTo>
                  <a:pt x="34" y="477"/>
                </a:lnTo>
                <a:lnTo>
                  <a:pt x="41" y="510"/>
                </a:lnTo>
                <a:lnTo>
                  <a:pt x="50" y="542"/>
                </a:lnTo>
                <a:lnTo>
                  <a:pt x="62" y="574"/>
                </a:lnTo>
                <a:lnTo>
                  <a:pt x="76" y="605"/>
                </a:lnTo>
                <a:lnTo>
                  <a:pt x="93" y="633"/>
                </a:lnTo>
                <a:lnTo>
                  <a:pt x="112" y="661"/>
                </a:lnTo>
                <a:lnTo>
                  <a:pt x="133" y="687"/>
                </a:lnTo>
                <a:lnTo>
                  <a:pt x="155" y="711"/>
                </a:lnTo>
                <a:lnTo>
                  <a:pt x="180" y="734"/>
                </a:lnTo>
                <a:lnTo>
                  <a:pt x="206" y="754"/>
                </a:lnTo>
                <a:lnTo>
                  <a:pt x="234" y="773"/>
                </a:lnTo>
                <a:lnTo>
                  <a:pt x="264" y="789"/>
                </a:lnTo>
                <a:lnTo>
                  <a:pt x="295" y="803"/>
                </a:lnTo>
                <a:lnTo>
                  <a:pt x="327" y="814"/>
                </a:lnTo>
                <a:lnTo>
                  <a:pt x="247" y="814"/>
                </a:lnTo>
                <a:lnTo>
                  <a:pt x="223" y="800"/>
                </a:lnTo>
                <a:lnTo>
                  <a:pt x="198" y="785"/>
                </a:lnTo>
                <a:lnTo>
                  <a:pt x="174" y="769"/>
                </a:lnTo>
                <a:lnTo>
                  <a:pt x="152" y="751"/>
                </a:lnTo>
                <a:lnTo>
                  <a:pt x="132" y="731"/>
                </a:lnTo>
                <a:lnTo>
                  <a:pt x="113" y="710"/>
                </a:lnTo>
                <a:lnTo>
                  <a:pt x="94" y="689"/>
                </a:lnTo>
                <a:lnTo>
                  <a:pt x="77" y="666"/>
                </a:lnTo>
                <a:lnTo>
                  <a:pt x="62" y="642"/>
                </a:lnTo>
                <a:lnTo>
                  <a:pt x="48" y="617"/>
                </a:lnTo>
                <a:lnTo>
                  <a:pt x="37" y="592"/>
                </a:lnTo>
                <a:lnTo>
                  <a:pt x="26" y="565"/>
                </a:lnTo>
                <a:lnTo>
                  <a:pt x="17" y="538"/>
                </a:lnTo>
                <a:lnTo>
                  <a:pt x="9" y="511"/>
                </a:lnTo>
                <a:lnTo>
                  <a:pt x="4" y="482"/>
                </a:lnTo>
                <a:lnTo>
                  <a:pt x="0" y="453"/>
                </a:lnTo>
                <a:lnTo>
                  <a:pt x="0" y="360"/>
                </a:lnTo>
                <a:lnTo>
                  <a:pt x="4" y="331"/>
                </a:lnTo>
                <a:lnTo>
                  <a:pt x="9" y="303"/>
                </a:lnTo>
                <a:lnTo>
                  <a:pt x="17" y="276"/>
                </a:lnTo>
                <a:lnTo>
                  <a:pt x="26" y="249"/>
                </a:lnTo>
                <a:lnTo>
                  <a:pt x="36" y="222"/>
                </a:lnTo>
                <a:lnTo>
                  <a:pt x="48" y="197"/>
                </a:lnTo>
                <a:lnTo>
                  <a:pt x="62" y="172"/>
                </a:lnTo>
                <a:lnTo>
                  <a:pt x="77" y="148"/>
                </a:lnTo>
                <a:lnTo>
                  <a:pt x="94" y="125"/>
                </a:lnTo>
                <a:lnTo>
                  <a:pt x="112" y="104"/>
                </a:lnTo>
                <a:lnTo>
                  <a:pt x="132" y="83"/>
                </a:lnTo>
                <a:lnTo>
                  <a:pt x="152" y="63"/>
                </a:lnTo>
                <a:lnTo>
                  <a:pt x="174" y="45"/>
                </a:lnTo>
                <a:lnTo>
                  <a:pt x="197" y="29"/>
                </a:lnTo>
                <a:lnTo>
                  <a:pt x="222" y="14"/>
                </a:lnTo>
                <a:lnTo>
                  <a:pt x="246" y="0"/>
                </a:lnTo>
                <a:lnTo>
                  <a:pt x="911" y="356"/>
                </a:lnTo>
              </a:path>
            </a:pathLst>
          </a:custGeom>
          <a:solidFill>
            <a:srgbClr val="a6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884760" y="4757760"/>
            <a:ext cx="1358640" cy="1293840"/>
          </a:xfrm>
          <a:custGeom>
            <a:avLst/>
            <a:gdLst/>
            <a:ahLst/>
            <a:rect l="l" t="t" r="r" b="b"/>
            <a:pathLst>
              <a:path w="856" h="815">
                <a:moveTo>
                  <a:pt x="825" y="407"/>
                </a:moveTo>
                <a:lnTo>
                  <a:pt x="824" y="386"/>
                </a:lnTo>
                <a:lnTo>
                  <a:pt x="823" y="366"/>
                </a:lnTo>
                <a:lnTo>
                  <a:pt x="820" y="347"/>
                </a:lnTo>
                <a:lnTo>
                  <a:pt x="817" y="327"/>
                </a:lnTo>
                <a:lnTo>
                  <a:pt x="812" y="307"/>
                </a:lnTo>
                <a:lnTo>
                  <a:pt x="808" y="288"/>
                </a:lnTo>
                <a:lnTo>
                  <a:pt x="801" y="271"/>
                </a:lnTo>
                <a:lnTo>
                  <a:pt x="794" y="252"/>
                </a:lnTo>
                <a:lnTo>
                  <a:pt x="786" y="234"/>
                </a:lnTo>
                <a:lnTo>
                  <a:pt x="777" y="217"/>
                </a:lnTo>
                <a:lnTo>
                  <a:pt x="768" y="201"/>
                </a:lnTo>
                <a:lnTo>
                  <a:pt x="757" y="185"/>
                </a:lnTo>
                <a:lnTo>
                  <a:pt x="746" y="169"/>
                </a:lnTo>
                <a:lnTo>
                  <a:pt x="734" y="154"/>
                </a:lnTo>
                <a:lnTo>
                  <a:pt x="722" y="139"/>
                </a:lnTo>
                <a:lnTo>
                  <a:pt x="709" y="125"/>
                </a:lnTo>
                <a:lnTo>
                  <a:pt x="695" y="113"/>
                </a:lnTo>
                <a:lnTo>
                  <a:pt x="680" y="101"/>
                </a:lnTo>
                <a:lnTo>
                  <a:pt x="665" y="89"/>
                </a:lnTo>
                <a:lnTo>
                  <a:pt x="650" y="77"/>
                </a:lnTo>
                <a:lnTo>
                  <a:pt x="634" y="67"/>
                </a:lnTo>
                <a:lnTo>
                  <a:pt x="617" y="57"/>
                </a:lnTo>
                <a:lnTo>
                  <a:pt x="600" y="48"/>
                </a:lnTo>
                <a:lnTo>
                  <a:pt x="582" y="41"/>
                </a:lnTo>
                <a:lnTo>
                  <a:pt x="564" y="34"/>
                </a:lnTo>
                <a:lnTo>
                  <a:pt x="546" y="28"/>
                </a:lnTo>
                <a:lnTo>
                  <a:pt x="527" y="22"/>
                </a:lnTo>
                <a:lnTo>
                  <a:pt x="508" y="18"/>
                </a:lnTo>
                <a:lnTo>
                  <a:pt x="488" y="14"/>
                </a:lnTo>
                <a:lnTo>
                  <a:pt x="469" y="12"/>
                </a:lnTo>
                <a:lnTo>
                  <a:pt x="448" y="10"/>
                </a:lnTo>
                <a:lnTo>
                  <a:pt x="428" y="10"/>
                </a:lnTo>
                <a:lnTo>
                  <a:pt x="407" y="10"/>
                </a:lnTo>
                <a:lnTo>
                  <a:pt x="387" y="12"/>
                </a:lnTo>
                <a:lnTo>
                  <a:pt x="368" y="14"/>
                </a:lnTo>
                <a:lnTo>
                  <a:pt x="348" y="18"/>
                </a:lnTo>
                <a:lnTo>
                  <a:pt x="328" y="22"/>
                </a:lnTo>
                <a:lnTo>
                  <a:pt x="309" y="28"/>
                </a:lnTo>
                <a:lnTo>
                  <a:pt x="292" y="34"/>
                </a:lnTo>
                <a:lnTo>
                  <a:pt x="273" y="41"/>
                </a:lnTo>
                <a:lnTo>
                  <a:pt x="255" y="48"/>
                </a:lnTo>
                <a:lnTo>
                  <a:pt x="238" y="57"/>
                </a:lnTo>
                <a:lnTo>
                  <a:pt x="221" y="67"/>
                </a:lnTo>
                <a:lnTo>
                  <a:pt x="206" y="77"/>
                </a:lnTo>
                <a:lnTo>
                  <a:pt x="190" y="89"/>
                </a:lnTo>
                <a:lnTo>
                  <a:pt x="175" y="101"/>
                </a:lnTo>
                <a:lnTo>
                  <a:pt x="160" y="113"/>
                </a:lnTo>
                <a:lnTo>
                  <a:pt x="147" y="125"/>
                </a:lnTo>
                <a:lnTo>
                  <a:pt x="133" y="139"/>
                </a:lnTo>
                <a:lnTo>
                  <a:pt x="122" y="154"/>
                </a:lnTo>
                <a:lnTo>
                  <a:pt x="110" y="169"/>
                </a:lnTo>
                <a:lnTo>
                  <a:pt x="98" y="185"/>
                </a:lnTo>
                <a:lnTo>
                  <a:pt x="88" y="201"/>
                </a:lnTo>
                <a:lnTo>
                  <a:pt x="78" y="217"/>
                </a:lnTo>
                <a:lnTo>
                  <a:pt x="69" y="234"/>
                </a:lnTo>
                <a:lnTo>
                  <a:pt x="61" y="252"/>
                </a:lnTo>
                <a:lnTo>
                  <a:pt x="54" y="271"/>
                </a:lnTo>
                <a:lnTo>
                  <a:pt x="48" y="288"/>
                </a:lnTo>
                <a:lnTo>
                  <a:pt x="43" y="307"/>
                </a:lnTo>
                <a:lnTo>
                  <a:pt x="39" y="327"/>
                </a:lnTo>
                <a:lnTo>
                  <a:pt x="35" y="347"/>
                </a:lnTo>
                <a:lnTo>
                  <a:pt x="33" y="366"/>
                </a:lnTo>
                <a:lnTo>
                  <a:pt x="31" y="386"/>
                </a:lnTo>
                <a:lnTo>
                  <a:pt x="31" y="407"/>
                </a:lnTo>
                <a:lnTo>
                  <a:pt x="31" y="427"/>
                </a:lnTo>
                <a:lnTo>
                  <a:pt x="33" y="448"/>
                </a:lnTo>
                <a:lnTo>
                  <a:pt x="35" y="467"/>
                </a:lnTo>
                <a:lnTo>
                  <a:pt x="39" y="487"/>
                </a:lnTo>
                <a:lnTo>
                  <a:pt x="43" y="506"/>
                </a:lnTo>
                <a:lnTo>
                  <a:pt x="48" y="525"/>
                </a:lnTo>
                <a:lnTo>
                  <a:pt x="54" y="543"/>
                </a:lnTo>
                <a:lnTo>
                  <a:pt x="61" y="561"/>
                </a:lnTo>
                <a:lnTo>
                  <a:pt x="69" y="579"/>
                </a:lnTo>
                <a:lnTo>
                  <a:pt x="78" y="596"/>
                </a:lnTo>
                <a:lnTo>
                  <a:pt x="88" y="612"/>
                </a:lnTo>
                <a:lnTo>
                  <a:pt x="98" y="629"/>
                </a:lnTo>
                <a:lnTo>
                  <a:pt x="110" y="644"/>
                </a:lnTo>
                <a:lnTo>
                  <a:pt x="122" y="659"/>
                </a:lnTo>
                <a:lnTo>
                  <a:pt x="133" y="674"/>
                </a:lnTo>
                <a:lnTo>
                  <a:pt x="147" y="688"/>
                </a:lnTo>
                <a:lnTo>
                  <a:pt x="160" y="700"/>
                </a:lnTo>
                <a:lnTo>
                  <a:pt x="175" y="713"/>
                </a:lnTo>
                <a:lnTo>
                  <a:pt x="190" y="725"/>
                </a:lnTo>
                <a:lnTo>
                  <a:pt x="206" y="736"/>
                </a:lnTo>
                <a:lnTo>
                  <a:pt x="221" y="747"/>
                </a:lnTo>
                <a:lnTo>
                  <a:pt x="238" y="756"/>
                </a:lnTo>
                <a:lnTo>
                  <a:pt x="255" y="765"/>
                </a:lnTo>
                <a:lnTo>
                  <a:pt x="273" y="773"/>
                </a:lnTo>
                <a:lnTo>
                  <a:pt x="292" y="779"/>
                </a:lnTo>
                <a:lnTo>
                  <a:pt x="309" y="786"/>
                </a:lnTo>
                <a:lnTo>
                  <a:pt x="328" y="791"/>
                </a:lnTo>
                <a:lnTo>
                  <a:pt x="348" y="796"/>
                </a:lnTo>
                <a:lnTo>
                  <a:pt x="368" y="799"/>
                </a:lnTo>
                <a:lnTo>
                  <a:pt x="387" y="802"/>
                </a:lnTo>
                <a:lnTo>
                  <a:pt x="407" y="803"/>
                </a:lnTo>
                <a:lnTo>
                  <a:pt x="428" y="804"/>
                </a:lnTo>
                <a:lnTo>
                  <a:pt x="448" y="803"/>
                </a:lnTo>
                <a:lnTo>
                  <a:pt x="469" y="802"/>
                </a:lnTo>
                <a:lnTo>
                  <a:pt x="488" y="799"/>
                </a:lnTo>
                <a:lnTo>
                  <a:pt x="508" y="796"/>
                </a:lnTo>
                <a:lnTo>
                  <a:pt x="527" y="791"/>
                </a:lnTo>
                <a:lnTo>
                  <a:pt x="546" y="786"/>
                </a:lnTo>
                <a:lnTo>
                  <a:pt x="564" y="779"/>
                </a:lnTo>
                <a:lnTo>
                  <a:pt x="582" y="773"/>
                </a:lnTo>
                <a:lnTo>
                  <a:pt x="600" y="765"/>
                </a:lnTo>
                <a:lnTo>
                  <a:pt x="617" y="756"/>
                </a:lnTo>
                <a:lnTo>
                  <a:pt x="634" y="747"/>
                </a:lnTo>
                <a:lnTo>
                  <a:pt x="650" y="736"/>
                </a:lnTo>
                <a:lnTo>
                  <a:pt x="665" y="725"/>
                </a:lnTo>
                <a:lnTo>
                  <a:pt x="680" y="713"/>
                </a:lnTo>
                <a:lnTo>
                  <a:pt x="695" y="700"/>
                </a:lnTo>
                <a:lnTo>
                  <a:pt x="709" y="688"/>
                </a:lnTo>
                <a:lnTo>
                  <a:pt x="722" y="674"/>
                </a:lnTo>
                <a:lnTo>
                  <a:pt x="734" y="659"/>
                </a:lnTo>
                <a:lnTo>
                  <a:pt x="746" y="644"/>
                </a:lnTo>
                <a:lnTo>
                  <a:pt x="757" y="629"/>
                </a:lnTo>
                <a:lnTo>
                  <a:pt x="768" y="612"/>
                </a:lnTo>
                <a:lnTo>
                  <a:pt x="777" y="596"/>
                </a:lnTo>
                <a:lnTo>
                  <a:pt x="786" y="579"/>
                </a:lnTo>
                <a:lnTo>
                  <a:pt x="794" y="561"/>
                </a:lnTo>
                <a:lnTo>
                  <a:pt x="801" y="543"/>
                </a:lnTo>
                <a:lnTo>
                  <a:pt x="808" y="525"/>
                </a:lnTo>
                <a:lnTo>
                  <a:pt x="812" y="506"/>
                </a:lnTo>
                <a:lnTo>
                  <a:pt x="817" y="487"/>
                </a:lnTo>
                <a:lnTo>
                  <a:pt x="820" y="467"/>
                </a:lnTo>
                <a:lnTo>
                  <a:pt x="823" y="448"/>
                </a:lnTo>
                <a:lnTo>
                  <a:pt x="824" y="427"/>
                </a:lnTo>
                <a:lnTo>
                  <a:pt x="825" y="407"/>
                </a:lnTo>
                <a:lnTo>
                  <a:pt x="557" y="0"/>
                </a:lnTo>
                <a:lnTo>
                  <a:pt x="298" y="0"/>
                </a:lnTo>
                <a:lnTo>
                  <a:pt x="266" y="11"/>
                </a:lnTo>
                <a:lnTo>
                  <a:pt x="234" y="26"/>
                </a:lnTo>
                <a:lnTo>
                  <a:pt x="205" y="41"/>
                </a:lnTo>
                <a:lnTo>
                  <a:pt x="177" y="60"/>
                </a:lnTo>
                <a:lnTo>
                  <a:pt x="150" y="81"/>
                </a:lnTo>
                <a:lnTo>
                  <a:pt x="127" y="104"/>
                </a:lnTo>
                <a:lnTo>
                  <a:pt x="104" y="127"/>
                </a:lnTo>
                <a:lnTo>
                  <a:pt x="83" y="154"/>
                </a:lnTo>
                <a:lnTo>
                  <a:pt x="64" y="182"/>
                </a:lnTo>
                <a:lnTo>
                  <a:pt x="47" y="210"/>
                </a:lnTo>
                <a:lnTo>
                  <a:pt x="34" y="241"/>
                </a:lnTo>
                <a:lnTo>
                  <a:pt x="22" y="273"/>
                </a:lnTo>
                <a:lnTo>
                  <a:pt x="13" y="305"/>
                </a:lnTo>
                <a:lnTo>
                  <a:pt x="6" y="339"/>
                </a:lnTo>
                <a:lnTo>
                  <a:pt x="2" y="372"/>
                </a:lnTo>
                <a:lnTo>
                  <a:pt x="0" y="408"/>
                </a:lnTo>
                <a:lnTo>
                  <a:pt x="2" y="443"/>
                </a:lnTo>
                <a:lnTo>
                  <a:pt x="6" y="477"/>
                </a:lnTo>
                <a:lnTo>
                  <a:pt x="13" y="510"/>
                </a:lnTo>
                <a:lnTo>
                  <a:pt x="23" y="542"/>
                </a:lnTo>
                <a:lnTo>
                  <a:pt x="35" y="574"/>
                </a:lnTo>
                <a:lnTo>
                  <a:pt x="48" y="605"/>
                </a:lnTo>
                <a:lnTo>
                  <a:pt x="65" y="633"/>
                </a:lnTo>
                <a:lnTo>
                  <a:pt x="84" y="661"/>
                </a:lnTo>
                <a:lnTo>
                  <a:pt x="105" y="687"/>
                </a:lnTo>
                <a:lnTo>
                  <a:pt x="128" y="711"/>
                </a:lnTo>
                <a:lnTo>
                  <a:pt x="152" y="734"/>
                </a:lnTo>
                <a:lnTo>
                  <a:pt x="178" y="754"/>
                </a:lnTo>
                <a:lnTo>
                  <a:pt x="207" y="773"/>
                </a:lnTo>
                <a:lnTo>
                  <a:pt x="236" y="789"/>
                </a:lnTo>
                <a:lnTo>
                  <a:pt x="267" y="803"/>
                </a:lnTo>
                <a:lnTo>
                  <a:pt x="299" y="814"/>
                </a:lnTo>
                <a:lnTo>
                  <a:pt x="556" y="814"/>
                </a:lnTo>
                <a:lnTo>
                  <a:pt x="589" y="803"/>
                </a:lnTo>
                <a:lnTo>
                  <a:pt x="620" y="789"/>
                </a:lnTo>
                <a:lnTo>
                  <a:pt x="649" y="773"/>
                </a:lnTo>
                <a:lnTo>
                  <a:pt x="677" y="754"/>
                </a:lnTo>
                <a:lnTo>
                  <a:pt x="704" y="734"/>
                </a:lnTo>
                <a:lnTo>
                  <a:pt x="728" y="711"/>
                </a:lnTo>
                <a:lnTo>
                  <a:pt x="751" y="687"/>
                </a:lnTo>
                <a:lnTo>
                  <a:pt x="772" y="661"/>
                </a:lnTo>
                <a:lnTo>
                  <a:pt x="791" y="633"/>
                </a:lnTo>
                <a:lnTo>
                  <a:pt x="807" y="605"/>
                </a:lnTo>
                <a:lnTo>
                  <a:pt x="821" y="574"/>
                </a:lnTo>
                <a:lnTo>
                  <a:pt x="833" y="542"/>
                </a:lnTo>
                <a:lnTo>
                  <a:pt x="842" y="510"/>
                </a:lnTo>
                <a:lnTo>
                  <a:pt x="849" y="477"/>
                </a:lnTo>
                <a:lnTo>
                  <a:pt x="854" y="443"/>
                </a:lnTo>
                <a:lnTo>
                  <a:pt x="855" y="408"/>
                </a:lnTo>
                <a:lnTo>
                  <a:pt x="854" y="372"/>
                </a:lnTo>
                <a:lnTo>
                  <a:pt x="850" y="339"/>
                </a:lnTo>
                <a:lnTo>
                  <a:pt x="843" y="305"/>
                </a:lnTo>
                <a:lnTo>
                  <a:pt x="833" y="273"/>
                </a:lnTo>
                <a:lnTo>
                  <a:pt x="822" y="241"/>
                </a:lnTo>
                <a:lnTo>
                  <a:pt x="808" y="210"/>
                </a:lnTo>
                <a:lnTo>
                  <a:pt x="792" y="182"/>
                </a:lnTo>
                <a:lnTo>
                  <a:pt x="773" y="154"/>
                </a:lnTo>
                <a:lnTo>
                  <a:pt x="752" y="127"/>
                </a:lnTo>
                <a:lnTo>
                  <a:pt x="729" y="104"/>
                </a:lnTo>
                <a:lnTo>
                  <a:pt x="705" y="81"/>
                </a:lnTo>
                <a:lnTo>
                  <a:pt x="678" y="60"/>
                </a:lnTo>
                <a:lnTo>
                  <a:pt x="650" y="41"/>
                </a:lnTo>
                <a:lnTo>
                  <a:pt x="621" y="26"/>
                </a:lnTo>
                <a:lnTo>
                  <a:pt x="590" y="11"/>
                </a:lnTo>
                <a:lnTo>
                  <a:pt x="557" y="0"/>
                </a:lnTo>
                <a:lnTo>
                  <a:pt x="825" y="407"/>
                </a:lnTo>
              </a:path>
            </a:pathLst>
          </a:custGeom>
          <a:solidFill>
            <a:srgbClr val="a9f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933720" y="4773600"/>
            <a:ext cx="1262160" cy="1262160"/>
          </a:xfrm>
          <a:custGeom>
            <a:avLst/>
            <a:gdLst/>
            <a:ahLst/>
            <a:rect l="l" t="t" r="r" b="b"/>
            <a:pathLst>
              <a:path w="795" h="795">
                <a:moveTo>
                  <a:pt x="794" y="397"/>
                </a:moveTo>
                <a:lnTo>
                  <a:pt x="793" y="376"/>
                </a:lnTo>
                <a:lnTo>
                  <a:pt x="792" y="357"/>
                </a:lnTo>
                <a:lnTo>
                  <a:pt x="789" y="337"/>
                </a:lnTo>
                <a:lnTo>
                  <a:pt x="786" y="317"/>
                </a:lnTo>
                <a:lnTo>
                  <a:pt x="781" y="297"/>
                </a:lnTo>
                <a:lnTo>
                  <a:pt x="776" y="278"/>
                </a:lnTo>
                <a:lnTo>
                  <a:pt x="769" y="261"/>
                </a:lnTo>
                <a:lnTo>
                  <a:pt x="762" y="242"/>
                </a:lnTo>
                <a:lnTo>
                  <a:pt x="754" y="224"/>
                </a:lnTo>
                <a:lnTo>
                  <a:pt x="746" y="207"/>
                </a:lnTo>
                <a:lnTo>
                  <a:pt x="737" y="191"/>
                </a:lnTo>
                <a:lnTo>
                  <a:pt x="726" y="175"/>
                </a:lnTo>
                <a:lnTo>
                  <a:pt x="715" y="159"/>
                </a:lnTo>
                <a:lnTo>
                  <a:pt x="703" y="144"/>
                </a:lnTo>
                <a:lnTo>
                  <a:pt x="690" y="129"/>
                </a:lnTo>
                <a:lnTo>
                  <a:pt x="677" y="116"/>
                </a:lnTo>
                <a:lnTo>
                  <a:pt x="664" y="103"/>
                </a:lnTo>
                <a:lnTo>
                  <a:pt x="649" y="91"/>
                </a:lnTo>
                <a:lnTo>
                  <a:pt x="634" y="79"/>
                </a:lnTo>
                <a:lnTo>
                  <a:pt x="619" y="67"/>
                </a:lnTo>
                <a:lnTo>
                  <a:pt x="602" y="57"/>
                </a:lnTo>
                <a:lnTo>
                  <a:pt x="586" y="47"/>
                </a:lnTo>
                <a:lnTo>
                  <a:pt x="569" y="39"/>
                </a:lnTo>
                <a:lnTo>
                  <a:pt x="551" y="31"/>
                </a:lnTo>
                <a:lnTo>
                  <a:pt x="533" y="24"/>
                </a:lnTo>
                <a:lnTo>
                  <a:pt x="515" y="18"/>
                </a:lnTo>
                <a:lnTo>
                  <a:pt x="496" y="12"/>
                </a:lnTo>
                <a:lnTo>
                  <a:pt x="477" y="8"/>
                </a:lnTo>
                <a:lnTo>
                  <a:pt x="457" y="4"/>
                </a:lnTo>
                <a:lnTo>
                  <a:pt x="437" y="2"/>
                </a:lnTo>
                <a:lnTo>
                  <a:pt x="417" y="0"/>
                </a:lnTo>
                <a:lnTo>
                  <a:pt x="397" y="0"/>
                </a:lnTo>
                <a:lnTo>
                  <a:pt x="376" y="0"/>
                </a:lnTo>
                <a:lnTo>
                  <a:pt x="357" y="2"/>
                </a:lnTo>
                <a:lnTo>
                  <a:pt x="337" y="4"/>
                </a:lnTo>
                <a:lnTo>
                  <a:pt x="317" y="8"/>
                </a:lnTo>
                <a:lnTo>
                  <a:pt x="297" y="12"/>
                </a:lnTo>
                <a:lnTo>
                  <a:pt x="278" y="18"/>
                </a:lnTo>
                <a:lnTo>
                  <a:pt x="261" y="24"/>
                </a:lnTo>
                <a:lnTo>
                  <a:pt x="242" y="31"/>
                </a:lnTo>
                <a:lnTo>
                  <a:pt x="224" y="39"/>
                </a:lnTo>
                <a:lnTo>
                  <a:pt x="207" y="47"/>
                </a:lnTo>
                <a:lnTo>
                  <a:pt x="191" y="57"/>
                </a:lnTo>
                <a:lnTo>
                  <a:pt x="175" y="67"/>
                </a:lnTo>
                <a:lnTo>
                  <a:pt x="159" y="79"/>
                </a:lnTo>
                <a:lnTo>
                  <a:pt x="144" y="91"/>
                </a:lnTo>
                <a:lnTo>
                  <a:pt x="129" y="103"/>
                </a:lnTo>
                <a:lnTo>
                  <a:pt x="117" y="116"/>
                </a:lnTo>
                <a:lnTo>
                  <a:pt x="103" y="129"/>
                </a:lnTo>
                <a:lnTo>
                  <a:pt x="91" y="144"/>
                </a:lnTo>
                <a:lnTo>
                  <a:pt x="79" y="159"/>
                </a:lnTo>
                <a:lnTo>
                  <a:pt x="67" y="175"/>
                </a:lnTo>
                <a:lnTo>
                  <a:pt x="57" y="191"/>
                </a:lnTo>
                <a:lnTo>
                  <a:pt x="47" y="207"/>
                </a:lnTo>
                <a:lnTo>
                  <a:pt x="39" y="224"/>
                </a:lnTo>
                <a:lnTo>
                  <a:pt x="31" y="242"/>
                </a:lnTo>
                <a:lnTo>
                  <a:pt x="24" y="261"/>
                </a:lnTo>
                <a:lnTo>
                  <a:pt x="18" y="278"/>
                </a:lnTo>
                <a:lnTo>
                  <a:pt x="12" y="297"/>
                </a:lnTo>
                <a:lnTo>
                  <a:pt x="8" y="317"/>
                </a:lnTo>
                <a:lnTo>
                  <a:pt x="4" y="337"/>
                </a:lnTo>
                <a:lnTo>
                  <a:pt x="2" y="357"/>
                </a:lnTo>
                <a:lnTo>
                  <a:pt x="0" y="376"/>
                </a:lnTo>
                <a:lnTo>
                  <a:pt x="0" y="397"/>
                </a:lnTo>
                <a:lnTo>
                  <a:pt x="0" y="417"/>
                </a:lnTo>
                <a:lnTo>
                  <a:pt x="2" y="437"/>
                </a:lnTo>
                <a:lnTo>
                  <a:pt x="4" y="457"/>
                </a:lnTo>
                <a:lnTo>
                  <a:pt x="8" y="477"/>
                </a:lnTo>
                <a:lnTo>
                  <a:pt x="12" y="496"/>
                </a:lnTo>
                <a:lnTo>
                  <a:pt x="18" y="515"/>
                </a:lnTo>
                <a:lnTo>
                  <a:pt x="24" y="533"/>
                </a:lnTo>
                <a:lnTo>
                  <a:pt x="31" y="551"/>
                </a:lnTo>
                <a:lnTo>
                  <a:pt x="39" y="569"/>
                </a:lnTo>
                <a:lnTo>
                  <a:pt x="47" y="586"/>
                </a:lnTo>
                <a:lnTo>
                  <a:pt x="57" y="602"/>
                </a:lnTo>
                <a:lnTo>
                  <a:pt x="67" y="619"/>
                </a:lnTo>
                <a:lnTo>
                  <a:pt x="79" y="634"/>
                </a:lnTo>
                <a:lnTo>
                  <a:pt x="91" y="649"/>
                </a:lnTo>
                <a:lnTo>
                  <a:pt x="103" y="664"/>
                </a:lnTo>
                <a:lnTo>
                  <a:pt x="117" y="677"/>
                </a:lnTo>
                <a:lnTo>
                  <a:pt x="129" y="690"/>
                </a:lnTo>
                <a:lnTo>
                  <a:pt x="144" y="703"/>
                </a:lnTo>
                <a:lnTo>
                  <a:pt x="159" y="715"/>
                </a:lnTo>
                <a:lnTo>
                  <a:pt x="175" y="726"/>
                </a:lnTo>
                <a:lnTo>
                  <a:pt x="191" y="737"/>
                </a:lnTo>
                <a:lnTo>
                  <a:pt x="207" y="746"/>
                </a:lnTo>
                <a:lnTo>
                  <a:pt x="224" y="754"/>
                </a:lnTo>
                <a:lnTo>
                  <a:pt x="242" y="762"/>
                </a:lnTo>
                <a:lnTo>
                  <a:pt x="261" y="769"/>
                </a:lnTo>
                <a:lnTo>
                  <a:pt x="278" y="776"/>
                </a:lnTo>
                <a:lnTo>
                  <a:pt x="297" y="781"/>
                </a:lnTo>
                <a:lnTo>
                  <a:pt x="317" y="786"/>
                </a:lnTo>
                <a:lnTo>
                  <a:pt x="337" y="789"/>
                </a:lnTo>
                <a:lnTo>
                  <a:pt x="357" y="792"/>
                </a:lnTo>
                <a:lnTo>
                  <a:pt x="376" y="793"/>
                </a:lnTo>
                <a:lnTo>
                  <a:pt x="397" y="794"/>
                </a:lnTo>
                <a:lnTo>
                  <a:pt x="417" y="793"/>
                </a:lnTo>
                <a:lnTo>
                  <a:pt x="437" y="792"/>
                </a:lnTo>
                <a:lnTo>
                  <a:pt x="457" y="789"/>
                </a:lnTo>
                <a:lnTo>
                  <a:pt x="477" y="786"/>
                </a:lnTo>
                <a:lnTo>
                  <a:pt x="496" y="781"/>
                </a:lnTo>
                <a:lnTo>
                  <a:pt x="515" y="776"/>
                </a:lnTo>
                <a:lnTo>
                  <a:pt x="533" y="769"/>
                </a:lnTo>
                <a:lnTo>
                  <a:pt x="551" y="762"/>
                </a:lnTo>
                <a:lnTo>
                  <a:pt x="569" y="754"/>
                </a:lnTo>
                <a:lnTo>
                  <a:pt x="586" y="746"/>
                </a:lnTo>
                <a:lnTo>
                  <a:pt x="602" y="737"/>
                </a:lnTo>
                <a:lnTo>
                  <a:pt x="619" y="726"/>
                </a:lnTo>
                <a:lnTo>
                  <a:pt x="634" y="715"/>
                </a:lnTo>
                <a:lnTo>
                  <a:pt x="649" y="703"/>
                </a:lnTo>
                <a:lnTo>
                  <a:pt x="664" y="690"/>
                </a:lnTo>
                <a:lnTo>
                  <a:pt x="677" y="677"/>
                </a:lnTo>
                <a:lnTo>
                  <a:pt x="690" y="664"/>
                </a:lnTo>
                <a:lnTo>
                  <a:pt x="703" y="649"/>
                </a:lnTo>
                <a:lnTo>
                  <a:pt x="715" y="634"/>
                </a:lnTo>
                <a:lnTo>
                  <a:pt x="726" y="619"/>
                </a:lnTo>
                <a:lnTo>
                  <a:pt x="737" y="602"/>
                </a:lnTo>
                <a:lnTo>
                  <a:pt x="746" y="586"/>
                </a:lnTo>
                <a:lnTo>
                  <a:pt x="754" y="569"/>
                </a:lnTo>
                <a:lnTo>
                  <a:pt x="762" y="551"/>
                </a:lnTo>
                <a:lnTo>
                  <a:pt x="769" y="533"/>
                </a:lnTo>
                <a:lnTo>
                  <a:pt x="776" y="515"/>
                </a:lnTo>
                <a:lnTo>
                  <a:pt x="781" y="496"/>
                </a:lnTo>
                <a:lnTo>
                  <a:pt x="786" y="477"/>
                </a:lnTo>
                <a:lnTo>
                  <a:pt x="789" y="457"/>
                </a:lnTo>
                <a:lnTo>
                  <a:pt x="792" y="437"/>
                </a:lnTo>
                <a:lnTo>
                  <a:pt x="793" y="417"/>
                </a:lnTo>
                <a:lnTo>
                  <a:pt x="794" y="397"/>
                </a:lnTo>
                <a:lnTo>
                  <a:pt x="763" y="397"/>
                </a:lnTo>
                <a:lnTo>
                  <a:pt x="762" y="378"/>
                </a:lnTo>
                <a:lnTo>
                  <a:pt x="761" y="359"/>
                </a:lnTo>
                <a:lnTo>
                  <a:pt x="758" y="341"/>
                </a:lnTo>
                <a:lnTo>
                  <a:pt x="755" y="323"/>
                </a:lnTo>
                <a:lnTo>
                  <a:pt x="752" y="305"/>
                </a:lnTo>
                <a:lnTo>
                  <a:pt x="747" y="288"/>
                </a:lnTo>
                <a:lnTo>
                  <a:pt x="741" y="271"/>
                </a:lnTo>
                <a:lnTo>
                  <a:pt x="735" y="255"/>
                </a:lnTo>
                <a:lnTo>
                  <a:pt x="727" y="238"/>
                </a:lnTo>
                <a:lnTo>
                  <a:pt x="719" y="222"/>
                </a:lnTo>
                <a:lnTo>
                  <a:pt x="710" y="207"/>
                </a:lnTo>
                <a:lnTo>
                  <a:pt x="700" y="192"/>
                </a:lnTo>
                <a:lnTo>
                  <a:pt x="690" y="178"/>
                </a:lnTo>
                <a:lnTo>
                  <a:pt x="679" y="164"/>
                </a:lnTo>
                <a:lnTo>
                  <a:pt x="668" y="150"/>
                </a:lnTo>
                <a:lnTo>
                  <a:pt x="656" y="138"/>
                </a:lnTo>
                <a:lnTo>
                  <a:pt x="643" y="125"/>
                </a:lnTo>
                <a:lnTo>
                  <a:pt x="630" y="115"/>
                </a:lnTo>
                <a:lnTo>
                  <a:pt x="616" y="104"/>
                </a:lnTo>
                <a:lnTo>
                  <a:pt x="601" y="93"/>
                </a:lnTo>
                <a:lnTo>
                  <a:pt x="587" y="84"/>
                </a:lnTo>
                <a:lnTo>
                  <a:pt x="571" y="75"/>
                </a:lnTo>
                <a:lnTo>
                  <a:pt x="555" y="66"/>
                </a:lnTo>
                <a:lnTo>
                  <a:pt x="539" y="59"/>
                </a:lnTo>
                <a:lnTo>
                  <a:pt x="522" y="52"/>
                </a:lnTo>
                <a:lnTo>
                  <a:pt x="506" y="46"/>
                </a:lnTo>
                <a:lnTo>
                  <a:pt x="488" y="41"/>
                </a:lnTo>
                <a:lnTo>
                  <a:pt x="470" y="38"/>
                </a:lnTo>
                <a:lnTo>
                  <a:pt x="452" y="35"/>
                </a:lnTo>
                <a:lnTo>
                  <a:pt x="435" y="33"/>
                </a:lnTo>
                <a:lnTo>
                  <a:pt x="416" y="31"/>
                </a:lnTo>
                <a:lnTo>
                  <a:pt x="397" y="31"/>
                </a:lnTo>
                <a:lnTo>
                  <a:pt x="378" y="31"/>
                </a:lnTo>
                <a:lnTo>
                  <a:pt x="359" y="33"/>
                </a:lnTo>
                <a:lnTo>
                  <a:pt x="341" y="35"/>
                </a:lnTo>
                <a:lnTo>
                  <a:pt x="323" y="38"/>
                </a:lnTo>
                <a:lnTo>
                  <a:pt x="305" y="41"/>
                </a:lnTo>
                <a:lnTo>
                  <a:pt x="288" y="46"/>
                </a:lnTo>
                <a:lnTo>
                  <a:pt x="271" y="52"/>
                </a:lnTo>
                <a:lnTo>
                  <a:pt x="255" y="59"/>
                </a:lnTo>
                <a:lnTo>
                  <a:pt x="238" y="66"/>
                </a:lnTo>
                <a:lnTo>
                  <a:pt x="222" y="75"/>
                </a:lnTo>
                <a:lnTo>
                  <a:pt x="207" y="84"/>
                </a:lnTo>
                <a:lnTo>
                  <a:pt x="192" y="93"/>
                </a:lnTo>
                <a:lnTo>
                  <a:pt x="178" y="104"/>
                </a:lnTo>
                <a:lnTo>
                  <a:pt x="164" y="115"/>
                </a:lnTo>
                <a:lnTo>
                  <a:pt x="150" y="125"/>
                </a:lnTo>
                <a:lnTo>
                  <a:pt x="138" y="138"/>
                </a:lnTo>
                <a:lnTo>
                  <a:pt x="125" y="150"/>
                </a:lnTo>
                <a:lnTo>
                  <a:pt x="115" y="164"/>
                </a:lnTo>
                <a:lnTo>
                  <a:pt x="104" y="178"/>
                </a:lnTo>
                <a:lnTo>
                  <a:pt x="93" y="192"/>
                </a:lnTo>
                <a:lnTo>
                  <a:pt x="84" y="207"/>
                </a:lnTo>
                <a:lnTo>
                  <a:pt x="75" y="222"/>
                </a:lnTo>
                <a:lnTo>
                  <a:pt x="66" y="238"/>
                </a:lnTo>
                <a:lnTo>
                  <a:pt x="59" y="255"/>
                </a:lnTo>
                <a:lnTo>
                  <a:pt x="52" y="271"/>
                </a:lnTo>
                <a:lnTo>
                  <a:pt x="46" y="288"/>
                </a:lnTo>
                <a:lnTo>
                  <a:pt x="41" y="305"/>
                </a:lnTo>
                <a:lnTo>
                  <a:pt x="38" y="323"/>
                </a:lnTo>
                <a:lnTo>
                  <a:pt x="35" y="341"/>
                </a:lnTo>
                <a:lnTo>
                  <a:pt x="33" y="359"/>
                </a:lnTo>
                <a:lnTo>
                  <a:pt x="31" y="378"/>
                </a:lnTo>
                <a:lnTo>
                  <a:pt x="31" y="397"/>
                </a:lnTo>
                <a:lnTo>
                  <a:pt x="31" y="416"/>
                </a:lnTo>
                <a:lnTo>
                  <a:pt x="33" y="435"/>
                </a:lnTo>
                <a:lnTo>
                  <a:pt x="35" y="452"/>
                </a:lnTo>
                <a:lnTo>
                  <a:pt x="38" y="470"/>
                </a:lnTo>
                <a:lnTo>
                  <a:pt x="41" y="488"/>
                </a:lnTo>
                <a:lnTo>
                  <a:pt x="46" y="506"/>
                </a:lnTo>
                <a:lnTo>
                  <a:pt x="52" y="522"/>
                </a:lnTo>
                <a:lnTo>
                  <a:pt x="59" y="539"/>
                </a:lnTo>
                <a:lnTo>
                  <a:pt x="66" y="555"/>
                </a:lnTo>
                <a:lnTo>
                  <a:pt x="75" y="571"/>
                </a:lnTo>
                <a:lnTo>
                  <a:pt x="84" y="587"/>
                </a:lnTo>
                <a:lnTo>
                  <a:pt x="93" y="601"/>
                </a:lnTo>
                <a:lnTo>
                  <a:pt x="104" y="616"/>
                </a:lnTo>
                <a:lnTo>
                  <a:pt x="115" y="630"/>
                </a:lnTo>
                <a:lnTo>
                  <a:pt x="125" y="643"/>
                </a:lnTo>
                <a:lnTo>
                  <a:pt x="138" y="656"/>
                </a:lnTo>
                <a:lnTo>
                  <a:pt x="150" y="668"/>
                </a:lnTo>
                <a:lnTo>
                  <a:pt x="164" y="679"/>
                </a:lnTo>
                <a:lnTo>
                  <a:pt x="178" y="690"/>
                </a:lnTo>
                <a:lnTo>
                  <a:pt x="192" y="700"/>
                </a:lnTo>
                <a:lnTo>
                  <a:pt x="207" y="710"/>
                </a:lnTo>
                <a:lnTo>
                  <a:pt x="222" y="719"/>
                </a:lnTo>
                <a:lnTo>
                  <a:pt x="238" y="727"/>
                </a:lnTo>
                <a:lnTo>
                  <a:pt x="255" y="735"/>
                </a:lnTo>
                <a:lnTo>
                  <a:pt x="271" y="741"/>
                </a:lnTo>
                <a:lnTo>
                  <a:pt x="288" y="747"/>
                </a:lnTo>
                <a:lnTo>
                  <a:pt x="305" y="752"/>
                </a:lnTo>
                <a:lnTo>
                  <a:pt x="323" y="755"/>
                </a:lnTo>
                <a:lnTo>
                  <a:pt x="341" y="758"/>
                </a:lnTo>
                <a:lnTo>
                  <a:pt x="359" y="761"/>
                </a:lnTo>
                <a:lnTo>
                  <a:pt x="378" y="762"/>
                </a:lnTo>
                <a:lnTo>
                  <a:pt x="397" y="763"/>
                </a:lnTo>
                <a:lnTo>
                  <a:pt x="416" y="762"/>
                </a:lnTo>
                <a:lnTo>
                  <a:pt x="435" y="761"/>
                </a:lnTo>
                <a:lnTo>
                  <a:pt x="452" y="758"/>
                </a:lnTo>
                <a:lnTo>
                  <a:pt x="470" y="755"/>
                </a:lnTo>
                <a:lnTo>
                  <a:pt x="488" y="752"/>
                </a:lnTo>
                <a:lnTo>
                  <a:pt x="506" y="747"/>
                </a:lnTo>
                <a:lnTo>
                  <a:pt x="522" y="741"/>
                </a:lnTo>
                <a:lnTo>
                  <a:pt x="539" y="735"/>
                </a:lnTo>
                <a:lnTo>
                  <a:pt x="555" y="727"/>
                </a:lnTo>
                <a:lnTo>
                  <a:pt x="571" y="719"/>
                </a:lnTo>
                <a:lnTo>
                  <a:pt x="587" y="710"/>
                </a:lnTo>
                <a:lnTo>
                  <a:pt x="601" y="700"/>
                </a:lnTo>
                <a:lnTo>
                  <a:pt x="616" y="690"/>
                </a:lnTo>
                <a:lnTo>
                  <a:pt x="630" y="679"/>
                </a:lnTo>
                <a:lnTo>
                  <a:pt x="643" y="668"/>
                </a:lnTo>
                <a:lnTo>
                  <a:pt x="656" y="656"/>
                </a:lnTo>
                <a:lnTo>
                  <a:pt x="668" y="643"/>
                </a:lnTo>
                <a:lnTo>
                  <a:pt x="679" y="630"/>
                </a:lnTo>
                <a:lnTo>
                  <a:pt x="690" y="616"/>
                </a:lnTo>
                <a:lnTo>
                  <a:pt x="700" y="601"/>
                </a:lnTo>
                <a:lnTo>
                  <a:pt x="710" y="587"/>
                </a:lnTo>
                <a:lnTo>
                  <a:pt x="719" y="571"/>
                </a:lnTo>
                <a:lnTo>
                  <a:pt x="727" y="555"/>
                </a:lnTo>
                <a:lnTo>
                  <a:pt x="735" y="539"/>
                </a:lnTo>
                <a:lnTo>
                  <a:pt x="741" y="522"/>
                </a:lnTo>
                <a:lnTo>
                  <a:pt x="747" y="506"/>
                </a:lnTo>
                <a:lnTo>
                  <a:pt x="752" y="488"/>
                </a:lnTo>
                <a:lnTo>
                  <a:pt x="755" y="470"/>
                </a:lnTo>
                <a:lnTo>
                  <a:pt x="758" y="452"/>
                </a:lnTo>
                <a:lnTo>
                  <a:pt x="761" y="435"/>
                </a:lnTo>
                <a:lnTo>
                  <a:pt x="762" y="416"/>
                </a:lnTo>
                <a:lnTo>
                  <a:pt x="763" y="397"/>
                </a:lnTo>
                <a:lnTo>
                  <a:pt x="794" y="397"/>
                </a:lnTo>
              </a:path>
            </a:pathLst>
          </a:custGeom>
          <a:solidFill>
            <a:srgbClr val="ab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983040" y="4822920"/>
            <a:ext cx="1163520" cy="1163520"/>
          </a:xfrm>
          <a:custGeom>
            <a:avLst/>
            <a:gdLst/>
            <a:ahLst/>
            <a:rect l="l" t="t" r="r" b="b"/>
            <a:pathLst>
              <a:path w="733" h="733">
                <a:moveTo>
                  <a:pt x="732" y="366"/>
                </a:moveTo>
                <a:lnTo>
                  <a:pt x="731" y="347"/>
                </a:lnTo>
                <a:lnTo>
                  <a:pt x="730" y="329"/>
                </a:lnTo>
                <a:lnTo>
                  <a:pt x="727" y="310"/>
                </a:lnTo>
                <a:lnTo>
                  <a:pt x="724" y="292"/>
                </a:lnTo>
                <a:lnTo>
                  <a:pt x="720" y="274"/>
                </a:lnTo>
                <a:lnTo>
                  <a:pt x="715" y="257"/>
                </a:lnTo>
                <a:lnTo>
                  <a:pt x="709" y="240"/>
                </a:lnTo>
                <a:lnTo>
                  <a:pt x="703" y="224"/>
                </a:lnTo>
                <a:lnTo>
                  <a:pt x="695" y="207"/>
                </a:lnTo>
                <a:lnTo>
                  <a:pt x="688" y="191"/>
                </a:lnTo>
                <a:lnTo>
                  <a:pt x="679" y="177"/>
                </a:lnTo>
                <a:lnTo>
                  <a:pt x="669" y="161"/>
                </a:lnTo>
                <a:lnTo>
                  <a:pt x="659" y="147"/>
                </a:lnTo>
                <a:lnTo>
                  <a:pt x="648" y="133"/>
                </a:lnTo>
                <a:lnTo>
                  <a:pt x="636" y="119"/>
                </a:lnTo>
                <a:lnTo>
                  <a:pt x="624" y="108"/>
                </a:lnTo>
                <a:lnTo>
                  <a:pt x="612" y="95"/>
                </a:lnTo>
                <a:lnTo>
                  <a:pt x="599" y="84"/>
                </a:lnTo>
                <a:lnTo>
                  <a:pt x="585" y="73"/>
                </a:lnTo>
                <a:lnTo>
                  <a:pt x="570" y="62"/>
                </a:lnTo>
                <a:lnTo>
                  <a:pt x="555" y="53"/>
                </a:lnTo>
                <a:lnTo>
                  <a:pt x="540" y="44"/>
                </a:lnTo>
                <a:lnTo>
                  <a:pt x="524" y="36"/>
                </a:lnTo>
                <a:lnTo>
                  <a:pt x="508" y="29"/>
                </a:lnTo>
                <a:lnTo>
                  <a:pt x="491" y="22"/>
                </a:lnTo>
                <a:lnTo>
                  <a:pt x="475" y="16"/>
                </a:lnTo>
                <a:lnTo>
                  <a:pt x="457" y="11"/>
                </a:lnTo>
                <a:lnTo>
                  <a:pt x="439" y="7"/>
                </a:lnTo>
                <a:lnTo>
                  <a:pt x="421" y="4"/>
                </a:lnTo>
                <a:lnTo>
                  <a:pt x="403" y="2"/>
                </a:lnTo>
                <a:lnTo>
                  <a:pt x="385" y="0"/>
                </a:lnTo>
                <a:lnTo>
                  <a:pt x="366" y="0"/>
                </a:lnTo>
                <a:lnTo>
                  <a:pt x="347" y="0"/>
                </a:lnTo>
                <a:lnTo>
                  <a:pt x="329" y="2"/>
                </a:lnTo>
                <a:lnTo>
                  <a:pt x="310" y="4"/>
                </a:lnTo>
                <a:lnTo>
                  <a:pt x="292" y="7"/>
                </a:lnTo>
                <a:lnTo>
                  <a:pt x="274" y="11"/>
                </a:lnTo>
                <a:lnTo>
                  <a:pt x="257" y="16"/>
                </a:lnTo>
                <a:lnTo>
                  <a:pt x="240" y="22"/>
                </a:lnTo>
                <a:lnTo>
                  <a:pt x="224" y="29"/>
                </a:lnTo>
                <a:lnTo>
                  <a:pt x="207" y="36"/>
                </a:lnTo>
                <a:lnTo>
                  <a:pt x="191" y="44"/>
                </a:lnTo>
                <a:lnTo>
                  <a:pt x="177" y="53"/>
                </a:lnTo>
                <a:lnTo>
                  <a:pt x="161" y="62"/>
                </a:lnTo>
                <a:lnTo>
                  <a:pt x="147" y="73"/>
                </a:lnTo>
                <a:lnTo>
                  <a:pt x="133" y="84"/>
                </a:lnTo>
                <a:lnTo>
                  <a:pt x="119" y="95"/>
                </a:lnTo>
                <a:lnTo>
                  <a:pt x="108" y="108"/>
                </a:lnTo>
                <a:lnTo>
                  <a:pt x="95" y="119"/>
                </a:lnTo>
                <a:lnTo>
                  <a:pt x="84" y="133"/>
                </a:lnTo>
                <a:lnTo>
                  <a:pt x="73" y="147"/>
                </a:lnTo>
                <a:lnTo>
                  <a:pt x="62" y="161"/>
                </a:lnTo>
                <a:lnTo>
                  <a:pt x="53" y="177"/>
                </a:lnTo>
                <a:lnTo>
                  <a:pt x="44" y="191"/>
                </a:lnTo>
                <a:lnTo>
                  <a:pt x="36" y="207"/>
                </a:lnTo>
                <a:lnTo>
                  <a:pt x="29" y="224"/>
                </a:lnTo>
                <a:lnTo>
                  <a:pt x="22" y="240"/>
                </a:lnTo>
                <a:lnTo>
                  <a:pt x="16" y="257"/>
                </a:lnTo>
                <a:lnTo>
                  <a:pt x="11" y="274"/>
                </a:lnTo>
                <a:lnTo>
                  <a:pt x="7" y="292"/>
                </a:lnTo>
                <a:lnTo>
                  <a:pt x="4" y="310"/>
                </a:lnTo>
                <a:lnTo>
                  <a:pt x="2" y="329"/>
                </a:lnTo>
                <a:lnTo>
                  <a:pt x="0" y="347"/>
                </a:lnTo>
                <a:lnTo>
                  <a:pt x="0" y="366"/>
                </a:lnTo>
                <a:lnTo>
                  <a:pt x="0" y="385"/>
                </a:lnTo>
                <a:lnTo>
                  <a:pt x="2" y="403"/>
                </a:lnTo>
                <a:lnTo>
                  <a:pt x="4" y="421"/>
                </a:lnTo>
                <a:lnTo>
                  <a:pt x="7" y="439"/>
                </a:lnTo>
                <a:lnTo>
                  <a:pt x="11" y="457"/>
                </a:lnTo>
                <a:lnTo>
                  <a:pt x="16" y="475"/>
                </a:lnTo>
                <a:lnTo>
                  <a:pt x="22" y="491"/>
                </a:lnTo>
                <a:lnTo>
                  <a:pt x="29" y="508"/>
                </a:lnTo>
                <a:lnTo>
                  <a:pt x="36" y="524"/>
                </a:lnTo>
                <a:lnTo>
                  <a:pt x="44" y="540"/>
                </a:lnTo>
                <a:lnTo>
                  <a:pt x="53" y="555"/>
                </a:lnTo>
                <a:lnTo>
                  <a:pt x="62" y="570"/>
                </a:lnTo>
                <a:lnTo>
                  <a:pt x="73" y="585"/>
                </a:lnTo>
                <a:lnTo>
                  <a:pt x="84" y="599"/>
                </a:lnTo>
                <a:lnTo>
                  <a:pt x="95" y="612"/>
                </a:lnTo>
                <a:lnTo>
                  <a:pt x="108" y="624"/>
                </a:lnTo>
                <a:lnTo>
                  <a:pt x="119" y="636"/>
                </a:lnTo>
                <a:lnTo>
                  <a:pt x="133" y="648"/>
                </a:lnTo>
                <a:lnTo>
                  <a:pt x="147" y="659"/>
                </a:lnTo>
                <a:lnTo>
                  <a:pt x="161" y="669"/>
                </a:lnTo>
                <a:lnTo>
                  <a:pt x="177" y="679"/>
                </a:lnTo>
                <a:lnTo>
                  <a:pt x="191" y="688"/>
                </a:lnTo>
                <a:lnTo>
                  <a:pt x="207" y="695"/>
                </a:lnTo>
                <a:lnTo>
                  <a:pt x="224" y="703"/>
                </a:lnTo>
                <a:lnTo>
                  <a:pt x="240" y="709"/>
                </a:lnTo>
                <a:lnTo>
                  <a:pt x="257" y="715"/>
                </a:lnTo>
                <a:lnTo>
                  <a:pt x="274" y="720"/>
                </a:lnTo>
                <a:lnTo>
                  <a:pt x="292" y="724"/>
                </a:lnTo>
                <a:lnTo>
                  <a:pt x="310" y="727"/>
                </a:lnTo>
                <a:lnTo>
                  <a:pt x="329" y="730"/>
                </a:lnTo>
                <a:lnTo>
                  <a:pt x="347" y="731"/>
                </a:lnTo>
                <a:lnTo>
                  <a:pt x="366" y="732"/>
                </a:lnTo>
                <a:lnTo>
                  <a:pt x="385" y="731"/>
                </a:lnTo>
                <a:lnTo>
                  <a:pt x="403" y="730"/>
                </a:lnTo>
                <a:lnTo>
                  <a:pt x="421" y="727"/>
                </a:lnTo>
                <a:lnTo>
                  <a:pt x="439" y="724"/>
                </a:lnTo>
                <a:lnTo>
                  <a:pt x="457" y="720"/>
                </a:lnTo>
                <a:lnTo>
                  <a:pt x="475" y="715"/>
                </a:lnTo>
                <a:lnTo>
                  <a:pt x="491" y="709"/>
                </a:lnTo>
                <a:lnTo>
                  <a:pt x="508" y="703"/>
                </a:lnTo>
                <a:lnTo>
                  <a:pt x="524" y="695"/>
                </a:lnTo>
                <a:lnTo>
                  <a:pt x="540" y="688"/>
                </a:lnTo>
                <a:lnTo>
                  <a:pt x="555" y="679"/>
                </a:lnTo>
                <a:lnTo>
                  <a:pt x="570" y="669"/>
                </a:lnTo>
                <a:lnTo>
                  <a:pt x="585" y="659"/>
                </a:lnTo>
                <a:lnTo>
                  <a:pt x="599" y="648"/>
                </a:lnTo>
                <a:lnTo>
                  <a:pt x="612" y="636"/>
                </a:lnTo>
                <a:lnTo>
                  <a:pt x="624" y="624"/>
                </a:lnTo>
                <a:lnTo>
                  <a:pt x="636" y="612"/>
                </a:lnTo>
                <a:lnTo>
                  <a:pt x="648" y="599"/>
                </a:lnTo>
                <a:lnTo>
                  <a:pt x="659" y="585"/>
                </a:lnTo>
                <a:lnTo>
                  <a:pt x="669" y="570"/>
                </a:lnTo>
                <a:lnTo>
                  <a:pt x="679" y="555"/>
                </a:lnTo>
                <a:lnTo>
                  <a:pt x="688" y="540"/>
                </a:lnTo>
                <a:lnTo>
                  <a:pt x="695" y="524"/>
                </a:lnTo>
                <a:lnTo>
                  <a:pt x="703" y="508"/>
                </a:lnTo>
                <a:lnTo>
                  <a:pt x="709" y="491"/>
                </a:lnTo>
                <a:lnTo>
                  <a:pt x="715" y="475"/>
                </a:lnTo>
                <a:lnTo>
                  <a:pt x="720" y="457"/>
                </a:lnTo>
                <a:lnTo>
                  <a:pt x="724" y="439"/>
                </a:lnTo>
                <a:lnTo>
                  <a:pt x="727" y="421"/>
                </a:lnTo>
                <a:lnTo>
                  <a:pt x="730" y="403"/>
                </a:lnTo>
                <a:lnTo>
                  <a:pt x="731" y="385"/>
                </a:lnTo>
                <a:lnTo>
                  <a:pt x="732" y="366"/>
                </a:lnTo>
                <a:lnTo>
                  <a:pt x="701" y="366"/>
                </a:lnTo>
                <a:lnTo>
                  <a:pt x="700" y="348"/>
                </a:lnTo>
                <a:lnTo>
                  <a:pt x="699" y="331"/>
                </a:lnTo>
                <a:lnTo>
                  <a:pt x="697" y="315"/>
                </a:lnTo>
                <a:lnTo>
                  <a:pt x="695" y="298"/>
                </a:lnTo>
                <a:lnTo>
                  <a:pt x="691" y="282"/>
                </a:lnTo>
                <a:lnTo>
                  <a:pt x="686" y="266"/>
                </a:lnTo>
                <a:lnTo>
                  <a:pt x="681" y="251"/>
                </a:lnTo>
                <a:lnTo>
                  <a:pt x="675" y="236"/>
                </a:lnTo>
                <a:lnTo>
                  <a:pt x="668" y="220"/>
                </a:lnTo>
                <a:lnTo>
                  <a:pt x="661" y="206"/>
                </a:lnTo>
                <a:lnTo>
                  <a:pt x="652" y="192"/>
                </a:lnTo>
                <a:lnTo>
                  <a:pt x="644" y="179"/>
                </a:lnTo>
                <a:lnTo>
                  <a:pt x="634" y="165"/>
                </a:lnTo>
                <a:lnTo>
                  <a:pt x="624" y="153"/>
                </a:lnTo>
                <a:lnTo>
                  <a:pt x="614" y="140"/>
                </a:lnTo>
                <a:lnTo>
                  <a:pt x="603" y="128"/>
                </a:lnTo>
                <a:lnTo>
                  <a:pt x="591" y="117"/>
                </a:lnTo>
                <a:lnTo>
                  <a:pt x="579" y="107"/>
                </a:lnTo>
                <a:lnTo>
                  <a:pt x="566" y="97"/>
                </a:lnTo>
                <a:lnTo>
                  <a:pt x="553" y="88"/>
                </a:lnTo>
                <a:lnTo>
                  <a:pt x="540" y="79"/>
                </a:lnTo>
                <a:lnTo>
                  <a:pt x="526" y="71"/>
                </a:lnTo>
                <a:lnTo>
                  <a:pt x="511" y="63"/>
                </a:lnTo>
                <a:lnTo>
                  <a:pt x="496" y="57"/>
                </a:lnTo>
                <a:lnTo>
                  <a:pt x="481" y="50"/>
                </a:lnTo>
                <a:lnTo>
                  <a:pt x="466" y="45"/>
                </a:lnTo>
                <a:lnTo>
                  <a:pt x="450" y="40"/>
                </a:lnTo>
                <a:lnTo>
                  <a:pt x="433" y="37"/>
                </a:lnTo>
                <a:lnTo>
                  <a:pt x="416" y="35"/>
                </a:lnTo>
                <a:lnTo>
                  <a:pt x="400" y="33"/>
                </a:lnTo>
                <a:lnTo>
                  <a:pt x="383" y="31"/>
                </a:lnTo>
                <a:lnTo>
                  <a:pt x="366" y="31"/>
                </a:lnTo>
                <a:lnTo>
                  <a:pt x="348" y="31"/>
                </a:lnTo>
                <a:lnTo>
                  <a:pt x="331" y="33"/>
                </a:lnTo>
                <a:lnTo>
                  <a:pt x="315" y="35"/>
                </a:lnTo>
                <a:lnTo>
                  <a:pt x="298" y="37"/>
                </a:lnTo>
                <a:lnTo>
                  <a:pt x="282" y="40"/>
                </a:lnTo>
                <a:lnTo>
                  <a:pt x="266" y="45"/>
                </a:lnTo>
                <a:lnTo>
                  <a:pt x="251" y="50"/>
                </a:lnTo>
                <a:lnTo>
                  <a:pt x="236" y="57"/>
                </a:lnTo>
                <a:lnTo>
                  <a:pt x="220" y="63"/>
                </a:lnTo>
                <a:lnTo>
                  <a:pt x="206" y="71"/>
                </a:lnTo>
                <a:lnTo>
                  <a:pt x="192" y="79"/>
                </a:lnTo>
                <a:lnTo>
                  <a:pt x="179" y="88"/>
                </a:lnTo>
                <a:lnTo>
                  <a:pt x="165" y="97"/>
                </a:lnTo>
                <a:lnTo>
                  <a:pt x="153" y="107"/>
                </a:lnTo>
                <a:lnTo>
                  <a:pt x="140" y="117"/>
                </a:lnTo>
                <a:lnTo>
                  <a:pt x="128" y="128"/>
                </a:lnTo>
                <a:lnTo>
                  <a:pt x="117" y="140"/>
                </a:lnTo>
                <a:lnTo>
                  <a:pt x="107" y="153"/>
                </a:lnTo>
                <a:lnTo>
                  <a:pt x="97" y="165"/>
                </a:lnTo>
                <a:lnTo>
                  <a:pt x="88" y="179"/>
                </a:lnTo>
                <a:lnTo>
                  <a:pt x="79" y="192"/>
                </a:lnTo>
                <a:lnTo>
                  <a:pt x="71" y="206"/>
                </a:lnTo>
                <a:lnTo>
                  <a:pt x="63" y="220"/>
                </a:lnTo>
                <a:lnTo>
                  <a:pt x="57" y="236"/>
                </a:lnTo>
                <a:lnTo>
                  <a:pt x="50" y="251"/>
                </a:lnTo>
                <a:lnTo>
                  <a:pt x="45" y="266"/>
                </a:lnTo>
                <a:lnTo>
                  <a:pt x="40" y="282"/>
                </a:lnTo>
                <a:lnTo>
                  <a:pt x="37" y="298"/>
                </a:lnTo>
                <a:lnTo>
                  <a:pt x="35" y="315"/>
                </a:lnTo>
                <a:lnTo>
                  <a:pt x="33" y="331"/>
                </a:lnTo>
                <a:lnTo>
                  <a:pt x="31" y="348"/>
                </a:lnTo>
                <a:lnTo>
                  <a:pt x="31" y="366"/>
                </a:lnTo>
                <a:lnTo>
                  <a:pt x="31" y="383"/>
                </a:lnTo>
                <a:lnTo>
                  <a:pt x="33" y="400"/>
                </a:lnTo>
                <a:lnTo>
                  <a:pt x="35" y="416"/>
                </a:lnTo>
                <a:lnTo>
                  <a:pt x="37" y="433"/>
                </a:lnTo>
                <a:lnTo>
                  <a:pt x="40" y="450"/>
                </a:lnTo>
                <a:lnTo>
                  <a:pt x="45" y="466"/>
                </a:lnTo>
                <a:lnTo>
                  <a:pt x="50" y="481"/>
                </a:lnTo>
                <a:lnTo>
                  <a:pt x="57" y="496"/>
                </a:lnTo>
                <a:lnTo>
                  <a:pt x="63" y="511"/>
                </a:lnTo>
                <a:lnTo>
                  <a:pt x="71" y="526"/>
                </a:lnTo>
                <a:lnTo>
                  <a:pt x="79" y="540"/>
                </a:lnTo>
                <a:lnTo>
                  <a:pt x="88" y="553"/>
                </a:lnTo>
                <a:lnTo>
                  <a:pt x="97" y="566"/>
                </a:lnTo>
                <a:lnTo>
                  <a:pt x="107" y="579"/>
                </a:lnTo>
                <a:lnTo>
                  <a:pt x="117" y="591"/>
                </a:lnTo>
                <a:lnTo>
                  <a:pt x="128" y="603"/>
                </a:lnTo>
                <a:lnTo>
                  <a:pt x="140" y="614"/>
                </a:lnTo>
                <a:lnTo>
                  <a:pt x="153" y="624"/>
                </a:lnTo>
                <a:lnTo>
                  <a:pt x="165" y="634"/>
                </a:lnTo>
                <a:lnTo>
                  <a:pt x="179" y="644"/>
                </a:lnTo>
                <a:lnTo>
                  <a:pt x="192" y="652"/>
                </a:lnTo>
                <a:lnTo>
                  <a:pt x="206" y="661"/>
                </a:lnTo>
                <a:lnTo>
                  <a:pt x="220" y="668"/>
                </a:lnTo>
                <a:lnTo>
                  <a:pt x="236" y="675"/>
                </a:lnTo>
                <a:lnTo>
                  <a:pt x="251" y="681"/>
                </a:lnTo>
                <a:lnTo>
                  <a:pt x="266" y="686"/>
                </a:lnTo>
                <a:lnTo>
                  <a:pt x="282" y="691"/>
                </a:lnTo>
                <a:lnTo>
                  <a:pt x="298" y="695"/>
                </a:lnTo>
                <a:lnTo>
                  <a:pt x="315" y="697"/>
                </a:lnTo>
                <a:lnTo>
                  <a:pt x="331" y="699"/>
                </a:lnTo>
                <a:lnTo>
                  <a:pt x="348" y="700"/>
                </a:lnTo>
                <a:lnTo>
                  <a:pt x="366" y="701"/>
                </a:lnTo>
                <a:lnTo>
                  <a:pt x="383" y="700"/>
                </a:lnTo>
                <a:lnTo>
                  <a:pt x="400" y="699"/>
                </a:lnTo>
                <a:lnTo>
                  <a:pt x="416" y="697"/>
                </a:lnTo>
                <a:lnTo>
                  <a:pt x="433" y="695"/>
                </a:lnTo>
                <a:lnTo>
                  <a:pt x="450" y="691"/>
                </a:lnTo>
                <a:lnTo>
                  <a:pt x="466" y="686"/>
                </a:lnTo>
                <a:lnTo>
                  <a:pt x="481" y="681"/>
                </a:lnTo>
                <a:lnTo>
                  <a:pt x="496" y="675"/>
                </a:lnTo>
                <a:lnTo>
                  <a:pt x="511" y="668"/>
                </a:lnTo>
                <a:lnTo>
                  <a:pt x="526" y="661"/>
                </a:lnTo>
                <a:lnTo>
                  <a:pt x="540" y="652"/>
                </a:lnTo>
                <a:lnTo>
                  <a:pt x="553" y="644"/>
                </a:lnTo>
                <a:lnTo>
                  <a:pt x="566" y="634"/>
                </a:lnTo>
                <a:lnTo>
                  <a:pt x="579" y="624"/>
                </a:lnTo>
                <a:lnTo>
                  <a:pt x="591" y="614"/>
                </a:lnTo>
                <a:lnTo>
                  <a:pt x="603" y="603"/>
                </a:lnTo>
                <a:lnTo>
                  <a:pt x="614" y="591"/>
                </a:lnTo>
                <a:lnTo>
                  <a:pt x="624" y="579"/>
                </a:lnTo>
                <a:lnTo>
                  <a:pt x="634" y="566"/>
                </a:lnTo>
                <a:lnTo>
                  <a:pt x="644" y="553"/>
                </a:lnTo>
                <a:lnTo>
                  <a:pt x="652" y="540"/>
                </a:lnTo>
                <a:lnTo>
                  <a:pt x="661" y="526"/>
                </a:lnTo>
                <a:lnTo>
                  <a:pt x="668" y="511"/>
                </a:lnTo>
                <a:lnTo>
                  <a:pt x="675" y="496"/>
                </a:lnTo>
                <a:lnTo>
                  <a:pt x="681" y="481"/>
                </a:lnTo>
                <a:lnTo>
                  <a:pt x="686" y="466"/>
                </a:lnTo>
                <a:lnTo>
                  <a:pt x="691" y="450"/>
                </a:lnTo>
                <a:lnTo>
                  <a:pt x="695" y="433"/>
                </a:lnTo>
                <a:lnTo>
                  <a:pt x="697" y="416"/>
                </a:lnTo>
                <a:lnTo>
                  <a:pt x="699" y="400"/>
                </a:lnTo>
                <a:lnTo>
                  <a:pt x="700" y="383"/>
                </a:lnTo>
                <a:lnTo>
                  <a:pt x="701" y="366"/>
                </a:lnTo>
                <a:lnTo>
                  <a:pt x="732" y="366"/>
                </a:lnTo>
              </a:path>
            </a:pathLst>
          </a:custGeom>
          <a:solidFill>
            <a:srgbClr val="ae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32360" y="4871880"/>
            <a:ext cx="1065240" cy="1065240"/>
          </a:xfrm>
          <a:custGeom>
            <a:avLst/>
            <a:gdLst/>
            <a:ahLst/>
            <a:rect l="l" t="t" r="r" b="b"/>
            <a:pathLst>
              <a:path w="671" h="671">
                <a:moveTo>
                  <a:pt x="670" y="335"/>
                </a:moveTo>
                <a:lnTo>
                  <a:pt x="669" y="317"/>
                </a:lnTo>
                <a:lnTo>
                  <a:pt x="668" y="301"/>
                </a:lnTo>
                <a:lnTo>
                  <a:pt x="666" y="284"/>
                </a:lnTo>
                <a:lnTo>
                  <a:pt x="663" y="267"/>
                </a:lnTo>
                <a:lnTo>
                  <a:pt x="659" y="251"/>
                </a:lnTo>
                <a:lnTo>
                  <a:pt x="654" y="235"/>
                </a:lnTo>
                <a:lnTo>
                  <a:pt x="649" y="220"/>
                </a:lnTo>
                <a:lnTo>
                  <a:pt x="643" y="205"/>
                </a:lnTo>
                <a:lnTo>
                  <a:pt x="637" y="189"/>
                </a:lnTo>
                <a:lnTo>
                  <a:pt x="630" y="175"/>
                </a:lnTo>
                <a:lnTo>
                  <a:pt x="621" y="162"/>
                </a:lnTo>
                <a:lnTo>
                  <a:pt x="613" y="148"/>
                </a:lnTo>
                <a:lnTo>
                  <a:pt x="603" y="134"/>
                </a:lnTo>
                <a:lnTo>
                  <a:pt x="593" y="122"/>
                </a:lnTo>
                <a:lnTo>
                  <a:pt x="582" y="109"/>
                </a:lnTo>
                <a:lnTo>
                  <a:pt x="571" y="98"/>
                </a:lnTo>
                <a:lnTo>
                  <a:pt x="560" y="87"/>
                </a:lnTo>
                <a:lnTo>
                  <a:pt x="548" y="76"/>
                </a:lnTo>
                <a:lnTo>
                  <a:pt x="535" y="66"/>
                </a:lnTo>
                <a:lnTo>
                  <a:pt x="522" y="57"/>
                </a:lnTo>
                <a:lnTo>
                  <a:pt x="508" y="48"/>
                </a:lnTo>
                <a:lnTo>
                  <a:pt x="495" y="40"/>
                </a:lnTo>
                <a:lnTo>
                  <a:pt x="480" y="33"/>
                </a:lnTo>
                <a:lnTo>
                  <a:pt x="465" y="27"/>
                </a:lnTo>
                <a:lnTo>
                  <a:pt x="450" y="20"/>
                </a:lnTo>
                <a:lnTo>
                  <a:pt x="435" y="15"/>
                </a:lnTo>
                <a:lnTo>
                  <a:pt x="419" y="10"/>
                </a:lnTo>
                <a:lnTo>
                  <a:pt x="402" y="7"/>
                </a:lnTo>
                <a:lnTo>
                  <a:pt x="385" y="4"/>
                </a:lnTo>
                <a:lnTo>
                  <a:pt x="369" y="2"/>
                </a:lnTo>
                <a:lnTo>
                  <a:pt x="352" y="0"/>
                </a:lnTo>
                <a:lnTo>
                  <a:pt x="335" y="0"/>
                </a:lnTo>
                <a:lnTo>
                  <a:pt x="317" y="0"/>
                </a:lnTo>
                <a:lnTo>
                  <a:pt x="301" y="2"/>
                </a:lnTo>
                <a:lnTo>
                  <a:pt x="284" y="4"/>
                </a:lnTo>
                <a:lnTo>
                  <a:pt x="267" y="7"/>
                </a:lnTo>
                <a:lnTo>
                  <a:pt x="251" y="10"/>
                </a:lnTo>
                <a:lnTo>
                  <a:pt x="235" y="15"/>
                </a:lnTo>
                <a:lnTo>
                  <a:pt x="220" y="20"/>
                </a:lnTo>
                <a:lnTo>
                  <a:pt x="205" y="27"/>
                </a:lnTo>
                <a:lnTo>
                  <a:pt x="189" y="33"/>
                </a:lnTo>
                <a:lnTo>
                  <a:pt x="175" y="40"/>
                </a:lnTo>
                <a:lnTo>
                  <a:pt x="162" y="48"/>
                </a:lnTo>
                <a:lnTo>
                  <a:pt x="148" y="57"/>
                </a:lnTo>
                <a:lnTo>
                  <a:pt x="134" y="66"/>
                </a:lnTo>
                <a:lnTo>
                  <a:pt x="122" y="76"/>
                </a:lnTo>
                <a:lnTo>
                  <a:pt x="109" y="87"/>
                </a:lnTo>
                <a:lnTo>
                  <a:pt x="98" y="98"/>
                </a:lnTo>
                <a:lnTo>
                  <a:pt x="87" y="109"/>
                </a:lnTo>
                <a:lnTo>
                  <a:pt x="76" y="122"/>
                </a:lnTo>
                <a:lnTo>
                  <a:pt x="66" y="134"/>
                </a:lnTo>
                <a:lnTo>
                  <a:pt x="57" y="148"/>
                </a:lnTo>
                <a:lnTo>
                  <a:pt x="48" y="162"/>
                </a:lnTo>
                <a:lnTo>
                  <a:pt x="40" y="175"/>
                </a:lnTo>
                <a:lnTo>
                  <a:pt x="33" y="189"/>
                </a:lnTo>
                <a:lnTo>
                  <a:pt x="27" y="205"/>
                </a:lnTo>
                <a:lnTo>
                  <a:pt x="20" y="220"/>
                </a:lnTo>
                <a:lnTo>
                  <a:pt x="15" y="235"/>
                </a:lnTo>
                <a:lnTo>
                  <a:pt x="10" y="251"/>
                </a:lnTo>
                <a:lnTo>
                  <a:pt x="7" y="267"/>
                </a:lnTo>
                <a:lnTo>
                  <a:pt x="4" y="284"/>
                </a:lnTo>
                <a:lnTo>
                  <a:pt x="2" y="301"/>
                </a:lnTo>
                <a:lnTo>
                  <a:pt x="0" y="317"/>
                </a:lnTo>
                <a:lnTo>
                  <a:pt x="0" y="335"/>
                </a:lnTo>
                <a:lnTo>
                  <a:pt x="0" y="352"/>
                </a:lnTo>
                <a:lnTo>
                  <a:pt x="2" y="369"/>
                </a:lnTo>
                <a:lnTo>
                  <a:pt x="4" y="385"/>
                </a:lnTo>
                <a:lnTo>
                  <a:pt x="7" y="402"/>
                </a:lnTo>
                <a:lnTo>
                  <a:pt x="10" y="419"/>
                </a:lnTo>
                <a:lnTo>
                  <a:pt x="15" y="435"/>
                </a:lnTo>
                <a:lnTo>
                  <a:pt x="20" y="450"/>
                </a:lnTo>
                <a:lnTo>
                  <a:pt x="27" y="465"/>
                </a:lnTo>
                <a:lnTo>
                  <a:pt x="33" y="480"/>
                </a:lnTo>
                <a:lnTo>
                  <a:pt x="40" y="495"/>
                </a:lnTo>
                <a:lnTo>
                  <a:pt x="48" y="508"/>
                </a:lnTo>
                <a:lnTo>
                  <a:pt x="57" y="522"/>
                </a:lnTo>
                <a:lnTo>
                  <a:pt x="66" y="535"/>
                </a:lnTo>
                <a:lnTo>
                  <a:pt x="76" y="548"/>
                </a:lnTo>
                <a:lnTo>
                  <a:pt x="87" y="560"/>
                </a:lnTo>
                <a:lnTo>
                  <a:pt x="98" y="571"/>
                </a:lnTo>
                <a:lnTo>
                  <a:pt x="109" y="582"/>
                </a:lnTo>
                <a:lnTo>
                  <a:pt x="122" y="593"/>
                </a:lnTo>
                <a:lnTo>
                  <a:pt x="134" y="603"/>
                </a:lnTo>
                <a:lnTo>
                  <a:pt x="148" y="613"/>
                </a:lnTo>
                <a:lnTo>
                  <a:pt x="162" y="621"/>
                </a:lnTo>
                <a:lnTo>
                  <a:pt x="175" y="630"/>
                </a:lnTo>
                <a:lnTo>
                  <a:pt x="189" y="637"/>
                </a:lnTo>
                <a:lnTo>
                  <a:pt x="205" y="643"/>
                </a:lnTo>
                <a:lnTo>
                  <a:pt x="220" y="649"/>
                </a:lnTo>
                <a:lnTo>
                  <a:pt x="235" y="654"/>
                </a:lnTo>
                <a:lnTo>
                  <a:pt x="251" y="659"/>
                </a:lnTo>
                <a:lnTo>
                  <a:pt x="267" y="663"/>
                </a:lnTo>
                <a:lnTo>
                  <a:pt x="284" y="666"/>
                </a:lnTo>
                <a:lnTo>
                  <a:pt x="301" y="668"/>
                </a:lnTo>
                <a:lnTo>
                  <a:pt x="317" y="669"/>
                </a:lnTo>
                <a:lnTo>
                  <a:pt x="335" y="670"/>
                </a:lnTo>
                <a:lnTo>
                  <a:pt x="352" y="669"/>
                </a:lnTo>
                <a:lnTo>
                  <a:pt x="369" y="668"/>
                </a:lnTo>
                <a:lnTo>
                  <a:pt x="385" y="666"/>
                </a:lnTo>
                <a:lnTo>
                  <a:pt x="402" y="663"/>
                </a:lnTo>
                <a:lnTo>
                  <a:pt x="419" y="659"/>
                </a:lnTo>
                <a:lnTo>
                  <a:pt x="435" y="654"/>
                </a:lnTo>
                <a:lnTo>
                  <a:pt x="450" y="649"/>
                </a:lnTo>
                <a:lnTo>
                  <a:pt x="465" y="643"/>
                </a:lnTo>
                <a:lnTo>
                  <a:pt x="480" y="637"/>
                </a:lnTo>
                <a:lnTo>
                  <a:pt x="495" y="630"/>
                </a:lnTo>
                <a:lnTo>
                  <a:pt x="508" y="621"/>
                </a:lnTo>
                <a:lnTo>
                  <a:pt x="522" y="613"/>
                </a:lnTo>
                <a:lnTo>
                  <a:pt x="535" y="603"/>
                </a:lnTo>
                <a:lnTo>
                  <a:pt x="548" y="593"/>
                </a:lnTo>
                <a:lnTo>
                  <a:pt x="560" y="582"/>
                </a:lnTo>
                <a:lnTo>
                  <a:pt x="571" y="571"/>
                </a:lnTo>
                <a:lnTo>
                  <a:pt x="582" y="560"/>
                </a:lnTo>
                <a:lnTo>
                  <a:pt x="593" y="548"/>
                </a:lnTo>
                <a:lnTo>
                  <a:pt x="603" y="535"/>
                </a:lnTo>
                <a:lnTo>
                  <a:pt x="613" y="522"/>
                </a:lnTo>
                <a:lnTo>
                  <a:pt x="621" y="508"/>
                </a:lnTo>
                <a:lnTo>
                  <a:pt x="630" y="495"/>
                </a:lnTo>
                <a:lnTo>
                  <a:pt x="637" y="480"/>
                </a:lnTo>
                <a:lnTo>
                  <a:pt x="643" y="465"/>
                </a:lnTo>
                <a:lnTo>
                  <a:pt x="649" y="450"/>
                </a:lnTo>
                <a:lnTo>
                  <a:pt x="654" y="435"/>
                </a:lnTo>
                <a:lnTo>
                  <a:pt x="659" y="419"/>
                </a:lnTo>
                <a:lnTo>
                  <a:pt x="663" y="402"/>
                </a:lnTo>
                <a:lnTo>
                  <a:pt x="666" y="385"/>
                </a:lnTo>
                <a:lnTo>
                  <a:pt x="668" y="369"/>
                </a:lnTo>
                <a:lnTo>
                  <a:pt x="669" y="352"/>
                </a:lnTo>
                <a:lnTo>
                  <a:pt x="670" y="335"/>
                </a:lnTo>
                <a:lnTo>
                  <a:pt x="639" y="335"/>
                </a:lnTo>
                <a:lnTo>
                  <a:pt x="637" y="303"/>
                </a:lnTo>
                <a:lnTo>
                  <a:pt x="633" y="274"/>
                </a:lnTo>
                <a:lnTo>
                  <a:pt x="626" y="244"/>
                </a:lnTo>
                <a:lnTo>
                  <a:pt x="615" y="217"/>
                </a:lnTo>
                <a:lnTo>
                  <a:pt x="602" y="190"/>
                </a:lnTo>
                <a:lnTo>
                  <a:pt x="587" y="165"/>
                </a:lnTo>
                <a:lnTo>
                  <a:pt x="570" y="141"/>
                </a:lnTo>
                <a:lnTo>
                  <a:pt x="550" y="119"/>
                </a:lnTo>
                <a:lnTo>
                  <a:pt x="528" y="100"/>
                </a:lnTo>
                <a:lnTo>
                  <a:pt x="504" y="83"/>
                </a:lnTo>
                <a:lnTo>
                  <a:pt x="480" y="67"/>
                </a:lnTo>
                <a:lnTo>
                  <a:pt x="453" y="54"/>
                </a:lnTo>
                <a:lnTo>
                  <a:pt x="426" y="44"/>
                </a:lnTo>
                <a:lnTo>
                  <a:pt x="396" y="36"/>
                </a:lnTo>
                <a:lnTo>
                  <a:pt x="366" y="32"/>
                </a:lnTo>
                <a:lnTo>
                  <a:pt x="335" y="31"/>
                </a:lnTo>
                <a:lnTo>
                  <a:pt x="303" y="32"/>
                </a:lnTo>
                <a:lnTo>
                  <a:pt x="274" y="36"/>
                </a:lnTo>
                <a:lnTo>
                  <a:pt x="244" y="44"/>
                </a:lnTo>
                <a:lnTo>
                  <a:pt x="217" y="54"/>
                </a:lnTo>
                <a:lnTo>
                  <a:pt x="190" y="67"/>
                </a:lnTo>
                <a:lnTo>
                  <a:pt x="165" y="83"/>
                </a:lnTo>
                <a:lnTo>
                  <a:pt x="141" y="100"/>
                </a:lnTo>
                <a:lnTo>
                  <a:pt x="119" y="119"/>
                </a:lnTo>
                <a:lnTo>
                  <a:pt x="100" y="141"/>
                </a:lnTo>
                <a:lnTo>
                  <a:pt x="83" y="165"/>
                </a:lnTo>
                <a:lnTo>
                  <a:pt x="67" y="190"/>
                </a:lnTo>
                <a:lnTo>
                  <a:pt x="54" y="217"/>
                </a:lnTo>
                <a:lnTo>
                  <a:pt x="44" y="244"/>
                </a:lnTo>
                <a:lnTo>
                  <a:pt x="36" y="274"/>
                </a:lnTo>
                <a:lnTo>
                  <a:pt x="32" y="303"/>
                </a:lnTo>
                <a:lnTo>
                  <a:pt x="31" y="335"/>
                </a:lnTo>
                <a:lnTo>
                  <a:pt x="32" y="366"/>
                </a:lnTo>
                <a:lnTo>
                  <a:pt x="36" y="396"/>
                </a:lnTo>
                <a:lnTo>
                  <a:pt x="44" y="426"/>
                </a:lnTo>
                <a:lnTo>
                  <a:pt x="54" y="453"/>
                </a:lnTo>
                <a:lnTo>
                  <a:pt x="67" y="480"/>
                </a:lnTo>
                <a:lnTo>
                  <a:pt x="83" y="504"/>
                </a:lnTo>
                <a:lnTo>
                  <a:pt x="100" y="528"/>
                </a:lnTo>
                <a:lnTo>
                  <a:pt x="119" y="550"/>
                </a:lnTo>
                <a:lnTo>
                  <a:pt x="141" y="570"/>
                </a:lnTo>
                <a:lnTo>
                  <a:pt x="165" y="587"/>
                </a:lnTo>
                <a:lnTo>
                  <a:pt x="190" y="602"/>
                </a:lnTo>
                <a:lnTo>
                  <a:pt x="217" y="615"/>
                </a:lnTo>
                <a:lnTo>
                  <a:pt x="244" y="626"/>
                </a:lnTo>
                <a:lnTo>
                  <a:pt x="274" y="633"/>
                </a:lnTo>
                <a:lnTo>
                  <a:pt x="303" y="637"/>
                </a:lnTo>
                <a:lnTo>
                  <a:pt x="335" y="639"/>
                </a:lnTo>
                <a:lnTo>
                  <a:pt x="366" y="637"/>
                </a:lnTo>
                <a:lnTo>
                  <a:pt x="396" y="633"/>
                </a:lnTo>
                <a:lnTo>
                  <a:pt x="426" y="626"/>
                </a:lnTo>
                <a:lnTo>
                  <a:pt x="453" y="615"/>
                </a:lnTo>
                <a:lnTo>
                  <a:pt x="480" y="602"/>
                </a:lnTo>
                <a:lnTo>
                  <a:pt x="504" y="587"/>
                </a:lnTo>
                <a:lnTo>
                  <a:pt x="528" y="570"/>
                </a:lnTo>
                <a:lnTo>
                  <a:pt x="550" y="550"/>
                </a:lnTo>
                <a:lnTo>
                  <a:pt x="570" y="528"/>
                </a:lnTo>
                <a:lnTo>
                  <a:pt x="587" y="504"/>
                </a:lnTo>
                <a:lnTo>
                  <a:pt x="602" y="480"/>
                </a:lnTo>
                <a:lnTo>
                  <a:pt x="615" y="453"/>
                </a:lnTo>
                <a:lnTo>
                  <a:pt x="626" y="426"/>
                </a:lnTo>
                <a:lnTo>
                  <a:pt x="633" y="396"/>
                </a:lnTo>
                <a:lnTo>
                  <a:pt x="637" y="366"/>
                </a:lnTo>
                <a:lnTo>
                  <a:pt x="639" y="335"/>
                </a:lnTo>
                <a:lnTo>
                  <a:pt x="670" y="335"/>
                </a:lnTo>
              </a:path>
            </a:pathLst>
          </a:custGeom>
          <a:solidFill>
            <a:srgbClr val="b1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081320" y="4921200"/>
            <a:ext cx="966960" cy="966960"/>
          </a:xfrm>
          <a:custGeom>
            <a:avLst/>
            <a:gdLst/>
            <a:ahLst/>
            <a:rect l="l" t="t" r="r" b="b"/>
            <a:pathLst>
              <a:path w="609" h="609">
                <a:moveTo>
                  <a:pt x="608" y="304"/>
                </a:moveTo>
                <a:lnTo>
                  <a:pt x="606" y="273"/>
                </a:lnTo>
                <a:lnTo>
                  <a:pt x="601" y="243"/>
                </a:lnTo>
                <a:lnTo>
                  <a:pt x="594" y="213"/>
                </a:lnTo>
                <a:lnTo>
                  <a:pt x="583" y="186"/>
                </a:lnTo>
                <a:lnTo>
                  <a:pt x="571" y="159"/>
                </a:lnTo>
                <a:lnTo>
                  <a:pt x="556" y="134"/>
                </a:lnTo>
                <a:lnTo>
                  <a:pt x="538" y="110"/>
                </a:lnTo>
                <a:lnTo>
                  <a:pt x="518" y="89"/>
                </a:lnTo>
                <a:lnTo>
                  <a:pt x="497" y="69"/>
                </a:lnTo>
                <a:lnTo>
                  <a:pt x="473" y="52"/>
                </a:lnTo>
                <a:lnTo>
                  <a:pt x="449" y="36"/>
                </a:lnTo>
                <a:lnTo>
                  <a:pt x="422" y="24"/>
                </a:lnTo>
                <a:lnTo>
                  <a:pt x="395" y="14"/>
                </a:lnTo>
                <a:lnTo>
                  <a:pt x="365" y="6"/>
                </a:lnTo>
                <a:lnTo>
                  <a:pt x="334" y="1"/>
                </a:lnTo>
                <a:lnTo>
                  <a:pt x="304" y="0"/>
                </a:lnTo>
                <a:lnTo>
                  <a:pt x="273" y="1"/>
                </a:lnTo>
                <a:lnTo>
                  <a:pt x="243" y="6"/>
                </a:lnTo>
                <a:lnTo>
                  <a:pt x="213" y="14"/>
                </a:lnTo>
                <a:lnTo>
                  <a:pt x="186" y="24"/>
                </a:lnTo>
                <a:lnTo>
                  <a:pt x="159" y="36"/>
                </a:lnTo>
                <a:lnTo>
                  <a:pt x="134" y="52"/>
                </a:lnTo>
                <a:lnTo>
                  <a:pt x="110" y="69"/>
                </a:lnTo>
                <a:lnTo>
                  <a:pt x="89" y="89"/>
                </a:lnTo>
                <a:lnTo>
                  <a:pt x="69" y="110"/>
                </a:lnTo>
                <a:lnTo>
                  <a:pt x="52" y="134"/>
                </a:lnTo>
                <a:lnTo>
                  <a:pt x="36" y="159"/>
                </a:lnTo>
                <a:lnTo>
                  <a:pt x="24" y="186"/>
                </a:lnTo>
                <a:lnTo>
                  <a:pt x="14" y="213"/>
                </a:lnTo>
                <a:lnTo>
                  <a:pt x="6" y="243"/>
                </a:lnTo>
                <a:lnTo>
                  <a:pt x="1" y="273"/>
                </a:lnTo>
                <a:lnTo>
                  <a:pt x="0" y="304"/>
                </a:lnTo>
                <a:lnTo>
                  <a:pt x="1" y="334"/>
                </a:lnTo>
                <a:lnTo>
                  <a:pt x="6" y="365"/>
                </a:lnTo>
                <a:lnTo>
                  <a:pt x="14" y="395"/>
                </a:lnTo>
                <a:lnTo>
                  <a:pt x="24" y="422"/>
                </a:lnTo>
                <a:lnTo>
                  <a:pt x="36" y="449"/>
                </a:lnTo>
                <a:lnTo>
                  <a:pt x="52" y="473"/>
                </a:lnTo>
                <a:lnTo>
                  <a:pt x="69" y="497"/>
                </a:lnTo>
                <a:lnTo>
                  <a:pt x="89" y="518"/>
                </a:lnTo>
                <a:lnTo>
                  <a:pt x="110" y="538"/>
                </a:lnTo>
                <a:lnTo>
                  <a:pt x="134" y="556"/>
                </a:lnTo>
                <a:lnTo>
                  <a:pt x="159" y="571"/>
                </a:lnTo>
                <a:lnTo>
                  <a:pt x="186" y="583"/>
                </a:lnTo>
                <a:lnTo>
                  <a:pt x="213" y="594"/>
                </a:lnTo>
                <a:lnTo>
                  <a:pt x="243" y="601"/>
                </a:lnTo>
                <a:lnTo>
                  <a:pt x="273" y="606"/>
                </a:lnTo>
                <a:lnTo>
                  <a:pt x="304" y="608"/>
                </a:lnTo>
                <a:lnTo>
                  <a:pt x="334" y="606"/>
                </a:lnTo>
                <a:lnTo>
                  <a:pt x="365" y="601"/>
                </a:lnTo>
                <a:lnTo>
                  <a:pt x="395" y="594"/>
                </a:lnTo>
                <a:lnTo>
                  <a:pt x="422" y="583"/>
                </a:lnTo>
                <a:lnTo>
                  <a:pt x="449" y="571"/>
                </a:lnTo>
                <a:lnTo>
                  <a:pt x="473" y="556"/>
                </a:lnTo>
                <a:lnTo>
                  <a:pt x="497" y="538"/>
                </a:lnTo>
                <a:lnTo>
                  <a:pt x="518" y="518"/>
                </a:lnTo>
                <a:lnTo>
                  <a:pt x="538" y="497"/>
                </a:lnTo>
                <a:lnTo>
                  <a:pt x="556" y="473"/>
                </a:lnTo>
                <a:lnTo>
                  <a:pt x="571" y="449"/>
                </a:lnTo>
                <a:lnTo>
                  <a:pt x="583" y="422"/>
                </a:lnTo>
                <a:lnTo>
                  <a:pt x="594" y="395"/>
                </a:lnTo>
                <a:lnTo>
                  <a:pt x="601" y="365"/>
                </a:lnTo>
                <a:lnTo>
                  <a:pt x="606" y="334"/>
                </a:lnTo>
                <a:lnTo>
                  <a:pt x="608" y="304"/>
                </a:lnTo>
                <a:lnTo>
                  <a:pt x="578" y="304"/>
                </a:lnTo>
                <a:lnTo>
                  <a:pt x="576" y="275"/>
                </a:lnTo>
                <a:lnTo>
                  <a:pt x="572" y="249"/>
                </a:lnTo>
                <a:lnTo>
                  <a:pt x="565" y="222"/>
                </a:lnTo>
                <a:lnTo>
                  <a:pt x="556" y="198"/>
                </a:lnTo>
                <a:lnTo>
                  <a:pt x="544" y="173"/>
                </a:lnTo>
                <a:lnTo>
                  <a:pt x="530" y="151"/>
                </a:lnTo>
                <a:lnTo>
                  <a:pt x="515" y="130"/>
                </a:lnTo>
                <a:lnTo>
                  <a:pt x="497" y="110"/>
                </a:lnTo>
                <a:lnTo>
                  <a:pt x="478" y="92"/>
                </a:lnTo>
                <a:lnTo>
                  <a:pt x="456" y="77"/>
                </a:lnTo>
                <a:lnTo>
                  <a:pt x="434" y="63"/>
                </a:lnTo>
                <a:lnTo>
                  <a:pt x="410" y="52"/>
                </a:lnTo>
                <a:lnTo>
                  <a:pt x="385" y="42"/>
                </a:lnTo>
                <a:lnTo>
                  <a:pt x="359" y="35"/>
                </a:lnTo>
                <a:lnTo>
                  <a:pt x="332" y="31"/>
                </a:lnTo>
                <a:lnTo>
                  <a:pt x="304" y="30"/>
                </a:lnTo>
                <a:lnTo>
                  <a:pt x="275" y="31"/>
                </a:lnTo>
                <a:lnTo>
                  <a:pt x="249" y="35"/>
                </a:lnTo>
                <a:lnTo>
                  <a:pt x="222" y="42"/>
                </a:lnTo>
                <a:lnTo>
                  <a:pt x="198" y="52"/>
                </a:lnTo>
                <a:lnTo>
                  <a:pt x="173" y="63"/>
                </a:lnTo>
                <a:lnTo>
                  <a:pt x="151" y="77"/>
                </a:lnTo>
                <a:lnTo>
                  <a:pt x="130" y="92"/>
                </a:lnTo>
                <a:lnTo>
                  <a:pt x="110" y="110"/>
                </a:lnTo>
                <a:lnTo>
                  <a:pt x="92" y="130"/>
                </a:lnTo>
                <a:lnTo>
                  <a:pt x="77" y="151"/>
                </a:lnTo>
                <a:lnTo>
                  <a:pt x="63" y="173"/>
                </a:lnTo>
                <a:lnTo>
                  <a:pt x="52" y="198"/>
                </a:lnTo>
                <a:lnTo>
                  <a:pt x="42" y="222"/>
                </a:lnTo>
                <a:lnTo>
                  <a:pt x="35" y="249"/>
                </a:lnTo>
                <a:lnTo>
                  <a:pt x="31" y="275"/>
                </a:lnTo>
                <a:lnTo>
                  <a:pt x="30" y="304"/>
                </a:lnTo>
                <a:lnTo>
                  <a:pt x="31" y="332"/>
                </a:lnTo>
                <a:lnTo>
                  <a:pt x="35" y="359"/>
                </a:lnTo>
                <a:lnTo>
                  <a:pt x="42" y="385"/>
                </a:lnTo>
                <a:lnTo>
                  <a:pt x="52" y="410"/>
                </a:lnTo>
                <a:lnTo>
                  <a:pt x="63" y="434"/>
                </a:lnTo>
                <a:lnTo>
                  <a:pt x="77" y="456"/>
                </a:lnTo>
                <a:lnTo>
                  <a:pt x="92" y="478"/>
                </a:lnTo>
                <a:lnTo>
                  <a:pt x="110" y="497"/>
                </a:lnTo>
                <a:lnTo>
                  <a:pt x="130" y="515"/>
                </a:lnTo>
                <a:lnTo>
                  <a:pt x="151" y="530"/>
                </a:lnTo>
                <a:lnTo>
                  <a:pt x="173" y="544"/>
                </a:lnTo>
                <a:lnTo>
                  <a:pt x="198" y="556"/>
                </a:lnTo>
                <a:lnTo>
                  <a:pt x="222" y="565"/>
                </a:lnTo>
                <a:lnTo>
                  <a:pt x="249" y="572"/>
                </a:lnTo>
                <a:lnTo>
                  <a:pt x="275" y="576"/>
                </a:lnTo>
                <a:lnTo>
                  <a:pt x="304" y="578"/>
                </a:lnTo>
                <a:lnTo>
                  <a:pt x="332" y="576"/>
                </a:lnTo>
                <a:lnTo>
                  <a:pt x="359" y="572"/>
                </a:lnTo>
                <a:lnTo>
                  <a:pt x="385" y="565"/>
                </a:lnTo>
                <a:lnTo>
                  <a:pt x="410" y="556"/>
                </a:lnTo>
                <a:lnTo>
                  <a:pt x="434" y="544"/>
                </a:lnTo>
                <a:lnTo>
                  <a:pt x="456" y="530"/>
                </a:lnTo>
                <a:lnTo>
                  <a:pt x="478" y="515"/>
                </a:lnTo>
                <a:lnTo>
                  <a:pt x="497" y="497"/>
                </a:lnTo>
                <a:lnTo>
                  <a:pt x="515" y="478"/>
                </a:lnTo>
                <a:lnTo>
                  <a:pt x="530" y="456"/>
                </a:lnTo>
                <a:lnTo>
                  <a:pt x="544" y="434"/>
                </a:lnTo>
                <a:lnTo>
                  <a:pt x="556" y="410"/>
                </a:lnTo>
                <a:lnTo>
                  <a:pt x="565" y="385"/>
                </a:lnTo>
                <a:lnTo>
                  <a:pt x="572" y="359"/>
                </a:lnTo>
                <a:lnTo>
                  <a:pt x="576" y="332"/>
                </a:lnTo>
                <a:lnTo>
                  <a:pt x="578" y="304"/>
                </a:lnTo>
                <a:lnTo>
                  <a:pt x="608" y="304"/>
                </a:lnTo>
              </a:path>
            </a:pathLst>
          </a:custGeom>
          <a:solidFill>
            <a:srgbClr val="b3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30640" y="4970520"/>
            <a:ext cx="868320" cy="868320"/>
          </a:xfrm>
          <a:custGeom>
            <a:avLst/>
            <a:gdLst/>
            <a:ahLst/>
            <a:rect l="l" t="t" r="r" b="b"/>
            <a:pathLst>
              <a:path w="547" h="547">
                <a:moveTo>
                  <a:pt x="546" y="273"/>
                </a:moveTo>
                <a:lnTo>
                  <a:pt x="544" y="245"/>
                </a:lnTo>
                <a:lnTo>
                  <a:pt x="540" y="218"/>
                </a:lnTo>
                <a:lnTo>
                  <a:pt x="533" y="191"/>
                </a:lnTo>
                <a:lnTo>
                  <a:pt x="524" y="167"/>
                </a:lnTo>
                <a:lnTo>
                  <a:pt x="513" y="142"/>
                </a:lnTo>
                <a:lnTo>
                  <a:pt x="499" y="120"/>
                </a:lnTo>
                <a:lnTo>
                  <a:pt x="483" y="99"/>
                </a:lnTo>
                <a:lnTo>
                  <a:pt x="465" y="80"/>
                </a:lnTo>
                <a:lnTo>
                  <a:pt x="447" y="62"/>
                </a:lnTo>
                <a:lnTo>
                  <a:pt x="425" y="46"/>
                </a:lnTo>
                <a:lnTo>
                  <a:pt x="403" y="32"/>
                </a:lnTo>
                <a:lnTo>
                  <a:pt x="379" y="22"/>
                </a:lnTo>
                <a:lnTo>
                  <a:pt x="354" y="12"/>
                </a:lnTo>
                <a:lnTo>
                  <a:pt x="328" y="5"/>
                </a:lnTo>
                <a:lnTo>
                  <a:pt x="300" y="1"/>
                </a:lnTo>
                <a:lnTo>
                  <a:pt x="273" y="0"/>
                </a:lnTo>
                <a:lnTo>
                  <a:pt x="245" y="1"/>
                </a:lnTo>
                <a:lnTo>
                  <a:pt x="218" y="5"/>
                </a:lnTo>
                <a:lnTo>
                  <a:pt x="191" y="12"/>
                </a:lnTo>
                <a:lnTo>
                  <a:pt x="167" y="22"/>
                </a:lnTo>
                <a:lnTo>
                  <a:pt x="142" y="32"/>
                </a:lnTo>
                <a:lnTo>
                  <a:pt x="120" y="46"/>
                </a:lnTo>
                <a:lnTo>
                  <a:pt x="99" y="62"/>
                </a:lnTo>
                <a:lnTo>
                  <a:pt x="80" y="80"/>
                </a:lnTo>
                <a:lnTo>
                  <a:pt x="62" y="99"/>
                </a:lnTo>
                <a:lnTo>
                  <a:pt x="46" y="120"/>
                </a:lnTo>
                <a:lnTo>
                  <a:pt x="32" y="142"/>
                </a:lnTo>
                <a:lnTo>
                  <a:pt x="22" y="167"/>
                </a:lnTo>
                <a:lnTo>
                  <a:pt x="12" y="191"/>
                </a:lnTo>
                <a:lnTo>
                  <a:pt x="5" y="218"/>
                </a:lnTo>
                <a:lnTo>
                  <a:pt x="1" y="245"/>
                </a:lnTo>
                <a:lnTo>
                  <a:pt x="0" y="273"/>
                </a:lnTo>
                <a:lnTo>
                  <a:pt x="1" y="300"/>
                </a:lnTo>
                <a:lnTo>
                  <a:pt x="5" y="328"/>
                </a:lnTo>
                <a:lnTo>
                  <a:pt x="12" y="354"/>
                </a:lnTo>
                <a:lnTo>
                  <a:pt x="22" y="379"/>
                </a:lnTo>
                <a:lnTo>
                  <a:pt x="32" y="403"/>
                </a:lnTo>
                <a:lnTo>
                  <a:pt x="46" y="425"/>
                </a:lnTo>
                <a:lnTo>
                  <a:pt x="62" y="447"/>
                </a:lnTo>
                <a:lnTo>
                  <a:pt x="80" y="465"/>
                </a:lnTo>
                <a:lnTo>
                  <a:pt x="99" y="483"/>
                </a:lnTo>
                <a:lnTo>
                  <a:pt x="120" y="499"/>
                </a:lnTo>
                <a:lnTo>
                  <a:pt x="142" y="513"/>
                </a:lnTo>
                <a:lnTo>
                  <a:pt x="167" y="524"/>
                </a:lnTo>
                <a:lnTo>
                  <a:pt x="191" y="533"/>
                </a:lnTo>
                <a:lnTo>
                  <a:pt x="218" y="540"/>
                </a:lnTo>
                <a:lnTo>
                  <a:pt x="245" y="544"/>
                </a:lnTo>
                <a:lnTo>
                  <a:pt x="273" y="546"/>
                </a:lnTo>
                <a:lnTo>
                  <a:pt x="300" y="544"/>
                </a:lnTo>
                <a:lnTo>
                  <a:pt x="328" y="540"/>
                </a:lnTo>
                <a:lnTo>
                  <a:pt x="354" y="533"/>
                </a:lnTo>
                <a:lnTo>
                  <a:pt x="379" y="524"/>
                </a:lnTo>
                <a:lnTo>
                  <a:pt x="403" y="513"/>
                </a:lnTo>
                <a:lnTo>
                  <a:pt x="425" y="499"/>
                </a:lnTo>
                <a:lnTo>
                  <a:pt x="447" y="483"/>
                </a:lnTo>
                <a:lnTo>
                  <a:pt x="465" y="465"/>
                </a:lnTo>
                <a:lnTo>
                  <a:pt x="483" y="447"/>
                </a:lnTo>
                <a:lnTo>
                  <a:pt x="499" y="425"/>
                </a:lnTo>
                <a:lnTo>
                  <a:pt x="513" y="403"/>
                </a:lnTo>
                <a:lnTo>
                  <a:pt x="524" y="379"/>
                </a:lnTo>
                <a:lnTo>
                  <a:pt x="533" y="354"/>
                </a:lnTo>
                <a:lnTo>
                  <a:pt x="540" y="328"/>
                </a:lnTo>
                <a:lnTo>
                  <a:pt x="544" y="300"/>
                </a:lnTo>
                <a:lnTo>
                  <a:pt x="546" y="273"/>
                </a:lnTo>
                <a:lnTo>
                  <a:pt x="516" y="273"/>
                </a:lnTo>
                <a:lnTo>
                  <a:pt x="514" y="248"/>
                </a:lnTo>
                <a:lnTo>
                  <a:pt x="511" y="224"/>
                </a:lnTo>
                <a:lnTo>
                  <a:pt x="505" y="200"/>
                </a:lnTo>
                <a:lnTo>
                  <a:pt x="496" y="179"/>
                </a:lnTo>
                <a:lnTo>
                  <a:pt x="486" y="157"/>
                </a:lnTo>
                <a:lnTo>
                  <a:pt x="473" y="137"/>
                </a:lnTo>
                <a:lnTo>
                  <a:pt x="460" y="119"/>
                </a:lnTo>
                <a:lnTo>
                  <a:pt x="444" y="101"/>
                </a:lnTo>
                <a:lnTo>
                  <a:pt x="427" y="85"/>
                </a:lnTo>
                <a:lnTo>
                  <a:pt x="409" y="72"/>
                </a:lnTo>
                <a:lnTo>
                  <a:pt x="388" y="60"/>
                </a:lnTo>
                <a:lnTo>
                  <a:pt x="367" y="49"/>
                </a:lnTo>
                <a:lnTo>
                  <a:pt x="345" y="41"/>
                </a:lnTo>
                <a:lnTo>
                  <a:pt x="321" y="35"/>
                </a:lnTo>
                <a:lnTo>
                  <a:pt x="298" y="31"/>
                </a:lnTo>
                <a:lnTo>
                  <a:pt x="273" y="30"/>
                </a:lnTo>
                <a:lnTo>
                  <a:pt x="248" y="31"/>
                </a:lnTo>
                <a:lnTo>
                  <a:pt x="224" y="35"/>
                </a:lnTo>
                <a:lnTo>
                  <a:pt x="200" y="41"/>
                </a:lnTo>
                <a:lnTo>
                  <a:pt x="179" y="49"/>
                </a:lnTo>
                <a:lnTo>
                  <a:pt x="157" y="60"/>
                </a:lnTo>
                <a:lnTo>
                  <a:pt x="137" y="72"/>
                </a:lnTo>
                <a:lnTo>
                  <a:pt x="119" y="85"/>
                </a:lnTo>
                <a:lnTo>
                  <a:pt x="101" y="101"/>
                </a:lnTo>
                <a:lnTo>
                  <a:pt x="85" y="119"/>
                </a:lnTo>
                <a:lnTo>
                  <a:pt x="72" y="137"/>
                </a:lnTo>
                <a:lnTo>
                  <a:pt x="60" y="157"/>
                </a:lnTo>
                <a:lnTo>
                  <a:pt x="49" y="179"/>
                </a:lnTo>
                <a:lnTo>
                  <a:pt x="41" y="200"/>
                </a:lnTo>
                <a:lnTo>
                  <a:pt x="35" y="224"/>
                </a:lnTo>
                <a:lnTo>
                  <a:pt x="31" y="248"/>
                </a:lnTo>
                <a:lnTo>
                  <a:pt x="30" y="273"/>
                </a:lnTo>
                <a:lnTo>
                  <a:pt x="31" y="298"/>
                </a:lnTo>
                <a:lnTo>
                  <a:pt x="35" y="321"/>
                </a:lnTo>
                <a:lnTo>
                  <a:pt x="41" y="345"/>
                </a:lnTo>
                <a:lnTo>
                  <a:pt x="49" y="367"/>
                </a:lnTo>
                <a:lnTo>
                  <a:pt x="60" y="388"/>
                </a:lnTo>
                <a:lnTo>
                  <a:pt x="72" y="409"/>
                </a:lnTo>
                <a:lnTo>
                  <a:pt x="85" y="427"/>
                </a:lnTo>
                <a:lnTo>
                  <a:pt x="101" y="444"/>
                </a:lnTo>
                <a:lnTo>
                  <a:pt x="119" y="460"/>
                </a:lnTo>
                <a:lnTo>
                  <a:pt x="137" y="473"/>
                </a:lnTo>
                <a:lnTo>
                  <a:pt x="157" y="486"/>
                </a:lnTo>
                <a:lnTo>
                  <a:pt x="179" y="496"/>
                </a:lnTo>
                <a:lnTo>
                  <a:pt x="200" y="505"/>
                </a:lnTo>
                <a:lnTo>
                  <a:pt x="224" y="511"/>
                </a:lnTo>
                <a:lnTo>
                  <a:pt x="248" y="514"/>
                </a:lnTo>
                <a:lnTo>
                  <a:pt x="273" y="516"/>
                </a:lnTo>
                <a:lnTo>
                  <a:pt x="298" y="514"/>
                </a:lnTo>
                <a:lnTo>
                  <a:pt x="321" y="511"/>
                </a:lnTo>
                <a:lnTo>
                  <a:pt x="345" y="505"/>
                </a:lnTo>
                <a:lnTo>
                  <a:pt x="367" y="496"/>
                </a:lnTo>
                <a:lnTo>
                  <a:pt x="388" y="486"/>
                </a:lnTo>
                <a:lnTo>
                  <a:pt x="409" y="473"/>
                </a:lnTo>
                <a:lnTo>
                  <a:pt x="427" y="460"/>
                </a:lnTo>
                <a:lnTo>
                  <a:pt x="444" y="444"/>
                </a:lnTo>
                <a:lnTo>
                  <a:pt x="460" y="427"/>
                </a:lnTo>
                <a:lnTo>
                  <a:pt x="473" y="409"/>
                </a:lnTo>
                <a:lnTo>
                  <a:pt x="486" y="388"/>
                </a:lnTo>
                <a:lnTo>
                  <a:pt x="496" y="367"/>
                </a:lnTo>
                <a:lnTo>
                  <a:pt x="505" y="345"/>
                </a:lnTo>
                <a:lnTo>
                  <a:pt x="511" y="321"/>
                </a:lnTo>
                <a:lnTo>
                  <a:pt x="514" y="298"/>
                </a:lnTo>
                <a:lnTo>
                  <a:pt x="516" y="273"/>
                </a:lnTo>
                <a:lnTo>
                  <a:pt x="546" y="273"/>
                </a:lnTo>
              </a:path>
            </a:pathLst>
          </a:custGeom>
          <a:solidFill>
            <a:srgbClr val="b6f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79960" y="5019840"/>
            <a:ext cx="770040" cy="769680"/>
          </a:xfrm>
          <a:custGeom>
            <a:avLst/>
            <a:gdLst/>
            <a:ahLst/>
            <a:rect l="l" t="t" r="r" b="b"/>
            <a:pathLst>
              <a:path w="485" h="485">
                <a:moveTo>
                  <a:pt x="484" y="242"/>
                </a:moveTo>
                <a:lnTo>
                  <a:pt x="482" y="218"/>
                </a:lnTo>
                <a:lnTo>
                  <a:pt x="479" y="193"/>
                </a:lnTo>
                <a:lnTo>
                  <a:pt x="473" y="169"/>
                </a:lnTo>
                <a:lnTo>
                  <a:pt x="464" y="148"/>
                </a:lnTo>
                <a:lnTo>
                  <a:pt x="455" y="126"/>
                </a:lnTo>
                <a:lnTo>
                  <a:pt x="442" y="107"/>
                </a:lnTo>
                <a:lnTo>
                  <a:pt x="428" y="88"/>
                </a:lnTo>
                <a:lnTo>
                  <a:pt x="412" y="71"/>
                </a:lnTo>
                <a:lnTo>
                  <a:pt x="396" y="55"/>
                </a:lnTo>
                <a:lnTo>
                  <a:pt x="377" y="41"/>
                </a:lnTo>
                <a:lnTo>
                  <a:pt x="357" y="29"/>
                </a:lnTo>
                <a:lnTo>
                  <a:pt x="336" y="19"/>
                </a:lnTo>
                <a:lnTo>
                  <a:pt x="314" y="11"/>
                </a:lnTo>
                <a:lnTo>
                  <a:pt x="290" y="5"/>
                </a:lnTo>
                <a:lnTo>
                  <a:pt x="266" y="1"/>
                </a:lnTo>
                <a:lnTo>
                  <a:pt x="242" y="0"/>
                </a:lnTo>
                <a:lnTo>
                  <a:pt x="218" y="1"/>
                </a:lnTo>
                <a:lnTo>
                  <a:pt x="193" y="5"/>
                </a:lnTo>
                <a:lnTo>
                  <a:pt x="169" y="11"/>
                </a:lnTo>
                <a:lnTo>
                  <a:pt x="148" y="19"/>
                </a:lnTo>
                <a:lnTo>
                  <a:pt x="126" y="29"/>
                </a:lnTo>
                <a:lnTo>
                  <a:pt x="107" y="41"/>
                </a:lnTo>
                <a:lnTo>
                  <a:pt x="88" y="55"/>
                </a:lnTo>
                <a:lnTo>
                  <a:pt x="71" y="71"/>
                </a:lnTo>
                <a:lnTo>
                  <a:pt x="55" y="88"/>
                </a:lnTo>
                <a:lnTo>
                  <a:pt x="41" y="107"/>
                </a:lnTo>
                <a:lnTo>
                  <a:pt x="29" y="126"/>
                </a:lnTo>
                <a:lnTo>
                  <a:pt x="19" y="148"/>
                </a:lnTo>
                <a:lnTo>
                  <a:pt x="11" y="169"/>
                </a:lnTo>
                <a:lnTo>
                  <a:pt x="5" y="193"/>
                </a:lnTo>
                <a:lnTo>
                  <a:pt x="1" y="218"/>
                </a:lnTo>
                <a:lnTo>
                  <a:pt x="0" y="242"/>
                </a:lnTo>
                <a:lnTo>
                  <a:pt x="1" y="266"/>
                </a:lnTo>
                <a:lnTo>
                  <a:pt x="5" y="290"/>
                </a:lnTo>
                <a:lnTo>
                  <a:pt x="11" y="314"/>
                </a:lnTo>
                <a:lnTo>
                  <a:pt x="19" y="336"/>
                </a:lnTo>
                <a:lnTo>
                  <a:pt x="29" y="357"/>
                </a:lnTo>
                <a:lnTo>
                  <a:pt x="41" y="377"/>
                </a:lnTo>
                <a:lnTo>
                  <a:pt x="55" y="396"/>
                </a:lnTo>
                <a:lnTo>
                  <a:pt x="71" y="412"/>
                </a:lnTo>
                <a:lnTo>
                  <a:pt x="88" y="428"/>
                </a:lnTo>
                <a:lnTo>
                  <a:pt x="107" y="442"/>
                </a:lnTo>
                <a:lnTo>
                  <a:pt x="126" y="455"/>
                </a:lnTo>
                <a:lnTo>
                  <a:pt x="148" y="464"/>
                </a:lnTo>
                <a:lnTo>
                  <a:pt x="169" y="473"/>
                </a:lnTo>
                <a:lnTo>
                  <a:pt x="193" y="479"/>
                </a:lnTo>
                <a:lnTo>
                  <a:pt x="218" y="482"/>
                </a:lnTo>
                <a:lnTo>
                  <a:pt x="242" y="484"/>
                </a:lnTo>
                <a:lnTo>
                  <a:pt x="266" y="482"/>
                </a:lnTo>
                <a:lnTo>
                  <a:pt x="290" y="479"/>
                </a:lnTo>
                <a:lnTo>
                  <a:pt x="314" y="473"/>
                </a:lnTo>
                <a:lnTo>
                  <a:pt x="336" y="464"/>
                </a:lnTo>
                <a:lnTo>
                  <a:pt x="357" y="455"/>
                </a:lnTo>
                <a:lnTo>
                  <a:pt x="377" y="442"/>
                </a:lnTo>
                <a:lnTo>
                  <a:pt x="396" y="428"/>
                </a:lnTo>
                <a:lnTo>
                  <a:pt x="412" y="412"/>
                </a:lnTo>
                <a:lnTo>
                  <a:pt x="428" y="396"/>
                </a:lnTo>
                <a:lnTo>
                  <a:pt x="442" y="377"/>
                </a:lnTo>
                <a:lnTo>
                  <a:pt x="455" y="357"/>
                </a:lnTo>
                <a:lnTo>
                  <a:pt x="464" y="336"/>
                </a:lnTo>
                <a:lnTo>
                  <a:pt x="473" y="314"/>
                </a:lnTo>
                <a:lnTo>
                  <a:pt x="479" y="290"/>
                </a:lnTo>
                <a:lnTo>
                  <a:pt x="482" y="266"/>
                </a:lnTo>
                <a:lnTo>
                  <a:pt x="484" y="242"/>
                </a:lnTo>
                <a:lnTo>
                  <a:pt x="454" y="242"/>
                </a:lnTo>
                <a:lnTo>
                  <a:pt x="453" y="220"/>
                </a:lnTo>
                <a:lnTo>
                  <a:pt x="449" y="199"/>
                </a:lnTo>
                <a:lnTo>
                  <a:pt x="444" y="179"/>
                </a:lnTo>
                <a:lnTo>
                  <a:pt x="437" y="160"/>
                </a:lnTo>
                <a:lnTo>
                  <a:pt x="428" y="141"/>
                </a:lnTo>
                <a:lnTo>
                  <a:pt x="417" y="123"/>
                </a:lnTo>
                <a:lnTo>
                  <a:pt x="405" y="107"/>
                </a:lnTo>
                <a:lnTo>
                  <a:pt x="391" y="92"/>
                </a:lnTo>
                <a:lnTo>
                  <a:pt x="376" y="78"/>
                </a:lnTo>
                <a:lnTo>
                  <a:pt x="360" y="67"/>
                </a:lnTo>
                <a:lnTo>
                  <a:pt x="343" y="56"/>
                </a:lnTo>
                <a:lnTo>
                  <a:pt x="324" y="47"/>
                </a:lnTo>
                <a:lnTo>
                  <a:pt x="305" y="39"/>
                </a:lnTo>
                <a:lnTo>
                  <a:pt x="284" y="34"/>
                </a:lnTo>
                <a:lnTo>
                  <a:pt x="264" y="31"/>
                </a:lnTo>
                <a:lnTo>
                  <a:pt x="242" y="30"/>
                </a:lnTo>
                <a:lnTo>
                  <a:pt x="220" y="31"/>
                </a:lnTo>
                <a:lnTo>
                  <a:pt x="199" y="34"/>
                </a:lnTo>
                <a:lnTo>
                  <a:pt x="179" y="39"/>
                </a:lnTo>
                <a:lnTo>
                  <a:pt x="160" y="47"/>
                </a:lnTo>
                <a:lnTo>
                  <a:pt x="141" y="56"/>
                </a:lnTo>
                <a:lnTo>
                  <a:pt x="123" y="67"/>
                </a:lnTo>
                <a:lnTo>
                  <a:pt x="107" y="78"/>
                </a:lnTo>
                <a:lnTo>
                  <a:pt x="92" y="92"/>
                </a:lnTo>
                <a:lnTo>
                  <a:pt x="78" y="107"/>
                </a:lnTo>
                <a:lnTo>
                  <a:pt x="67" y="123"/>
                </a:lnTo>
                <a:lnTo>
                  <a:pt x="56" y="141"/>
                </a:lnTo>
                <a:lnTo>
                  <a:pt x="47" y="160"/>
                </a:lnTo>
                <a:lnTo>
                  <a:pt x="39" y="179"/>
                </a:lnTo>
                <a:lnTo>
                  <a:pt x="34" y="199"/>
                </a:lnTo>
                <a:lnTo>
                  <a:pt x="31" y="220"/>
                </a:lnTo>
                <a:lnTo>
                  <a:pt x="30" y="242"/>
                </a:lnTo>
                <a:lnTo>
                  <a:pt x="31" y="264"/>
                </a:lnTo>
                <a:lnTo>
                  <a:pt x="34" y="284"/>
                </a:lnTo>
                <a:lnTo>
                  <a:pt x="39" y="305"/>
                </a:lnTo>
                <a:lnTo>
                  <a:pt x="47" y="324"/>
                </a:lnTo>
                <a:lnTo>
                  <a:pt x="56" y="343"/>
                </a:lnTo>
                <a:lnTo>
                  <a:pt x="67" y="360"/>
                </a:lnTo>
                <a:lnTo>
                  <a:pt x="78" y="376"/>
                </a:lnTo>
                <a:lnTo>
                  <a:pt x="92" y="391"/>
                </a:lnTo>
                <a:lnTo>
                  <a:pt x="107" y="405"/>
                </a:lnTo>
                <a:lnTo>
                  <a:pt x="123" y="417"/>
                </a:lnTo>
                <a:lnTo>
                  <a:pt x="141" y="428"/>
                </a:lnTo>
                <a:lnTo>
                  <a:pt x="160" y="437"/>
                </a:lnTo>
                <a:lnTo>
                  <a:pt x="179" y="444"/>
                </a:lnTo>
                <a:lnTo>
                  <a:pt x="199" y="449"/>
                </a:lnTo>
                <a:lnTo>
                  <a:pt x="220" y="453"/>
                </a:lnTo>
                <a:lnTo>
                  <a:pt x="242" y="454"/>
                </a:lnTo>
                <a:lnTo>
                  <a:pt x="264" y="453"/>
                </a:lnTo>
                <a:lnTo>
                  <a:pt x="284" y="449"/>
                </a:lnTo>
                <a:lnTo>
                  <a:pt x="305" y="444"/>
                </a:lnTo>
                <a:lnTo>
                  <a:pt x="324" y="437"/>
                </a:lnTo>
                <a:lnTo>
                  <a:pt x="343" y="428"/>
                </a:lnTo>
                <a:lnTo>
                  <a:pt x="360" y="417"/>
                </a:lnTo>
                <a:lnTo>
                  <a:pt x="376" y="405"/>
                </a:lnTo>
                <a:lnTo>
                  <a:pt x="391" y="391"/>
                </a:lnTo>
                <a:lnTo>
                  <a:pt x="405" y="376"/>
                </a:lnTo>
                <a:lnTo>
                  <a:pt x="417" y="360"/>
                </a:lnTo>
                <a:lnTo>
                  <a:pt x="428" y="343"/>
                </a:lnTo>
                <a:lnTo>
                  <a:pt x="437" y="324"/>
                </a:lnTo>
                <a:lnTo>
                  <a:pt x="444" y="305"/>
                </a:lnTo>
                <a:lnTo>
                  <a:pt x="449" y="284"/>
                </a:lnTo>
                <a:lnTo>
                  <a:pt x="453" y="264"/>
                </a:lnTo>
                <a:lnTo>
                  <a:pt x="454" y="242"/>
                </a:lnTo>
                <a:lnTo>
                  <a:pt x="484" y="242"/>
                </a:lnTo>
              </a:path>
            </a:pathLst>
          </a:custGeom>
          <a:solidFill>
            <a:srgbClr val="b9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229280" y="5068800"/>
            <a:ext cx="671400" cy="671760"/>
          </a:xfrm>
          <a:custGeom>
            <a:avLst/>
            <a:gdLst/>
            <a:ahLst/>
            <a:rect l="l" t="t" r="r" b="b"/>
            <a:pathLst>
              <a:path w="423" h="423">
                <a:moveTo>
                  <a:pt x="422" y="211"/>
                </a:moveTo>
                <a:lnTo>
                  <a:pt x="421" y="190"/>
                </a:lnTo>
                <a:lnTo>
                  <a:pt x="417" y="168"/>
                </a:lnTo>
                <a:lnTo>
                  <a:pt x="412" y="148"/>
                </a:lnTo>
                <a:lnTo>
                  <a:pt x="405" y="129"/>
                </a:lnTo>
                <a:lnTo>
                  <a:pt x="397" y="110"/>
                </a:lnTo>
                <a:lnTo>
                  <a:pt x="386" y="93"/>
                </a:lnTo>
                <a:lnTo>
                  <a:pt x="373" y="76"/>
                </a:lnTo>
                <a:lnTo>
                  <a:pt x="359" y="62"/>
                </a:lnTo>
                <a:lnTo>
                  <a:pt x="345" y="48"/>
                </a:lnTo>
                <a:lnTo>
                  <a:pt x="328" y="36"/>
                </a:lnTo>
                <a:lnTo>
                  <a:pt x="312" y="25"/>
                </a:lnTo>
                <a:lnTo>
                  <a:pt x="293" y="17"/>
                </a:lnTo>
                <a:lnTo>
                  <a:pt x="274" y="9"/>
                </a:lnTo>
                <a:lnTo>
                  <a:pt x="253" y="4"/>
                </a:lnTo>
                <a:lnTo>
                  <a:pt x="232" y="1"/>
                </a:lnTo>
                <a:lnTo>
                  <a:pt x="211" y="0"/>
                </a:lnTo>
                <a:lnTo>
                  <a:pt x="190" y="1"/>
                </a:lnTo>
                <a:lnTo>
                  <a:pt x="168" y="4"/>
                </a:lnTo>
                <a:lnTo>
                  <a:pt x="148" y="9"/>
                </a:lnTo>
                <a:lnTo>
                  <a:pt x="129" y="17"/>
                </a:lnTo>
                <a:lnTo>
                  <a:pt x="110" y="25"/>
                </a:lnTo>
                <a:lnTo>
                  <a:pt x="93" y="36"/>
                </a:lnTo>
                <a:lnTo>
                  <a:pt x="76" y="48"/>
                </a:lnTo>
                <a:lnTo>
                  <a:pt x="62" y="62"/>
                </a:lnTo>
                <a:lnTo>
                  <a:pt x="48" y="76"/>
                </a:lnTo>
                <a:lnTo>
                  <a:pt x="36" y="93"/>
                </a:lnTo>
                <a:lnTo>
                  <a:pt x="25" y="110"/>
                </a:lnTo>
                <a:lnTo>
                  <a:pt x="17" y="129"/>
                </a:lnTo>
                <a:lnTo>
                  <a:pt x="9" y="148"/>
                </a:lnTo>
                <a:lnTo>
                  <a:pt x="4" y="168"/>
                </a:lnTo>
                <a:lnTo>
                  <a:pt x="1" y="190"/>
                </a:lnTo>
                <a:lnTo>
                  <a:pt x="0" y="211"/>
                </a:lnTo>
                <a:lnTo>
                  <a:pt x="1" y="232"/>
                </a:lnTo>
                <a:lnTo>
                  <a:pt x="4" y="253"/>
                </a:lnTo>
                <a:lnTo>
                  <a:pt x="9" y="274"/>
                </a:lnTo>
                <a:lnTo>
                  <a:pt x="17" y="293"/>
                </a:lnTo>
                <a:lnTo>
                  <a:pt x="25" y="312"/>
                </a:lnTo>
                <a:lnTo>
                  <a:pt x="36" y="328"/>
                </a:lnTo>
                <a:lnTo>
                  <a:pt x="48" y="345"/>
                </a:lnTo>
                <a:lnTo>
                  <a:pt x="62" y="359"/>
                </a:lnTo>
                <a:lnTo>
                  <a:pt x="76" y="373"/>
                </a:lnTo>
                <a:lnTo>
                  <a:pt x="93" y="386"/>
                </a:lnTo>
                <a:lnTo>
                  <a:pt x="110" y="397"/>
                </a:lnTo>
                <a:lnTo>
                  <a:pt x="129" y="405"/>
                </a:lnTo>
                <a:lnTo>
                  <a:pt x="148" y="412"/>
                </a:lnTo>
                <a:lnTo>
                  <a:pt x="168" y="417"/>
                </a:lnTo>
                <a:lnTo>
                  <a:pt x="190" y="421"/>
                </a:lnTo>
                <a:lnTo>
                  <a:pt x="211" y="422"/>
                </a:lnTo>
                <a:lnTo>
                  <a:pt x="232" y="421"/>
                </a:lnTo>
                <a:lnTo>
                  <a:pt x="253" y="417"/>
                </a:lnTo>
                <a:lnTo>
                  <a:pt x="274" y="412"/>
                </a:lnTo>
                <a:lnTo>
                  <a:pt x="293" y="405"/>
                </a:lnTo>
                <a:lnTo>
                  <a:pt x="312" y="397"/>
                </a:lnTo>
                <a:lnTo>
                  <a:pt x="328" y="386"/>
                </a:lnTo>
                <a:lnTo>
                  <a:pt x="345" y="373"/>
                </a:lnTo>
                <a:lnTo>
                  <a:pt x="359" y="359"/>
                </a:lnTo>
                <a:lnTo>
                  <a:pt x="373" y="345"/>
                </a:lnTo>
                <a:lnTo>
                  <a:pt x="386" y="328"/>
                </a:lnTo>
                <a:lnTo>
                  <a:pt x="397" y="312"/>
                </a:lnTo>
                <a:lnTo>
                  <a:pt x="405" y="293"/>
                </a:lnTo>
                <a:lnTo>
                  <a:pt x="412" y="274"/>
                </a:lnTo>
                <a:lnTo>
                  <a:pt x="417" y="253"/>
                </a:lnTo>
                <a:lnTo>
                  <a:pt x="421" y="232"/>
                </a:lnTo>
                <a:lnTo>
                  <a:pt x="422" y="211"/>
                </a:lnTo>
                <a:lnTo>
                  <a:pt x="392" y="211"/>
                </a:lnTo>
                <a:lnTo>
                  <a:pt x="391" y="192"/>
                </a:lnTo>
                <a:lnTo>
                  <a:pt x="388" y="174"/>
                </a:lnTo>
                <a:lnTo>
                  <a:pt x="384" y="157"/>
                </a:lnTo>
                <a:lnTo>
                  <a:pt x="378" y="141"/>
                </a:lnTo>
                <a:lnTo>
                  <a:pt x="370" y="125"/>
                </a:lnTo>
                <a:lnTo>
                  <a:pt x="360" y="109"/>
                </a:lnTo>
                <a:lnTo>
                  <a:pt x="351" y="96"/>
                </a:lnTo>
                <a:lnTo>
                  <a:pt x="339" y="83"/>
                </a:lnTo>
                <a:lnTo>
                  <a:pt x="326" y="71"/>
                </a:lnTo>
                <a:lnTo>
                  <a:pt x="312" y="61"/>
                </a:lnTo>
                <a:lnTo>
                  <a:pt x="297" y="52"/>
                </a:lnTo>
                <a:lnTo>
                  <a:pt x="281" y="44"/>
                </a:lnTo>
                <a:lnTo>
                  <a:pt x="265" y="38"/>
                </a:lnTo>
                <a:lnTo>
                  <a:pt x="247" y="33"/>
                </a:lnTo>
                <a:lnTo>
                  <a:pt x="230" y="30"/>
                </a:lnTo>
                <a:lnTo>
                  <a:pt x="211" y="29"/>
                </a:lnTo>
                <a:lnTo>
                  <a:pt x="192" y="30"/>
                </a:lnTo>
                <a:lnTo>
                  <a:pt x="174" y="33"/>
                </a:lnTo>
                <a:lnTo>
                  <a:pt x="157" y="38"/>
                </a:lnTo>
                <a:lnTo>
                  <a:pt x="141" y="44"/>
                </a:lnTo>
                <a:lnTo>
                  <a:pt x="125" y="52"/>
                </a:lnTo>
                <a:lnTo>
                  <a:pt x="109" y="61"/>
                </a:lnTo>
                <a:lnTo>
                  <a:pt x="96" y="71"/>
                </a:lnTo>
                <a:lnTo>
                  <a:pt x="83" y="83"/>
                </a:lnTo>
                <a:lnTo>
                  <a:pt x="71" y="96"/>
                </a:lnTo>
                <a:lnTo>
                  <a:pt x="61" y="109"/>
                </a:lnTo>
                <a:lnTo>
                  <a:pt x="52" y="125"/>
                </a:lnTo>
                <a:lnTo>
                  <a:pt x="44" y="141"/>
                </a:lnTo>
                <a:lnTo>
                  <a:pt x="38" y="157"/>
                </a:lnTo>
                <a:lnTo>
                  <a:pt x="33" y="174"/>
                </a:lnTo>
                <a:lnTo>
                  <a:pt x="30" y="192"/>
                </a:lnTo>
                <a:lnTo>
                  <a:pt x="29" y="211"/>
                </a:lnTo>
                <a:lnTo>
                  <a:pt x="30" y="230"/>
                </a:lnTo>
                <a:lnTo>
                  <a:pt x="33" y="247"/>
                </a:lnTo>
                <a:lnTo>
                  <a:pt x="38" y="265"/>
                </a:lnTo>
                <a:lnTo>
                  <a:pt x="44" y="281"/>
                </a:lnTo>
                <a:lnTo>
                  <a:pt x="52" y="297"/>
                </a:lnTo>
                <a:lnTo>
                  <a:pt x="61" y="312"/>
                </a:lnTo>
                <a:lnTo>
                  <a:pt x="71" y="326"/>
                </a:lnTo>
                <a:lnTo>
                  <a:pt x="83" y="339"/>
                </a:lnTo>
                <a:lnTo>
                  <a:pt x="96" y="351"/>
                </a:lnTo>
                <a:lnTo>
                  <a:pt x="109" y="360"/>
                </a:lnTo>
                <a:lnTo>
                  <a:pt x="125" y="370"/>
                </a:lnTo>
                <a:lnTo>
                  <a:pt x="141" y="378"/>
                </a:lnTo>
                <a:lnTo>
                  <a:pt x="157" y="384"/>
                </a:lnTo>
                <a:lnTo>
                  <a:pt x="174" y="388"/>
                </a:lnTo>
                <a:lnTo>
                  <a:pt x="192" y="391"/>
                </a:lnTo>
                <a:lnTo>
                  <a:pt x="211" y="392"/>
                </a:lnTo>
                <a:lnTo>
                  <a:pt x="230" y="391"/>
                </a:lnTo>
                <a:lnTo>
                  <a:pt x="247" y="388"/>
                </a:lnTo>
                <a:lnTo>
                  <a:pt x="265" y="384"/>
                </a:lnTo>
                <a:lnTo>
                  <a:pt x="281" y="378"/>
                </a:lnTo>
                <a:lnTo>
                  <a:pt x="297" y="370"/>
                </a:lnTo>
                <a:lnTo>
                  <a:pt x="312" y="360"/>
                </a:lnTo>
                <a:lnTo>
                  <a:pt x="326" y="351"/>
                </a:lnTo>
                <a:lnTo>
                  <a:pt x="339" y="339"/>
                </a:lnTo>
                <a:lnTo>
                  <a:pt x="351" y="326"/>
                </a:lnTo>
                <a:lnTo>
                  <a:pt x="360" y="312"/>
                </a:lnTo>
                <a:lnTo>
                  <a:pt x="370" y="297"/>
                </a:lnTo>
                <a:lnTo>
                  <a:pt x="378" y="281"/>
                </a:lnTo>
                <a:lnTo>
                  <a:pt x="384" y="265"/>
                </a:lnTo>
                <a:lnTo>
                  <a:pt x="388" y="247"/>
                </a:lnTo>
                <a:lnTo>
                  <a:pt x="391" y="230"/>
                </a:lnTo>
                <a:lnTo>
                  <a:pt x="392" y="211"/>
                </a:lnTo>
                <a:lnTo>
                  <a:pt x="422" y="211"/>
                </a:lnTo>
              </a:path>
            </a:pathLst>
          </a:custGeom>
          <a:solidFill>
            <a:srgbClr val="bb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76800" y="5116680"/>
            <a:ext cx="574560" cy="574560"/>
          </a:xfrm>
          <a:custGeom>
            <a:avLst/>
            <a:gdLst/>
            <a:ahLst/>
            <a:rect l="l" t="t" r="r" b="b"/>
            <a:pathLst>
              <a:path w="362" h="362">
                <a:moveTo>
                  <a:pt x="361" y="181"/>
                </a:moveTo>
                <a:lnTo>
                  <a:pt x="360" y="162"/>
                </a:lnTo>
                <a:lnTo>
                  <a:pt x="357" y="144"/>
                </a:lnTo>
                <a:lnTo>
                  <a:pt x="353" y="127"/>
                </a:lnTo>
                <a:lnTo>
                  <a:pt x="347" y="111"/>
                </a:lnTo>
                <a:lnTo>
                  <a:pt x="340" y="95"/>
                </a:lnTo>
                <a:lnTo>
                  <a:pt x="330" y="80"/>
                </a:lnTo>
                <a:lnTo>
                  <a:pt x="320" y="66"/>
                </a:lnTo>
                <a:lnTo>
                  <a:pt x="308" y="54"/>
                </a:lnTo>
                <a:lnTo>
                  <a:pt x="296" y="42"/>
                </a:lnTo>
                <a:lnTo>
                  <a:pt x="281" y="31"/>
                </a:lnTo>
                <a:lnTo>
                  <a:pt x="267" y="22"/>
                </a:lnTo>
                <a:lnTo>
                  <a:pt x="251" y="15"/>
                </a:lnTo>
                <a:lnTo>
                  <a:pt x="235" y="9"/>
                </a:lnTo>
                <a:lnTo>
                  <a:pt x="217" y="4"/>
                </a:lnTo>
                <a:lnTo>
                  <a:pt x="199" y="1"/>
                </a:lnTo>
                <a:lnTo>
                  <a:pt x="181" y="0"/>
                </a:lnTo>
                <a:lnTo>
                  <a:pt x="162" y="1"/>
                </a:lnTo>
                <a:lnTo>
                  <a:pt x="144" y="4"/>
                </a:lnTo>
                <a:lnTo>
                  <a:pt x="127" y="9"/>
                </a:lnTo>
                <a:lnTo>
                  <a:pt x="111" y="15"/>
                </a:lnTo>
                <a:lnTo>
                  <a:pt x="95" y="22"/>
                </a:lnTo>
                <a:lnTo>
                  <a:pt x="80" y="31"/>
                </a:lnTo>
                <a:lnTo>
                  <a:pt x="66" y="42"/>
                </a:lnTo>
                <a:lnTo>
                  <a:pt x="54" y="54"/>
                </a:lnTo>
                <a:lnTo>
                  <a:pt x="42" y="66"/>
                </a:lnTo>
                <a:lnTo>
                  <a:pt x="31" y="80"/>
                </a:lnTo>
                <a:lnTo>
                  <a:pt x="22" y="95"/>
                </a:lnTo>
                <a:lnTo>
                  <a:pt x="15" y="111"/>
                </a:lnTo>
                <a:lnTo>
                  <a:pt x="9" y="127"/>
                </a:lnTo>
                <a:lnTo>
                  <a:pt x="4" y="144"/>
                </a:lnTo>
                <a:lnTo>
                  <a:pt x="1" y="162"/>
                </a:lnTo>
                <a:lnTo>
                  <a:pt x="0" y="181"/>
                </a:lnTo>
                <a:lnTo>
                  <a:pt x="1" y="199"/>
                </a:lnTo>
                <a:lnTo>
                  <a:pt x="4" y="217"/>
                </a:lnTo>
                <a:lnTo>
                  <a:pt x="9" y="235"/>
                </a:lnTo>
                <a:lnTo>
                  <a:pt x="15" y="251"/>
                </a:lnTo>
                <a:lnTo>
                  <a:pt x="22" y="267"/>
                </a:lnTo>
                <a:lnTo>
                  <a:pt x="31" y="281"/>
                </a:lnTo>
                <a:lnTo>
                  <a:pt x="42" y="296"/>
                </a:lnTo>
                <a:lnTo>
                  <a:pt x="54" y="308"/>
                </a:lnTo>
                <a:lnTo>
                  <a:pt x="66" y="320"/>
                </a:lnTo>
                <a:lnTo>
                  <a:pt x="80" y="330"/>
                </a:lnTo>
                <a:lnTo>
                  <a:pt x="95" y="340"/>
                </a:lnTo>
                <a:lnTo>
                  <a:pt x="111" y="347"/>
                </a:lnTo>
                <a:lnTo>
                  <a:pt x="127" y="353"/>
                </a:lnTo>
                <a:lnTo>
                  <a:pt x="144" y="357"/>
                </a:lnTo>
                <a:lnTo>
                  <a:pt x="162" y="360"/>
                </a:lnTo>
                <a:lnTo>
                  <a:pt x="181" y="361"/>
                </a:lnTo>
                <a:lnTo>
                  <a:pt x="199" y="360"/>
                </a:lnTo>
                <a:lnTo>
                  <a:pt x="217" y="357"/>
                </a:lnTo>
                <a:lnTo>
                  <a:pt x="235" y="353"/>
                </a:lnTo>
                <a:lnTo>
                  <a:pt x="251" y="347"/>
                </a:lnTo>
                <a:lnTo>
                  <a:pt x="267" y="340"/>
                </a:lnTo>
                <a:lnTo>
                  <a:pt x="281" y="330"/>
                </a:lnTo>
                <a:lnTo>
                  <a:pt x="296" y="320"/>
                </a:lnTo>
                <a:lnTo>
                  <a:pt x="308" y="308"/>
                </a:lnTo>
                <a:lnTo>
                  <a:pt x="320" y="296"/>
                </a:lnTo>
                <a:lnTo>
                  <a:pt x="330" y="281"/>
                </a:lnTo>
                <a:lnTo>
                  <a:pt x="340" y="267"/>
                </a:lnTo>
                <a:lnTo>
                  <a:pt x="347" y="251"/>
                </a:lnTo>
                <a:lnTo>
                  <a:pt x="353" y="235"/>
                </a:lnTo>
                <a:lnTo>
                  <a:pt x="357" y="217"/>
                </a:lnTo>
                <a:lnTo>
                  <a:pt x="360" y="199"/>
                </a:lnTo>
                <a:lnTo>
                  <a:pt x="361" y="181"/>
                </a:lnTo>
                <a:lnTo>
                  <a:pt x="331" y="181"/>
                </a:lnTo>
                <a:lnTo>
                  <a:pt x="330" y="165"/>
                </a:lnTo>
                <a:lnTo>
                  <a:pt x="328" y="151"/>
                </a:lnTo>
                <a:lnTo>
                  <a:pt x="324" y="136"/>
                </a:lnTo>
                <a:lnTo>
                  <a:pt x="319" y="123"/>
                </a:lnTo>
                <a:lnTo>
                  <a:pt x="313" y="109"/>
                </a:lnTo>
                <a:lnTo>
                  <a:pt x="306" y="97"/>
                </a:lnTo>
                <a:lnTo>
                  <a:pt x="297" y="86"/>
                </a:lnTo>
                <a:lnTo>
                  <a:pt x="287" y="75"/>
                </a:lnTo>
                <a:lnTo>
                  <a:pt x="276" y="65"/>
                </a:lnTo>
                <a:lnTo>
                  <a:pt x="265" y="56"/>
                </a:lnTo>
                <a:lnTo>
                  <a:pt x="252" y="49"/>
                </a:lnTo>
                <a:lnTo>
                  <a:pt x="239" y="42"/>
                </a:lnTo>
                <a:lnTo>
                  <a:pt x="226" y="37"/>
                </a:lnTo>
                <a:lnTo>
                  <a:pt x="211" y="33"/>
                </a:lnTo>
                <a:lnTo>
                  <a:pt x="196" y="31"/>
                </a:lnTo>
                <a:lnTo>
                  <a:pt x="181" y="30"/>
                </a:lnTo>
                <a:lnTo>
                  <a:pt x="165" y="31"/>
                </a:lnTo>
                <a:lnTo>
                  <a:pt x="151" y="33"/>
                </a:lnTo>
                <a:lnTo>
                  <a:pt x="136" y="37"/>
                </a:lnTo>
                <a:lnTo>
                  <a:pt x="123" y="42"/>
                </a:lnTo>
                <a:lnTo>
                  <a:pt x="109" y="49"/>
                </a:lnTo>
                <a:lnTo>
                  <a:pt x="97" y="56"/>
                </a:lnTo>
                <a:lnTo>
                  <a:pt x="86" y="65"/>
                </a:lnTo>
                <a:lnTo>
                  <a:pt x="75" y="75"/>
                </a:lnTo>
                <a:lnTo>
                  <a:pt x="65" y="86"/>
                </a:lnTo>
                <a:lnTo>
                  <a:pt x="56" y="97"/>
                </a:lnTo>
                <a:lnTo>
                  <a:pt x="49" y="109"/>
                </a:lnTo>
                <a:lnTo>
                  <a:pt x="42" y="123"/>
                </a:lnTo>
                <a:lnTo>
                  <a:pt x="37" y="136"/>
                </a:lnTo>
                <a:lnTo>
                  <a:pt x="33" y="151"/>
                </a:lnTo>
                <a:lnTo>
                  <a:pt x="31" y="165"/>
                </a:lnTo>
                <a:lnTo>
                  <a:pt x="30" y="181"/>
                </a:lnTo>
                <a:lnTo>
                  <a:pt x="31" y="196"/>
                </a:lnTo>
                <a:lnTo>
                  <a:pt x="33" y="211"/>
                </a:lnTo>
                <a:lnTo>
                  <a:pt x="37" y="226"/>
                </a:lnTo>
                <a:lnTo>
                  <a:pt x="42" y="239"/>
                </a:lnTo>
                <a:lnTo>
                  <a:pt x="49" y="252"/>
                </a:lnTo>
                <a:lnTo>
                  <a:pt x="56" y="265"/>
                </a:lnTo>
                <a:lnTo>
                  <a:pt x="65" y="276"/>
                </a:lnTo>
                <a:lnTo>
                  <a:pt x="75" y="287"/>
                </a:lnTo>
                <a:lnTo>
                  <a:pt x="86" y="297"/>
                </a:lnTo>
                <a:lnTo>
                  <a:pt x="97" y="306"/>
                </a:lnTo>
                <a:lnTo>
                  <a:pt x="109" y="313"/>
                </a:lnTo>
                <a:lnTo>
                  <a:pt x="123" y="319"/>
                </a:lnTo>
                <a:lnTo>
                  <a:pt x="136" y="324"/>
                </a:lnTo>
                <a:lnTo>
                  <a:pt x="151" y="328"/>
                </a:lnTo>
                <a:lnTo>
                  <a:pt x="165" y="330"/>
                </a:lnTo>
                <a:lnTo>
                  <a:pt x="181" y="331"/>
                </a:lnTo>
                <a:lnTo>
                  <a:pt x="196" y="330"/>
                </a:lnTo>
                <a:lnTo>
                  <a:pt x="211" y="328"/>
                </a:lnTo>
                <a:lnTo>
                  <a:pt x="226" y="324"/>
                </a:lnTo>
                <a:lnTo>
                  <a:pt x="239" y="319"/>
                </a:lnTo>
                <a:lnTo>
                  <a:pt x="252" y="313"/>
                </a:lnTo>
                <a:lnTo>
                  <a:pt x="265" y="306"/>
                </a:lnTo>
                <a:lnTo>
                  <a:pt x="276" y="297"/>
                </a:lnTo>
                <a:lnTo>
                  <a:pt x="287" y="287"/>
                </a:lnTo>
                <a:lnTo>
                  <a:pt x="297" y="276"/>
                </a:lnTo>
                <a:lnTo>
                  <a:pt x="306" y="265"/>
                </a:lnTo>
                <a:lnTo>
                  <a:pt x="313" y="252"/>
                </a:lnTo>
                <a:lnTo>
                  <a:pt x="319" y="239"/>
                </a:lnTo>
                <a:lnTo>
                  <a:pt x="324" y="226"/>
                </a:lnTo>
                <a:lnTo>
                  <a:pt x="328" y="211"/>
                </a:lnTo>
                <a:lnTo>
                  <a:pt x="330" y="196"/>
                </a:lnTo>
                <a:lnTo>
                  <a:pt x="331" y="181"/>
                </a:lnTo>
                <a:lnTo>
                  <a:pt x="361" y="181"/>
                </a:lnTo>
              </a:path>
            </a:pathLst>
          </a:custGeom>
          <a:solidFill>
            <a:srgbClr val="bef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325760" y="5165640"/>
            <a:ext cx="476280" cy="476280"/>
          </a:xfrm>
          <a:custGeom>
            <a:avLst/>
            <a:gdLst/>
            <a:ahLst/>
            <a:rect l="l" t="t" r="r" b="b"/>
            <a:pathLst>
              <a:path w="300" h="300">
                <a:moveTo>
                  <a:pt x="299" y="150"/>
                </a:moveTo>
                <a:lnTo>
                  <a:pt x="298" y="135"/>
                </a:lnTo>
                <a:lnTo>
                  <a:pt x="296" y="120"/>
                </a:lnTo>
                <a:lnTo>
                  <a:pt x="292" y="105"/>
                </a:lnTo>
                <a:lnTo>
                  <a:pt x="287" y="92"/>
                </a:lnTo>
                <a:lnTo>
                  <a:pt x="282" y="78"/>
                </a:lnTo>
                <a:lnTo>
                  <a:pt x="274" y="67"/>
                </a:lnTo>
                <a:lnTo>
                  <a:pt x="265" y="55"/>
                </a:lnTo>
                <a:lnTo>
                  <a:pt x="255" y="45"/>
                </a:lnTo>
                <a:lnTo>
                  <a:pt x="245" y="35"/>
                </a:lnTo>
                <a:lnTo>
                  <a:pt x="233" y="26"/>
                </a:lnTo>
                <a:lnTo>
                  <a:pt x="221" y="18"/>
                </a:lnTo>
                <a:lnTo>
                  <a:pt x="208" y="12"/>
                </a:lnTo>
                <a:lnTo>
                  <a:pt x="194" y="7"/>
                </a:lnTo>
                <a:lnTo>
                  <a:pt x="180" y="3"/>
                </a:lnTo>
                <a:lnTo>
                  <a:pt x="164" y="1"/>
                </a:lnTo>
                <a:lnTo>
                  <a:pt x="150" y="0"/>
                </a:lnTo>
                <a:lnTo>
                  <a:pt x="135" y="1"/>
                </a:lnTo>
                <a:lnTo>
                  <a:pt x="120" y="3"/>
                </a:lnTo>
                <a:lnTo>
                  <a:pt x="105" y="7"/>
                </a:lnTo>
                <a:lnTo>
                  <a:pt x="92" y="12"/>
                </a:lnTo>
                <a:lnTo>
                  <a:pt x="78" y="18"/>
                </a:lnTo>
                <a:lnTo>
                  <a:pt x="67" y="26"/>
                </a:lnTo>
                <a:lnTo>
                  <a:pt x="55" y="35"/>
                </a:lnTo>
                <a:lnTo>
                  <a:pt x="45" y="45"/>
                </a:lnTo>
                <a:lnTo>
                  <a:pt x="35" y="55"/>
                </a:lnTo>
                <a:lnTo>
                  <a:pt x="26" y="67"/>
                </a:lnTo>
                <a:lnTo>
                  <a:pt x="18" y="78"/>
                </a:lnTo>
                <a:lnTo>
                  <a:pt x="12" y="92"/>
                </a:lnTo>
                <a:lnTo>
                  <a:pt x="7" y="105"/>
                </a:lnTo>
                <a:lnTo>
                  <a:pt x="3" y="120"/>
                </a:lnTo>
                <a:lnTo>
                  <a:pt x="1" y="135"/>
                </a:lnTo>
                <a:lnTo>
                  <a:pt x="0" y="150"/>
                </a:lnTo>
                <a:lnTo>
                  <a:pt x="1" y="164"/>
                </a:lnTo>
                <a:lnTo>
                  <a:pt x="3" y="180"/>
                </a:lnTo>
                <a:lnTo>
                  <a:pt x="7" y="194"/>
                </a:lnTo>
                <a:lnTo>
                  <a:pt x="12" y="208"/>
                </a:lnTo>
                <a:lnTo>
                  <a:pt x="18" y="221"/>
                </a:lnTo>
                <a:lnTo>
                  <a:pt x="26" y="233"/>
                </a:lnTo>
                <a:lnTo>
                  <a:pt x="35" y="245"/>
                </a:lnTo>
                <a:lnTo>
                  <a:pt x="45" y="255"/>
                </a:lnTo>
                <a:lnTo>
                  <a:pt x="55" y="265"/>
                </a:lnTo>
                <a:lnTo>
                  <a:pt x="67" y="274"/>
                </a:lnTo>
                <a:lnTo>
                  <a:pt x="78" y="282"/>
                </a:lnTo>
                <a:lnTo>
                  <a:pt x="92" y="287"/>
                </a:lnTo>
                <a:lnTo>
                  <a:pt x="105" y="292"/>
                </a:lnTo>
                <a:lnTo>
                  <a:pt x="120" y="296"/>
                </a:lnTo>
                <a:lnTo>
                  <a:pt x="135" y="298"/>
                </a:lnTo>
                <a:lnTo>
                  <a:pt x="150" y="299"/>
                </a:lnTo>
                <a:lnTo>
                  <a:pt x="164" y="298"/>
                </a:lnTo>
                <a:lnTo>
                  <a:pt x="180" y="296"/>
                </a:lnTo>
                <a:lnTo>
                  <a:pt x="194" y="292"/>
                </a:lnTo>
                <a:lnTo>
                  <a:pt x="208" y="287"/>
                </a:lnTo>
                <a:lnTo>
                  <a:pt x="221" y="282"/>
                </a:lnTo>
                <a:lnTo>
                  <a:pt x="233" y="274"/>
                </a:lnTo>
                <a:lnTo>
                  <a:pt x="245" y="265"/>
                </a:lnTo>
                <a:lnTo>
                  <a:pt x="255" y="255"/>
                </a:lnTo>
                <a:lnTo>
                  <a:pt x="265" y="245"/>
                </a:lnTo>
                <a:lnTo>
                  <a:pt x="274" y="233"/>
                </a:lnTo>
                <a:lnTo>
                  <a:pt x="282" y="221"/>
                </a:lnTo>
                <a:lnTo>
                  <a:pt x="287" y="208"/>
                </a:lnTo>
                <a:lnTo>
                  <a:pt x="292" y="194"/>
                </a:lnTo>
                <a:lnTo>
                  <a:pt x="296" y="180"/>
                </a:lnTo>
                <a:lnTo>
                  <a:pt x="298" y="164"/>
                </a:lnTo>
                <a:lnTo>
                  <a:pt x="299" y="150"/>
                </a:lnTo>
                <a:lnTo>
                  <a:pt x="269" y="150"/>
                </a:lnTo>
                <a:lnTo>
                  <a:pt x="269" y="137"/>
                </a:lnTo>
                <a:lnTo>
                  <a:pt x="267" y="126"/>
                </a:lnTo>
                <a:lnTo>
                  <a:pt x="264" y="114"/>
                </a:lnTo>
                <a:lnTo>
                  <a:pt x="260" y="104"/>
                </a:lnTo>
                <a:lnTo>
                  <a:pt x="254" y="93"/>
                </a:lnTo>
                <a:lnTo>
                  <a:pt x="249" y="83"/>
                </a:lnTo>
                <a:lnTo>
                  <a:pt x="242" y="74"/>
                </a:lnTo>
                <a:lnTo>
                  <a:pt x="234" y="65"/>
                </a:lnTo>
                <a:lnTo>
                  <a:pt x="225" y="58"/>
                </a:lnTo>
                <a:lnTo>
                  <a:pt x="217" y="50"/>
                </a:lnTo>
                <a:lnTo>
                  <a:pt x="207" y="45"/>
                </a:lnTo>
                <a:lnTo>
                  <a:pt x="196" y="40"/>
                </a:lnTo>
                <a:lnTo>
                  <a:pt x="185" y="36"/>
                </a:lnTo>
                <a:lnTo>
                  <a:pt x="174" y="33"/>
                </a:lnTo>
                <a:lnTo>
                  <a:pt x="162" y="31"/>
                </a:lnTo>
                <a:lnTo>
                  <a:pt x="150" y="30"/>
                </a:lnTo>
                <a:lnTo>
                  <a:pt x="137" y="31"/>
                </a:lnTo>
                <a:lnTo>
                  <a:pt x="126" y="33"/>
                </a:lnTo>
                <a:lnTo>
                  <a:pt x="114" y="36"/>
                </a:lnTo>
                <a:lnTo>
                  <a:pt x="104" y="40"/>
                </a:lnTo>
                <a:lnTo>
                  <a:pt x="93" y="45"/>
                </a:lnTo>
                <a:lnTo>
                  <a:pt x="83" y="50"/>
                </a:lnTo>
                <a:lnTo>
                  <a:pt x="74" y="58"/>
                </a:lnTo>
                <a:lnTo>
                  <a:pt x="66" y="65"/>
                </a:lnTo>
                <a:lnTo>
                  <a:pt x="58" y="74"/>
                </a:lnTo>
                <a:lnTo>
                  <a:pt x="50" y="83"/>
                </a:lnTo>
                <a:lnTo>
                  <a:pt x="45" y="93"/>
                </a:lnTo>
                <a:lnTo>
                  <a:pt x="40" y="104"/>
                </a:lnTo>
                <a:lnTo>
                  <a:pt x="36" y="114"/>
                </a:lnTo>
                <a:lnTo>
                  <a:pt x="33" y="126"/>
                </a:lnTo>
                <a:lnTo>
                  <a:pt x="31" y="137"/>
                </a:lnTo>
                <a:lnTo>
                  <a:pt x="30" y="150"/>
                </a:lnTo>
                <a:lnTo>
                  <a:pt x="31" y="162"/>
                </a:lnTo>
                <a:lnTo>
                  <a:pt x="33" y="174"/>
                </a:lnTo>
                <a:lnTo>
                  <a:pt x="36" y="185"/>
                </a:lnTo>
                <a:lnTo>
                  <a:pt x="40" y="196"/>
                </a:lnTo>
                <a:lnTo>
                  <a:pt x="45" y="207"/>
                </a:lnTo>
                <a:lnTo>
                  <a:pt x="50" y="217"/>
                </a:lnTo>
                <a:lnTo>
                  <a:pt x="58" y="225"/>
                </a:lnTo>
                <a:lnTo>
                  <a:pt x="66" y="234"/>
                </a:lnTo>
                <a:lnTo>
                  <a:pt x="74" y="242"/>
                </a:lnTo>
                <a:lnTo>
                  <a:pt x="83" y="249"/>
                </a:lnTo>
                <a:lnTo>
                  <a:pt x="93" y="254"/>
                </a:lnTo>
                <a:lnTo>
                  <a:pt x="104" y="260"/>
                </a:lnTo>
                <a:lnTo>
                  <a:pt x="114" y="264"/>
                </a:lnTo>
                <a:lnTo>
                  <a:pt x="126" y="267"/>
                </a:lnTo>
                <a:lnTo>
                  <a:pt x="137" y="269"/>
                </a:lnTo>
                <a:lnTo>
                  <a:pt x="150" y="269"/>
                </a:lnTo>
                <a:lnTo>
                  <a:pt x="162" y="269"/>
                </a:lnTo>
                <a:lnTo>
                  <a:pt x="174" y="267"/>
                </a:lnTo>
                <a:lnTo>
                  <a:pt x="185" y="264"/>
                </a:lnTo>
                <a:lnTo>
                  <a:pt x="196" y="260"/>
                </a:lnTo>
                <a:lnTo>
                  <a:pt x="207" y="254"/>
                </a:lnTo>
                <a:lnTo>
                  <a:pt x="217" y="249"/>
                </a:lnTo>
                <a:lnTo>
                  <a:pt x="225" y="242"/>
                </a:lnTo>
                <a:lnTo>
                  <a:pt x="234" y="234"/>
                </a:lnTo>
                <a:lnTo>
                  <a:pt x="242" y="225"/>
                </a:lnTo>
                <a:lnTo>
                  <a:pt x="249" y="217"/>
                </a:lnTo>
                <a:lnTo>
                  <a:pt x="254" y="207"/>
                </a:lnTo>
                <a:lnTo>
                  <a:pt x="260" y="196"/>
                </a:lnTo>
                <a:lnTo>
                  <a:pt x="264" y="185"/>
                </a:lnTo>
                <a:lnTo>
                  <a:pt x="267" y="174"/>
                </a:lnTo>
                <a:lnTo>
                  <a:pt x="269" y="162"/>
                </a:lnTo>
                <a:lnTo>
                  <a:pt x="269" y="150"/>
                </a:lnTo>
                <a:lnTo>
                  <a:pt x="299" y="150"/>
                </a:lnTo>
              </a:path>
            </a:pathLst>
          </a:custGeom>
          <a:solidFill>
            <a:srgbClr val="c1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375080" y="5214960"/>
            <a:ext cx="378000" cy="377640"/>
          </a:xfrm>
          <a:custGeom>
            <a:avLst/>
            <a:gdLst/>
            <a:ahLst/>
            <a:rect l="l" t="t" r="r" b="b"/>
            <a:pathLst>
              <a:path w="238" h="238">
                <a:moveTo>
                  <a:pt x="237" y="119"/>
                </a:moveTo>
                <a:lnTo>
                  <a:pt x="237" y="107"/>
                </a:lnTo>
                <a:lnTo>
                  <a:pt x="235" y="95"/>
                </a:lnTo>
                <a:lnTo>
                  <a:pt x="232" y="83"/>
                </a:lnTo>
                <a:lnTo>
                  <a:pt x="228" y="73"/>
                </a:lnTo>
                <a:lnTo>
                  <a:pt x="223" y="62"/>
                </a:lnTo>
                <a:lnTo>
                  <a:pt x="217" y="53"/>
                </a:lnTo>
                <a:lnTo>
                  <a:pt x="210" y="43"/>
                </a:lnTo>
                <a:lnTo>
                  <a:pt x="202" y="35"/>
                </a:lnTo>
                <a:lnTo>
                  <a:pt x="194" y="28"/>
                </a:lnTo>
                <a:lnTo>
                  <a:pt x="185" y="20"/>
                </a:lnTo>
                <a:lnTo>
                  <a:pt x="176" y="14"/>
                </a:lnTo>
                <a:lnTo>
                  <a:pt x="165" y="10"/>
                </a:lnTo>
                <a:lnTo>
                  <a:pt x="154" y="6"/>
                </a:lnTo>
                <a:lnTo>
                  <a:pt x="143" y="3"/>
                </a:lnTo>
                <a:lnTo>
                  <a:pt x="130" y="1"/>
                </a:lnTo>
                <a:lnTo>
                  <a:pt x="119" y="0"/>
                </a:lnTo>
                <a:lnTo>
                  <a:pt x="107" y="1"/>
                </a:lnTo>
                <a:lnTo>
                  <a:pt x="95" y="3"/>
                </a:lnTo>
                <a:lnTo>
                  <a:pt x="83" y="6"/>
                </a:lnTo>
                <a:lnTo>
                  <a:pt x="73" y="10"/>
                </a:lnTo>
                <a:lnTo>
                  <a:pt x="62" y="14"/>
                </a:lnTo>
                <a:lnTo>
                  <a:pt x="53" y="20"/>
                </a:lnTo>
                <a:lnTo>
                  <a:pt x="43" y="28"/>
                </a:lnTo>
                <a:lnTo>
                  <a:pt x="36" y="35"/>
                </a:lnTo>
                <a:lnTo>
                  <a:pt x="28" y="43"/>
                </a:lnTo>
                <a:lnTo>
                  <a:pt x="20" y="53"/>
                </a:lnTo>
                <a:lnTo>
                  <a:pt x="14" y="62"/>
                </a:lnTo>
                <a:lnTo>
                  <a:pt x="10" y="73"/>
                </a:lnTo>
                <a:lnTo>
                  <a:pt x="6" y="83"/>
                </a:lnTo>
                <a:lnTo>
                  <a:pt x="3" y="95"/>
                </a:lnTo>
                <a:lnTo>
                  <a:pt x="1" y="107"/>
                </a:lnTo>
                <a:lnTo>
                  <a:pt x="0" y="119"/>
                </a:lnTo>
                <a:lnTo>
                  <a:pt x="1" y="130"/>
                </a:lnTo>
                <a:lnTo>
                  <a:pt x="3" y="143"/>
                </a:lnTo>
                <a:lnTo>
                  <a:pt x="6" y="154"/>
                </a:lnTo>
                <a:lnTo>
                  <a:pt x="10" y="165"/>
                </a:lnTo>
                <a:lnTo>
                  <a:pt x="14" y="176"/>
                </a:lnTo>
                <a:lnTo>
                  <a:pt x="20" y="185"/>
                </a:lnTo>
                <a:lnTo>
                  <a:pt x="28" y="194"/>
                </a:lnTo>
                <a:lnTo>
                  <a:pt x="36" y="202"/>
                </a:lnTo>
                <a:lnTo>
                  <a:pt x="43" y="210"/>
                </a:lnTo>
                <a:lnTo>
                  <a:pt x="53" y="217"/>
                </a:lnTo>
                <a:lnTo>
                  <a:pt x="62" y="223"/>
                </a:lnTo>
                <a:lnTo>
                  <a:pt x="73" y="228"/>
                </a:lnTo>
                <a:lnTo>
                  <a:pt x="83" y="232"/>
                </a:lnTo>
                <a:lnTo>
                  <a:pt x="95" y="235"/>
                </a:lnTo>
                <a:lnTo>
                  <a:pt x="107" y="237"/>
                </a:lnTo>
                <a:lnTo>
                  <a:pt x="119" y="237"/>
                </a:lnTo>
                <a:lnTo>
                  <a:pt x="130" y="237"/>
                </a:lnTo>
                <a:lnTo>
                  <a:pt x="143" y="235"/>
                </a:lnTo>
                <a:lnTo>
                  <a:pt x="154" y="232"/>
                </a:lnTo>
                <a:lnTo>
                  <a:pt x="165" y="228"/>
                </a:lnTo>
                <a:lnTo>
                  <a:pt x="176" y="223"/>
                </a:lnTo>
                <a:lnTo>
                  <a:pt x="185" y="217"/>
                </a:lnTo>
                <a:lnTo>
                  <a:pt x="194" y="210"/>
                </a:lnTo>
                <a:lnTo>
                  <a:pt x="202" y="202"/>
                </a:lnTo>
                <a:lnTo>
                  <a:pt x="210" y="194"/>
                </a:lnTo>
                <a:lnTo>
                  <a:pt x="217" y="185"/>
                </a:lnTo>
                <a:lnTo>
                  <a:pt x="223" y="176"/>
                </a:lnTo>
                <a:lnTo>
                  <a:pt x="228" y="165"/>
                </a:lnTo>
                <a:lnTo>
                  <a:pt x="232" y="154"/>
                </a:lnTo>
                <a:lnTo>
                  <a:pt x="235" y="143"/>
                </a:lnTo>
                <a:lnTo>
                  <a:pt x="237" y="130"/>
                </a:lnTo>
                <a:lnTo>
                  <a:pt x="237" y="119"/>
                </a:lnTo>
                <a:lnTo>
                  <a:pt x="207" y="119"/>
                </a:lnTo>
                <a:lnTo>
                  <a:pt x="207" y="109"/>
                </a:lnTo>
                <a:lnTo>
                  <a:pt x="205" y="101"/>
                </a:lnTo>
                <a:lnTo>
                  <a:pt x="203" y="92"/>
                </a:lnTo>
                <a:lnTo>
                  <a:pt x="201" y="84"/>
                </a:lnTo>
                <a:lnTo>
                  <a:pt x="197" y="77"/>
                </a:lnTo>
                <a:lnTo>
                  <a:pt x="192" y="69"/>
                </a:lnTo>
                <a:lnTo>
                  <a:pt x="187" y="62"/>
                </a:lnTo>
                <a:lnTo>
                  <a:pt x="181" y="56"/>
                </a:lnTo>
                <a:lnTo>
                  <a:pt x="176" y="50"/>
                </a:lnTo>
                <a:lnTo>
                  <a:pt x="168" y="45"/>
                </a:lnTo>
                <a:lnTo>
                  <a:pt x="161" y="40"/>
                </a:lnTo>
                <a:lnTo>
                  <a:pt x="154" y="37"/>
                </a:lnTo>
                <a:lnTo>
                  <a:pt x="145" y="34"/>
                </a:lnTo>
                <a:lnTo>
                  <a:pt x="136" y="32"/>
                </a:lnTo>
                <a:lnTo>
                  <a:pt x="128" y="31"/>
                </a:lnTo>
                <a:lnTo>
                  <a:pt x="119" y="30"/>
                </a:lnTo>
                <a:lnTo>
                  <a:pt x="109" y="31"/>
                </a:lnTo>
                <a:lnTo>
                  <a:pt x="101" y="32"/>
                </a:lnTo>
                <a:lnTo>
                  <a:pt x="92" y="34"/>
                </a:lnTo>
                <a:lnTo>
                  <a:pt x="84" y="37"/>
                </a:lnTo>
                <a:lnTo>
                  <a:pt x="77" y="40"/>
                </a:lnTo>
                <a:lnTo>
                  <a:pt x="69" y="45"/>
                </a:lnTo>
                <a:lnTo>
                  <a:pt x="62" y="50"/>
                </a:lnTo>
                <a:lnTo>
                  <a:pt x="56" y="56"/>
                </a:lnTo>
                <a:lnTo>
                  <a:pt x="50" y="62"/>
                </a:lnTo>
                <a:lnTo>
                  <a:pt x="45" y="69"/>
                </a:lnTo>
                <a:lnTo>
                  <a:pt x="40" y="77"/>
                </a:lnTo>
                <a:lnTo>
                  <a:pt x="37" y="84"/>
                </a:lnTo>
                <a:lnTo>
                  <a:pt x="34" y="92"/>
                </a:lnTo>
                <a:lnTo>
                  <a:pt x="32" y="101"/>
                </a:lnTo>
                <a:lnTo>
                  <a:pt x="31" y="109"/>
                </a:lnTo>
                <a:lnTo>
                  <a:pt x="30" y="119"/>
                </a:lnTo>
                <a:lnTo>
                  <a:pt x="31" y="128"/>
                </a:lnTo>
                <a:lnTo>
                  <a:pt x="32" y="136"/>
                </a:lnTo>
                <a:lnTo>
                  <a:pt x="34" y="145"/>
                </a:lnTo>
                <a:lnTo>
                  <a:pt x="37" y="154"/>
                </a:lnTo>
                <a:lnTo>
                  <a:pt x="40" y="161"/>
                </a:lnTo>
                <a:lnTo>
                  <a:pt x="45" y="168"/>
                </a:lnTo>
                <a:lnTo>
                  <a:pt x="50" y="176"/>
                </a:lnTo>
                <a:lnTo>
                  <a:pt x="56" y="181"/>
                </a:lnTo>
                <a:lnTo>
                  <a:pt x="62" y="187"/>
                </a:lnTo>
                <a:lnTo>
                  <a:pt x="69" y="192"/>
                </a:lnTo>
                <a:lnTo>
                  <a:pt x="77" y="197"/>
                </a:lnTo>
                <a:lnTo>
                  <a:pt x="84" y="201"/>
                </a:lnTo>
                <a:lnTo>
                  <a:pt x="92" y="203"/>
                </a:lnTo>
                <a:lnTo>
                  <a:pt x="101" y="205"/>
                </a:lnTo>
                <a:lnTo>
                  <a:pt x="109" y="207"/>
                </a:lnTo>
                <a:lnTo>
                  <a:pt x="119" y="207"/>
                </a:lnTo>
                <a:lnTo>
                  <a:pt x="128" y="207"/>
                </a:lnTo>
                <a:lnTo>
                  <a:pt x="136" y="205"/>
                </a:lnTo>
                <a:lnTo>
                  <a:pt x="145" y="203"/>
                </a:lnTo>
                <a:lnTo>
                  <a:pt x="154" y="201"/>
                </a:lnTo>
                <a:lnTo>
                  <a:pt x="161" y="197"/>
                </a:lnTo>
                <a:lnTo>
                  <a:pt x="168" y="192"/>
                </a:lnTo>
                <a:lnTo>
                  <a:pt x="176" y="187"/>
                </a:lnTo>
                <a:lnTo>
                  <a:pt x="181" y="181"/>
                </a:lnTo>
                <a:lnTo>
                  <a:pt x="187" y="176"/>
                </a:lnTo>
                <a:lnTo>
                  <a:pt x="192" y="168"/>
                </a:lnTo>
                <a:lnTo>
                  <a:pt x="197" y="161"/>
                </a:lnTo>
                <a:lnTo>
                  <a:pt x="201" y="154"/>
                </a:lnTo>
                <a:lnTo>
                  <a:pt x="203" y="145"/>
                </a:lnTo>
                <a:lnTo>
                  <a:pt x="205" y="136"/>
                </a:lnTo>
                <a:lnTo>
                  <a:pt x="207" y="128"/>
                </a:lnTo>
                <a:lnTo>
                  <a:pt x="207" y="119"/>
                </a:lnTo>
                <a:lnTo>
                  <a:pt x="237" y="119"/>
                </a:lnTo>
              </a:path>
            </a:pathLst>
          </a:custGeom>
          <a:solidFill>
            <a:srgbClr val="c3f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424400" y="5264280"/>
            <a:ext cx="279360" cy="27936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75" y="88"/>
                </a:moveTo>
                <a:lnTo>
                  <a:pt x="175" y="79"/>
                </a:lnTo>
                <a:lnTo>
                  <a:pt x="173" y="70"/>
                </a:lnTo>
                <a:lnTo>
                  <a:pt x="171" y="61"/>
                </a:lnTo>
                <a:lnTo>
                  <a:pt x="168" y="54"/>
                </a:lnTo>
                <a:lnTo>
                  <a:pt x="165" y="46"/>
                </a:lnTo>
                <a:lnTo>
                  <a:pt x="160" y="39"/>
                </a:lnTo>
                <a:lnTo>
                  <a:pt x="155" y="32"/>
                </a:lnTo>
                <a:lnTo>
                  <a:pt x="149" y="26"/>
                </a:lnTo>
                <a:lnTo>
                  <a:pt x="144" y="20"/>
                </a:lnTo>
                <a:lnTo>
                  <a:pt x="136" y="15"/>
                </a:lnTo>
                <a:lnTo>
                  <a:pt x="130" y="10"/>
                </a:lnTo>
                <a:lnTo>
                  <a:pt x="122" y="8"/>
                </a:lnTo>
                <a:lnTo>
                  <a:pt x="114" y="4"/>
                </a:lnTo>
                <a:lnTo>
                  <a:pt x="105" y="2"/>
                </a:lnTo>
                <a:lnTo>
                  <a:pt x="96" y="1"/>
                </a:lnTo>
                <a:lnTo>
                  <a:pt x="88" y="0"/>
                </a:lnTo>
                <a:lnTo>
                  <a:pt x="79" y="1"/>
                </a:lnTo>
                <a:lnTo>
                  <a:pt x="70" y="2"/>
                </a:lnTo>
                <a:lnTo>
                  <a:pt x="61" y="4"/>
                </a:lnTo>
                <a:lnTo>
                  <a:pt x="54" y="8"/>
                </a:lnTo>
                <a:lnTo>
                  <a:pt x="46" y="10"/>
                </a:lnTo>
                <a:lnTo>
                  <a:pt x="39" y="15"/>
                </a:lnTo>
                <a:lnTo>
                  <a:pt x="32" y="20"/>
                </a:lnTo>
                <a:lnTo>
                  <a:pt x="26" y="26"/>
                </a:lnTo>
                <a:lnTo>
                  <a:pt x="20" y="32"/>
                </a:lnTo>
                <a:lnTo>
                  <a:pt x="15" y="39"/>
                </a:lnTo>
                <a:lnTo>
                  <a:pt x="10" y="46"/>
                </a:lnTo>
                <a:lnTo>
                  <a:pt x="8" y="54"/>
                </a:lnTo>
                <a:lnTo>
                  <a:pt x="4" y="61"/>
                </a:lnTo>
                <a:lnTo>
                  <a:pt x="2" y="70"/>
                </a:lnTo>
                <a:lnTo>
                  <a:pt x="1" y="79"/>
                </a:lnTo>
                <a:lnTo>
                  <a:pt x="0" y="88"/>
                </a:lnTo>
                <a:lnTo>
                  <a:pt x="1" y="96"/>
                </a:lnTo>
                <a:lnTo>
                  <a:pt x="2" y="105"/>
                </a:lnTo>
                <a:lnTo>
                  <a:pt x="4" y="114"/>
                </a:lnTo>
                <a:lnTo>
                  <a:pt x="8" y="122"/>
                </a:lnTo>
                <a:lnTo>
                  <a:pt x="10" y="130"/>
                </a:lnTo>
                <a:lnTo>
                  <a:pt x="15" y="136"/>
                </a:lnTo>
                <a:lnTo>
                  <a:pt x="20" y="144"/>
                </a:lnTo>
                <a:lnTo>
                  <a:pt x="26" y="149"/>
                </a:lnTo>
                <a:lnTo>
                  <a:pt x="32" y="155"/>
                </a:lnTo>
                <a:lnTo>
                  <a:pt x="39" y="160"/>
                </a:lnTo>
                <a:lnTo>
                  <a:pt x="46" y="165"/>
                </a:lnTo>
                <a:lnTo>
                  <a:pt x="54" y="168"/>
                </a:lnTo>
                <a:lnTo>
                  <a:pt x="61" y="171"/>
                </a:lnTo>
                <a:lnTo>
                  <a:pt x="70" y="173"/>
                </a:lnTo>
                <a:lnTo>
                  <a:pt x="79" y="175"/>
                </a:lnTo>
                <a:lnTo>
                  <a:pt x="88" y="175"/>
                </a:lnTo>
                <a:lnTo>
                  <a:pt x="96" y="175"/>
                </a:lnTo>
                <a:lnTo>
                  <a:pt x="105" y="173"/>
                </a:lnTo>
                <a:lnTo>
                  <a:pt x="114" y="171"/>
                </a:lnTo>
                <a:lnTo>
                  <a:pt x="122" y="168"/>
                </a:lnTo>
                <a:lnTo>
                  <a:pt x="130" y="165"/>
                </a:lnTo>
                <a:lnTo>
                  <a:pt x="136" y="160"/>
                </a:lnTo>
                <a:lnTo>
                  <a:pt x="144" y="155"/>
                </a:lnTo>
                <a:lnTo>
                  <a:pt x="149" y="149"/>
                </a:lnTo>
                <a:lnTo>
                  <a:pt x="155" y="144"/>
                </a:lnTo>
                <a:lnTo>
                  <a:pt x="160" y="136"/>
                </a:lnTo>
                <a:lnTo>
                  <a:pt x="165" y="130"/>
                </a:lnTo>
                <a:lnTo>
                  <a:pt x="168" y="122"/>
                </a:lnTo>
                <a:lnTo>
                  <a:pt x="171" y="114"/>
                </a:lnTo>
                <a:lnTo>
                  <a:pt x="173" y="105"/>
                </a:lnTo>
                <a:lnTo>
                  <a:pt x="175" y="96"/>
                </a:lnTo>
                <a:lnTo>
                  <a:pt x="175" y="88"/>
                </a:lnTo>
                <a:lnTo>
                  <a:pt x="146" y="88"/>
                </a:lnTo>
                <a:lnTo>
                  <a:pt x="145" y="76"/>
                </a:lnTo>
                <a:lnTo>
                  <a:pt x="141" y="65"/>
                </a:lnTo>
                <a:lnTo>
                  <a:pt x="136" y="56"/>
                </a:lnTo>
                <a:lnTo>
                  <a:pt x="129" y="46"/>
                </a:lnTo>
                <a:lnTo>
                  <a:pt x="120" y="40"/>
                </a:lnTo>
                <a:lnTo>
                  <a:pt x="110" y="34"/>
                </a:lnTo>
                <a:lnTo>
                  <a:pt x="99" y="31"/>
                </a:lnTo>
                <a:lnTo>
                  <a:pt x="88" y="29"/>
                </a:lnTo>
                <a:lnTo>
                  <a:pt x="76" y="31"/>
                </a:lnTo>
                <a:lnTo>
                  <a:pt x="65" y="34"/>
                </a:lnTo>
                <a:lnTo>
                  <a:pt x="56" y="40"/>
                </a:lnTo>
                <a:lnTo>
                  <a:pt x="46" y="46"/>
                </a:lnTo>
                <a:lnTo>
                  <a:pt x="40" y="56"/>
                </a:lnTo>
                <a:lnTo>
                  <a:pt x="34" y="65"/>
                </a:lnTo>
                <a:lnTo>
                  <a:pt x="31" y="76"/>
                </a:lnTo>
                <a:lnTo>
                  <a:pt x="29" y="88"/>
                </a:lnTo>
                <a:lnTo>
                  <a:pt x="31" y="99"/>
                </a:lnTo>
                <a:lnTo>
                  <a:pt x="34" y="110"/>
                </a:lnTo>
                <a:lnTo>
                  <a:pt x="40" y="120"/>
                </a:lnTo>
                <a:lnTo>
                  <a:pt x="46" y="129"/>
                </a:lnTo>
                <a:lnTo>
                  <a:pt x="56" y="136"/>
                </a:lnTo>
                <a:lnTo>
                  <a:pt x="65" y="141"/>
                </a:lnTo>
                <a:lnTo>
                  <a:pt x="76" y="145"/>
                </a:lnTo>
                <a:lnTo>
                  <a:pt x="88" y="146"/>
                </a:lnTo>
                <a:lnTo>
                  <a:pt x="99" y="145"/>
                </a:lnTo>
                <a:lnTo>
                  <a:pt x="110" y="141"/>
                </a:lnTo>
                <a:lnTo>
                  <a:pt x="120" y="136"/>
                </a:lnTo>
                <a:lnTo>
                  <a:pt x="129" y="129"/>
                </a:lnTo>
                <a:lnTo>
                  <a:pt x="136" y="120"/>
                </a:lnTo>
                <a:lnTo>
                  <a:pt x="141" y="110"/>
                </a:lnTo>
                <a:lnTo>
                  <a:pt x="145" y="99"/>
                </a:lnTo>
                <a:lnTo>
                  <a:pt x="146" y="88"/>
                </a:lnTo>
                <a:lnTo>
                  <a:pt x="175" y="88"/>
                </a:lnTo>
              </a:path>
            </a:pathLst>
          </a:custGeom>
          <a:solidFill>
            <a:srgbClr val="c6f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73720" y="5313240"/>
            <a:ext cx="180720" cy="18108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113" y="57"/>
                </a:moveTo>
                <a:lnTo>
                  <a:pt x="112" y="45"/>
                </a:lnTo>
                <a:lnTo>
                  <a:pt x="108" y="35"/>
                </a:lnTo>
                <a:lnTo>
                  <a:pt x="104" y="26"/>
                </a:lnTo>
                <a:lnTo>
                  <a:pt x="96" y="17"/>
                </a:lnTo>
                <a:lnTo>
                  <a:pt x="88" y="10"/>
                </a:lnTo>
                <a:lnTo>
                  <a:pt x="78" y="5"/>
                </a:lnTo>
                <a:lnTo>
                  <a:pt x="68" y="2"/>
                </a:lnTo>
                <a:lnTo>
                  <a:pt x="57" y="0"/>
                </a:lnTo>
                <a:lnTo>
                  <a:pt x="45" y="2"/>
                </a:lnTo>
                <a:lnTo>
                  <a:pt x="35" y="5"/>
                </a:lnTo>
                <a:lnTo>
                  <a:pt x="26" y="10"/>
                </a:lnTo>
                <a:lnTo>
                  <a:pt x="17" y="17"/>
                </a:lnTo>
                <a:lnTo>
                  <a:pt x="10" y="26"/>
                </a:lnTo>
                <a:lnTo>
                  <a:pt x="5" y="35"/>
                </a:lnTo>
                <a:lnTo>
                  <a:pt x="2" y="45"/>
                </a:lnTo>
                <a:lnTo>
                  <a:pt x="0" y="57"/>
                </a:lnTo>
                <a:lnTo>
                  <a:pt x="2" y="68"/>
                </a:lnTo>
                <a:lnTo>
                  <a:pt x="5" y="78"/>
                </a:lnTo>
                <a:lnTo>
                  <a:pt x="10" y="88"/>
                </a:lnTo>
                <a:lnTo>
                  <a:pt x="17" y="96"/>
                </a:lnTo>
                <a:lnTo>
                  <a:pt x="26" y="104"/>
                </a:lnTo>
                <a:lnTo>
                  <a:pt x="35" y="108"/>
                </a:lnTo>
                <a:lnTo>
                  <a:pt x="45" y="112"/>
                </a:lnTo>
                <a:lnTo>
                  <a:pt x="57" y="113"/>
                </a:lnTo>
                <a:lnTo>
                  <a:pt x="68" y="112"/>
                </a:lnTo>
                <a:lnTo>
                  <a:pt x="78" y="108"/>
                </a:lnTo>
                <a:lnTo>
                  <a:pt x="88" y="104"/>
                </a:lnTo>
                <a:lnTo>
                  <a:pt x="96" y="96"/>
                </a:lnTo>
                <a:lnTo>
                  <a:pt x="104" y="88"/>
                </a:lnTo>
                <a:lnTo>
                  <a:pt x="108" y="78"/>
                </a:lnTo>
                <a:lnTo>
                  <a:pt x="112" y="68"/>
                </a:lnTo>
                <a:lnTo>
                  <a:pt x="113" y="57"/>
                </a:lnTo>
                <a:lnTo>
                  <a:pt x="85" y="57"/>
                </a:lnTo>
                <a:lnTo>
                  <a:pt x="85" y="51"/>
                </a:lnTo>
                <a:lnTo>
                  <a:pt x="83" y="46"/>
                </a:lnTo>
                <a:lnTo>
                  <a:pt x="80" y="41"/>
                </a:lnTo>
                <a:lnTo>
                  <a:pt x="76" y="37"/>
                </a:lnTo>
                <a:lnTo>
                  <a:pt x="73" y="34"/>
                </a:lnTo>
                <a:lnTo>
                  <a:pt x="67" y="31"/>
                </a:lnTo>
                <a:lnTo>
                  <a:pt x="62" y="29"/>
                </a:lnTo>
                <a:lnTo>
                  <a:pt x="57" y="28"/>
                </a:lnTo>
                <a:lnTo>
                  <a:pt x="51" y="29"/>
                </a:lnTo>
                <a:lnTo>
                  <a:pt x="46" y="31"/>
                </a:lnTo>
                <a:lnTo>
                  <a:pt x="41" y="34"/>
                </a:lnTo>
                <a:lnTo>
                  <a:pt x="37" y="37"/>
                </a:lnTo>
                <a:lnTo>
                  <a:pt x="34" y="41"/>
                </a:lnTo>
                <a:lnTo>
                  <a:pt x="31" y="46"/>
                </a:lnTo>
                <a:lnTo>
                  <a:pt x="29" y="51"/>
                </a:lnTo>
                <a:lnTo>
                  <a:pt x="28" y="57"/>
                </a:lnTo>
                <a:lnTo>
                  <a:pt x="29" y="62"/>
                </a:lnTo>
                <a:lnTo>
                  <a:pt x="31" y="67"/>
                </a:lnTo>
                <a:lnTo>
                  <a:pt x="34" y="73"/>
                </a:lnTo>
                <a:lnTo>
                  <a:pt x="37" y="76"/>
                </a:lnTo>
                <a:lnTo>
                  <a:pt x="41" y="80"/>
                </a:lnTo>
                <a:lnTo>
                  <a:pt x="46" y="83"/>
                </a:lnTo>
                <a:lnTo>
                  <a:pt x="51" y="85"/>
                </a:lnTo>
                <a:lnTo>
                  <a:pt x="57" y="85"/>
                </a:lnTo>
                <a:lnTo>
                  <a:pt x="62" y="85"/>
                </a:lnTo>
                <a:lnTo>
                  <a:pt x="67" y="83"/>
                </a:lnTo>
                <a:lnTo>
                  <a:pt x="73" y="80"/>
                </a:lnTo>
                <a:lnTo>
                  <a:pt x="76" y="76"/>
                </a:lnTo>
                <a:lnTo>
                  <a:pt x="80" y="73"/>
                </a:lnTo>
                <a:lnTo>
                  <a:pt x="83" y="67"/>
                </a:lnTo>
                <a:lnTo>
                  <a:pt x="85" y="62"/>
                </a:lnTo>
                <a:lnTo>
                  <a:pt x="85" y="57"/>
                </a:lnTo>
                <a:lnTo>
                  <a:pt x="113" y="57"/>
                </a:lnTo>
              </a:path>
            </a:pathLst>
          </a:custGeom>
          <a:solidFill>
            <a:srgbClr val="c9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522680" y="5362560"/>
            <a:ext cx="82800" cy="82440"/>
          </a:xfrm>
          <a:custGeom>
            <a:avLst/>
            <a:gdLst/>
            <a:ahLst/>
            <a:rect l="l" t="t" r="r" b="b"/>
            <a:pathLst>
              <a:path w="52" h="52">
                <a:moveTo>
                  <a:pt x="51" y="26"/>
                </a:moveTo>
                <a:lnTo>
                  <a:pt x="51" y="21"/>
                </a:lnTo>
                <a:lnTo>
                  <a:pt x="49" y="16"/>
                </a:lnTo>
                <a:lnTo>
                  <a:pt x="47" y="12"/>
                </a:lnTo>
                <a:lnTo>
                  <a:pt x="43" y="8"/>
                </a:lnTo>
                <a:lnTo>
                  <a:pt x="40" y="5"/>
                </a:lnTo>
                <a:lnTo>
                  <a:pt x="35" y="3"/>
                </a:lnTo>
                <a:lnTo>
                  <a:pt x="31" y="1"/>
                </a:lnTo>
                <a:lnTo>
                  <a:pt x="26" y="0"/>
                </a:lnTo>
                <a:lnTo>
                  <a:pt x="21" y="1"/>
                </a:lnTo>
                <a:lnTo>
                  <a:pt x="16" y="3"/>
                </a:lnTo>
                <a:lnTo>
                  <a:pt x="12" y="5"/>
                </a:lnTo>
                <a:lnTo>
                  <a:pt x="8" y="8"/>
                </a:lnTo>
                <a:lnTo>
                  <a:pt x="5" y="12"/>
                </a:lnTo>
                <a:lnTo>
                  <a:pt x="3" y="16"/>
                </a:lnTo>
                <a:lnTo>
                  <a:pt x="1" y="21"/>
                </a:lnTo>
                <a:lnTo>
                  <a:pt x="0" y="26"/>
                </a:lnTo>
                <a:lnTo>
                  <a:pt x="1" y="31"/>
                </a:lnTo>
                <a:lnTo>
                  <a:pt x="3" y="35"/>
                </a:lnTo>
                <a:lnTo>
                  <a:pt x="5" y="40"/>
                </a:lnTo>
                <a:lnTo>
                  <a:pt x="8" y="43"/>
                </a:lnTo>
                <a:lnTo>
                  <a:pt x="12" y="47"/>
                </a:lnTo>
                <a:lnTo>
                  <a:pt x="16" y="49"/>
                </a:lnTo>
                <a:lnTo>
                  <a:pt x="21" y="51"/>
                </a:lnTo>
                <a:lnTo>
                  <a:pt x="26" y="51"/>
                </a:lnTo>
                <a:lnTo>
                  <a:pt x="31" y="51"/>
                </a:lnTo>
                <a:lnTo>
                  <a:pt x="35" y="49"/>
                </a:lnTo>
                <a:lnTo>
                  <a:pt x="40" y="47"/>
                </a:lnTo>
                <a:lnTo>
                  <a:pt x="43" y="43"/>
                </a:lnTo>
                <a:lnTo>
                  <a:pt x="47" y="40"/>
                </a:lnTo>
                <a:lnTo>
                  <a:pt x="49" y="35"/>
                </a:lnTo>
                <a:lnTo>
                  <a:pt x="51" y="31"/>
                </a:lnTo>
                <a:lnTo>
                  <a:pt x="51" y="26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840120" y="4757760"/>
            <a:ext cx="1463760" cy="1309680"/>
          </a:xfrm>
          <a:custGeom>
            <a:avLst/>
            <a:gdLst/>
            <a:ahLst/>
            <a:rect l="l" t="t" r="r" b="b"/>
            <a:pathLst>
              <a:path w="922" h="825">
                <a:moveTo>
                  <a:pt x="0" y="0"/>
                </a:moveTo>
                <a:lnTo>
                  <a:pt x="921" y="0"/>
                </a:lnTo>
                <a:lnTo>
                  <a:pt x="921" y="824"/>
                </a:lnTo>
                <a:lnTo>
                  <a:pt x="0" y="8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660840" y="4664160"/>
            <a:ext cx="163440" cy="1471680"/>
          </a:xfrm>
          <a:custGeom>
            <a:avLst/>
            <a:gdLst/>
            <a:ahLst/>
            <a:rect l="l" t="t" r="r" b="b"/>
            <a:pathLst>
              <a:path w="103" h="927">
                <a:moveTo>
                  <a:pt x="102" y="24"/>
                </a:moveTo>
                <a:lnTo>
                  <a:pt x="102" y="0"/>
                </a:lnTo>
                <a:lnTo>
                  <a:pt x="66" y="21"/>
                </a:lnTo>
                <a:lnTo>
                  <a:pt x="70" y="21"/>
                </a:lnTo>
                <a:lnTo>
                  <a:pt x="74" y="21"/>
                </a:lnTo>
                <a:lnTo>
                  <a:pt x="78" y="21"/>
                </a:lnTo>
                <a:lnTo>
                  <a:pt x="83" y="21"/>
                </a:lnTo>
                <a:lnTo>
                  <a:pt x="87" y="22"/>
                </a:lnTo>
                <a:lnTo>
                  <a:pt x="92" y="22"/>
                </a:lnTo>
                <a:lnTo>
                  <a:pt x="97" y="23"/>
                </a:lnTo>
                <a:lnTo>
                  <a:pt x="102" y="24"/>
                </a:lnTo>
                <a:lnTo>
                  <a:pt x="0" y="902"/>
                </a:lnTo>
                <a:lnTo>
                  <a:pt x="0" y="926"/>
                </a:lnTo>
                <a:lnTo>
                  <a:pt x="36" y="905"/>
                </a:lnTo>
                <a:lnTo>
                  <a:pt x="32" y="905"/>
                </a:lnTo>
                <a:lnTo>
                  <a:pt x="28" y="905"/>
                </a:lnTo>
                <a:lnTo>
                  <a:pt x="24" y="904"/>
                </a:lnTo>
                <a:lnTo>
                  <a:pt x="19" y="904"/>
                </a:lnTo>
                <a:lnTo>
                  <a:pt x="15" y="904"/>
                </a:lnTo>
                <a:lnTo>
                  <a:pt x="10" y="903"/>
                </a:lnTo>
                <a:lnTo>
                  <a:pt x="5" y="902"/>
                </a:lnTo>
                <a:lnTo>
                  <a:pt x="0" y="902"/>
                </a:lnTo>
                <a:lnTo>
                  <a:pt x="102" y="24"/>
                </a:lnTo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660840" y="4697280"/>
            <a:ext cx="163440" cy="1405080"/>
          </a:xfrm>
          <a:custGeom>
            <a:avLst/>
            <a:gdLst/>
            <a:ahLst/>
            <a:rect l="l" t="t" r="r" b="b"/>
            <a:pathLst>
              <a:path w="103" h="885">
                <a:moveTo>
                  <a:pt x="102" y="3"/>
                </a:moveTo>
                <a:lnTo>
                  <a:pt x="102" y="27"/>
                </a:lnTo>
                <a:lnTo>
                  <a:pt x="97" y="26"/>
                </a:lnTo>
                <a:lnTo>
                  <a:pt x="92" y="25"/>
                </a:lnTo>
                <a:lnTo>
                  <a:pt x="87" y="25"/>
                </a:lnTo>
                <a:lnTo>
                  <a:pt x="82" y="24"/>
                </a:lnTo>
                <a:lnTo>
                  <a:pt x="77" y="24"/>
                </a:lnTo>
                <a:lnTo>
                  <a:pt x="72" y="24"/>
                </a:lnTo>
                <a:lnTo>
                  <a:pt x="67" y="23"/>
                </a:lnTo>
                <a:lnTo>
                  <a:pt x="63" y="23"/>
                </a:lnTo>
                <a:lnTo>
                  <a:pt x="57" y="23"/>
                </a:lnTo>
                <a:lnTo>
                  <a:pt x="53" y="23"/>
                </a:lnTo>
                <a:lnTo>
                  <a:pt x="48" y="23"/>
                </a:lnTo>
                <a:lnTo>
                  <a:pt x="43" y="23"/>
                </a:lnTo>
                <a:lnTo>
                  <a:pt x="38" y="23"/>
                </a:lnTo>
                <a:lnTo>
                  <a:pt x="34" y="23"/>
                </a:lnTo>
                <a:lnTo>
                  <a:pt x="28" y="23"/>
                </a:lnTo>
                <a:lnTo>
                  <a:pt x="24" y="24"/>
                </a:lnTo>
                <a:lnTo>
                  <a:pt x="66" y="0"/>
                </a:lnTo>
                <a:lnTo>
                  <a:pt x="70" y="0"/>
                </a:lnTo>
                <a:lnTo>
                  <a:pt x="74" y="0"/>
                </a:lnTo>
                <a:lnTo>
                  <a:pt x="78" y="0"/>
                </a:lnTo>
                <a:lnTo>
                  <a:pt x="83" y="0"/>
                </a:lnTo>
                <a:lnTo>
                  <a:pt x="87" y="1"/>
                </a:lnTo>
                <a:lnTo>
                  <a:pt x="92" y="1"/>
                </a:lnTo>
                <a:lnTo>
                  <a:pt x="97" y="2"/>
                </a:lnTo>
                <a:lnTo>
                  <a:pt x="102" y="3"/>
                </a:lnTo>
                <a:lnTo>
                  <a:pt x="0" y="881"/>
                </a:lnTo>
                <a:lnTo>
                  <a:pt x="0" y="857"/>
                </a:lnTo>
                <a:lnTo>
                  <a:pt x="5" y="857"/>
                </a:lnTo>
                <a:lnTo>
                  <a:pt x="10" y="858"/>
                </a:lnTo>
                <a:lnTo>
                  <a:pt x="15" y="859"/>
                </a:lnTo>
                <a:lnTo>
                  <a:pt x="20" y="859"/>
                </a:lnTo>
                <a:lnTo>
                  <a:pt x="25" y="860"/>
                </a:lnTo>
                <a:lnTo>
                  <a:pt x="30" y="860"/>
                </a:lnTo>
                <a:lnTo>
                  <a:pt x="35" y="860"/>
                </a:lnTo>
                <a:lnTo>
                  <a:pt x="40" y="860"/>
                </a:lnTo>
                <a:lnTo>
                  <a:pt x="45" y="861"/>
                </a:lnTo>
                <a:lnTo>
                  <a:pt x="49" y="861"/>
                </a:lnTo>
                <a:lnTo>
                  <a:pt x="55" y="861"/>
                </a:lnTo>
                <a:lnTo>
                  <a:pt x="59" y="861"/>
                </a:lnTo>
                <a:lnTo>
                  <a:pt x="65" y="861"/>
                </a:lnTo>
                <a:lnTo>
                  <a:pt x="69" y="860"/>
                </a:lnTo>
                <a:lnTo>
                  <a:pt x="74" y="860"/>
                </a:lnTo>
                <a:lnTo>
                  <a:pt x="79" y="860"/>
                </a:lnTo>
                <a:lnTo>
                  <a:pt x="36" y="884"/>
                </a:lnTo>
                <a:lnTo>
                  <a:pt x="32" y="884"/>
                </a:lnTo>
                <a:lnTo>
                  <a:pt x="28" y="884"/>
                </a:lnTo>
                <a:lnTo>
                  <a:pt x="24" y="883"/>
                </a:lnTo>
                <a:lnTo>
                  <a:pt x="19" y="883"/>
                </a:lnTo>
                <a:lnTo>
                  <a:pt x="15" y="883"/>
                </a:lnTo>
                <a:lnTo>
                  <a:pt x="10" y="882"/>
                </a:lnTo>
                <a:lnTo>
                  <a:pt x="5" y="881"/>
                </a:lnTo>
                <a:lnTo>
                  <a:pt x="0" y="881"/>
                </a:lnTo>
                <a:lnTo>
                  <a:pt x="102" y="3"/>
                </a:lnTo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660840" y="4734000"/>
            <a:ext cx="163440" cy="1332000"/>
          </a:xfrm>
          <a:custGeom>
            <a:avLst/>
            <a:gdLst/>
            <a:ahLst/>
            <a:rect l="l" t="t" r="r" b="b"/>
            <a:pathLst>
              <a:path w="103" h="839">
                <a:moveTo>
                  <a:pt x="102" y="4"/>
                </a:moveTo>
                <a:lnTo>
                  <a:pt x="102" y="27"/>
                </a:lnTo>
                <a:lnTo>
                  <a:pt x="96" y="26"/>
                </a:lnTo>
                <a:lnTo>
                  <a:pt x="89" y="26"/>
                </a:lnTo>
                <a:lnTo>
                  <a:pt x="83" y="25"/>
                </a:lnTo>
                <a:lnTo>
                  <a:pt x="77" y="24"/>
                </a:lnTo>
                <a:lnTo>
                  <a:pt x="70" y="24"/>
                </a:lnTo>
                <a:lnTo>
                  <a:pt x="64" y="24"/>
                </a:lnTo>
                <a:lnTo>
                  <a:pt x="57" y="24"/>
                </a:lnTo>
                <a:lnTo>
                  <a:pt x="51" y="23"/>
                </a:lnTo>
                <a:lnTo>
                  <a:pt x="45" y="24"/>
                </a:lnTo>
                <a:lnTo>
                  <a:pt x="38" y="24"/>
                </a:lnTo>
                <a:lnTo>
                  <a:pt x="32" y="24"/>
                </a:lnTo>
                <a:lnTo>
                  <a:pt x="26" y="24"/>
                </a:lnTo>
                <a:lnTo>
                  <a:pt x="19" y="25"/>
                </a:lnTo>
                <a:lnTo>
                  <a:pt x="13" y="26"/>
                </a:lnTo>
                <a:lnTo>
                  <a:pt x="6" y="26"/>
                </a:lnTo>
                <a:lnTo>
                  <a:pt x="0" y="27"/>
                </a:lnTo>
                <a:lnTo>
                  <a:pt x="0" y="14"/>
                </a:lnTo>
                <a:lnTo>
                  <a:pt x="24" y="1"/>
                </a:lnTo>
                <a:lnTo>
                  <a:pt x="28" y="0"/>
                </a:lnTo>
                <a:lnTo>
                  <a:pt x="34" y="0"/>
                </a:lnTo>
                <a:lnTo>
                  <a:pt x="38" y="0"/>
                </a:lnTo>
                <a:lnTo>
                  <a:pt x="43" y="0"/>
                </a:lnTo>
                <a:lnTo>
                  <a:pt x="48" y="0"/>
                </a:lnTo>
                <a:lnTo>
                  <a:pt x="53" y="0"/>
                </a:lnTo>
                <a:lnTo>
                  <a:pt x="57" y="0"/>
                </a:lnTo>
                <a:lnTo>
                  <a:pt x="63" y="0"/>
                </a:lnTo>
                <a:lnTo>
                  <a:pt x="67" y="0"/>
                </a:lnTo>
                <a:lnTo>
                  <a:pt x="72" y="1"/>
                </a:lnTo>
                <a:lnTo>
                  <a:pt x="77" y="1"/>
                </a:lnTo>
                <a:lnTo>
                  <a:pt x="82" y="1"/>
                </a:lnTo>
                <a:lnTo>
                  <a:pt x="87" y="2"/>
                </a:lnTo>
                <a:lnTo>
                  <a:pt x="92" y="2"/>
                </a:lnTo>
                <a:lnTo>
                  <a:pt x="97" y="3"/>
                </a:lnTo>
                <a:lnTo>
                  <a:pt x="102" y="4"/>
                </a:lnTo>
                <a:lnTo>
                  <a:pt x="0" y="834"/>
                </a:lnTo>
                <a:lnTo>
                  <a:pt x="0" y="810"/>
                </a:lnTo>
                <a:lnTo>
                  <a:pt x="6" y="811"/>
                </a:lnTo>
                <a:lnTo>
                  <a:pt x="13" y="812"/>
                </a:lnTo>
                <a:lnTo>
                  <a:pt x="19" y="813"/>
                </a:lnTo>
                <a:lnTo>
                  <a:pt x="26" y="813"/>
                </a:lnTo>
                <a:lnTo>
                  <a:pt x="32" y="813"/>
                </a:lnTo>
                <a:lnTo>
                  <a:pt x="38" y="814"/>
                </a:lnTo>
                <a:lnTo>
                  <a:pt x="45" y="814"/>
                </a:lnTo>
                <a:lnTo>
                  <a:pt x="51" y="814"/>
                </a:lnTo>
                <a:lnTo>
                  <a:pt x="57" y="814"/>
                </a:lnTo>
                <a:lnTo>
                  <a:pt x="64" y="814"/>
                </a:lnTo>
                <a:lnTo>
                  <a:pt x="70" y="813"/>
                </a:lnTo>
                <a:lnTo>
                  <a:pt x="77" y="813"/>
                </a:lnTo>
                <a:lnTo>
                  <a:pt x="83" y="813"/>
                </a:lnTo>
                <a:lnTo>
                  <a:pt x="89" y="812"/>
                </a:lnTo>
                <a:lnTo>
                  <a:pt x="96" y="811"/>
                </a:lnTo>
                <a:lnTo>
                  <a:pt x="102" y="810"/>
                </a:lnTo>
                <a:lnTo>
                  <a:pt x="102" y="824"/>
                </a:lnTo>
                <a:lnTo>
                  <a:pt x="79" y="837"/>
                </a:lnTo>
                <a:lnTo>
                  <a:pt x="74" y="837"/>
                </a:lnTo>
                <a:lnTo>
                  <a:pt x="69" y="837"/>
                </a:lnTo>
                <a:lnTo>
                  <a:pt x="65" y="838"/>
                </a:lnTo>
                <a:lnTo>
                  <a:pt x="59" y="838"/>
                </a:lnTo>
                <a:lnTo>
                  <a:pt x="55" y="838"/>
                </a:lnTo>
                <a:lnTo>
                  <a:pt x="49" y="838"/>
                </a:lnTo>
                <a:lnTo>
                  <a:pt x="45" y="838"/>
                </a:lnTo>
                <a:lnTo>
                  <a:pt x="40" y="837"/>
                </a:lnTo>
                <a:lnTo>
                  <a:pt x="35" y="837"/>
                </a:lnTo>
                <a:lnTo>
                  <a:pt x="30" y="837"/>
                </a:lnTo>
                <a:lnTo>
                  <a:pt x="25" y="837"/>
                </a:lnTo>
                <a:lnTo>
                  <a:pt x="20" y="836"/>
                </a:lnTo>
                <a:lnTo>
                  <a:pt x="15" y="836"/>
                </a:lnTo>
                <a:lnTo>
                  <a:pt x="10" y="835"/>
                </a:lnTo>
                <a:lnTo>
                  <a:pt x="5" y="834"/>
                </a:lnTo>
                <a:lnTo>
                  <a:pt x="0" y="834"/>
                </a:lnTo>
                <a:lnTo>
                  <a:pt x="102" y="4"/>
                </a:lnTo>
              </a:path>
            </a:pathLst>
          </a:custGeom>
          <a:solidFill>
            <a:srgbClr val="9e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660840" y="4770360"/>
            <a:ext cx="163440" cy="1257480"/>
          </a:xfrm>
          <a:custGeom>
            <a:avLst/>
            <a:gdLst/>
            <a:ahLst/>
            <a:rect l="l" t="t" r="r" b="b"/>
            <a:pathLst>
              <a:path w="103" h="792">
                <a:moveTo>
                  <a:pt x="102" y="4"/>
                </a:moveTo>
                <a:lnTo>
                  <a:pt x="102" y="28"/>
                </a:lnTo>
                <a:lnTo>
                  <a:pt x="96" y="27"/>
                </a:lnTo>
                <a:lnTo>
                  <a:pt x="89" y="26"/>
                </a:lnTo>
                <a:lnTo>
                  <a:pt x="83" y="26"/>
                </a:lnTo>
                <a:lnTo>
                  <a:pt x="77" y="25"/>
                </a:lnTo>
                <a:lnTo>
                  <a:pt x="70" y="24"/>
                </a:lnTo>
                <a:lnTo>
                  <a:pt x="64" y="24"/>
                </a:lnTo>
                <a:lnTo>
                  <a:pt x="57" y="24"/>
                </a:lnTo>
                <a:lnTo>
                  <a:pt x="51" y="24"/>
                </a:lnTo>
                <a:lnTo>
                  <a:pt x="45" y="24"/>
                </a:lnTo>
                <a:lnTo>
                  <a:pt x="38" y="24"/>
                </a:lnTo>
                <a:lnTo>
                  <a:pt x="32" y="24"/>
                </a:lnTo>
                <a:lnTo>
                  <a:pt x="26" y="25"/>
                </a:lnTo>
                <a:lnTo>
                  <a:pt x="19" y="26"/>
                </a:lnTo>
                <a:lnTo>
                  <a:pt x="13" y="26"/>
                </a:lnTo>
                <a:lnTo>
                  <a:pt x="6" y="27"/>
                </a:lnTo>
                <a:lnTo>
                  <a:pt x="0" y="28"/>
                </a:lnTo>
                <a:lnTo>
                  <a:pt x="0" y="4"/>
                </a:lnTo>
                <a:lnTo>
                  <a:pt x="6" y="3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2" y="1"/>
                </a:lnTo>
                <a:lnTo>
                  <a:pt x="38" y="1"/>
                </a:lnTo>
                <a:lnTo>
                  <a:pt x="45" y="1"/>
                </a:lnTo>
                <a:lnTo>
                  <a:pt x="51" y="0"/>
                </a:lnTo>
                <a:lnTo>
                  <a:pt x="57" y="1"/>
                </a:lnTo>
                <a:lnTo>
                  <a:pt x="64" y="1"/>
                </a:lnTo>
                <a:lnTo>
                  <a:pt x="70" y="1"/>
                </a:lnTo>
                <a:lnTo>
                  <a:pt x="77" y="1"/>
                </a:lnTo>
                <a:lnTo>
                  <a:pt x="83" y="2"/>
                </a:lnTo>
                <a:lnTo>
                  <a:pt x="89" y="3"/>
                </a:lnTo>
                <a:lnTo>
                  <a:pt x="96" y="3"/>
                </a:lnTo>
                <a:lnTo>
                  <a:pt x="102" y="4"/>
                </a:lnTo>
                <a:lnTo>
                  <a:pt x="0" y="787"/>
                </a:lnTo>
                <a:lnTo>
                  <a:pt x="0" y="763"/>
                </a:lnTo>
                <a:lnTo>
                  <a:pt x="6" y="764"/>
                </a:lnTo>
                <a:lnTo>
                  <a:pt x="13" y="765"/>
                </a:lnTo>
                <a:lnTo>
                  <a:pt x="19" y="766"/>
                </a:lnTo>
                <a:lnTo>
                  <a:pt x="26" y="767"/>
                </a:lnTo>
                <a:lnTo>
                  <a:pt x="32" y="767"/>
                </a:lnTo>
                <a:lnTo>
                  <a:pt x="38" y="767"/>
                </a:lnTo>
                <a:lnTo>
                  <a:pt x="45" y="768"/>
                </a:lnTo>
                <a:lnTo>
                  <a:pt x="51" y="768"/>
                </a:lnTo>
                <a:lnTo>
                  <a:pt x="57" y="768"/>
                </a:lnTo>
                <a:lnTo>
                  <a:pt x="64" y="767"/>
                </a:lnTo>
                <a:lnTo>
                  <a:pt x="70" y="767"/>
                </a:lnTo>
                <a:lnTo>
                  <a:pt x="77" y="767"/>
                </a:lnTo>
                <a:lnTo>
                  <a:pt x="83" y="766"/>
                </a:lnTo>
                <a:lnTo>
                  <a:pt x="89" y="765"/>
                </a:lnTo>
                <a:lnTo>
                  <a:pt x="96" y="764"/>
                </a:lnTo>
                <a:lnTo>
                  <a:pt x="102" y="763"/>
                </a:lnTo>
                <a:lnTo>
                  <a:pt x="102" y="787"/>
                </a:lnTo>
                <a:lnTo>
                  <a:pt x="96" y="788"/>
                </a:lnTo>
                <a:lnTo>
                  <a:pt x="89" y="789"/>
                </a:lnTo>
                <a:lnTo>
                  <a:pt x="83" y="790"/>
                </a:lnTo>
                <a:lnTo>
                  <a:pt x="77" y="790"/>
                </a:lnTo>
                <a:lnTo>
                  <a:pt x="70" y="790"/>
                </a:lnTo>
                <a:lnTo>
                  <a:pt x="64" y="791"/>
                </a:lnTo>
                <a:lnTo>
                  <a:pt x="57" y="791"/>
                </a:lnTo>
                <a:lnTo>
                  <a:pt x="51" y="791"/>
                </a:lnTo>
                <a:lnTo>
                  <a:pt x="45" y="791"/>
                </a:lnTo>
                <a:lnTo>
                  <a:pt x="38" y="791"/>
                </a:lnTo>
                <a:lnTo>
                  <a:pt x="32" y="790"/>
                </a:lnTo>
                <a:lnTo>
                  <a:pt x="26" y="790"/>
                </a:lnTo>
                <a:lnTo>
                  <a:pt x="19" y="790"/>
                </a:lnTo>
                <a:lnTo>
                  <a:pt x="13" y="789"/>
                </a:lnTo>
                <a:lnTo>
                  <a:pt x="6" y="788"/>
                </a:lnTo>
                <a:lnTo>
                  <a:pt x="0" y="787"/>
                </a:lnTo>
                <a:lnTo>
                  <a:pt x="102" y="4"/>
                </a:lnTo>
              </a:path>
            </a:pathLst>
          </a:custGeom>
          <a:solidFill>
            <a:srgbClr val="a1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660840" y="4808520"/>
            <a:ext cx="163440" cy="1182600"/>
          </a:xfrm>
          <a:custGeom>
            <a:avLst/>
            <a:gdLst/>
            <a:ahLst/>
            <a:rect l="l" t="t" r="r" b="b"/>
            <a:pathLst>
              <a:path w="103" h="745">
                <a:moveTo>
                  <a:pt x="102" y="4"/>
                </a:moveTo>
                <a:lnTo>
                  <a:pt x="102" y="28"/>
                </a:lnTo>
                <a:lnTo>
                  <a:pt x="96" y="27"/>
                </a:lnTo>
                <a:lnTo>
                  <a:pt x="89" y="26"/>
                </a:lnTo>
                <a:lnTo>
                  <a:pt x="83" y="25"/>
                </a:lnTo>
                <a:lnTo>
                  <a:pt x="77" y="24"/>
                </a:lnTo>
                <a:lnTo>
                  <a:pt x="70" y="24"/>
                </a:lnTo>
                <a:lnTo>
                  <a:pt x="64" y="24"/>
                </a:lnTo>
                <a:lnTo>
                  <a:pt x="57" y="23"/>
                </a:lnTo>
                <a:lnTo>
                  <a:pt x="51" y="23"/>
                </a:lnTo>
                <a:lnTo>
                  <a:pt x="45" y="23"/>
                </a:lnTo>
                <a:lnTo>
                  <a:pt x="38" y="24"/>
                </a:lnTo>
                <a:lnTo>
                  <a:pt x="32" y="24"/>
                </a:lnTo>
                <a:lnTo>
                  <a:pt x="26" y="24"/>
                </a:lnTo>
                <a:lnTo>
                  <a:pt x="19" y="25"/>
                </a:lnTo>
                <a:lnTo>
                  <a:pt x="13" y="26"/>
                </a:lnTo>
                <a:lnTo>
                  <a:pt x="6" y="27"/>
                </a:lnTo>
                <a:lnTo>
                  <a:pt x="0" y="28"/>
                </a:lnTo>
                <a:lnTo>
                  <a:pt x="0" y="4"/>
                </a:lnTo>
                <a:lnTo>
                  <a:pt x="6" y="3"/>
                </a:lnTo>
                <a:lnTo>
                  <a:pt x="13" y="2"/>
                </a:lnTo>
                <a:lnTo>
                  <a:pt x="19" y="2"/>
                </a:lnTo>
                <a:lnTo>
                  <a:pt x="26" y="1"/>
                </a:lnTo>
                <a:lnTo>
                  <a:pt x="32" y="0"/>
                </a:lnTo>
                <a:lnTo>
                  <a:pt x="38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0"/>
                </a:lnTo>
                <a:lnTo>
                  <a:pt x="70" y="0"/>
                </a:lnTo>
                <a:lnTo>
                  <a:pt x="77" y="1"/>
                </a:lnTo>
                <a:lnTo>
                  <a:pt x="83" y="2"/>
                </a:lnTo>
                <a:lnTo>
                  <a:pt x="89" y="2"/>
                </a:lnTo>
                <a:lnTo>
                  <a:pt x="96" y="3"/>
                </a:lnTo>
                <a:lnTo>
                  <a:pt x="102" y="4"/>
                </a:lnTo>
                <a:lnTo>
                  <a:pt x="0" y="739"/>
                </a:lnTo>
                <a:lnTo>
                  <a:pt x="0" y="716"/>
                </a:lnTo>
                <a:lnTo>
                  <a:pt x="6" y="717"/>
                </a:lnTo>
                <a:lnTo>
                  <a:pt x="13" y="718"/>
                </a:lnTo>
                <a:lnTo>
                  <a:pt x="19" y="718"/>
                </a:lnTo>
                <a:lnTo>
                  <a:pt x="26" y="719"/>
                </a:lnTo>
                <a:lnTo>
                  <a:pt x="32" y="720"/>
                </a:lnTo>
                <a:lnTo>
                  <a:pt x="38" y="720"/>
                </a:lnTo>
                <a:lnTo>
                  <a:pt x="45" y="720"/>
                </a:lnTo>
                <a:lnTo>
                  <a:pt x="51" y="720"/>
                </a:lnTo>
                <a:lnTo>
                  <a:pt x="57" y="720"/>
                </a:lnTo>
                <a:lnTo>
                  <a:pt x="64" y="720"/>
                </a:lnTo>
                <a:lnTo>
                  <a:pt x="70" y="720"/>
                </a:lnTo>
                <a:lnTo>
                  <a:pt x="77" y="719"/>
                </a:lnTo>
                <a:lnTo>
                  <a:pt x="83" y="718"/>
                </a:lnTo>
                <a:lnTo>
                  <a:pt x="89" y="718"/>
                </a:lnTo>
                <a:lnTo>
                  <a:pt x="96" y="717"/>
                </a:lnTo>
                <a:lnTo>
                  <a:pt x="102" y="716"/>
                </a:lnTo>
                <a:lnTo>
                  <a:pt x="102" y="739"/>
                </a:lnTo>
                <a:lnTo>
                  <a:pt x="96" y="740"/>
                </a:lnTo>
                <a:lnTo>
                  <a:pt x="89" y="741"/>
                </a:lnTo>
                <a:lnTo>
                  <a:pt x="83" y="742"/>
                </a:lnTo>
                <a:lnTo>
                  <a:pt x="77" y="743"/>
                </a:lnTo>
                <a:lnTo>
                  <a:pt x="70" y="743"/>
                </a:lnTo>
                <a:lnTo>
                  <a:pt x="64" y="743"/>
                </a:lnTo>
                <a:lnTo>
                  <a:pt x="57" y="744"/>
                </a:lnTo>
                <a:lnTo>
                  <a:pt x="51" y="744"/>
                </a:lnTo>
                <a:lnTo>
                  <a:pt x="45" y="744"/>
                </a:lnTo>
                <a:lnTo>
                  <a:pt x="38" y="743"/>
                </a:lnTo>
                <a:lnTo>
                  <a:pt x="32" y="743"/>
                </a:lnTo>
                <a:lnTo>
                  <a:pt x="26" y="743"/>
                </a:lnTo>
                <a:lnTo>
                  <a:pt x="19" y="742"/>
                </a:lnTo>
                <a:lnTo>
                  <a:pt x="13" y="741"/>
                </a:lnTo>
                <a:lnTo>
                  <a:pt x="6" y="740"/>
                </a:lnTo>
                <a:lnTo>
                  <a:pt x="0" y="739"/>
                </a:lnTo>
                <a:lnTo>
                  <a:pt x="102" y="4"/>
                </a:lnTo>
              </a:path>
            </a:pathLst>
          </a:custGeom>
          <a:solidFill>
            <a:srgbClr val="a3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660840" y="4844880"/>
            <a:ext cx="163440" cy="1108080"/>
          </a:xfrm>
          <a:custGeom>
            <a:avLst/>
            <a:gdLst/>
            <a:ahLst/>
            <a:rect l="l" t="t" r="r" b="b"/>
            <a:pathLst>
              <a:path w="103" h="698">
                <a:moveTo>
                  <a:pt x="102" y="5"/>
                </a:moveTo>
                <a:lnTo>
                  <a:pt x="102" y="29"/>
                </a:lnTo>
                <a:lnTo>
                  <a:pt x="96" y="28"/>
                </a:lnTo>
                <a:lnTo>
                  <a:pt x="89" y="27"/>
                </a:lnTo>
                <a:lnTo>
                  <a:pt x="83" y="26"/>
                </a:lnTo>
                <a:lnTo>
                  <a:pt x="77" y="25"/>
                </a:lnTo>
                <a:lnTo>
                  <a:pt x="70" y="25"/>
                </a:lnTo>
                <a:lnTo>
                  <a:pt x="64" y="24"/>
                </a:lnTo>
                <a:lnTo>
                  <a:pt x="57" y="24"/>
                </a:lnTo>
                <a:lnTo>
                  <a:pt x="51" y="24"/>
                </a:lnTo>
                <a:lnTo>
                  <a:pt x="45" y="24"/>
                </a:lnTo>
                <a:lnTo>
                  <a:pt x="38" y="24"/>
                </a:lnTo>
                <a:lnTo>
                  <a:pt x="32" y="25"/>
                </a:lnTo>
                <a:lnTo>
                  <a:pt x="26" y="25"/>
                </a:lnTo>
                <a:lnTo>
                  <a:pt x="19" y="26"/>
                </a:lnTo>
                <a:lnTo>
                  <a:pt x="13" y="27"/>
                </a:lnTo>
                <a:lnTo>
                  <a:pt x="6" y="28"/>
                </a:lnTo>
                <a:lnTo>
                  <a:pt x="0" y="29"/>
                </a:lnTo>
                <a:lnTo>
                  <a:pt x="0" y="5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2" y="1"/>
                </a:lnTo>
                <a:lnTo>
                  <a:pt x="38" y="1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1"/>
                </a:lnTo>
                <a:lnTo>
                  <a:pt x="70" y="1"/>
                </a:lnTo>
                <a:lnTo>
                  <a:pt x="77" y="1"/>
                </a:lnTo>
                <a:lnTo>
                  <a:pt x="83" y="2"/>
                </a:lnTo>
                <a:lnTo>
                  <a:pt x="89" y="3"/>
                </a:lnTo>
                <a:lnTo>
                  <a:pt x="96" y="4"/>
                </a:lnTo>
                <a:lnTo>
                  <a:pt x="102" y="5"/>
                </a:lnTo>
                <a:lnTo>
                  <a:pt x="0" y="693"/>
                </a:lnTo>
                <a:lnTo>
                  <a:pt x="0" y="669"/>
                </a:lnTo>
                <a:lnTo>
                  <a:pt x="6" y="670"/>
                </a:lnTo>
                <a:lnTo>
                  <a:pt x="13" y="671"/>
                </a:lnTo>
                <a:lnTo>
                  <a:pt x="19" y="672"/>
                </a:lnTo>
                <a:lnTo>
                  <a:pt x="26" y="672"/>
                </a:lnTo>
                <a:lnTo>
                  <a:pt x="32" y="673"/>
                </a:lnTo>
                <a:lnTo>
                  <a:pt x="38" y="673"/>
                </a:lnTo>
                <a:lnTo>
                  <a:pt x="45" y="674"/>
                </a:lnTo>
                <a:lnTo>
                  <a:pt x="51" y="674"/>
                </a:lnTo>
                <a:lnTo>
                  <a:pt x="57" y="674"/>
                </a:lnTo>
                <a:lnTo>
                  <a:pt x="64" y="673"/>
                </a:lnTo>
                <a:lnTo>
                  <a:pt x="70" y="673"/>
                </a:lnTo>
                <a:lnTo>
                  <a:pt x="77" y="672"/>
                </a:lnTo>
                <a:lnTo>
                  <a:pt x="83" y="672"/>
                </a:lnTo>
                <a:lnTo>
                  <a:pt x="89" y="671"/>
                </a:lnTo>
                <a:lnTo>
                  <a:pt x="96" y="670"/>
                </a:lnTo>
                <a:lnTo>
                  <a:pt x="102" y="669"/>
                </a:lnTo>
                <a:lnTo>
                  <a:pt x="102" y="693"/>
                </a:lnTo>
                <a:lnTo>
                  <a:pt x="96" y="694"/>
                </a:lnTo>
                <a:lnTo>
                  <a:pt x="89" y="695"/>
                </a:lnTo>
                <a:lnTo>
                  <a:pt x="83" y="695"/>
                </a:lnTo>
                <a:lnTo>
                  <a:pt x="77" y="696"/>
                </a:lnTo>
                <a:lnTo>
                  <a:pt x="70" y="697"/>
                </a:lnTo>
                <a:lnTo>
                  <a:pt x="64" y="697"/>
                </a:lnTo>
                <a:lnTo>
                  <a:pt x="57" y="697"/>
                </a:lnTo>
                <a:lnTo>
                  <a:pt x="51" y="697"/>
                </a:lnTo>
                <a:lnTo>
                  <a:pt x="45" y="697"/>
                </a:lnTo>
                <a:lnTo>
                  <a:pt x="38" y="697"/>
                </a:lnTo>
                <a:lnTo>
                  <a:pt x="32" y="697"/>
                </a:lnTo>
                <a:lnTo>
                  <a:pt x="26" y="696"/>
                </a:lnTo>
                <a:lnTo>
                  <a:pt x="19" y="695"/>
                </a:lnTo>
                <a:lnTo>
                  <a:pt x="13" y="695"/>
                </a:lnTo>
                <a:lnTo>
                  <a:pt x="6" y="694"/>
                </a:lnTo>
                <a:lnTo>
                  <a:pt x="0" y="693"/>
                </a:lnTo>
                <a:lnTo>
                  <a:pt x="102" y="5"/>
                </a:lnTo>
              </a:path>
            </a:pathLst>
          </a:custGeom>
          <a:solidFill>
            <a:srgbClr val="a6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60840" y="4883040"/>
            <a:ext cx="163440" cy="1033560"/>
          </a:xfrm>
          <a:custGeom>
            <a:avLst/>
            <a:gdLst/>
            <a:ahLst/>
            <a:rect l="l" t="t" r="r" b="b"/>
            <a:pathLst>
              <a:path w="103" h="651">
                <a:moveTo>
                  <a:pt x="102" y="5"/>
                </a:moveTo>
                <a:lnTo>
                  <a:pt x="102" y="29"/>
                </a:lnTo>
                <a:lnTo>
                  <a:pt x="96" y="28"/>
                </a:lnTo>
                <a:lnTo>
                  <a:pt x="89" y="27"/>
                </a:lnTo>
                <a:lnTo>
                  <a:pt x="83" y="26"/>
                </a:lnTo>
                <a:lnTo>
                  <a:pt x="77" y="25"/>
                </a:lnTo>
                <a:lnTo>
                  <a:pt x="70" y="25"/>
                </a:lnTo>
                <a:lnTo>
                  <a:pt x="64" y="24"/>
                </a:lnTo>
                <a:lnTo>
                  <a:pt x="57" y="24"/>
                </a:lnTo>
                <a:lnTo>
                  <a:pt x="51" y="24"/>
                </a:lnTo>
                <a:lnTo>
                  <a:pt x="45" y="24"/>
                </a:lnTo>
                <a:lnTo>
                  <a:pt x="38" y="24"/>
                </a:lnTo>
                <a:lnTo>
                  <a:pt x="32" y="25"/>
                </a:lnTo>
                <a:lnTo>
                  <a:pt x="26" y="25"/>
                </a:lnTo>
                <a:lnTo>
                  <a:pt x="19" y="26"/>
                </a:lnTo>
                <a:lnTo>
                  <a:pt x="13" y="27"/>
                </a:lnTo>
                <a:lnTo>
                  <a:pt x="6" y="28"/>
                </a:lnTo>
                <a:lnTo>
                  <a:pt x="0" y="29"/>
                </a:lnTo>
                <a:lnTo>
                  <a:pt x="0" y="5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2" y="1"/>
                </a:lnTo>
                <a:lnTo>
                  <a:pt x="38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0"/>
                </a:lnTo>
                <a:lnTo>
                  <a:pt x="70" y="1"/>
                </a:lnTo>
                <a:lnTo>
                  <a:pt x="77" y="1"/>
                </a:lnTo>
                <a:lnTo>
                  <a:pt x="83" y="2"/>
                </a:lnTo>
                <a:lnTo>
                  <a:pt x="89" y="3"/>
                </a:lnTo>
                <a:lnTo>
                  <a:pt x="96" y="4"/>
                </a:lnTo>
                <a:lnTo>
                  <a:pt x="102" y="5"/>
                </a:lnTo>
                <a:lnTo>
                  <a:pt x="0" y="645"/>
                </a:lnTo>
                <a:lnTo>
                  <a:pt x="0" y="621"/>
                </a:lnTo>
                <a:lnTo>
                  <a:pt x="6" y="622"/>
                </a:lnTo>
                <a:lnTo>
                  <a:pt x="13" y="623"/>
                </a:lnTo>
                <a:lnTo>
                  <a:pt x="19" y="624"/>
                </a:lnTo>
                <a:lnTo>
                  <a:pt x="26" y="624"/>
                </a:lnTo>
                <a:lnTo>
                  <a:pt x="32" y="625"/>
                </a:lnTo>
                <a:lnTo>
                  <a:pt x="38" y="625"/>
                </a:lnTo>
                <a:lnTo>
                  <a:pt x="45" y="626"/>
                </a:lnTo>
                <a:lnTo>
                  <a:pt x="51" y="626"/>
                </a:lnTo>
                <a:lnTo>
                  <a:pt x="57" y="626"/>
                </a:lnTo>
                <a:lnTo>
                  <a:pt x="64" y="625"/>
                </a:lnTo>
                <a:lnTo>
                  <a:pt x="70" y="625"/>
                </a:lnTo>
                <a:lnTo>
                  <a:pt x="77" y="624"/>
                </a:lnTo>
                <a:lnTo>
                  <a:pt x="83" y="624"/>
                </a:lnTo>
                <a:lnTo>
                  <a:pt x="89" y="623"/>
                </a:lnTo>
                <a:lnTo>
                  <a:pt x="96" y="622"/>
                </a:lnTo>
                <a:lnTo>
                  <a:pt x="102" y="621"/>
                </a:lnTo>
                <a:lnTo>
                  <a:pt x="102" y="645"/>
                </a:lnTo>
                <a:lnTo>
                  <a:pt x="96" y="646"/>
                </a:lnTo>
                <a:lnTo>
                  <a:pt x="89" y="647"/>
                </a:lnTo>
                <a:lnTo>
                  <a:pt x="83" y="648"/>
                </a:lnTo>
                <a:lnTo>
                  <a:pt x="77" y="648"/>
                </a:lnTo>
                <a:lnTo>
                  <a:pt x="70" y="649"/>
                </a:lnTo>
                <a:lnTo>
                  <a:pt x="64" y="649"/>
                </a:lnTo>
                <a:lnTo>
                  <a:pt x="57" y="650"/>
                </a:lnTo>
                <a:lnTo>
                  <a:pt x="51" y="650"/>
                </a:lnTo>
                <a:lnTo>
                  <a:pt x="45" y="650"/>
                </a:lnTo>
                <a:lnTo>
                  <a:pt x="38" y="649"/>
                </a:lnTo>
                <a:lnTo>
                  <a:pt x="32" y="649"/>
                </a:lnTo>
                <a:lnTo>
                  <a:pt x="26" y="648"/>
                </a:lnTo>
                <a:lnTo>
                  <a:pt x="19" y="648"/>
                </a:lnTo>
                <a:lnTo>
                  <a:pt x="13" y="647"/>
                </a:lnTo>
                <a:lnTo>
                  <a:pt x="6" y="646"/>
                </a:lnTo>
                <a:lnTo>
                  <a:pt x="0" y="645"/>
                </a:lnTo>
                <a:lnTo>
                  <a:pt x="102" y="5"/>
                </a:lnTo>
              </a:path>
            </a:pathLst>
          </a:custGeom>
          <a:solidFill>
            <a:srgbClr val="a9f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660840" y="4921200"/>
            <a:ext cx="163440" cy="957240"/>
          </a:xfrm>
          <a:custGeom>
            <a:avLst/>
            <a:gdLst/>
            <a:ahLst/>
            <a:rect l="l" t="t" r="r" b="b"/>
            <a:pathLst>
              <a:path w="103" h="603">
                <a:moveTo>
                  <a:pt x="102" y="5"/>
                </a:moveTo>
                <a:lnTo>
                  <a:pt x="102" y="29"/>
                </a:lnTo>
                <a:lnTo>
                  <a:pt x="96" y="28"/>
                </a:lnTo>
                <a:lnTo>
                  <a:pt x="89" y="26"/>
                </a:lnTo>
                <a:lnTo>
                  <a:pt x="83" y="26"/>
                </a:lnTo>
                <a:lnTo>
                  <a:pt x="77" y="25"/>
                </a:lnTo>
                <a:lnTo>
                  <a:pt x="70" y="24"/>
                </a:lnTo>
                <a:lnTo>
                  <a:pt x="64" y="24"/>
                </a:lnTo>
                <a:lnTo>
                  <a:pt x="57" y="24"/>
                </a:lnTo>
                <a:lnTo>
                  <a:pt x="51" y="23"/>
                </a:lnTo>
                <a:lnTo>
                  <a:pt x="45" y="24"/>
                </a:lnTo>
                <a:lnTo>
                  <a:pt x="38" y="24"/>
                </a:lnTo>
                <a:lnTo>
                  <a:pt x="32" y="24"/>
                </a:lnTo>
                <a:lnTo>
                  <a:pt x="26" y="25"/>
                </a:lnTo>
                <a:lnTo>
                  <a:pt x="19" y="26"/>
                </a:lnTo>
                <a:lnTo>
                  <a:pt x="13" y="26"/>
                </a:lnTo>
                <a:lnTo>
                  <a:pt x="6" y="28"/>
                </a:lnTo>
                <a:lnTo>
                  <a:pt x="0" y="29"/>
                </a:lnTo>
                <a:lnTo>
                  <a:pt x="0" y="5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2" y="1"/>
                </a:lnTo>
                <a:lnTo>
                  <a:pt x="38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0"/>
                </a:lnTo>
                <a:lnTo>
                  <a:pt x="70" y="1"/>
                </a:lnTo>
                <a:lnTo>
                  <a:pt x="77" y="1"/>
                </a:lnTo>
                <a:lnTo>
                  <a:pt x="83" y="2"/>
                </a:lnTo>
                <a:lnTo>
                  <a:pt x="89" y="3"/>
                </a:lnTo>
                <a:lnTo>
                  <a:pt x="96" y="4"/>
                </a:lnTo>
                <a:lnTo>
                  <a:pt x="102" y="5"/>
                </a:lnTo>
                <a:lnTo>
                  <a:pt x="0" y="597"/>
                </a:lnTo>
                <a:lnTo>
                  <a:pt x="0" y="573"/>
                </a:lnTo>
                <a:lnTo>
                  <a:pt x="6" y="574"/>
                </a:lnTo>
                <a:lnTo>
                  <a:pt x="13" y="575"/>
                </a:lnTo>
                <a:lnTo>
                  <a:pt x="19" y="576"/>
                </a:lnTo>
                <a:lnTo>
                  <a:pt x="26" y="577"/>
                </a:lnTo>
                <a:lnTo>
                  <a:pt x="32" y="577"/>
                </a:lnTo>
                <a:lnTo>
                  <a:pt x="38" y="578"/>
                </a:lnTo>
                <a:lnTo>
                  <a:pt x="45" y="578"/>
                </a:lnTo>
                <a:lnTo>
                  <a:pt x="51" y="578"/>
                </a:lnTo>
                <a:lnTo>
                  <a:pt x="57" y="578"/>
                </a:lnTo>
                <a:lnTo>
                  <a:pt x="64" y="578"/>
                </a:lnTo>
                <a:lnTo>
                  <a:pt x="70" y="577"/>
                </a:lnTo>
                <a:lnTo>
                  <a:pt x="77" y="577"/>
                </a:lnTo>
                <a:lnTo>
                  <a:pt x="83" y="576"/>
                </a:lnTo>
                <a:lnTo>
                  <a:pt x="89" y="575"/>
                </a:lnTo>
                <a:lnTo>
                  <a:pt x="96" y="574"/>
                </a:lnTo>
                <a:lnTo>
                  <a:pt x="102" y="573"/>
                </a:lnTo>
                <a:lnTo>
                  <a:pt x="102" y="597"/>
                </a:lnTo>
                <a:lnTo>
                  <a:pt x="96" y="598"/>
                </a:lnTo>
                <a:lnTo>
                  <a:pt x="89" y="599"/>
                </a:lnTo>
                <a:lnTo>
                  <a:pt x="83" y="600"/>
                </a:lnTo>
                <a:lnTo>
                  <a:pt x="77" y="600"/>
                </a:lnTo>
                <a:lnTo>
                  <a:pt x="70" y="601"/>
                </a:lnTo>
                <a:lnTo>
                  <a:pt x="64" y="601"/>
                </a:lnTo>
                <a:lnTo>
                  <a:pt x="57" y="602"/>
                </a:lnTo>
                <a:lnTo>
                  <a:pt x="51" y="602"/>
                </a:lnTo>
                <a:lnTo>
                  <a:pt x="45" y="602"/>
                </a:lnTo>
                <a:lnTo>
                  <a:pt x="38" y="601"/>
                </a:lnTo>
                <a:lnTo>
                  <a:pt x="32" y="601"/>
                </a:lnTo>
                <a:lnTo>
                  <a:pt x="26" y="600"/>
                </a:lnTo>
                <a:lnTo>
                  <a:pt x="19" y="600"/>
                </a:lnTo>
                <a:lnTo>
                  <a:pt x="13" y="599"/>
                </a:lnTo>
                <a:lnTo>
                  <a:pt x="6" y="598"/>
                </a:lnTo>
                <a:lnTo>
                  <a:pt x="0" y="597"/>
                </a:lnTo>
                <a:lnTo>
                  <a:pt x="102" y="5"/>
                </a:lnTo>
              </a:path>
            </a:pathLst>
          </a:custGeom>
          <a:solidFill>
            <a:srgbClr val="ab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660840" y="4957920"/>
            <a:ext cx="163440" cy="882360"/>
          </a:xfrm>
          <a:custGeom>
            <a:avLst/>
            <a:gdLst/>
            <a:ahLst/>
            <a:rect l="l" t="t" r="r" b="b"/>
            <a:pathLst>
              <a:path w="103" h="556">
                <a:moveTo>
                  <a:pt x="102" y="6"/>
                </a:moveTo>
                <a:lnTo>
                  <a:pt x="102" y="29"/>
                </a:lnTo>
                <a:lnTo>
                  <a:pt x="96" y="28"/>
                </a:lnTo>
                <a:lnTo>
                  <a:pt x="89" y="27"/>
                </a:lnTo>
                <a:lnTo>
                  <a:pt x="83" y="26"/>
                </a:lnTo>
                <a:lnTo>
                  <a:pt x="77" y="25"/>
                </a:lnTo>
                <a:lnTo>
                  <a:pt x="70" y="25"/>
                </a:lnTo>
                <a:lnTo>
                  <a:pt x="64" y="24"/>
                </a:lnTo>
                <a:lnTo>
                  <a:pt x="57" y="24"/>
                </a:lnTo>
                <a:lnTo>
                  <a:pt x="51" y="24"/>
                </a:lnTo>
                <a:lnTo>
                  <a:pt x="45" y="24"/>
                </a:lnTo>
                <a:lnTo>
                  <a:pt x="38" y="24"/>
                </a:lnTo>
                <a:lnTo>
                  <a:pt x="32" y="25"/>
                </a:lnTo>
                <a:lnTo>
                  <a:pt x="26" y="25"/>
                </a:lnTo>
                <a:lnTo>
                  <a:pt x="19" y="26"/>
                </a:lnTo>
                <a:lnTo>
                  <a:pt x="13" y="27"/>
                </a:lnTo>
                <a:lnTo>
                  <a:pt x="6" y="28"/>
                </a:lnTo>
                <a:lnTo>
                  <a:pt x="0" y="29"/>
                </a:lnTo>
                <a:lnTo>
                  <a:pt x="0" y="6"/>
                </a:lnTo>
                <a:lnTo>
                  <a:pt x="6" y="5"/>
                </a:lnTo>
                <a:lnTo>
                  <a:pt x="13" y="3"/>
                </a:lnTo>
                <a:lnTo>
                  <a:pt x="19" y="3"/>
                </a:lnTo>
                <a:lnTo>
                  <a:pt x="26" y="2"/>
                </a:lnTo>
                <a:lnTo>
                  <a:pt x="32" y="1"/>
                </a:lnTo>
                <a:lnTo>
                  <a:pt x="38" y="1"/>
                </a:lnTo>
                <a:lnTo>
                  <a:pt x="45" y="1"/>
                </a:lnTo>
                <a:lnTo>
                  <a:pt x="51" y="0"/>
                </a:lnTo>
                <a:lnTo>
                  <a:pt x="57" y="1"/>
                </a:lnTo>
                <a:lnTo>
                  <a:pt x="64" y="1"/>
                </a:lnTo>
                <a:lnTo>
                  <a:pt x="70" y="1"/>
                </a:lnTo>
                <a:lnTo>
                  <a:pt x="77" y="2"/>
                </a:lnTo>
                <a:lnTo>
                  <a:pt x="83" y="3"/>
                </a:lnTo>
                <a:lnTo>
                  <a:pt x="89" y="3"/>
                </a:lnTo>
                <a:lnTo>
                  <a:pt x="96" y="5"/>
                </a:lnTo>
                <a:lnTo>
                  <a:pt x="102" y="6"/>
                </a:lnTo>
                <a:lnTo>
                  <a:pt x="0" y="550"/>
                </a:lnTo>
                <a:lnTo>
                  <a:pt x="0" y="526"/>
                </a:lnTo>
                <a:lnTo>
                  <a:pt x="6" y="527"/>
                </a:lnTo>
                <a:lnTo>
                  <a:pt x="13" y="528"/>
                </a:lnTo>
                <a:lnTo>
                  <a:pt x="19" y="529"/>
                </a:lnTo>
                <a:lnTo>
                  <a:pt x="26" y="530"/>
                </a:lnTo>
                <a:lnTo>
                  <a:pt x="32" y="531"/>
                </a:lnTo>
                <a:lnTo>
                  <a:pt x="38" y="531"/>
                </a:lnTo>
                <a:lnTo>
                  <a:pt x="45" y="532"/>
                </a:lnTo>
                <a:lnTo>
                  <a:pt x="51" y="532"/>
                </a:lnTo>
                <a:lnTo>
                  <a:pt x="57" y="532"/>
                </a:lnTo>
                <a:lnTo>
                  <a:pt x="64" y="531"/>
                </a:lnTo>
                <a:lnTo>
                  <a:pt x="70" y="531"/>
                </a:lnTo>
                <a:lnTo>
                  <a:pt x="77" y="530"/>
                </a:lnTo>
                <a:lnTo>
                  <a:pt x="83" y="529"/>
                </a:lnTo>
                <a:lnTo>
                  <a:pt x="89" y="528"/>
                </a:lnTo>
                <a:lnTo>
                  <a:pt x="96" y="527"/>
                </a:lnTo>
                <a:lnTo>
                  <a:pt x="102" y="526"/>
                </a:lnTo>
                <a:lnTo>
                  <a:pt x="102" y="550"/>
                </a:lnTo>
                <a:lnTo>
                  <a:pt x="96" y="551"/>
                </a:lnTo>
                <a:lnTo>
                  <a:pt x="89" y="552"/>
                </a:lnTo>
                <a:lnTo>
                  <a:pt x="83" y="553"/>
                </a:lnTo>
                <a:lnTo>
                  <a:pt x="77" y="554"/>
                </a:lnTo>
                <a:lnTo>
                  <a:pt x="70" y="554"/>
                </a:lnTo>
                <a:lnTo>
                  <a:pt x="64" y="555"/>
                </a:lnTo>
                <a:lnTo>
                  <a:pt x="57" y="555"/>
                </a:lnTo>
                <a:lnTo>
                  <a:pt x="51" y="555"/>
                </a:lnTo>
                <a:lnTo>
                  <a:pt x="45" y="555"/>
                </a:lnTo>
                <a:lnTo>
                  <a:pt x="38" y="555"/>
                </a:lnTo>
                <a:lnTo>
                  <a:pt x="32" y="554"/>
                </a:lnTo>
                <a:lnTo>
                  <a:pt x="26" y="554"/>
                </a:lnTo>
                <a:lnTo>
                  <a:pt x="19" y="553"/>
                </a:lnTo>
                <a:lnTo>
                  <a:pt x="13" y="552"/>
                </a:lnTo>
                <a:lnTo>
                  <a:pt x="6" y="551"/>
                </a:lnTo>
                <a:lnTo>
                  <a:pt x="0" y="550"/>
                </a:lnTo>
                <a:lnTo>
                  <a:pt x="102" y="6"/>
                </a:lnTo>
              </a:path>
            </a:pathLst>
          </a:custGeom>
          <a:solidFill>
            <a:srgbClr val="ae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660840" y="4995720"/>
            <a:ext cx="163440" cy="808200"/>
          </a:xfrm>
          <a:custGeom>
            <a:avLst/>
            <a:gdLst/>
            <a:ahLst/>
            <a:rect l="l" t="t" r="r" b="b"/>
            <a:pathLst>
              <a:path w="103" h="509">
                <a:moveTo>
                  <a:pt x="102" y="6"/>
                </a:moveTo>
                <a:lnTo>
                  <a:pt x="102" y="29"/>
                </a:lnTo>
                <a:lnTo>
                  <a:pt x="96" y="28"/>
                </a:lnTo>
                <a:lnTo>
                  <a:pt x="89" y="26"/>
                </a:lnTo>
                <a:lnTo>
                  <a:pt x="83" y="25"/>
                </a:lnTo>
                <a:lnTo>
                  <a:pt x="77" y="25"/>
                </a:lnTo>
                <a:lnTo>
                  <a:pt x="70" y="24"/>
                </a:lnTo>
                <a:lnTo>
                  <a:pt x="64" y="24"/>
                </a:lnTo>
                <a:lnTo>
                  <a:pt x="57" y="24"/>
                </a:lnTo>
                <a:lnTo>
                  <a:pt x="51" y="23"/>
                </a:lnTo>
                <a:lnTo>
                  <a:pt x="45" y="24"/>
                </a:lnTo>
                <a:lnTo>
                  <a:pt x="38" y="24"/>
                </a:lnTo>
                <a:lnTo>
                  <a:pt x="32" y="24"/>
                </a:lnTo>
                <a:lnTo>
                  <a:pt x="26" y="25"/>
                </a:lnTo>
                <a:lnTo>
                  <a:pt x="19" y="25"/>
                </a:lnTo>
                <a:lnTo>
                  <a:pt x="13" y="26"/>
                </a:lnTo>
                <a:lnTo>
                  <a:pt x="6" y="28"/>
                </a:lnTo>
                <a:lnTo>
                  <a:pt x="0" y="29"/>
                </a:lnTo>
                <a:lnTo>
                  <a:pt x="0" y="6"/>
                </a:lnTo>
                <a:lnTo>
                  <a:pt x="6" y="5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2" y="1"/>
                </a:lnTo>
                <a:lnTo>
                  <a:pt x="38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0"/>
                </a:lnTo>
                <a:lnTo>
                  <a:pt x="70" y="1"/>
                </a:lnTo>
                <a:lnTo>
                  <a:pt x="77" y="1"/>
                </a:lnTo>
                <a:lnTo>
                  <a:pt x="83" y="2"/>
                </a:lnTo>
                <a:lnTo>
                  <a:pt x="89" y="3"/>
                </a:lnTo>
                <a:lnTo>
                  <a:pt x="96" y="5"/>
                </a:lnTo>
                <a:lnTo>
                  <a:pt x="102" y="6"/>
                </a:lnTo>
                <a:lnTo>
                  <a:pt x="0" y="501"/>
                </a:lnTo>
                <a:lnTo>
                  <a:pt x="0" y="478"/>
                </a:lnTo>
                <a:lnTo>
                  <a:pt x="6" y="480"/>
                </a:lnTo>
                <a:lnTo>
                  <a:pt x="13" y="481"/>
                </a:lnTo>
                <a:lnTo>
                  <a:pt x="19" y="482"/>
                </a:lnTo>
                <a:lnTo>
                  <a:pt x="26" y="483"/>
                </a:lnTo>
                <a:lnTo>
                  <a:pt x="32" y="483"/>
                </a:lnTo>
                <a:lnTo>
                  <a:pt x="38" y="484"/>
                </a:lnTo>
                <a:lnTo>
                  <a:pt x="45" y="484"/>
                </a:lnTo>
                <a:lnTo>
                  <a:pt x="51" y="484"/>
                </a:lnTo>
                <a:lnTo>
                  <a:pt x="57" y="484"/>
                </a:lnTo>
                <a:lnTo>
                  <a:pt x="64" y="484"/>
                </a:lnTo>
                <a:lnTo>
                  <a:pt x="70" y="483"/>
                </a:lnTo>
                <a:lnTo>
                  <a:pt x="77" y="483"/>
                </a:lnTo>
                <a:lnTo>
                  <a:pt x="83" y="482"/>
                </a:lnTo>
                <a:lnTo>
                  <a:pt x="89" y="481"/>
                </a:lnTo>
                <a:lnTo>
                  <a:pt x="96" y="480"/>
                </a:lnTo>
                <a:lnTo>
                  <a:pt x="102" y="478"/>
                </a:lnTo>
                <a:lnTo>
                  <a:pt x="102" y="501"/>
                </a:lnTo>
                <a:lnTo>
                  <a:pt x="96" y="503"/>
                </a:lnTo>
                <a:lnTo>
                  <a:pt x="89" y="504"/>
                </a:lnTo>
                <a:lnTo>
                  <a:pt x="83" y="505"/>
                </a:lnTo>
                <a:lnTo>
                  <a:pt x="77" y="506"/>
                </a:lnTo>
                <a:lnTo>
                  <a:pt x="70" y="507"/>
                </a:lnTo>
                <a:lnTo>
                  <a:pt x="64" y="507"/>
                </a:lnTo>
                <a:lnTo>
                  <a:pt x="57" y="508"/>
                </a:lnTo>
                <a:lnTo>
                  <a:pt x="51" y="508"/>
                </a:lnTo>
                <a:lnTo>
                  <a:pt x="45" y="508"/>
                </a:lnTo>
                <a:lnTo>
                  <a:pt x="38" y="507"/>
                </a:lnTo>
                <a:lnTo>
                  <a:pt x="32" y="507"/>
                </a:lnTo>
                <a:lnTo>
                  <a:pt x="26" y="506"/>
                </a:lnTo>
                <a:lnTo>
                  <a:pt x="19" y="505"/>
                </a:lnTo>
                <a:lnTo>
                  <a:pt x="13" y="504"/>
                </a:lnTo>
                <a:lnTo>
                  <a:pt x="6" y="503"/>
                </a:lnTo>
                <a:lnTo>
                  <a:pt x="0" y="501"/>
                </a:lnTo>
                <a:lnTo>
                  <a:pt x="102" y="6"/>
                </a:lnTo>
              </a:path>
            </a:pathLst>
          </a:custGeom>
          <a:solidFill>
            <a:srgbClr val="b1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660840" y="5032440"/>
            <a:ext cx="163440" cy="733320"/>
          </a:xfrm>
          <a:custGeom>
            <a:avLst/>
            <a:gdLst/>
            <a:ahLst/>
            <a:rect l="l" t="t" r="r" b="b"/>
            <a:pathLst>
              <a:path w="103" h="462">
                <a:moveTo>
                  <a:pt x="102" y="7"/>
                </a:moveTo>
                <a:lnTo>
                  <a:pt x="102" y="31"/>
                </a:lnTo>
                <a:lnTo>
                  <a:pt x="96" y="29"/>
                </a:lnTo>
                <a:lnTo>
                  <a:pt x="89" y="27"/>
                </a:lnTo>
                <a:lnTo>
                  <a:pt x="83" y="26"/>
                </a:lnTo>
                <a:lnTo>
                  <a:pt x="77" y="25"/>
                </a:lnTo>
                <a:lnTo>
                  <a:pt x="70" y="24"/>
                </a:lnTo>
                <a:lnTo>
                  <a:pt x="64" y="23"/>
                </a:lnTo>
                <a:lnTo>
                  <a:pt x="57" y="23"/>
                </a:lnTo>
                <a:lnTo>
                  <a:pt x="51" y="23"/>
                </a:lnTo>
                <a:lnTo>
                  <a:pt x="45" y="23"/>
                </a:lnTo>
                <a:lnTo>
                  <a:pt x="38" y="23"/>
                </a:lnTo>
                <a:lnTo>
                  <a:pt x="32" y="24"/>
                </a:lnTo>
                <a:lnTo>
                  <a:pt x="26" y="25"/>
                </a:lnTo>
                <a:lnTo>
                  <a:pt x="19" y="26"/>
                </a:lnTo>
                <a:lnTo>
                  <a:pt x="13" y="27"/>
                </a:lnTo>
                <a:lnTo>
                  <a:pt x="6" y="29"/>
                </a:lnTo>
                <a:lnTo>
                  <a:pt x="0" y="31"/>
                </a:lnTo>
                <a:lnTo>
                  <a:pt x="0" y="7"/>
                </a:lnTo>
                <a:lnTo>
                  <a:pt x="6" y="6"/>
                </a:lnTo>
                <a:lnTo>
                  <a:pt x="13" y="4"/>
                </a:lnTo>
                <a:lnTo>
                  <a:pt x="19" y="3"/>
                </a:lnTo>
                <a:lnTo>
                  <a:pt x="26" y="2"/>
                </a:lnTo>
                <a:lnTo>
                  <a:pt x="32" y="1"/>
                </a:lnTo>
                <a:lnTo>
                  <a:pt x="38" y="1"/>
                </a:lnTo>
                <a:lnTo>
                  <a:pt x="45" y="1"/>
                </a:lnTo>
                <a:lnTo>
                  <a:pt x="51" y="0"/>
                </a:lnTo>
                <a:lnTo>
                  <a:pt x="57" y="1"/>
                </a:lnTo>
                <a:lnTo>
                  <a:pt x="64" y="1"/>
                </a:lnTo>
                <a:lnTo>
                  <a:pt x="70" y="1"/>
                </a:lnTo>
                <a:lnTo>
                  <a:pt x="77" y="2"/>
                </a:lnTo>
                <a:lnTo>
                  <a:pt x="83" y="3"/>
                </a:lnTo>
                <a:lnTo>
                  <a:pt x="89" y="4"/>
                </a:lnTo>
                <a:lnTo>
                  <a:pt x="96" y="6"/>
                </a:lnTo>
                <a:lnTo>
                  <a:pt x="102" y="7"/>
                </a:lnTo>
                <a:lnTo>
                  <a:pt x="0" y="454"/>
                </a:lnTo>
                <a:lnTo>
                  <a:pt x="0" y="431"/>
                </a:lnTo>
                <a:lnTo>
                  <a:pt x="6" y="433"/>
                </a:lnTo>
                <a:lnTo>
                  <a:pt x="13" y="434"/>
                </a:lnTo>
                <a:lnTo>
                  <a:pt x="19" y="436"/>
                </a:lnTo>
                <a:lnTo>
                  <a:pt x="26" y="437"/>
                </a:lnTo>
                <a:lnTo>
                  <a:pt x="32" y="438"/>
                </a:lnTo>
                <a:lnTo>
                  <a:pt x="38" y="438"/>
                </a:lnTo>
                <a:lnTo>
                  <a:pt x="45" y="438"/>
                </a:lnTo>
                <a:lnTo>
                  <a:pt x="51" y="438"/>
                </a:lnTo>
                <a:lnTo>
                  <a:pt x="57" y="438"/>
                </a:lnTo>
                <a:lnTo>
                  <a:pt x="64" y="438"/>
                </a:lnTo>
                <a:lnTo>
                  <a:pt x="70" y="438"/>
                </a:lnTo>
                <a:lnTo>
                  <a:pt x="77" y="437"/>
                </a:lnTo>
                <a:lnTo>
                  <a:pt x="83" y="436"/>
                </a:lnTo>
                <a:lnTo>
                  <a:pt x="89" y="434"/>
                </a:lnTo>
                <a:lnTo>
                  <a:pt x="96" y="433"/>
                </a:lnTo>
                <a:lnTo>
                  <a:pt x="102" y="431"/>
                </a:lnTo>
                <a:lnTo>
                  <a:pt x="102" y="454"/>
                </a:lnTo>
                <a:lnTo>
                  <a:pt x="96" y="456"/>
                </a:lnTo>
                <a:lnTo>
                  <a:pt x="89" y="457"/>
                </a:lnTo>
                <a:lnTo>
                  <a:pt x="83" y="458"/>
                </a:lnTo>
                <a:lnTo>
                  <a:pt x="77" y="459"/>
                </a:lnTo>
                <a:lnTo>
                  <a:pt x="70" y="460"/>
                </a:lnTo>
                <a:lnTo>
                  <a:pt x="64" y="461"/>
                </a:lnTo>
                <a:lnTo>
                  <a:pt x="57" y="461"/>
                </a:lnTo>
                <a:lnTo>
                  <a:pt x="51" y="461"/>
                </a:lnTo>
                <a:lnTo>
                  <a:pt x="45" y="461"/>
                </a:lnTo>
                <a:lnTo>
                  <a:pt x="38" y="461"/>
                </a:lnTo>
                <a:lnTo>
                  <a:pt x="32" y="460"/>
                </a:lnTo>
                <a:lnTo>
                  <a:pt x="26" y="459"/>
                </a:lnTo>
                <a:lnTo>
                  <a:pt x="19" y="458"/>
                </a:lnTo>
                <a:lnTo>
                  <a:pt x="13" y="457"/>
                </a:lnTo>
                <a:lnTo>
                  <a:pt x="6" y="456"/>
                </a:lnTo>
                <a:lnTo>
                  <a:pt x="0" y="454"/>
                </a:lnTo>
                <a:lnTo>
                  <a:pt x="102" y="7"/>
                </a:lnTo>
              </a:path>
            </a:pathLst>
          </a:custGeom>
          <a:solidFill>
            <a:srgbClr val="b3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60840" y="5070600"/>
            <a:ext cx="163440" cy="658800"/>
          </a:xfrm>
          <a:custGeom>
            <a:avLst/>
            <a:gdLst/>
            <a:ahLst/>
            <a:rect l="l" t="t" r="r" b="b"/>
            <a:pathLst>
              <a:path w="103" h="415">
                <a:moveTo>
                  <a:pt x="102" y="8"/>
                </a:moveTo>
                <a:lnTo>
                  <a:pt x="102" y="31"/>
                </a:lnTo>
                <a:lnTo>
                  <a:pt x="96" y="29"/>
                </a:lnTo>
                <a:lnTo>
                  <a:pt x="89" y="27"/>
                </a:lnTo>
                <a:lnTo>
                  <a:pt x="83" y="26"/>
                </a:lnTo>
                <a:lnTo>
                  <a:pt x="77" y="25"/>
                </a:lnTo>
                <a:lnTo>
                  <a:pt x="70" y="24"/>
                </a:lnTo>
                <a:lnTo>
                  <a:pt x="64" y="23"/>
                </a:lnTo>
                <a:lnTo>
                  <a:pt x="57" y="23"/>
                </a:lnTo>
                <a:lnTo>
                  <a:pt x="51" y="22"/>
                </a:lnTo>
                <a:lnTo>
                  <a:pt x="45" y="23"/>
                </a:lnTo>
                <a:lnTo>
                  <a:pt x="38" y="23"/>
                </a:lnTo>
                <a:lnTo>
                  <a:pt x="32" y="24"/>
                </a:lnTo>
                <a:lnTo>
                  <a:pt x="26" y="25"/>
                </a:lnTo>
                <a:lnTo>
                  <a:pt x="19" y="26"/>
                </a:lnTo>
                <a:lnTo>
                  <a:pt x="13" y="27"/>
                </a:lnTo>
                <a:lnTo>
                  <a:pt x="6" y="29"/>
                </a:lnTo>
                <a:lnTo>
                  <a:pt x="0" y="31"/>
                </a:lnTo>
                <a:lnTo>
                  <a:pt x="0" y="8"/>
                </a:lnTo>
                <a:lnTo>
                  <a:pt x="6" y="6"/>
                </a:lnTo>
                <a:lnTo>
                  <a:pt x="13" y="4"/>
                </a:lnTo>
                <a:lnTo>
                  <a:pt x="19" y="3"/>
                </a:lnTo>
                <a:lnTo>
                  <a:pt x="26" y="2"/>
                </a:lnTo>
                <a:lnTo>
                  <a:pt x="32" y="1"/>
                </a:lnTo>
                <a:lnTo>
                  <a:pt x="38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0"/>
                </a:lnTo>
                <a:lnTo>
                  <a:pt x="70" y="1"/>
                </a:lnTo>
                <a:lnTo>
                  <a:pt x="77" y="2"/>
                </a:lnTo>
                <a:lnTo>
                  <a:pt x="83" y="3"/>
                </a:lnTo>
                <a:lnTo>
                  <a:pt x="89" y="4"/>
                </a:lnTo>
                <a:lnTo>
                  <a:pt x="96" y="6"/>
                </a:lnTo>
                <a:lnTo>
                  <a:pt x="102" y="8"/>
                </a:lnTo>
                <a:lnTo>
                  <a:pt x="0" y="406"/>
                </a:lnTo>
                <a:lnTo>
                  <a:pt x="0" y="383"/>
                </a:lnTo>
                <a:lnTo>
                  <a:pt x="6" y="385"/>
                </a:lnTo>
                <a:lnTo>
                  <a:pt x="13" y="386"/>
                </a:lnTo>
                <a:lnTo>
                  <a:pt x="19" y="388"/>
                </a:lnTo>
                <a:lnTo>
                  <a:pt x="26" y="389"/>
                </a:lnTo>
                <a:lnTo>
                  <a:pt x="32" y="390"/>
                </a:lnTo>
                <a:lnTo>
                  <a:pt x="38" y="390"/>
                </a:lnTo>
                <a:lnTo>
                  <a:pt x="45" y="391"/>
                </a:lnTo>
                <a:lnTo>
                  <a:pt x="51" y="391"/>
                </a:lnTo>
                <a:lnTo>
                  <a:pt x="57" y="391"/>
                </a:lnTo>
                <a:lnTo>
                  <a:pt x="64" y="390"/>
                </a:lnTo>
                <a:lnTo>
                  <a:pt x="70" y="390"/>
                </a:lnTo>
                <a:lnTo>
                  <a:pt x="77" y="389"/>
                </a:lnTo>
                <a:lnTo>
                  <a:pt x="83" y="388"/>
                </a:lnTo>
                <a:lnTo>
                  <a:pt x="89" y="386"/>
                </a:lnTo>
                <a:lnTo>
                  <a:pt x="96" y="385"/>
                </a:lnTo>
                <a:lnTo>
                  <a:pt x="102" y="383"/>
                </a:lnTo>
                <a:lnTo>
                  <a:pt x="102" y="406"/>
                </a:lnTo>
                <a:lnTo>
                  <a:pt x="96" y="408"/>
                </a:lnTo>
                <a:lnTo>
                  <a:pt x="89" y="409"/>
                </a:lnTo>
                <a:lnTo>
                  <a:pt x="83" y="411"/>
                </a:lnTo>
                <a:lnTo>
                  <a:pt x="77" y="412"/>
                </a:lnTo>
                <a:lnTo>
                  <a:pt x="70" y="413"/>
                </a:lnTo>
                <a:lnTo>
                  <a:pt x="64" y="413"/>
                </a:lnTo>
                <a:lnTo>
                  <a:pt x="57" y="414"/>
                </a:lnTo>
                <a:lnTo>
                  <a:pt x="51" y="414"/>
                </a:lnTo>
                <a:lnTo>
                  <a:pt x="45" y="414"/>
                </a:lnTo>
                <a:lnTo>
                  <a:pt x="38" y="413"/>
                </a:lnTo>
                <a:lnTo>
                  <a:pt x="32" y="413"/>
                </a:lnTo>
                <a:lnTo>
                  <a:pt x="26" y="412"/>
                </a:lnTo>
                <a:lnTo>
                  <a:pt x="19" y="411"/>
                </a:lnTo>
                <a:lnTo>
                  <a:pt x="13" y="409"/>
                </a:lnTo>
                <a:lnTo>
                  <a:pt x="6" y="408"/>
                </a:lnTo>
                <a:lnTo>
                  <a:pt x="0" y="406"/>
                </a:lnTo>
                <a:lnTo>
                  <a:pt x="102" y="8"/>
                </a:lnTo>
              </a:path>
            </a:pathLst>
          </a:custGeom>
          <a:solidFill>
            <a:srgbClr val="b6f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660840" y="5106960"/>
            <a:ext cx="163440" cy="584280"/>
          </a:xfrm>
          <a:custGeom>
            <a:avLst/>
            <a:gdLst/>
            <a:ahLst/>
            <a:rect l="l" t="t" r="r" b="b"/>
            <a:pathLst>
              <a:path w="103" h="368">
                <a:moveTo>
                  <a:pt x="102" y="9"/>
                </a:moveTo>
                <a:lnTo>
                  <a:pt x="102" y="33"/>
                </a:lnTo>
                <a:lnTo>
                  <a:pt x="96" y="30"/>
                </a:lnTo>
                <a:lnTo>
                  <a:pt x="89" y="28"/>
                </a:lnTo>
                <a:lnTo>
                  <a:pt x="83" y="27"/>
                </a:lnTo>
                <a:lnTo>
                  <a:pt x="77" y="25"/>
                </a:lnTo>
                <a:lnTo>
                  <a:pt x="70" y="24"/>
                </a:lnTo>
                <a:lnTo>
                  <a:pt x="64" y="24"/>
                </a:lnTo>
                <a:lnTo>
                  <a:pt x="57" y="23"/>
                </a:lnTo>
                <a:lnTo>
                  <a:pt x="51" y="23"/>
                </a:lnTo>
                <a:lnTo>
                  <a:pt x="45" y="23"/>
                </a:lnTo>
                <a:lnTo>
                  <a:pt x="38" y="24"/>
                </a:lnTo>
                <a:lnTo>
                  <a:pt x="32" y="24"/>
                </a:lnTo>
                <a:lnTo>
                  <a:pt x="26" y="25"/>
                </a:lnTo>
                <a:lnTo>
                  <a:pt x="19" y="27"/>
                </a:lnTo>
                <a:lnTo>
                  <a:pt x="13" y="28"/>
                </a:lnTo>
                <a:lnTo>
                  <a:pt x="6" y="30"/>
                </a:lnTo>
                <a:lnTo>
                  <a:pt x="0" y="33"/>
                </a:lnTo>
                <a:lnTo>
                  <a:pt x="0" y="9"/>
                </a:lnTo>
                <a:lnTo>
                  <a:pt x="6" y="7"/>
                </a:lnTo>
                <a:lnTo>
                  <a:pt x="13" y="5"/>
                </a:lnTo>
                <a:lnTo>
                  <a:pt x="19" y="4"/>
                </a:lnTo>
                <a:lnTo>
                  <a:pt x="26" y="3"/>
                </a:lnTo>
                <a:lnTo>
                  <a:pt x="32" y="2"/>
                </a:lnTo>
                <a:lnTo>
                  <a:pt x="38" y="1"/>
                </a:lnTo>
                <a:lnTo>
                  <a:pt x="45" y="1"/>
                </a:lnTo>
                <a:lnTo>
                  <a:pt x="51" y="0"/>
                </a:lnTo>
                <a:lnTo>
                  <a:pt x="57" y="1"/>
                </a:lnTo>
                <a:lnTo>
                  <a:pt x="64" y="1"/>
                </a:lnTo>
                <a:lnTo>
                  <a:pt x="70" y="2"/>
                </a:lnTo>
                <a:lnTo>
                  <a:pt x="77" y="3"/>
                </a:lnTo>
                <a:lnTo>
                  <a:pt x="83" y="4"/>
                </a:lnTo>
                <a:lnTo>
                  <a:pt x="89" y="5"/>
                </a:lnTo>
                <a:lnTo>
                  <a:pt x="96" y="7"/>
                </a:lnTo>
                <a:lnTo>
                  <a:pt x="102" y="9"/>
                </a:lnTo>
                <a:lnTo>
                  <a:pt x="0" y="359"/>
                </a:lnTo>
                <a:lnTo>
                  <a:pt x="0" y="335"/>
                </a:lnTo>
                <a:lnTo>
                  <a:pt x="6" y="337"/>
                </a:lnTo>
                <a:lnTo>
                  <a:pt x="13" y="339"/>
                </a:lnTo>
                <a:lnTo>
                  <a:pt x="19" y="341"/>
                </a:lnTo>
                <a:lnTo>
                  <a:pt x="26" y="342"/>
                </a:lnTo>
                <a:lnTo>
                  <a:pt x="32" y="343"/>
                </a:lnTo>
                <a:lnTo>
                  <a:pt x="38" y="344"/>
                </a:lnTo>
                <a:lnTo>
                  <a:pt x="45" y="344"/>
                </a:lnTo>
                <a:lnTo>
                  <a:pt x="51" y="344"/>
                </a:lnTo>
                <a:lnTo>
                  <a:pt x="57" y="344"/>
                </a:lnTo>
                <a:lnTo>
                  <a:pt x="64" y="344"/>
                </a:lnTo>
                <a:lnTo>
                  <a:pt x="70" y="343"/>
                </a:lnTo>
                <a:lnTo>
                  <a:pt x="77" y="342"/>
                </a:lnTo>
                <a:lnTo>
                  <a:pt x="83" y="341"/>
                </a:lnTo>
                <a:lnTo>
                  <a:pt x="89" y="339"/>
                </a:lnTo>
                <a:lnTo>
                  <a:pt x="96" y="337"/>
                </a:lnTo>
                <a:lnTo>
                  <a:pt x="102" y="335"/>
                </a:lnTo>
                <a:lnTo>
                  <a:pt x="102" y="359"/>
                </a:lnTo>
                <a:lnTo>
                  <a:pt x="96" y="361"/>
                </a:lnTo>
                <a:lnTo>
                  <a:pt x="89" y="362"/>
                </a:lnTo>
                <a:lnTo>
                  <a:pt x="83" y="364"/>
                </a:lnTo>
                <a:lnTo>
                  <a:pt x="77" y="365"/>
                </a:lnTo>
                <a:lnTo>
                  <a:pt x="70" y="366"/>
                </a:lnTo>
                <a:lnTo>
                  <a:pt x="64" y="366"/>
                </a:lnTo>
                <a:lnTo>
                  <a:pt x="57" y="367"/>
                </a:lnTo>
                <a:lnTo>
                  <a:pt x="51" y="367"/>
                </a:lnTo>
                <a:lnTo>
                  <a:pt x="45" y="367"/>
                </a:lnTo>
                <a:lnTo>
                  <a:pt x="38" y="366"/>
                </a:lnTo>
                <a:lnTo>
                  <a:pt x="32" y="366"/>
                </a:lnTo>
                <a:lnTo>
                  <a:pt x="26" y="365"/>
                </a:lnTo>
                <a:lnTo>
                  <a:pt x="19" y="364"/>
                </a:lnTo>
                <a:lnTo>
                  <a:pt x="13" y="362"/>
                </a:lnTo>
                <a:lnTo>
                  <a:pt x="6" y="361"/>
                </a:lnTo>
                <a:lnTo>
                  <a:pt x="0" y="359"/>
                </a:lnTo>
                <a:lnTo>
                  <a:pt x="102" y="9"/>
                </a:lnTo>
              </a:path>
            </a:pathLst>
          </a:custGeom>
          <a:solidFill>
            <a:srgbClr val="b9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60840" y="5145120"/>
            <a:ext cx="163440" cy="507960"/>
          </a:xfrm>
          <a:custGeom>
            <a:avLst/>
            <a:gdLst/>
            <a:ahLst/>
            <a:rect l="l" t="t" r="r" b="b"/>
            <a:pathLst>
              <a:path w="103" h="320">
                <a:moveTo>
                  <a:pt x="102" y="10"/>
                </a:moveTo>
                <a:lnTo>
                  <a:pt x="102" y="34"/>
                </a:lnTo>
                <a:lnTo>
                  <a:pt x="96" y="32"/>
                </a:lnTo>
                <a:lnTo>
                  <a:pt x="89" y="29"/>
                </a:lnTo>
                <a:lnTo>
                  <a:pt x="83" y="27"/>
                </a:lnTo>
                <a:lnTo>
                  <a:pt x="77" y="26"/>
                </a:lnTo>
                <a:lnTo>
                  <a:pt x="70" y="24"/>
                </a:lnTo>
                <a:lnTo>
                  <a:pt x="64" y="23"/>
                </a:lnTo>
                <a:lnTo>
                  <a:pt x="57" y="23"/>
                </a:lnTo>
                <a:lnTo>
                  <a:pt x="51" y="23"/>
                </a:lnTo>
                <a:lnTo>
                  <a:pt x="45" y="23"/>
                </a:lnTo>
                <a:lnTo>
                  <a:pt x="38" y="23"/>
                </a:lnTo>
                <a:lnTo>
                  <a:pt x="31" y="24"/>
                </a:lnTo>
                <a:lnTo>
                  <a:pt x="25" y="26"/>
                </a:lnTo>
                <a:lnTo>
                  <a:pt x="18" y="27"/>
                </a:lnTo>
                <a:lnTo>
                  <a:pt x="12" y="29"/>
                </a:lnTo>
                <a:lnTo>
                  <a:pt x="6" y="32"/>
                </a:lnTo>
                <a:lnTo>
                  <a:pt x="0" y="34"/>
                </a:lnTo>
                <a:lnTo>
                  <a:pt x="0" y="10"/>
                </a:lnTo>
                <a:lnTo>
                  <a:pt x="6" y="7"/>
                </a:lnTo>
                <a:lnTo>
                  <a:pt x="13" y="5"/>
                </a:lnTo>
                <a:lnTo>
                  <a:pt x="19" y="4"/>
                </a:lnTo>
                <a:lnTo>
                  <a:pt x="26" y="2"/>
                </a:lnTo>
                <a:lnTo>
                  <a:pt x="32" y="1"/>
                </a:lnTo>
                <a:lnTo>
                  <a:pt x="38" y="1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1"/>
                </a:lnTo>
                <a:lnTo>
                  <a:pt x="70" y="1"/>
                </a:lnTo>
                <a:lnTo>
                  <a:pt x="77" y="2"/>
                </a:lnTo>
                <a:lnTo>
                  <a:pt x="83" y="4"/>
                </a:lnTo>
                <a:lnTo>
                  <a:pt x="89" y="5"/>
                </a:lnTo>
                <a:lnTo>
                  <a:pt x="96" y="7"/>
                </a:lnTo>
                <a:lnTo>
                  <a:pt x="102" y="10"/>
                </a:lnTo>
                <a:lnTo>
                  <a:pt x="0" y="310"/>
                </a:lnTo>
                <a:lnTo>
                  <a:pt x="0" y="285"/>
                </a:lnTo>
                <a:lnTo>
                  <a:pt x="6" y="288"/>
                </a:lnTo>
                <a:lnTo>
                  <a:pt x="12" y="290"/>
                </a:lnTo>
                <a:lnTo>
                  <a:pt x="18" y="292"/>
                </a:lnTo>
                <a:lnTo>
                  <a:pt x="25" y="294"/>
                </a:lnTo>
                <a:lnTo>
                  <a:pt x="31" y="295"/>
                </a:lnTo>
                <a:lnTo>
                  <a:pt x="38" y="296"/>
                </a:lnTo>
                <a:lnTo>
                  <a:pt x="45" y="297"/>
                </a:lnTo>
                <a:lnTo>
                  <a:pt x="51" y="297"/>
                </a:lnTo>
                <a:lnTo>
                  <a:pt x="57" y="297"/>
                </a:lnTo>
                <a:lnTo>
                  <a:pt x="64" y="296"/>
                </a:lnTo>
                <a:lnTo>
                  <a:pt x="70" y="295"/>
                </a:lnTo>
                <a:lnTo>
                  <a:pt x="77" y="294"/>
                </a:lnTo>
                <a:lnTo>
                  <a:pt x="83" y="292"/>
                </a:lnTo>
                <a:lnTo>
                  <a:pt x="89" y="290"/>
                </a:lnTo>
                <a:lnTo>
                  <a:pt x="96" y="288"/>
                </a:lnTo>
                <a:lnTo>
                  <a:pt x="102" y="285"/>
                </a:lnTo>
                <a:lnTo>
                  <a:pt x="102" y="310"/>
                </a:lnTo>
                <a:lnTo>
                  <a:pt x="96" y="312"/>
                </a:lnTo>
                <a:lnTo>
                  <a:pt x="89" y="314"/>
                </a:lnTo>
                <a:lnTo>
                  <a:pt x="83" y="316"/>
                </a:lnTo>
                <a:lnTo>
                  <a:pt x="77" y="317"/>
                </a:lnTo>
                <a:lnTo>
                  <a:pt x="70" y="318"/>
                </a:lnTo>
                <a:lnTo>
                  <a:pt x="64" y="319"/>
                </a:lnTo>
                <a:lnTo>
                  <a:pt x="57" y="319"/>
                </a:lnTo>
                <a:lnTo>
                  <a:pt x="51" y="319"/>
                </a:lnTo>
                <a:lnTo>
                  <a:pt x="45" y="319"/>
                </a:lnTo>
                <a:lnTo>
                  <a:pt x="38" y="319"/>
                </a:lnTo>
                <a:lnTo>
                  <a:pt x="32" y="318"/>
                </a:lnTo>
                <a:lnTo>
                  <a:pt x="26" y="317"/>
                </a:lnTo>
                <a:lnTo>
                  <a:pt x="19" y="316"/>
                </a:lnTo>
                <a:lnTo>
                  <a:pt x="13" y="314"/>
                </a:lnTo>
                <a:lnTo>
                  <a:pt x="6" y="312"/>
                </a:lnTo>
                <a:lnTo>
                  <a:pt x="0" y="310"/>
                </a:lnTo>
                <a:lnTo>
                  <a:pt x="102" y="10"/>
                </a:lnTo>
              </a:path>
            </a:pathLst>
          </a:custGeom>
          <a:solidFill>
            <a:srgbClr val="bb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60840" y="5183280"/>
            <a:ext cx="163440" cy="433440"/>
          </a:xfrm>
          <a:custGeom>
            <a:avLst/>
            <a:gdLst/>
            <a:ahLst/>
            <a:rect l="l" t="t" r="r" b="b"/>
            <a:pathLst>
              <a:path w="103" h="273">
                <a:moveTo>
                  <a:pt x="102" y="11"/>
                </a:moveTo>
                <a:lnTo>
                  <a:pt x="102" y="37"/>
                </a:lnTo>
                <a:lnTo>
                  <a:pt x="96" y="34"/>
                </a:lnTo>
                <a:lnTo>
                  <a:pt x="89" y="31"/>
                </a:lnTo>
                <a:lnTo>
                  <a:pt x="83" y="28"/>
                </a:lnTo>
                <a:lnTo>
                  <a:pt x="77" y="26"/>
                </a:lnTo>
                <a:lnTo>
                  <a:pt x="70" y="25"/>
                </a:lnTo>
                <a:lnTo>
                  <a:pt x="64" y="24"/>
                </a:lnTo>
                <a:lnTo>
                  <a:pt x="57" y="23"/>
                </a:lnTo>
                <a:lnTo>
                  <a:pt x="51" y="23"/>
                </a:lnTo>
                <a:lnTo>
                  <a:pt x="45" y="23"/>
                </a:lnTo>
                <a:lnTo>
                  <a:pt x="37" y="24"/>
                </a:lnTo>
                <a:lnTo>
                  <a:pt x="31" y="25"/>
                </a:lnTo>
                <a:lnTo>
                  <a:pt x="25" y="26"/>
                </a:lnTo>
                <a:lnTo>
                  <a:pt x="18" y="28"/>
                </a:lnTo>
                <a:lnTo>
                  <a:pt x="12" y="31"/>
                </a:lnTo>
                <a:lnTo>
                  <a:pt x="5" y="34"/>
                </a:lnTo>
                <a:lnTo>
                  <a:pt x="0" y="37"/>
                </a:lnTo>
                <a:lnTo>
                  <a:pt x="0" y="11"/>
                </a:lnTo>
                <a:lnTo>
                  <a:pt x="6" y="9"/>
                </a:lnTo>
                <a:lnTo>
                  <a:pt x="12" y="6"/>
                </a:lnTo>
                <a:lnTo>
                  <a:pt x="18" y="4"/>
                </a:lnTo>
                <a:lnTo>
                  <a:pt x="25" y="3"/>
                </a:lnTo>
                <a:lnTo>
                  <a:pt x="31" y="1"/>
                </a:lnTo>
                <a:lnTo>
                  <a:pt x="38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0"/>
                </a:lnTo>
                <a:lnTo>
                  <a:pt x="70" y="1"/>
                </a:lnTo>
                <a:lnTo>
                  <a:pt x="77" y="3"/>
                </a:lnTo>
                <a:lnTo>
                  <a:pt x="83" y="4"/>
                </a:lnTo>
                <a:lnTo>
                  <a:pt x="89" y="6"/>
                </a:lnTo>
                <a:lnTo>
                  <a:pt x="96" y="9"/>
                </a:lnTo>
                <a:lnTo>
                  <a:pt x="102" y="11"/>
                </a:lnTo>
                <a:lnTo>
                  <a:pt x="0" y="260"/>
                </a:lnTo>
                <a:lnTo>
                  <a:pt x="0" y="234"/>
                </a:lnTo>
                <a:lnTo>
                  <a:pt x="5" y="238"/>
                </a:lnTo>
                <a:lnTo>
                  <a:pt x="12" y="241"/>
                </a:lnTo>
                <a:lnTo>
                  <a:pt x="18" y="243"/>
                </a:lnTo>
                <a:lnTo>
                  <a:pt x="25" y="245"/>
                </a:lnTo>
                <a:lnTo>
                  <a:pt x="31" y="247"/>
                </a:lnTo>
                <a:lnTo>
                  <a:pt x="37" y="248"/>
                </a:lnTo>
                <a:lnTo>
                  <a:pt x="45" y="249"/>
                </a:lnTo>
                <a:lnTo>
                  <a:pt x="51" y="249"/>
                </a:lnTo>
                <a:lnTo>
                  <a:pt x="57" y="249"/>
                </a:lnTo>
                <a:lnTo>
                  <a:pt x="64" y="248"/>
                </a:lnTo>
                <a:lnTo>
                  <a:pt x="70" y="247"/>
                </a:lnTo>
                <a:lnTo>
                  <a:pt x="77" y="245"/>
                </a:lnTo>
                <a:lnTo>
                  <a:pt x="83" y="243"/>
                </a:lnTo>
                <a:lnTo>
                  <a:pt x="89" y="241"/>
                </a:lnTo>
                <a:lnTo>
                  <a:pt x="96" y="238"/>
                </a:lnTo>
                <a:lnTo>
                  <a:pt x="102" y="234"/>
                </a:lnTo>
                <a:lnTo>
                  <a:pt x="102" y="260"/>
                </a:lnTo>
                <a:lnTo>
                  <a:pt x="96" y="263"/>
                </a:lnTo>
                <a:lnTo>
                  <a:pt x="89" y="265"/>
                </a:lnTo>
                <a:lnTo>
                  <a:pt x="83" y="267"/>
                </a:lnTo>
                <a:lnTo>
                  <a:pt x="77" y="269"/>
                </a:lnTo>
                <a:lnTo>
                  <a:pt x="70" y="270"/>
                </a:lnTo>
                <a:lnTo>
                  <a:pt x="64" y="271"/>
                </a:lnTo>
                <a:lnTo>
                  <a:pt x="57" y="272"/>
                </a:lnTo>
                <a:lnTo>
                  <a:pt x="51" y="272"/>
                </a:lnTo>
                <a:lnTo>
                  <a:pt x="45" y="272"/>
                </a:lnTo>
                <a:lnTo>
                  <a:pt x="38" y="271"/>
                </a:lnTo>
                <a:lnTo>
                  <a:pt x="31" y="270"/>
                </a:lnTo>
                <a:lnTo>
                  <a:pt x="25" y="269"/>
                </a:lnTo>
                <a:lnTo>
                  <a:pt x="18" y="267"/>
                </a:lnTo>
                <a:lnTo>
                  <a:pt x="12" y="265"/>
                </a:lnTo>
                <a:lnTo>
                  <a:pt x="6" y="263"/>
                </a:lnTo>
                <a:lnTo>
                  <a:pt x="0" y="260"/>
                </a:lnTo>
                <a:lnTo>
                  <a:pt x="102" y="11"/>
                </a:lnTo>
              </a:path>
            </a:pathLst>
          </a:custGeom>
          <a:solidFill>
            <a:srgbClr val="bef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660840" y="5221440"/>
            <a:ext cx="163440" cy="357120"/>
          </a:xfrm>
          <a:custGeom>
            <a:avLst/>
            <a:gdLst/>
            <a:ahLst/>
            <a:rect l="l" t="t" r="r" b="b"/>
            <a:pathLst>
              <a:path w="103" h="225">
                <a:moveTo>
                  <a:pt x="102" y="13"/>
                </a:moveTo>
                <a:lnTo>
                  <a:pt x="102" y="40"/>
                </a:lnTo>
                <a:lnTo>
                  <a:pt x="96" y="35"/>
                </a:lnTo>
                <a:lnTo>
                  <a:pt x="90" y="33"/>
                </a:lnTo>
                <a:lnTo>
                  <a:pt x="84" y="29"/>
                </a:lnTo>
                <a:lnTo>
                  <a:pt x="77" y="27"/>
                </a:lnTo>
                <a:lnTo>
                  <a:pt x="71" y="25"/>
                </a:lnTo>
                <a:lnTo>
                  <a:pt x="64" y="23"/>
                </a:lnTo>
                <a:lnTo>
                  <a:pt x="57" y="22"/>
                </a:lnTo>
                <a:lnTo>
                  <a:pt x="51" y="22"/>
                </a:lnTo>
                <a:lnTo>
                  <a:pt x="44" y="22"/>
                </a:lnTo>
                <a:lnTo>
                  <a:pt x="37" y="23"/>
                </a:lnTo>
                <a:lnTo>
                  <a:pt x="31" y="25"/>
                </a:lnTo>
                <a:lnTo>
                  <a:pt x="25" y="27"/>
                </a:lnTo>
                <a:lnTo>
                  <a:pt x="18" y="29"/>
                </a:lnTo>
                <a:lnTo>
                  <a:pt x="12" y="33"/>
                </a:lnTo>
                <a:lnTo>
                  <a:pt x="5" y="35"/>
                </a:lnTo>
                <a:lnTo>
                  <a:pt x="0" y="40"/>
                </a:lnTo>
                <a:lnTo>
                  <a:pt x="0" y="13"/>
                </a:lnTo>
                <a:lnTo>
                  <a:pt x="5" y="11"/>
                </a:lnTo>
                <a:lnTo>
                  <a:pt x="12" y="8"/>
                </a:lnTo>
                <a:lnTo>
                  <a:pt x="18" y="5"/>
                </a:lnTo>
                <a:lnTo>
                  <a:pt x="25" y="3"/>
                </a:lnTo>
                <a:lnTo>
                  <a:pt x="31" y="2"/>
                </a:lnTo>
                <a:lnTo>
                  <a:pt x="37" y="1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1"/>
                </a:lnTo>
                <a:lnTo>
                  <a:pt x="70" y="2"/>
                </a:lnTo>
                <a:lnTo>
                  <a:pt x="77" y="3"/>
                </a:lnTo>
                <a:lnTo>
                  <a:pt x="83" y="5"/>
                </a:lnTo>
                <a:lnTo>
                  <a:pt x="89" y="8"/>
                </a:lnTo>
                <a:lnTo>
                  <a:pt x="96" y="11"/>
                </a:lnTo>
                <a:lnTo>
                  <a:pt x="102" y="13"/>
                </a:lnTo>
                <a:lnTo>
                  <a:pt x="0" y="210"/>
                </a:lnTo>
                <a:lnTo>
                  <a:pt x="0" y="184"/>
                </a:lnTo>
                <a:lnTo>
                  <a:pt x="5" y="188"/>
                </a:lnTo>
                <a:lnTo>
                  <a:pt x="12" y="191"/>
                </a:lnTo>
                <a:lnTo>
                  <a:pt x="18" y="194"/>
                </a:lnTo>
                <a:lnTo>
                  <a:pt x="25" y="197"/>
                </a:lnTo>
                <a:lnTo>
                  <a:pt x="31" y="199"/>
                </a:lnTo>
                <a:lnTo>
                  <a:pt x="37" y="200"/>
                </a:lnTo>
                <a:lnTo>
                  <a:pt x="44" y="201"/>
                </a:lnTo>
                <a:lnTo>
                  <a:pt x="51" y="201"/>
                </a:lnTo>
                <a:lnTo>
                  <a:pt x="57" y="201"/>
                </a:lnTo>
                <a:lnTo>
                  <a:pt x="64" y="200"/>
                </a:lnTo>
                <a:lnTo>
                  <a:pt x="71" y="199"/>
                </a:lnTo>
                <a:lnTo>
                  <a:pt x="77" y="197"/>
                </a:lnTo>
                <a:lnTo>
                  <a:pt x="84" y="194"/>
                </a:lnTo>
                <a:lnTo>
                  <a:pt x="90" y="191"/>
                </a:lnTo>
                <a:lnTo>
                  <a:pt x="96" y="188"/>
                </a:lnTo>
                <a:lnTo>
                  <a:pt x="102" y="184"/>
                </a:lnTo>
                <a:lnTo>
                  <a:pt x="102" y="210"/>
                </a:lnTo>
                <a:lnTo>
                  <a:pt x="96" y="213"/>
                </a:lnTo>
                <a:lnTo>
                  <a:pt x="89" y="216"/>
                </a:lnTo>
                <a:lnTo>
                  <a:pt x="83" y="218"/>
                </a:lnTo>
                <a:lnTo>
                  <a:pt x="77" y="220"/>
                </a:lnTo>
                <a:lnTo>
                  <a:pt x="70" y="222"/>
                </a:lnTo>
                <a:lnTo>
                  <a:pt x="64" y="223"/>
                </a:lnTo>
                <a:lnTo>
                  <a:pt x="57" y="224"/>
                </a:lnTo>
                <a:lnTo>
                  <a:pt x="51" y="224"/>
                </a:lnTo>
                <a:lnTo>
                  <a:pt x="45" y="224"/>
                </a:lnTo>
                <a:lnTo>
                  <a:pt x="37" y="223"/>
                </a:lnTo>
                <a:lnTo>
                  <a:pt x="31" y="222"/>
                </a:lnTo>
                <a:lnTo>
                  <a:pt x="25" y="220"/>
                </a:lnTo>
                <a:lnTo>
                  <a:pt x="18" y="218"/>
                </a:lnTo>
                <a:lnTo>
                  <a:pt x="12" y="216"/>
                </a:lnTo>
                <a:lnTo>
                  <a:pt x="5" y="213"/>
                </a:lnTo>
                <a:lnTo>
                  <a:pt x="0" y="210"/>
                </a:lnTo>
                <a:lnTo>
                  <a:pt x="102" y="13"/>
                </a:lnTo>
              </a:path>
            </a:pathLst>
          </a:custGeom>
          <a:solidFill>
            <a:srgbClr val="c1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660840" y="5257800"/>
            <a:ext cx="163440" cy="282600"/>
          </a:xfrm>
          <a:custGeom>
            <a:avLst/>
            <a:gdLst/>
            <a:ahLst/>
            <a:rect l="l" t="t" r="r" b="b"/>
            <a:pathLst>
              <a:path w="103" h="178">
                <a:moveTo>
                  <a:pt x="102" y="18"/>
                </a:moveTo>
                <a:lnTo>
                  <a:pt x="102" y="49"/>
                </a:lnTo>
                <a:lnTo>
                  <a:pt x="97" y="43"/>
                </a:lnTo>
                <a:lnTo>
                  <a:pt x="92" y="38"/>
                </a:lnTo>
                <a:lnTo>
                  <a:pt x="86" y="33"/>
                </a:lnTo>
                <a:lnTo>
                  <a:pt x="79" y="29"/>
                </a:lnTo>
                <a:lnTo>
                  <a:pt x="73" y="27"/>
                </a:lnTo>
                <a:lnTo>
                  <a:pt x="66" y="24"/>
                </a:lnTo>
                <a:lnTo>
                  <a:pt x="58" y="23"/>
                </a:lnTo>
                <a:lnTo>
                  <a:pt x="51" y="22"/>
                </a:lnTo>
                <a:lnTo>
                  <a:pt x="44" y="23"/>
                </a:lnTo>
                <a:lnTo>
                  <a:pt x="36" y="24"/>
                </a:lnTo>
                <a:lnTo>
                  <a:pt x="29" y="27"/>
                </a:lnTo>
                <a:lnTo>
                  <a:pt x="22" y="29"/>
                </a:lnTo>
                <a:lnTo>
                  <a:pt x="15" y="33"/>
                </a:lnTo>
                <a:lnTo>
                  <a:pt x="10" y="38"/>
                </a:lnTo>
                <a:lnTo>
                  <a:pt x="5" y="43"/>
                </a:lnTo>
                <a:lnTo>
                  <a:pt x="0" y="49"/>
                </a:lnTo>
                <a:lnTo>
                  <a:pt x="0" y="18"/>
                </a:lnTo>
                <a:lnTo>
                  <a:pt x="5" y="13"/>
                </a:lnTo>
                <a:lnTo>
                  <a:pt x="12" y="10"/>
                </a:lnTo>
                <a:lnTo>
                  <a:pt x="18" y="7"/>
                </a:lnTo>
                <a:lnTo>
                  <a:pt x="25" y="5"/>
                </a:lnTo>
                <a:lnTo>
                  <a:pt x="31" y="3"/>
                </a:lnTo>
                <a:lnTo>
                  <a:pt x="37" y="1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4" y="1"/>
                </a:lnTo>
                <a:lnTo>
                  <a:pt x="71" y="3"/>
                </a:lnTo>
                <a:lnTo>
                  <a:pt x="77" y="5"/>
                </a:lnTo>
                <a:lnTo>
                  <a:pt x="84" y="7"/>
                </a:lnTo>
                <a:lnTo>
                  <a:pt x="90" y="10"/>
                </a:lnTo>
                <a:lnTo>
                  <a:pt x="96" y="13"/>
                </a:lnTo>
                <a:lnTo>
                  <a:pt x="102" y="18"/>
                </a:lnTo>
                <a:lnTo>
                  <a:pt x="0" y="160"/>
                </a:lnTo>
                <a:lnTo>
                  <a:pt x="0" y="129"/>
                </a:lnTo>
                <a:lnTo>
                  <a:pt x="5" y="134"/>
                </a:lnTo>
                <a:lnTo>
                  <a:pt x="10" y="140"/>
                </a:lnTo>
                <a:lnTo>
                  <a:pt x="15" y="145"/>
                </a:lnTo>
                <a:lnTo>
                  <a:pt x="22" y="149"/>
                </a:lnTo>
                <a:lnTo>
                  <a:pt x="29" y="151"/>
                </a:lnTo>
                <a:lnTo>
                  <a:pt x="36" y="153"/>
                </a:lnTo>
                <a:lnTo>
                  <a:pt x="44" y="155"/>
                </a:lnTo>
                <a:lnTo>
                  <a:pt x="51" y="155"/>
                </a:lnTo>
                <a:lnTo>
                  <a:pt x="58" y="155"/>
                </a:lnTo>
                <a:lnTo>
                  <a:pt x="66" y="153"/>
                </a:lnTo>
                <a:lnTo>
                  <a:pt x="73" y="151"/>
                </a:lnTo>
                <a:lnTo>
                  <a:pt x="79" y="149"/>
                </a:lnTo>
                <a:lnTo>
                  <a:pt x="86" y="145"/>
                </a:lnTo>
                <a:lnTo>
                  <a:pt x="92" y="140"/>
                </a:lnTo>
                <a:lnTo>
                  <a:pt x="97" y="134"/>
                </a:lnTo>
                <a:lnTo>
                  <a:pt x="102" y="129"/>
                </a:lnTo>
                <a:lnTo>
                  <a:pt x="102" y="160"/>
                </a:lnTo>
                <a:lnTo>
                  <a:pt x="96" y="164"/>
                </a:lnTo>
                <a:lnTo>
                  <a:pt x="90" y="168"/>
                </a:lnTo>
                <a:lnTo>
                  <a:pt x="84" y="170"/>
                </a:lnTo>
                <a:lnTo>
                  <a:pt x="77" y="173"/>
                </a:lnTo>
                <a:lnTo>
                  <a:pt x="71" y="175"/>
                </a:lnTo>
                <a:lnTo>
                  <a:pt x="64" y="176"/>
                </a:lnTo>
                <a:lnTo>
                  <a:pt x="57" y="177"/>
                </a:lnTo>
                <a:lnTo>
                  <a:pt x="51" y="177"/>
                </a:lnTo>
                <a:lnTo>
                  <a:pt x="44" y="177"/>
                </a:lnTo>
                <a:lnTo>
                  <a:pt x="37" y="176"/>
                </a:lnTo>
                <a:lnTo>
                  <a:pt x="31" y="175"/>
                </a:lnTo>
                <a:lnTo>
                  <a:pt x="25" y="173"/>
                </a:lnTo>
                <a:lnTo>
                  <a:pt x="18" y="170"/>
                </a:lnTo>
                <a:lnTo>
                  <a:pt x="12" y="168"/>
                </a:lnTo>
                <a:lnTo>
                  <a:pt x="5" y="164"/>
                </a:lnTo>
                <a:lnTo>
                  <a:pt x="0" y="160"/>
                </a:lnTo>
                <a:lnTo>
                  <a:pt x="102" y="18"/>
                </a:lnTo>
              </a:path>
            </a:pathLst>
          </a:custGeom>
          <a:solidFill>
            <a:srgbClr val="c3f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660840" y="5294160"/>
            <a:ext cx="163440" cy="209880"/>
          </a:xfrm>
          <a:custGeom>
            <a:avLst/>
            <a:gdLst/>
            <a:ahLst/>
            <a:rect l="l" t="t" r="r" b="b"/>
            <a:pathLst>
              <a:path w="103" h="132">
                <a:moveTo>
                  <a:pt x="94" y="66"/>
                </a:moveTo>
                <a:lnTo>
                  <a:pt x="93" y="57"/>
                </a:lnTo>
                <a:lnTo>
                  <a:pt x="90" y="49"/>
                </a:lnTo>
                <a:lnTo>
                  <a:pt x="87" y="42"/>
                </a:lnTo>
                <a:lnTo>
                  <a:pt x="81" y="35"/>
                </a:lnTo>
                <a:lnTo>
                  <a:pt x="75" y="30"/>
                </a:lnTo>
                <a:lnTo>
                  <a:pt x="67" y="26"/>
                </a:lnTo>
                <a:lnTo>
                  <a:pt x="59" y="23"/>
                </a:lnTo>
                <a:lnTo>
                  <a:pt x="51" y="22"/>
                </a:lnTo>
                <a:lnTo>
                  <a:pt x="42" y="23"/>
                </a:lnTo>
                <a:lnTo>
                  <a:pt x="35" y="26"/>
                </a:lnTo>
                <a:lnTo>
                  <a:pt x="27" y="30"/>
                </a:lnTo>
                <a:lnTo>
                  <a:pt x="21" y="35"/>
                </a:lnTo>
                <a:lnTo>
                  <a:pt x="15" y="42"/>
                </a:lnTo>
                <a:lnTo>
                  <a:pt x="12" y="49"/>
                </a:lnTo>
                <a:lnTo>
                  <a:pt x="9" y="57"/>
                </a:lnTo>
                <a:lnTo>
                  <a:pt x="8" y="66"/>
                </a:lnTo>
                <a:lnTo>
                  <a:pt x="9" y="74"/>
                </a:lnTo>
                <a:lnTo>
                  <a:pt x="12" y="83"/>
                </a:lnTo>
                <a:lnTo>
                  <a:pt x="15" y="90"/>
                </a:lnTo>
                <a:lnTo>
                  <a:pt x="21" y="97"/>
                </a:lnTo>
                <a:lnTo>
                  <a:pt x="27" y="102"/>
                </a:lnTo>
                <a:lnTo>
                  <a:pt x="35" y="106"/>
                </a:lnTo>
                <a:lnTo>
                  <a:pt x="42" y="109"/>
                </a:lnTo>
                <a:lnTo>
                  <a:pt x="51" y="110"/>
                </a:lnTo>
                <a:lnTo>
                  <a:pt x="59" y="109"/>
                </a:lnTo>
                <a:lnTo>
                  <a:pt x="67" y="106"/>
                </a:lnTo>
                <a:lnTo>
                  <a:pt x="75" y="102"/>
                </a:lnTo>
                <a:lnTo>
                  <a:pt x="81" y="97"/>
                </a:lnTo>
                <a:lnTo>
                  <a:pt x="87" y="90"/>
                </a:lnTo>
                <a:lnTo>
                  <a:pt x="90" y="83"/>
                </a:lnTo>
                <a:lnTo>
                  <a:pt x="93" y="74"/>
                </a:lnTo>
                <a:lnTo>
                  <a:pt x="94" y="66"/>
                </a:lnTo>
                <a:lnTo>
                  <a:pt x="102" y="27"/>
                </a:lnTo>
                <a:lnTo>
                  <a:pt x="102" y="105"/>
                </a:lnTo>
                <a:lnTo>
                  <a:pt x="97" y="111"/>
                </a:lnTo>
                <a:lnTo>
                  <a:pt x="92" y="116"/>
                </a:lnTo>
                <a:lnTo>
                  <a:pt x="86" y="121"/>
                </a:lnTo>
                <a:lnTo>
                  <a:pt x="79" y="124"/>
                </a:lnTo>
                <a:lnTo>
                  <a:pt x="73" y="127"/>
                </a:lnTo>
                <a:lnTo>
                  <a:pt x="66" y="129"/>
                </a:lnTo>
                <a:lnTo>
                  <a:pt x="58" y="131"/>
                </a:lnTo>
                <a:lnTo>
                  <a:pt x="51" y="131"/>
                </a:lnTo>
                <a:lnTo>
                  <a:pt x="44" y="131"/>
                </a:lnTo>
                <a:lnTo>
                  <a:pt x="36" y="129"/>
                </a:lnTo>
                <a:lnTo>
                  <a:pt x="29" y="127"/>
                </a:lnTo>
                <a:lnTo>
                  <a:pt x="22" y="124"/>
                </a:lnTo>
                <a:lnTo>
                  <a:pt x="15" y="121"/>
                </a:lnTo>
                <a:lnTo>
                  <a:pt x="10" y="116"/>
                </a:lnTo>
                <a:lnTo>
                  <a:pt x="5" y="111"/>
                </a:lnTo>
                <a:lnTo>
                  <a:pt x="0" y="105"/>
                </a:lnTo>
                <a:lnTo>
                  <a:pt x="0" y="27"/>
                </a:lnTo>
                <a:lnTo>
                  <a:pt x="5" y="20"/>
                </a:lnTo>
                <a:lnTo>
                  <a:pt x="10" y="16"/>
                </a:lnTo>
                <a:lnTo>
                  <a:pt x="15" y="11"/>
                </a:lnTo>
                <a:lnTo>
                  <a:pt x="22" y="7"/>
                </a:lnTo>
                <a:lnTo>
                  <a:pt x="29" y="5"/>
                </a:lnTo>
                <a:lnTo>
                  <a:pt x="36" y="2"/>
                </a:lnTo>
                <a:lnTo>
                  <a:pt x="44" y="1"/>
                </a:lnTo>
                <a:lnTo>
                  <a:pt x="51" y="0"/>
                </a:lnTo>
                <a:lnTo>
                  <a:pt x="58" y="1"/>
                </a:lnTo>
                <a:lnTo>
                  <a:pt x="66" y="2"/>
                </a:lnTo>
                <a:lnTo>
                  <a:pt x="73" y="5"/>
                </a:lnTo>
                <a:lnTo>
                  <a:pt x="79" y="7"/>
                </a:lnTo>
                <a:lnTo>
                  <a:pt x="86" y="11"/>
                </a:lnTo>
                <a:lnTo>
                  <a:pt x="92" y="16"/>
                </a:lnTo>
                <a:lnTo>
                  <a:pt x="97" y="20"/>
                </a:lnTo>
                <a:lnTo>
                  <a:pt x="102" y="27"/>
                </a:lnTo>
                <a:lnTo>
                  <a:pt x="94" y="66"/>
                </a:lnTo>
              </a:path>
            </a:pathLst>
          </a:custGeom>
          <a:solidFill>
            <a:srgbClr val="c6f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675240" y="5332320"/>
            <a:ext cx="134640" cy="13500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2"/>
                </a:moveTo>
                <a:lnTo>
                  <a:pt x="83" y="33"/>
                </a:lnTo>
                <a:lnTo>
                  <a:pt x="80" y="26"/>
                </a:lnTo>
                <a:lnTo>
                  <a:pt x="77" y="19"/>
                </a:lnTo>
                <a:lnTo>
                  <a:pt x="71" y="13"/>
                </a:lnTo>
                <a:lnTo>
                  <a:pt x="65" y="7"/>
                </a:lnTo>
                <a:lnTo>
                  <a:pt x="58" y="4"/>
                </a:lnTo>
                <a:lnTo>
                  <a:pt x="50" y="1"/>
                </a:lnTo>
                <a:lnTo>
                  <a:pt x="42" y="0"/>
                </a:lnTo>
                <a:lnTo>
                  <a:pt x="33" y="1"/>
                </a:lnTo>
                <a:lnTo>
                  <a:pt x="26" y="4"/>
                </a:lnTo>
                <a:lnTo>
                  <a:pt x="19" y="7"/>
                </a:lnTo>
                <a:lnTo>
                  <a:pt x="13" y="13"/>
                </a:lnTo>
                <a:lnTo>
                  <a:pt x="7" y="19"/>
                </a:lnTo>
                <a:lnTo>
                  <a:pt x="4" y="26"/>
                </a:lnTo>
                <a:lnTo>
                  <a:pt x="1" y="33"/>
                </a:lnTo>
                <a:lnTo>
                  <a:pt x="0" y="42"/>
                </a:lnTo>
                <a:lnTo>
                  <a:pt x="1" y="50"/>
                </a:lnTo>
                <a:lnTo>
                  <a:pt x="4" y="58"/>
                </a:lnTo>
                <a:lnTo>
                  <a:pt x="7" y="65"/>
                </a:lnTo>
                <a:lnTo>
                  <a:pt x="13" y="71"/>
                </a:lnTo>
                <a:lnTo>
                  <a:pt x="19" y="77"/>
                </a:lnTo>
                <a:lnTo>
                  <a:pt x="26" y="80"/>
                </a:lnTo>
                <a:lnTo>
                  <a:pt x="33" y="83"/>
                </a:lnTo>
                <a:lnTo>
                  <a:pt x="42" y="84"/>
                </a:lnTo>
                <a:lnTo>
                  <a:pt x="50" y="83"/>
                </a:lnTo>
                <a:lnTo>
                  <a:pt x="58" y="80"/>
                </a:lnTo>
                <a:lnTo>
                  <a:pt x="65" y="77"/>
                </a:lnTo>
                <a:lnTo>
                  <a:pt x="71" y="71"/>
                </a:lnTo>
                <a:lnTo>
                  <a:pt x="77" y="65"/>
                </a:lnTo>
                <a:lnTo>
                  <a:pt x="80" y="58"/>
                </a:lnTo>
                <a:lnTo>
                  <a:pt x="83" y="50"/>
                </a:lnTo>
                <a:lnTo>
                  <a:pt x="84" y="42"/>
                </a:lnTo>
                <a:lnTo>
                  <a:pt x="63" y="42"/>
                </a:lnTo>
                <a:lnTo>
                  <a:pt x="63" y="38"/>
                </a:lnTo>
                <a:lnTo>
                  <a:pt x="61" y="34"/>
                </a:lnTo>
                <a:lnTo>
                  <a:pt x="59" y="30"/>
                </a:lnTo>
                <a:lnTo>
                  <a:pt x="56" y="27"/>
                </a:lnTo>
                <a:lnTo>
                  <a:pt x="54" y="24"/>
                </a:lnTo>
                <a:lnTo>
                  <a:pt x="50" y="22"/>
                </a:lnTo>
                <a:lnTo>
                  <a:pt x="46" y="21"/>
                </a:lnTo>
                <a:lnTo>
                  <a:pt x="42" y="21"/>
                </a:lnTo>
                <a:lnTo>
                  <a:pt x="38" y="21"/>
                </a:lnTo>
                <a:lnTo>
                  <a:pt x="34" y="22"/>
                </a:lnTo>
                <a:lnTo>
                  <a:pt x="30" y="24"/>
                </a:lnTo>
                <a:lnTo>
                  <a:pt x="27" y="27"/>
                </a:lnTo>
                <a:lnTo>
                  <a:pt x="24" y="30"/>
                </a:lnTo>
                <a:lnTo>
                  <a:pt x="22" y="34"/>
                </a:lnTo>
                <a:lnTo>
                  <a:pt x="21" y="38"/>
                </a:lnTo>
                <a:lnTo>
                  <a:pt x="21" y="42"/>
                </a:lnTo>
                <a:lnTo>
                  <a:pt x="21" y="46"/>
                </a:lnTo>
                <a:lnTo>
                  <a:pt x="22" y="50"/>
                </a:lnTo>
                <a:lnTo>
                  <a:pt x="24" y="54"/>
                </a:lnTo>
                <a:lnTo>
                  <a:pt x="27" y="56"/>
                </a:lnTo>
                <a:lnTo>
                  <a:pt x="30" y="59"/>
                </a:lnTo>
                <a:lnTo>
                  <a:pt x="34" y="61"/>
                </a:lnTo>
                <a:lnTo>
                  <a:pt x="38" y="63"/>
                </a:lnTo>
                <a:lnTo>
                  <a:pt x="42" y="63"/>
                </a:lnTo>
                <a:lnTo>
                  <a:pt x="46" y="63"/>
                </a:lnTo>
                <a:lnTo>
                  <a:pt x="50" y="61"/>
                </a:lnTo>
                <a:lnTo>
                  <a:pt x="54" y="59"/>
                </a:lnTo>
                <a:lnTo>
                  <a:pt x="56" y="56"/>
                </a:lnTo>
                <a:lnTo>
                  <a:pt x="59" y="54"/>
                </a:lnTo>
                <a:lnTo>
                  <a:pt x="61" y="50"/>
                </a:lnTo>
                <a:lnTo>
                  <a:pt x="63" y="46"/>
                </a:lnTo>
                <a:lnTo>
                  <a:pt x="63" y="42"/>
                </a:lnTo>
                <a:lnTo>
                  <a:pt x="84" y="42"/>
                </a:lnTo>
              </a:path>
            </a:pathLst>
          </a:custGeom>
          <a:solidFill>
            <a:srgbClr val="c9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711600" y="5369040"/>
            <a:ext cx="60480" cy="601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7" y="19"/>
                </a:moveTo>
                <a:lnTo>
                  <a:pt x="37" y="15"/>
                </a:lnTo>
                <a:lnTo>
                  <a:pt x="35" y="12"/>
                </a:lnTo>
                <a:lnTo>
                  <a:pt x="34" y="9"/>
                </a:lnTo>
                <a:lnTo>
                  <a:pt x="31" y="6"/>
                </a:lnTo>
                <a:lnTo>
                  <a:pt x="29" y="3"/>
                </a:lnTo>
                <a:lnTo>
                  <a:pt x="26" y="2"/>
                </a:lnTo>
                <a:lnTo>
                  <a:pt x="22" y="1"/>
                </a:lnTo>
                <a:lnTo>
                  <a:pt x="19" y="0"/>
                </a:lnTo>
                <a:lnTo>
                  <a:pt x="15" y="1"/>
                </a:lnTo>
                <a:lnTo>
                  <a:pt x="12" y="2"/>
                </a:lnTo>
                <a:lnTo>
                  <a:pt x="9" y="3"/>
                </a:lnTo>
                <a:lnTo>
                  <a:pt x="6" y="6"/>
                </a:lnTo>
                <a:lnTo>
                  <a:pt x="3" y="9"/>
                </a:lnTo>
                <a:lnTo>
                  <a:pt x="2" y="12"/>
                </a:lnTo>
                <a:lnTo>
                  <a:pt x="1" y="15"/>
                </a:lnTo>
                <a:lnTo>
                  <a:pt x="0" y="19"/>
                </a:lnTo>
                <a:lnTo>
                  <a:pt x="1" y="22"/>
                </a:lnTo>
                <a:lnTo>
                  <a:pt x="2" y="26"/>
                </a:lnTo>
                <a:lnTo>
                  <a:pt x="3" y="29"/>
                </a:lnTo>
                <a:lnTo>
                  <a:pt x="6" y="31"/>
                </a:lnTo>
                <a:lnTo>
                  <a:pt x="9" y="34"/>
                </a:lnTo>
                <a:lnTo>
                  <a:pt x="12" y="35"/>
                </a:lnTo>
                <a:lnTo>
                  <a:pt x="15" y="37"/>
                </a:lnTo>
                <a:lnTo>
                  <a:pt x="19" y="37"/>
                </a:lnTo>
                <a:lnTo>
                  <a:pt x="22" y="37"/>
                </a:lnTo>
                <a:lnTo>
                  <a:pt x="26" y="35"/>
                </a:lnTo>
                <a:lnTo>
                  <a:pt x="29" y="34"/>
                </a:lnTo>
                <a:lnTo>
                  <a:pt x="31" y="31"/>
                </a:lnTo>
                <a:lnTo>
                  <a:pt x="34" y="29"/>
                </a:lnTo>
                <a:lnTo>
                  <a:pt x="35" y="26"/>
                </a:lnTo>
                <a:lnTo>
                  <a:pt x="37" y="22"/>
                </a:lnTo>
                <a:lnTo>
                  <a:pt x="37" y="19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660840" y="4664160"/>
            <a:ext cx="179280" cy="1487520"/>
          </a:xfrm>
          <a:custGeom>
            <a:avLst/>
            <a:gdLst/>
            <a:ahLst/>
            <a:rect l="l" t="t" r="r" b="b"/>
            <a:pathLst>
              <a:path w="113" h="937">
                <a:moveTo>
                  <a:pt x="0" y="936"/>
                </a:moveTo>
                <a:lnTo>
                  <a:pt x="112" y="878"/>
                </a:lnTo>
                <a:lnTo>
                  <a:pt x="112" y="0"/>
                </a:lnTo>
                <a:lnTo>
                  <a:pt x="0" y="58"/>
                </a:lnTo>
                <a:lnTo>
                  <a:pt x="0" y="9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60840" y="4665600"/>
            <a:ext cx="1805040" cy="77760"/>
          </a:xfrm>
          <a:custGeom>
            <a:avLst/>
            <a:gdLst/>
            <a:ahLst/>
            <a:rect l="l" t="t" r="r" b="b"/>
            <a:pathLst>
              <a:path w="1137" h="49">
                <a:moveTo>
                  <a:pt x="1107" y="12"/>
                </a:moveTo>
                <a:lnTo>
                  <a:pt x="1136" y="0"/>
                </a:lnTo>
                <a:lnTo>
                  <a:pt x="1107" y="0"/>
                </a:lnTo>
                <a:lnTo>
                  <a:pt x="1107" y="3"/>
                </a:lnTo>
                <a:lnTo>
                  <a:pt x="1107" y="7"/>
                </a:lnTo>
                <a:lnTo>
                  <a:pt x="1107" y="10"/>
                </a:lnTo>
                <a:lnTo>
                  <a:pt x="1107" y="12"/>
                </a:lnTo>
                <a:lnTo>
                  <a:pt x="29" y="36"/>
                </a:lnTo>
                <a:lnTo>
                  <a:pt x="0" y="48"/>
                </a:lnTo>
                <a:lnTo>
                  <a:pt x="29" y="48"/>
                </a:lnTo>
                <a:lnTo>
                  <a:pt x="29" y="44"/>
                </a:lnTo>
                <a:lnTo>
                  <a:pt x="29" y="41"/>
                </a:lnTo>
                <a:lnTo>
                  <a:pt x="29" y="38"/>
                </a:lnTo>
                <a:lnTo>
                  <a:pt x="29" y="36"/>
                </a:lnTo>
                <a:lnTo>
                  <a:pt x="1107" y="12"/>
                </a:lnTo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706920" y="4665600"/>
            <a:ext cx="1712880" cy="77760"/>
          </a:xfrm>
          <a:custGeom>
            <a:avLst/>
            <a:gdLst/>
            <a:ahLst/>
            <a:rect l="l" t="t" r="r" b="b"/>
            <a:pathLst>
              <a:path w="1079" h="49">
                <a:moveTo>
                  <a:pt x="1078" y="12"/>
                </a:moveTo>
                <a:lnTo>
                  <a:pt x="1050" y="24"/>
                </a:lnTo>
                <a:lnTo>
                  <a:pt x="1050" y="18"/>
                </a:lnTo>
                <a:lnTo>
                  <a:pt x="1050" y="12"/>
                </a:lnTo>
                <a:lnTo>
                  <a:pt x="1050" y="6"/>
                </a:lnTo>
                <a:lnTo>
                  <a:pt x="1049" y="0"/>
                </a:lnTo>
                <a:lnTo>
                  <a:pt x="1078" y="0"/>
                </a:lnTo>
                <a:lnTo>
                  <a:pt x="1078" y="3"/>
                </a:lnTo>
                <a:lnTo>
                  <a:pt x="1078" y="7"/>
                </a:lnTo>
                <a:lnTo>
                  <a:pt x="1078" y="10"/>
                </a:lnTo>
                <a:lnTo>
                  <a:pt x="1078" y="12"/>
                </a:lnTo>
                <a:lnTo>
                  <a:pt x="0" y="36"/>
                </a:lnTo>
                <a:lnTo>
                  <a:pt x="28" y="23"/>
                </a:lnTo>
                <a:lnTo>
                  <a:pt x="28" y="29"/>
                </a:lnTo>
                <a:lnTo>
                  <a:pt x="28" y="36"/>
                </a:lnTo>
                <a:lnTo>
                  <a:pt x="28" y="41"/>
                </a:lnTo>
                <a:lnTo>
                  <a:pt x="28" y="48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0" y="38"/>
                </a:lnTo>
                <a:lnTo>
                  <a:pt x="0" y="36"/>
                </a:lnTo>
                <a:lnTo>
                  <a:pt x="1078" y="12"/>
                </a:lnTo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751200" y="4665600"/>
            <a:ext cx="1623960" cy="77760"/>
          </a:xfrm>
          <a:custGeom>
            <a:avLst/>
            <a:gdLst/>
            <a:ahLst/>
            <a:rect l="l" t="t" r="r" b="b"/>
            <a:pathLst>
              <a:path w="1023" h="49">
                <a:moveTo>
                  <a:pt x="1021" y="0"/>
                </a:moveTo>
                <a:lnTo>
                  <a:pt x="992" y="0"/>
                </a:lnTo>
                <a:lnTo>
                  <a:pt x="992" y="9"/>
                </a:lnTo>
                <a:lnTo>
                  <a:pt x="993" y="18"/>
                </a:lnTo>
                <a:lnTo>
                  <a:pt x="993" y="27"/>
                </a:lnTo>
                <a:lnTo>
                  <a:pt x="992" y="36"/>
                </a:lnTo>
                <a:lnTo>
                  <a:pt x="1022" y="24"/>
                </a:lnTo>
                <a:lnTo>
                  <a:pt x="1022" y="18"/>
                </a:lnTo>
                <a:lnTo>
                  <a:pt x="1022" y="12"/>
                </a:lnTo>
                <a:lnTo>
                  <a:pt x="1022" y="6"/>
                </a:lnTo>
                <a:lnTo>
                  <a:pt x="1021" y="0"/>
                </a:lnTo>
                <a:lnTo>
                  <a:pt x="0" y="23"/>
                </a:lnTo>
                <a:lnTo>
                  <a:pt x="29" y="11"/>
                </a:lnTo>
                <a:lnTo>
                  <a:pt x="29" y="20"/>
                </a:lnTo>
                <a:lnTo>
                  <a:pt x="29" y="29"/>
                </a:lnTo>
                <a:lnTo>
                  <a:pt x="29" y="38"/>
                </a:lnTo>
                <a:lnTo>
                  <a:pt x="30" y="48"/>
                </a:lnTo>
                <a:lnTo>
                  <a:pt x="0" y="48"/>
                </a:lnTo>
                <a:lnTo>
                  <a:pt x="0" y="41"/>
                </a:lnTo>
                <a:lnTo>
                  <a:pt x="0" y="36"/>
                </a:lnTo>
                <a:lnTo>
                  <a:pt x="0" y="29"/>
                </a:lnTo>
                <a:lnTo>
                  <a:pt x="0" y="23"/>
                </a:lnTo>
                <a:lnTo>
                  <a:pt x="1021" y="0"/>
                </a:lnTo>
              </a:path>
            </a:pathLst>
          </a:custGeom>
          <a:solidFill>
            <a:srgbClr val="9e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797280" y="4665600"/>
            <a:ext cx="1531800" cy="77760"/>
          </a:xfrm>
          <a:custGeom>
            <a:avLst/>
            <a:gdLst/>
            <a:ahLst/>
            <a:rect l="l" t="t" r="r" b="b"/>
            <a:pathLst>
              <a:path w="965" h="49">
                <a:moveTo>
                  <a:pt x="963" y="0"/>
                </a:moveTo>
                <a:lnTo>
                  <a:pt x="934" y="0"/>
                </a:lnTo>
                <a:lnTo>
                  <a:pt x="935" y="12"/>
                </a:lnTo>
                <a:lnTo>
                  <a:pt x="935" y="24"/>
                </a:lnTo>
                <a:lnTo>
                  <a:pt x="935" y="36"/>
                </a:lnTo>
                <a:lnTo>
                  <a:pt x="934" y="48"/>
                </a:lnTo>
                <a:lnTo>
                  <a:pt x="938" y="48"/>
                </a:lnTo>
                <a:lnTo>
                  <a:pt x="963" y="36"/>
                </a:lnTo>
                <a:lnTo>
                  <a:pt x="964" y="27"/>
                </a:lnTo>
                <a:lnTo>
                  <a:pt x="964" y="18"/>
                </a:lnTo>
                <a:lnTo>
                  <a:pt x="963" y="9"/>
                </a:lnTo>
                <a:lnTo>
                  <a:pt x="963" y="0"/>
                </a:lnTo>
                <a:lnTo>
                  <a:pt x="0" y="11"/>
                </a:lnTo>
                <a:lnTo>
                  <a:pt x="26" y="0"/>
                </a:lnTo>
                <a:lnTo>
                  <a:pt x="29" y="0"/>
                </a:lnTo>
                <a:lnTo>
                  <a:pt x="28" y="12"/>
                </a:lnTo>
                <a:lnTo>
                  <a:pt x="28" y="24"/>
                </a:lnTo>
                <a:lnTo>
                  <a:pt x="28" y="36"/>
                </a:lnTo>
                <a:lnTo>
                  <a:pt x="29" y="48"/>
                </a:lnTo>
                <a:lnTo>
                  <a:pt x="1" y="48"/>
                </a:lnTo>
                <a:lnTo>
                  <a:pt x="0" y="38"/>
                </a:lnTo>
                <a:lnTo>
                  <a:pt x="0" y="29"/>
                </a:lnTo>
                <a:lnTo>
                  <a:pt x="0" y="20"/>
                </a:lnTo>
                <a:lnTo>
                  <a:pt x="0" y="11"/>
                </a:lnTo>
                <a:lnTo>
                  <a:pt x="963" y="0"/>
                </a:lnTo>
              </a:path>
            </a:pathLst>
          </a:custGeom>
          <a:solidFill>
            <a:srgbClr val="a1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841920" y="4665600"/>
            <a:ext cx="1441440" cy="77760"/>
          </a:xfrm>
          <a:custGeom>
            <a:avLst/>
            <a:gdLst/>
            <a:ahLst/>
            <a:rect l="l" t="t" r="r" b="b"/>
            <a:pathLst>
              <a:path w="908" h="49">
                <a:moveTo>
                  <a:pt x="906" y="0"/>
                </a:moveTo>
                <a:lnTo>
                  <a:pt x="878" y="0"/>
                </a:lnTo>
                <a:lnTo>
                  <a:pt x="879" y="12"/>
                </a:lnTo>
                <a:lnTo>
                  <a:pt x="879" y="24"/>
                </a:lnTo>
                <a:lnTo>
                  <a:pt x="879" y="36"/>
                </a:lnTo>
                <a:lnTo>
                  <a:pt x="878" y="48"/>
                </a:lnTo>
                <a:lnTo>
                  <a:pt x="906" y="48"/>
                </a:lnTo>
                <a:lnTo>
                  <a:pt x="907" y="36"/>
                </a:lnTo>
                <a:lnTo>
                  <a:pt x="907" y="24"/>
                </a:lnTo>
                <a:lnTo>
                  <a:pt x="907" y="12"/>
                </a:lnTo>
                <a:lnTo>
                  <a:pt x="906" y="0"/>
                </a:lnTo>
                <a:lnTo>
                  <a:pt x="1" y="0"/>
                </a:lnTo>
                <a:lnTo>
                  <a:pt x="30" y="0"/>
                </a:lnTo>
                <a:lnTo>
                  <a:pt x="29" y="12"/>
                </a:lnTo>
                <a:lnTo>
                  <a:pt x="29" y="24"/>
                </a:lnTo>
                <a:lnTo>
                  <a:pt x="29" y="36"/>
                </a:lnTo>
                <a:lnTo>
                  <a:pt x="30" y="48"/>
                </a:lnTo>
                <a:lnTo>
                  <a:pt x="1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1" y="0"/>
                </a:lnTo>
                <a:lnTo>
                  <a:pt x="906" y="0"/>
                </a:lnTo>
              </a:path>
            </a:pathLst>
          </a:custGeom>
          <a:solidFill>
            <a:srgbClr val="a3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87640" y="4665600"/>
            <a:ext cx="1351080" cy="77760"/>
          </a:xfrm>
          <a:custGeom>
            <a:avLst/>
            <a:gdLst/>
            <a:ahLst/>
            <a:rect l="l" t="t" r="r" b="b"/>
            <a:pathLst>
              <a:path w="851" h="49">
                <a:moveTo>
                  <a:pt x="849" y="0"/>
                </a:moveTo>
                <a:lnTo>
                  <a:pt x="820" y="0"/>
                </a:lnTo>
                <a:lnTo>
                  <a:pt x="821" y="12"/>
                </a:lnTo>
                <a:lnTo>
                  <a:pt x="821" y="24"/>
                </a:lnTo>
                <a:lnTo>
                  <a:pt x="821" y="36"/>
                </a:lnTo>
                <a:lnTo>
                  <a:pt x="820" y="48"/>
                </a:lnTo>
                <a:lnTo>
                  <a:pt x="849" y="48"/>
                </a:lnTo>
                <a:lnTo>
                  <a:pt x="850" y="36"/>
                </a:lnTo>
                <a:lnTo>
                  <a:pt x="850" y="24"/>
                </a:lnTo>
                <a:lnTo>
                  <a:pt x="850" y="12"/>
                </a:lnTo>
                <a:lnTo>
                  <a:pt x="849" y="0"/>
                </a:lnTo>
                <a:lnTo>
                  <a:pt x="1" y="0"/>
                </a:lnTo>
                <a:lnTo>
                  <a:pt x="30" y="0"/>
                </a:lnTo>
                <a:lnTo>
                  <a:pt x="29" y="12"/>
                </a:lnTo>
                <a:lnTo>
                  <a:pt x="29" y="24"/>
                </a:lnTo>
                <a:lnTo>
                  <a:pt x="29" y="36"/>
                </a:lnTo>
                <a:lnTo>
                  <a:pt x="30" y="48"/>
                </a:lnTo>
                <a:lnTo>
                  <a:pt x="1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1" y="0"/>
                </a:lnTo>
                <a:lnTo>
                  <a:pt x="849" y="0"/>
                </a:lnTo>
              </a:path>
            </a:pathLst>
          </a:custGeom>
          <a:solidFill>
            <a:srgbClr val="a6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933720" y="4665600"/>
            <a:ext cx="1258920" cy="77760"/>
          </a:xfrm>
          <a:custGeom>
            <a:avLst/>
            <a:gdLst/>
            <a:ahLst/>
            <a:rect l="l" t="t" r="r" b="b"/>
            <a:pathLst>
              <a:path w="793" h="49">
                <a:moveTo>
                  <a:pt x="791" y="0"/>
                </a:moveTo>
                <a:lnTo>
                  <a:pt x="762" y="0"/>
                </a:lnTo>
                <a:lnTo>
                  <a:pt x="763" y="12"/>
                </a:lnTo>
                <a:lnTo>
                  <a:pt x="763" y="24"/>
                </a:lnTo>
                <a:lnTo>
                  <a:pt x="763" y="36"/>
                </a:lnTo>
                <a:lnTo>
                  <a:pt x="762" y="48"/>
                </a:lnTo>
                <a:lnTo>
                  <a:pt x="791" y="48"/>
                </a:lnTo>
                <a:lnTo>
                  <a:pt x="792" y="36"/>
                </a:lnTo>
                <a:lnTo>
                  <a:pt x="792" y="24"/>
                </a:lnTo>
                <a:lnTo>
                  <a:pt x="792" y="12"/>
                </a:lnTo>
                <a:lnTo>
                  <a:pt x="791" y="0"/>
                </a:lnTo>
                <a:lnTo>
                  <a:pt x="1" y="0"/>
                </a:lnTo>
                <a:lnTo>
                  <a:pt x="30" y="0"/>
                </a:lnTo>
                <a:lnTo>
                  <a:pt x="29" y="12"/>
                </a:lnTo>
                <a:lnTo>
                  <a:pt x="28" y="24"/>
                </a:lnTo>
                <a:lnTo>
                  <a:pt x="29" y="36"/>
                </a:lnTo>
                <a:lnTo>
                  <a:pt x="30" y="48"/>
                </a:lnTo>
                <a:lnTo>
                  <a:pt x="1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1" y="0"/>
                </a:lnTo>
                <a:lnTo>
                  <a:pt x="791" y="0"/>
                </a:lnTo>
              </a:path>
            </a:pathLst>
          </a:custGeom>
          <a:solidFill>
            <a:srgbClr val="a9f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978360" y="4665600"/>
            <a:ext cx="1168200" cy="77760"/>
          </a:xfrm>
          <a:custGeom>
            <a:avLst/>
            <a:gdLst/>
            <a:ahLst/>
            <a:rect l="l" t="t" r="r" b="b"/>
            <a:pathLst>
              <a:path w="736" h="49">
                <a:moveTo>
                  <a:pt x="734" y="0"/>
                </a:moveTo>
                <a:lnTo>
                  <a:pt x="705" y="0"/>
                </a:lnTo>
                <a:lnTo>
                  <a:pt x="706" y="12"/>
                </a:lnTo>
                <a:lnTo>
                  <a:pt x="707" y="24"/>
                </a:lnTo>
                <a:lnTo>
                  <a:pt x="706" y="36"/>
                </a:lnTo>
                <a:lnTo>
                  <a:pt x="705" y="48"/>
                </a:lnTo>
                <a:lnTo>
                  <a:pt x="734" y="48"/>
                </a:lnTo>
                <a:lnTo>
                  <a:pt x="735" y="36"/>
                </a:lnTo>
                <a:lnTo>
                  <a:pt x="735" y="24"/>
                </a:lnTo>
                <a:lnTo>
                  <a:pt x="735" y="12"/>
                </a:lnTo>
                <a:lnTo>
                  <a:pt x="734" y="0"/>
                </a:lnTo>
                <a:lnTo>
                  <a:pt x="2" y="0"/>
                </a:lnTo>
                <a:lnTo>
                  <a:pt x="30" y="0"/>
                </a:lnTo>
                <a:lnTo>
                  <a:pt x="29" y="12"/>
                </a:lnTo>
                <a:lnTo>
                  <a:pt x="29" y="24"/>
                </a:lnTo>
                <a:lnTo>
                  <a:pt x="29" y="36"/>
                </a:lnTo>
                <a:lnTo>
                  <a:pt x="30" y="48"/>
                </a:lnTo>
                <a:lnTo>
                  <a:pt x="2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2" y="0"/>
                </a:lnTo>
                <a:lnTo>
                  <a:pt x="734" y="0"/>
                </a:lnTo>
              </a:path>
            </a:pathLst>
          </a:custGeom>
          <a:solidFill>
            <a:srgbClr val="ab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024440" y="4665600"/>
            <a:ext cx="1077840" cy="77760"/>
          </a:xfrm>
          <a:custGeom>
            <a:avLst/>
            <a:gdLst/>
            <a:ahLst/>
            <a:rect l="l" t="t" r="r" b="b"/>
            <a:pathLst>
              <a:path w="679" h="49">
                <a:moveTo>
                  <a:pt x="676" y="0"/>
                </a:moveTo>
                <a:lnTo>
                  <a:pt x="647" y="0"/>
                </a:lnTo>
                <a:lnTo>
                  <a:pt x="648" y="12"/>
                </a:lnTo>
                <a:lnTo>
                  <a:pt x="649" y="24"/>
                </a:lnTo>
                <a:lnTo>
                  <a:pt x="648" y="36"/>
                </a:lnTo>
                <a:lnTo>
                  <a:pt x="647" y="48"/>
                </a:lnTo>
                <a:lnTo>
                  <a:pt x="676" y="48"/>
                </a:lnTo>
                <a:lnTo>
                  <a:pt x="677" y="36"/>
                </a:lnTo>
                <a:lnTo>
                  <a:pt x="678" y="24"/>
                </a:lnTo>
                <a:lnTo>
                  <a:pt x="677" y="12"/>
                </a:lnTo>
                <a:lnTo>
                  <a:pt x="676" y="0"/>
                </a:lnTo>
                <a:lnTo>
                  <a:pt x="1" y="0"/>
                </a:lnTo>
                <a:lnTo>
                  <a:pt x="30" y="0"/>
                </a:lnTo>
                <a:lnTo>
                  <a:pt x="29" y="12"/>
                </a:lnTo>
                <a:lnTo>
                  <a:pt x="29" y="24"/>
                </a:lnTo>
                <a:lnTo>
                  <a:pt x="29" y="36"/>
                </a:lnTo>
                <a:lnTo>
                  <a:pt x="30" y="48"/>
                </a:lnTo>
                <a:lnTo>
                  <a:pt x="1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1" y="0"/>
                </a:lnTo>
                <a:lnTo>
                  <a:pt x="676" y="0"/>
                </a:lnTo>
              </a:path>
            </a:pathLst>
          </a:custGeom>
          <a:solidFill>
            <a:srgbClr val="ae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070520" y="4665600"/>
            <a:ext cx="985680" cy="77760"/>
          </a:xfrm>
          <a:custGeom>
            <a:avLst/>
            <a:gdLst/>
            <a:ahLst/>
            <a:rect l="l" t="t" r="r" b="b"/>
            <a:pathLst>
              <a:path w="621" h="49">
                <a:moveTo>
                  <a:pt x="618" y="0"/>
                </a:moveTo>
                <a:lnTo>
                  <a:pt x="590" y="0"/>
                </a:lnTo>
                <a:lnTo>
                  <a:pt x="591" y="12"/>
                </a:lnTo>
                <a:lnTo>
                  <a:pt x="591" y="24"/>
                </a:lnTo>
                <a:lnTo>
                  <a:pt x="591" y="36"/>
                </a:lnTo>
                <a:lnTo>
                  <a:pt x="590" y="48"/>
                </a:lnTo>
                <a:lnTo>
                  <a:pt x="618" y="48"/>
                </a:lnTo>
                <a:lnTo>
                  <a:pt x="619" y="36"/>
                </a:lnTo>
                <a:lnTo>
                  <a:pt x="620" y="24"/>
                </a:lnTo>
                <a:lnTo>
                  <a:pt x="619" y="12"/>
                </a:lnTo>
                <a:lnTo>
                  <a:pt x="618" y="0"/>
                </a:lnTo>
                <a:lnTo>
                  <a:pt x="1" y="0"/>
                </a:lnTo>
                <a:lnTo>
                  <a:pt x="30" y="0"/>
                </a:lnTo>
                <a:lnTo>
                  <a:pt x="29" y="12"/>
                </a:lnTo>
                <a:lnTo>
                  <a:pt x="28" y="24"/>
                </a:lnTo>
                <a:lnTo>
                  <a:pt x="29" y="36"/>
                </a:lnTo>
                <a:lnTo>
                  <a:pt x="30" y="48"/>
                </a:lnTo>
                <a:lnTo>
                  <a:pt x="1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1" y="0"/>
                </a:lnTo>
                <a:lnTo>
                  <a:pt x="618" y="0"/>
                </a:lnTo>
              </a:path>
            </a:pathLst>
          </a:custGeom>
          <a:solidFill>
            <a:srgbClr val="b1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114800" y="4665600"/>
            <a:ext cx="895320" cy="77760"/>
          </a:xfrm>
          <a:custGeom>
            <a:avLst/>
            <a:gdLst/>
            <a:ahLst/>
            <a:rect l="l" t="t" r="r" b="b"/>
            <a:pathLst>
              <a:path w="564" h="49">
                <a:moveTo>
                  <a:pt x="562" y="0"/>
                </a:moveTo>
                <a:lnTo>
                  <a:pt x="534" y="0"/>
                </a:lnTo>
                <a:lnTo>
                  <a:pt x="535" y="12"/>
                </a:lnTo>
                <a:lnTo>
                  <a:pt x="535" y="24"/>
                </a:lnTo>
                <a:lnTo>
                  <a:pt x="535" y="36"/>
                </a:lnTo>
                <a:lnTo>
                  <a:pt x="534" y="48"/>
                </a:lnTo>
                <a:lnTo>
                  <a:pt x="562" y="48"/>
                </a:lnTo>
                <a:lnTo>
                  <a:pt x="563" y="36"/>
                </a:lnTo>
                <a:lnTo>
                  <a:pt x="563" y="24"/>
                </a:lnTo>
                <a:lnTo>
                  <a:pt x="563" y="12"/>
                </a:lnTo>
                <a:lnTo>
                  <a:pt x="562" y="0"/>
                </a:lnTo>
                <a:lnTo>
                  <a:pt x="2" y="0"/>
                </a:lnTo>
                <a:lnTo>
                  <a:pt x="30" y="0"/>
                </a:lnTo>
                <a:lnTo>
                  <a:pt x="28" y="12"/>
                </a:lnTo>
                <a:lnTo>
                  <a:pt x="28" y="24"/>
                </a:lnTo>
                <a:lnTo>
                  <a:pt x="28" y="36"/>
                </a:lnTo>
                <a:lnTo>
                  <a:pt x="30" y="48"/>
                </a:lnTo>
                <a:lnTo>
                  <a:pt x="2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2" y="0"/>
                </a:lnTo>
                <a:lnTo>
                  <a:pt x="562" y="0"/>
                </a:lnTo>
              </a:path>
            </a:pathLst>
          </a:custGeom>
          <a:solidFill>
            <a:srgbClr val="b3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160880" y="4665600"/>
            <a:ext cx="804960" cy="77760"/>
          </a:xfrm>
          <a:custGeom>
            <a:avLst/>
            <a:gdLst/>
            <a:ahLst/>
            <a:rect l="l" t="t" r="r" b="b"/>
            <a:pathLst>
              <a:path w="507" h="49">
                <a:moveTo>
                  <a:pt x="504" y="0"/>
                </a:moveTo>
                <a:lnTo>
                  <a:pt x="476" y="0"/>
                </a:lnTo>
                <a:lnTo>
                  <a:pt x="477" y="12"/>
                </a:lnTo>
                <a:lnTo>
                  <a:pt x="478" y="24"/>
                </a:lnTo>
                <a:lnTo>
                  <a:pt x="477" y="36"/>
                </a:lnTo>
                <a:lnTo>
                  <a:pt x="476" y="48"/>
                </a:lnTo>
                <a:lnTo>
                  <a:pt x="504" y="48"/>
                </a:lnTo>
                <a:lnTo>
                  <a:pt x="505" y="36"/>
                </a:lnTo>
                <a:lnTo>
                  <a:pt x="506" y="24"/>
                </a:lnTo>
                <a:lnTo>
                  <a:pt x="505" y="12"/>
                </a:lnTo>
                <a:lnTo>
                  <a:pt x="504" y="0"/>
                </a:lnTo>
                <a:lnTo>
                  <a:pt x="2" y="0"/>
                </a:lnTo>
                <a:lnTo>
                  <a:pt x="30" y="0"/>
                </a:lnTo>
                <a:lnTo>
                  <a:pt x="28" y="12"/>
                </a:lnTo>
                <a:lnTo>
                  <a:pt x="28" y="24"/>
                </a:lnTo>
                <a:lnTo>
                  <a:pt x="28" y="36"/>
                </a:lnTo>
                <a:lnTo>
                  <a:pt x="30" y="48"/>
                </a:lnTo>
                <a:lnTo>
                  <a:pt x="2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2" y="0"/>
                </a:lnTo>
                <a:lnTo>
                  <a:pt x="504" y="0"/>
                </a:lnTo>
              </a:path>
            </a:pathLst>
          </a:custGeom>
          <a:solidFill>
            <a:srgbClr val="b6f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206960" y="4665600"/>
            <a:ext cx="712800" cy="77760"/>
          </a:xfrm>
          <a:custGeom>
            <a:avLst/>
            <a:gdLst/>
            <a:ahLst/>
            <a:rect l="l" t="t" r="r" b="b"/>
            <a:pathLst>
              <a:path w="449" h="49">
                <a:moveTo>
                  <a:pt x="446" y="0"/>
                </a:moveTo>
                <a:lnTo>
                  <a:pt x="418" y="0"/>
                </a:lnTo>
                <a:lnTo>
                  <a:pt x="419" y="12"/>
                </a:lnTo>
                <a:lnTo>
                  <a:pt x="420" y="24"/>
                </a:lnTo>
                <a:lnTo>
                  <a:pt x="419" y="36"/>
                </a:lnTo>
                <a:lnTo>
                  <a:pt x="418" y="48"/>
                </a:lnTo>
                <a:lnTo>
                  <a:pt x="446" y="48"/>
                </a:lnTo>
                <a:lnTo>
                  <a:pt x="447" y="36"/>
                </a:lnTo>
                <a:lnTo>
                  <a:pt x="448" y="24"/>
                </a:lnTo>
                <a:lnTo>
                  <a:pt x="447" y="12"/>
                </a:lnTo>
                <a:lnTo>
                  <a:pt x="446" y="0"/>
                </a:lnTo>
                <a:lnTo>
                  <a:pt x="2" y="0"/>
                </a:lnTo>
                <a:lnTo>
                  <a:pt x="30" y="0"/>
                </a:lnTo>
                <a:lnTo>
                  <a:pt x="28" y="12"/>
                </a:lnTo>
                <a:lnTo>
                  <a:pt x="28" y="24"/>
                </a:lnTo>
                <a:lnTo>
                  <a:pt x="28" y="36"/>
                </a:lnTo>
                <a:lnTo>
                  <a:pt x="30" y="48"/>
                </a:lnTo>
                <a:lnTo>
                  <a:pt x="2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2" y="0"/>
                </a:lnTo>
                <a:lnTo>
                  <a:pt x="446" y="0"/>
                </a:lnTo>
              </a:path>
            </a:pathLst>
          </a:custGeom>
          <a:solidFill>
            <a:srgbClr val="b9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253040" y="4665600"/>
            <a:ext cx="620640" cy="77760"/>
          </a:xfrm>
          <a:custGeom>
            <a:avLst/>
            <a:gdLst/>
            <a:ahLst/>
            <a:rect l="l" t="t" r="r" b="b"/>
            <a:pathLst>
              <a:path w="391" h="49">
                <a:moveTo>
                  <a:pt x="388" y="0"/>
                </a:moveTo>
                <a:lnTo>
                  <a:pt x="360" y="0"/>
                </a:lnTo>
                <a:lnTo>
                  <a:pt x="362" y="12"/>
                </a:lnTo>
                <a:lnTo>
                  <a:pt x="363" y="24"/>
                </a:lnTo>
                <a:lnTo>
                  <a:pt x="362" y="36"/>
                </a:lnTo>
                <a:lnTo>
                  <a:pt x="360" y="48"/>
                </a:lnTo>
                <a:lnTo>
                  <a:pt x="388" y="48"/>
                </a:lnTo>
                <a:lnTo>
                  <a:pt x="389" y="36"/>
                </a:lnTo>
                <a:lnTo>
                  <a:pt x="390" y="24"/>
                </a:lnTo>
                <a:lnTo>
                  <a:pt x="389" y="12"/>
                </a:lnTo>
                <a:lnTo>
                  <a:pt x="388" y="0"/>
                </a:lnTo>
                <a:lnTo>
                  <a:pt x="2" y="0"/>
                </a:lnTo>
                <a:lnTo>
                  <a:pt x="29" y="0"/>
                </a:lnTo>
                <a:lnTo>
                  <a:pt x="27" y="12"/>
                </a:lnTo>
                <a:lnTo>
                  <a:pt x="27" y="24"/>
                </a:lnTo>
                <a:lnTo>
                  <a:pt x="27" y="36"/>
                </a:lnTo>
                <a:lnTo>
                  <a:pt x="29" y="48"/>
                </a:lnTo>
                <a:lnTo>
                  <a:pt x="2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2" y="0"/>
                </a:lnTo>
                <a:lnTo>
                  <a:pt x="388" y="0"/>
                </a:lnTo>
              </a:path>
            </a:pathLst>
          </a:custGeom>
          <a:solidFill>
            <a:srgbClr val="bb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297320" y="4665600"/>
            <a:ext cx="531720" cy="77760"/>
          </a:xfrm>
          <a:custGeom>
            <a:avLst/>
            <a:gdLst/>
            <a:ahLst/>
            <a:rect l="l" t="t" r="r" b="b"/>
            <a:pathLst>
              <a:path w="335" h="49">
                <a:moveTo>
                  <a:pt x="331" y="0"/>
                </a:moveTo>
                <a:lnTo>
                  <a:pt x="303" y="0"/>
                </a:lnTo>
                <a:lnTo>
                  <a:pt x="305" y="12"/>
                </a:lnTo>
                <a:lnTo>
                  <a:pt x="306" y="24"/>
                </a:lnTo>
                <a:lnTo>
                  <a:pt x="305" y="36"/>
                </a:lnTo>
                <a:lnTo>
                  <a:pt x="303" y="48"/>
                </a:lnTo>
                <a:lnTo>
                  <a:pt x="331" y="48"/>
                </a:lnTo>
                <a:lnTo>
                  <a:pt x="333" y="36"/>
                </a:lnTo>
                <a:lnTo>
                  <a:pt x="334" y="24"/>
                </a:lnTo>
                <a:lnTo>
                  <a:pt x="333" y="12"/>
                </a:lnTo>
                <a:lnTo>
                  <a:pt x="331" y="0"/>
                </a:lnTo>
                <a:lnTo>
                  <a:pt x="2" y="0"/>
                </a:lnTo>
                <a:lnTo>
                  <a:pt x="31" y="0"/>
                </a:lnTo>
                <a:lnTo>
                  <a:pt x="29" y="12"/>
                </a:lnTo>
                <a:lnTo>
                  <a:pt x="28" y="24"/>
                </a:lnTo>
                <a:lnTo>
                  <a:pt x="29" y="36"/>
                </a:lnTo>
                <a:lnTo>
                  <a:pt x="31" y="48"/>
                </a:lnTo>
                <a:lnTo>
                  <a:pt x="2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2" y="0"/>
                </a:lnTo>
                <a:lnTo>
                  <a:pt x="331" y="0"/>
                </a:lnTo>
              </a:path>
            </a:pathLst>
          </a:custGeom>
          <a:solidFill>
            <a:srgbClr val="bef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343400" y="4665600"/>
            <a:ext cx="439560" cy="77760"/>
          </a:xfrm>
          <a:custGeom>
            <a:avLst/>
            <a:gdLst/>
            <a:ahLst/>
            <a:rect l="l" t="t" r="r" b="b"/>
            <a:pathLst>
              <a:path w="277" h="49">
                <a:moveTo>
                  <a:pt x="273" y="0"/>
                </a:moveTo>
                <a:lnTo>
                  <a:pt x="244" y="0"/>
                </a:lnTo>
                <a:lnTo>
                  <a:pt x="247" y="12"/>
                </a:lnTo>
                <a:lnTo>
                  <a:pt x="248" y="24"/>
                </a:lnTo>
                <a:lnTo>
                  <a:pt x="247" y="36"/>
                </a:lnTo>
                <a:lnTo>
                  <a:pt x="244" y="48"/>
                </a:lnTo>
                <a:lnTo>
                  <a:pt x="273" y="48"/>
                </a:lnTo>
                <a:lnTo>
                  <a:pt x="275" y="36"/>
                </a:lnTo>
                <a:lnTo>
                  <a:pt x="276" y="24"/>
                </a:lnTo>
                <a:lnTo>
                  <a:pt x="275" y="12"/>
                </a:lnTo>
                <a:lnTo>
                  <a:pt x="273" y="0"/>
                </a:lnTo>
                <a:lnTo>
                  <a:pt x="3" y="0"/>
                </a:lnTo>
                <a:lnTo>
                  <a:pt x="32" y="0"/>
                </a:lnTo>
                <a:lnTo>
                  <a:pt x="29" y="12"/>
                </a:lnTo>
                <a:lnTo>
                  <a:pt x="28" y="24"/>
                </a:lnTo>
                <a:lnTo>
                  <a:pt x="29" y="36"/>
                </a:lnTo>
                <a:lnTo>
                  <a:pt x="32" y="48"/>
                </a:lnTo>
                <a:lnTo>
                  <a:pt x="3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3" y="0"/>
                </a:lnTo>
                <a:lnTo>
                  <a:pt x="273" y="0"/>
                </a:lnTo>
              </a:path>
            </a:pathLst>
          </a:custGeom>
          <a:solidFill>
            <a:srgbClr val="c1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389480" y="4665600"/>
            <a:ext cx="347760" cy="77760"/>
          </a:xfrm>
          <a:custGeom>
            <a:avLst/>
            <a:gdLst/>
            <a:ahLst/>
            <a:rect l="l" t="t" r="r" b="b"/>
            <a:pathLst>
              <a:path w="219" h="49">
                <a:moveTo>
                  <a:pt x="214" y="0"/>
                </a:moveTo>
                <a:lnTo>
                  <a:pt x="185" y="0"/>
                </a:lnTo>
                <a:lnTo>
                  <a:pt x="189" y="12"/>
                </a:lnTo>
                <a:lnTo>
                  <a:pt x="191" y="24"/>
                </a:lnTo>
                <a:lnTo>
                  <a:pt x="189" y="36"/>
                </a:lnTo>
                <a:lnTo>
                  <a:pt x="185" y="48"/>
                </a:lnTo>
                <a:lnTo>
                  <a:pt x="214" y="48"/>
                </a:lnTo>
                <a:lnTo>
                  <a:pt x="217" y="36"/>
                </a:lnTo>
                <a:lnTo>
                  <a:pt x="218" y="24"/>
                </a:lnTo>
                <a:lnTo>
                  <a:pt x="217" y="12"/>
                </a:lnTo>
                <a:lnTo>
                  <a:pt x="214" y="0"/>
                </a:lnTo>
                <a:lnTo>
                  <a:pt x="4" y="0"/>
                </a:lnTo>
                <a:lnTo>
                  <a:pt x="32" y="0"/>
                </a:lnTo>
                <a:lnTo>
                  <a:pt x="28" y="12"/>
                </a:lnTo>
                <a:lnTo>
                  <a:pt x="27" y="24"/>
                </a:lnTo>
                <a:lnTo>
                  <a:pt x="28" y="36"/>
                </a:lnTo>
                <a:lnTo>
                  <a:pt x="32" y="48"/>
                </a:lnTo>
                <a:lnTo>
                  <a:pt x="4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4" y="0"/>
                </a:lnTo>
                <a:lnTo>
                  <a:pt x="214" y="0"/>
                </a:lnTo>
              </a:path>
            </a:pathLst>
          </a:custGeom>
          <a:solidFill>
            <a:srgbClr val="c3f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433760" y="4665600"/>
            <a:ext cx="258840" cy="77760"/>
          </a:xfrm>
          <a:custGeom>
            <a:avLst/>
            <a:gdLst/>
            <a:ahLst/>
            <a:rect l="l" t="t" r="r" b="b"/>
            <a:pathLst>
              <a:path w="163" h="49">
                <a:moveTo>
                  <a:pt x="156" y="0"/>
                </a:moveTo>
                <a:lnTo>
                  <a:pt x="125" y="0"/>
                </a:lnTo>
                <a:lnTo>
                  <a:pt x="132" y="12"/>
                </a:lnTo>
                <a:lnTo>
                  <a:pt x="135" y="24"/>
                </a:lnTo>
                <a:lnTo>
                  <a:pt x="132" y="36"/>
                </a:lnTo>
                <a:lnTo>
                  <a:pt x="125" y="48"/>
                </a:lnTo>
                <a:lnTo>
                  <a:pt x="156" y="48"/>
                </a:lnTo>
                <a:lnTo>
                  <a:pt x="160" y="36"/>
                </a:lnTo>
                <a:lnTo>
                  <a:pt x="162" y="24"/>
                </a:lnTo>
                <a:lnTo>
                  <a:pt x="160" y="12"/>
                </a:lnTo>
                <a:lnTo>
                  <a:pt x="156" y="0"/>
                </a:lnTo>
                <a:lnTo>
                  <a:pt x="5" y="0"/>
                </a:lnTo>
                <a:lnTo>
                  <a:pt x="36" y="0"/>
                </a:lnTo>
                <a:lnTo>
                  <a:pt x="29" y="12"/>
                </a:lnTo>
                <a:lnTo>
                  <a:pt x="27" y="24"/>
                </a:lnTo>
                <a:lnTo>
                  <a:pt x="29" y="36"/>
                </a:lnTo>
                <a:lnTo>
                  <a:pt x="36" y="48"/>
                </a:lnTo>
                <a:lnTo>
                  <a:pt x="5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5" y="0"/>
                </a:lnTo>
                <a:lnTo>
                  <a:pt x="156" y="0"/>
                </a:lnTo>
              </a:path>
            </a:pathLst>
          </a:custGeom>
          <a:solidFill>
            <a:srgbClr val="c6f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479840" y="4665600"/>
            <a:ext cx="166680" cy="77760"/>
          </a:xfrm>
          <a:custGeom>
            <a:avLst/>
            <a:gdLst/>
            <a:ahLst/>
            <a:rect l="l" t="t" r="r" b="b"/>
            <a:pathLst>
              <a:path w="105" h="49">
                <a:moveTo>
                  <a:pt x="78" y="24"/>
                </a:moveTo>
                <a:lnTo>
                  <a:pt x="78" y="19"/>
                </a:lnTo>
                <a:lnTo>
                  <a:pt x="76" y="15"/>
                </a:lnTo>
                <a:lnTo>
                  <a:pt x="73" y="11"/>
                </a:lnTo>
                <a:lnTo>
                  <a:pt x="70" y="7"/>
                </a:lnTo>
                <a:lnTo>
                  <a:pt x="67" y="4"/>
                </a:lnTo>
                <a:lnTo>
                  <a:pt x="62" y="2"/>
                </a:lnTo>
                <a:lnTo>
                  <a:pt x="57" y="1"/>
                </a:lnTo>
                <a:lnTo>
                  <a:pt x="52" y="0"/>
                </a:lnTo>
                <a:lnTo>
                  <a:pt x="47" y="1"/>
                </a:lnTo>
                <a:lnTo>
                  <a:pt x="42" y="2"/>
                </a:lnTo>
                <a:lnTo>
                  <a:pt x="37" y="4"/>
                </a:lnTo>
                <a:lnTo>
                  <a:pt x="34" y="7"/>
                </a:lnTo>
                <a:lnTo>
                  <a:pt x="30" y="11"/>
                </a:lnTo>
                <a:lnTo>
                  <a:pt x="28" y="15"/>
                </a:lnTo>
                <a:lnTo>
                  <a:pt x="26" y="19"/>
                </a:lnTo>
                <a:lnTo>
                  <a:pt x="26" y="24"/>
                </a:lnTo>
                <a:lnTo>
                  <a:pt x="26" y="28"/>
                </a:lnTo>
                <a:lnTo>
                  <a:pt x="28" y="33"/>
                </a:lnTo>
                <a:lnTo>
                  <a:pt x="30" y="37"/>
                </a:lnTo>
                <a:lnTo>
                  <a:pt x="34" y="41"/>
                </a:lnTo>
                <a:lnTo>
                  <a:pt x="37" y="43"/>
                </a:lnTo>
                <a:lnTo>
                  <a:pt x="42" y="46"/>
                </a:lnTo>
                <a:lnTo>
                  <a:pt x="47" y="47"/>
                </a:lnTo>
                <a:lnTo>
                  <a:pt x="52" y="47"/>
                </a:lnTo>
                <a:lnTo>
                  <a:pt x="57" y="47"/>
                </a:lnTo>
                <a:lnTo>
                  <a:pt x="62" y="46"/>
                </a:lnTo>
                <a:lnTo>
                  <a:pt x="67" y="43"/>
                </a:lnTo>
                <a:lnTo>
                  <a:pt x="70" y="41"/>
                </a:lnTo>
                <a:lnTo>
                  <a:pt x="73" y="37"/>
                </a:lnTo>
                <a:lnTo>
                  <a:pt x="76" y="33"/>
                </a:lnTo>
                <a:lnTo>
                  <a:pt x="78" y="28"/>
                </a:lnTo>
                <a:lnTo>
                  <a:pt x="78" y="24"/>
                </a:lnTo>
                <a:lnTo>
                  <a:pt x="95" y="0"/>
                </a:lnTo>
                <a:lnTo>
                  <a:pt x="8" y="0"/>
                </a:lnTo>
                <a:lnTo>
                  <a:pt x="2" y="12"/>
                </a:lnTo>
                <a:lnTo>
                  <a:pt x="0" y="24"/>
                </a:lnTo>
                <a:lnTo>
                  <a:pt x="2" y="36"/>
                </a:lnTo>
                <a:lnTo>
                  <a:pt x="8" y="48"/>
                </a:lnTo>
                <a:lnTo>
                  <a:pt x="95" y="48"/>
                </a:lnTo>
                <a:lnTo>
                  <a:pt x="101" y="36"/>
                </a:lnTo>
                <a:lnTo>
                  <a:pt x="104" y="24"/>
                </a:lnTo>
                <a:lnTo>
                  <a:pt x="101" y="12"/>
                </a:lnTo>
                <a:lnTo>
                  <a:pt x="95" y="0"/>
                </a:lnTo>
                <a:lnTo>
                  <a:pt x="78" y="24"/>
                </a:lnTo>
              </a:path>
            </a:pathLst>
          </a:custGeom>
          <a:solidFill>
            <a:srgbClr val="c9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524480" y="466560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47" y="24"/>
                </a:moveTo>
                <a:lnTo>
                  <a:pt x="47" y="19"/>
                </a:lnTo>
                <a:lnTo>
                  <a:pt x="45" y="15"/>
                </a:lnTo>
                <a:lnTo>
                  <a:pt x="43" y="11"/>
                </a:lnTo>
                <a:lnTo>
                  <a:pt x="40" y="7"/>
                </a:lnTo>
                <a:lnTo>
                  <a:pt x="37" y="4"/>
                </a:lnTo>
                <a:lnTo>
                  <a:pt x="33" y="2"/>
                </a:lnTo>
                <a:lnTo>
                  <a:pt x="28" y="1"/>
                </a:lnTo>
                <a:lnTo>
                  <a:pt x="24" y="0"/>
                </a:lnTo>
                <a:lnTo>
                  <a:pt x="19" y="1"/>
                </a:lnTo>
                <a:lnTo>
                  <a:pt x="15" y="2"/>
                </a:lnTo>
                <a:lnTo>
                  <a:pt x="11" y="4"/>
                </a:lnTo>
                <a:lnTo>
                  <a:pt x="7" y="7"/>
                </a:lnTo>
                <a:lnTo>
                  <a:pt x="4" y="11"/>
                </a:lnTo>
                <a:lnTo>
                  <a:pt x="2" y="15"/>
                </a:lnTo>
                <a:lnTo>
                  <a:pt x="1" y="19"/>
                </a:lnTo>
                <a:lnTo>
                  <a:pt x="0" y="24"/>
                </a:lnTo>
                <a:lnTo>
                  <a:pt x="1" y="28"/>
                </a:lnTo>
                <a:lnTo>
                  <a:pt x="2" y="33"/>
                </a:lnTo>
                <a:lnTo>
                  <a:pt x="4" y="37"/>
                </a:lnTo>
                <a:lnTo>
                  <a:pt x="7" y="40"/>
                </a:lnTo>
                <a:lnTo>
                  <a:pt x="11" y="43"/>
                </a:lnTo>
                <a:lnTo>
                  <a:pt x="15" y="45"/>
                </a:lnTo>
                <a:lnTo>
                  <a:pt x="19" y="47"/>
                </a:lnTo>
                <a:lnTo>
                  <a:pt x="24" y="47"/>
                </a:lnTo>
                <a:lnTo>
                  <a:pt x="28" y="47"/>
                </a:lnTo>
                <a:lnTo>
                  <a:pt x="33" y="45"/>
                </a:lnTo>
                <a:lnTo>
                  <a:pt x="37" y="43"/>
                </a:lnTo>
                <a:lnTo>
                  <a:pt x="40" y="40"/>
                </a:lnTo>
                <a:lnTo>
                  <a:pt x="43" y="37"/>
                </a:lnTo>
                <a:lnTo>
                  <a:pt x="45" y="33"/>
                </a:lnTo>
                <a:lnTo>
                  <a:pt x="47" y="28"/>
                </a:lnTo>
                <a:lnTo>
                  <a:pt x="47" y="24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660840" y="4665600"/>
            <a:ext cx="1820880" cy="93600"/>
          </a:xfrm>
          <a:custGeom>
            <a:avLst/>
            <a:gdLst/>
            <a:ahLst/>
            <a:rect l="l" t="t" r="r" b="b"/>
            <a:pathLst>
              <a:path w="1147" h="59">
                <a:moveTo>
                  <a:pt x="0" y="58"/>
                </a:moveTo>
                <a:lnTo>
                  <a:pt x="112" y="0"/>
                </a:lnTo>
                <a:lnTo>
                  <a:pt x="1146" y="0"/>
                </a:lnTo>
                <a:lnTo>
                  <a:pt x="1034" y="58"/>
                </a:lnTo>
                <a:lnTo>
                  <a:pt x="0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659040" y="6058080"/>
            <a:ext cx="1805040" cy="77760"/>
          </a:xfrm>
          <a:custGeom>
            <a:avLst/>
            <a:gdLst/>
            <a:ahLst/>
            <a:rect l="l" t="t" r="r" b="b"/>
            <a:pathLst>
              <a:path w="1137" h="49">
                <a:moveTo>
                  <a:pt x="1107" y="12"/>
                </a:moveTo>
                <a:lnTo>
                  <a:pt x="1136" y="0"/>
                </a:lnTo>
                <a:lnTo>
                  <a:pt x="1107" y="0"/>
                </a:lnTo>
                <a:lnTo>
                  <a:pt x="1107" y="3"/>
                </a:lnTo>
                <a:lnTo>
                  <a:pt x="1107" y="7"/>
                </a:lnTo>
                <a:lnTo>
                  <a:pt x="1107" y="10"/>
                </a:lnTo>
                <a:lnTo>
                  <a:pt x="1107" y="12"/>
                </a:lnTo>
                <a:lnTo>
                  <a:pt x="29" y="36"/>
                </a:lnTo>
                <a:lnTo>
                  <a:pt x="0" y="48"/>
                </a:lnTo>
                <a:lnTo>
                  <a:pt x="29" y="48"/>
                </a:lnTo>
                <a:lnTo>
                  <a:pt x="29" y="44"/>
                </a:lnTo>
                <a:lnTo>
                  <a:pt x="29" y="41"/>
                </a:lnTo>
                <a:lnTo>
                  <a:pt x="29" y="38"/>
                </a:lnTo>
                <a:lnTo>
                  <a:pt x="29" y="36"/>
                </a:lnTo>
                <a:lnTo>
                  <a:pt x="1107" y="12"/>
                </a:lnTo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705120" y="6058080"/>
            <a:ext cx="1712880" cy="77760"/>
          </a:xfrm>
          <a:custGeom>
            <a:avLst/>
            <a:gdLst/>
            <a:ahLst/>
            <a:rect l="l" t="t" r="r" b="b"/>
            <a:pathLst>
              <a:path w="1079" h="49">
                <a:moveTo>
                  <a:pt x="1078" y="12"/>
                </a:moveTo>
                <a:lnTo>
                  <a:pt x="1050" y="24"/>
                </a:lnTo>
                <a:lnTo>
                  <a:pt x="1050" y="18"/>
                </a:lnTo>
                <a:lnTo>
                  <a:pt x="1050" y="12"/>
                </a:lnTo>
                <a:lnTo>
                  <a:pt x="1050" y="6"/>
                </a:lnTo>
                <a:lnTo>
                  <a:pt x="1050" y="0"/>
                </a:lnTo>
                <a:lnTo>
                  <a:pt x="1078" y="0"/>
                </a:lnTo>
                <a:lnTo>
                  <a:pt x="1078" y="3"/>
                </a:lnTo>
                <a:lnTo>
                  <a:pt x="1078" y="7"/>
                </a:lnTo>
                <a:lnTo>
                  <a:pt x="1078" y="10"/>
                </a:lnTo>
                <a:lnTo>
                  <a:pt x="1078" y="12"/>
                </a:lnTo>
                <a:lnTo>
                  <a:pt x="0" y="36"/>
                </a:lnTo>
                <a:lnTo>
                  <a:pt x="28" y="23"/>
                </a:lnTo>
                <a:lnTo>
                  <a:pt x="28" y="29"/>
                </a:lnTo>
                <a:lnTo>
                  <a:pt x="28" y="36"/>
                </a:lnTo>
                <a:lnTo>
                  <a:pt x="28" y="41"/>
                </a:lnTo>
                <a:lnTo>
                  <a:pt x="29" y="48"/>
                </a:lnTo>
                <a:lnTo>
                  <a:pt x="0" y="48"/>
                </a:lnTo>
                <a:lnTo>
                  <a:pt x="0" y="44"/>
                </a:lnTo>
                <a:lnTo>
                  <a:pt x="0" y="41"/>
                </a:lnTo>
                <a:lnTo>
                  <a:pt x="0" y="38"/>
                </a:lnTo>
                <a:lnTo>
                  <a:pt x="0" y="36"/>
                </a:lnTo>
                <a:lnTo>
                  <a:pt x="1078" y="12"/>
                </a:lnTo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749760" y="6058080"/>
            <a:ext cx="1623960" cy="77760"/>
          </a:xfrm>
          <a:custGeom>
            <a:avLst/>
            <a:gdLst/>
            <a:ahLst/>
            <a:rect l="l" t="t" r="r" b="b"/>
            <a:pathLst>
              <a:path w="1023" h="49">
                <a:moveTo>
                  <a:pt x="1022" y="0"/>
                </a:moveTo>
                <a:lnTo>
                  <a:pt x="992" y="0"/>
                </a:lnTo>
                <a:lnTo>
                  <a:pt x="993" y="9"/>
                </a:lnTo>
                <a:lnTo>
                  <a:pt x="993" y="18"/>
                </a:lnTo>
                <a:lnTo>
                  <a:pt x="993" y="27"/>
                </a:lnTo>
                <a:lnTo>
                  <a:pt x="993" y="36"/>
                </a:lnTo>
                <a:lnTo>
                  <a:pt x="1022" y="24"/>
                </a:lnTo>
                <a:lnTo>
                  <a:pt x="1022" y="18"/>
                </a:lnTo>
                <a:lnTo>
                  <a:pt x="1022" y="12"/>
                </a:lnTo>
                <a:lnTo>
                  <a:pt x="1022" y="6"/>
                </a:lnTo>
                <a:lnTo>
                  <a:pt x="1022" y="0"/>
                </a:lnTo>
                <a:lnTo>
                  <a:pt x="0" y="23"/>
                </a:lnTo>
                <a:lnTo>
                  <a:pt x="30" y="11"/>
                </a:lnTo>
                <a:lnTo>
                  <a:pt x="29" y="20"/>
                </a:lnTo>
                <a:lnTo>
                  <a:pt x="29" y="29"/>
                </a:lnTo>
                <a:lnTo>
                  <a:pt x="30" y="38"/>
                </a:lnTo>
                <a:lnTo>
                  <a:pt x="30" y="48"/>
                </a:lnTo>
                <a:lnTo>
                  <a:pt x="1" y="48"/>
                </a:lnTo>
                <a:lnTo>
                  <a:pt x="0" y="41"/>
                </a:lnTo>
                <a:lnTo>
                  <a:pt x="0" y="36"/>
                </a:lnTo>
                <a:lnTo>
                  <a:pt x="0" y="29"/>
                </a:lnTo>
                <a:lnTo>
                  <a:pt x="0" y="23"/>
                </a:lnTo>
                <a:lnTo>
                  <a:pt x="1022" y="0"/>
                </a:lnTo>
              </a:path>
            </a:pathLst>
          </a:custGeom>
          <a:solidFill>
            <a:srgbClr val="9e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795840" y="6058080"/>
            <a:ext cx="1531800" cy="77760"/>
          </a:xfrm>
          <a:custGeom>
            <a:avLst/>
            <a:gdLst/>
            <a:ahLst/>
            <a:rect l="l" t="t" r="r" b="b"/>
            <a:pathLst>
              <a:path w="965" h="49">
                <a:moveTo>
                  <a:pt x="963" y="0"/>
                </a:moveTo>
                <a:lnTo>
                  <a:pt x="935" y="0"/>
                </a:lnTo>
                <a:lnTo>
                  <a:pt x="936" y="12"/>
                </a:lnTo>
                <a:lnTo>
                  <a:pt x="936" y="24"/>
                </a:lnTo>
                <a:lnTo>
                  <a:pt x="936" y="36"/>
                </a:lnTo>
                <a:lnTo>
                  <a:pt x="935" y="48"/>
                </a:lnTo>
                <a:lnTo>
                  <a:pt x="938" y="48"/>
                </a:lnTo>
                <a:lnTo>
                  <a:pt x="964" y="36"/>
                </a:lnTo>
                <a:lnTo>
                  <a:pt x="964" y="27"/>
                </a:lnTo>
                <a:lnTo>
                  <a:pt x="964" y="18"/>
                </a:lnTo>
                <a:lnTo>
                  <a:pt x="964" y="9"/>
                </a:lnTo>
                <a:lnTo>
                  <a:pt x="963" y="0"/>
                </a:lnTo>
                <a:lnTo>
                  <a:pt x="1" y="11"/>
                </a:lnTo>
                <a:lnTo>
                  <a:pt x="26" y="0"/>
                </a:lnTo>
                <a:lnTo>
                  <a:pt x="30" y="0"/>
                </a:lnTo>
                <a:lnTo>
                  <a:pt x="29" y="12"/>
                </a:lnTo>
                <a:lnTo>
                  <a:pt x="29" y="24"/>
                </a:lnTo>
                <a:lnTo>
                  <a:pt x="29" y="36"/>
                </a:lnTo>
                <a:lnTo>
                  <a:pt x="30" y="48"/>
                </a:lnTo>
                <a:lnTo>
                  <a:pt x="1" y="48"/>
                </a:lnTo>
                <a:lnTo>
                  <a:pt x="1" y="38"/>
                </a:lnTo>
                <a:lnTo>
                  <a:pt x="0" y="29"/>
                </a:lnTo>
                <a:lnTo>
                  <a:pt x="0" y="20"/>
                </a:lnTo>
                <a:lnTo>
                  <a:pt x="1" y="11"/>
                </a:lnTo>
                <a:lnTo>
                  <a:pt x="963" y="0"/>
                </a:lnTo>
              </a:path>
            </a:pathLst>
          </a:custGeom>
          <a:solidFill>
            <a:srgbClr val="a1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841920" y="6058080"/>
            <a:ext cx="1441440" cy="77760"/>
          </a:xfrm>
          <a:custGeom>
            <a:avLst/>
            <a:gdLst/>
            <a:ahLst/>
            <a:rect l="l" t="t" r="r" b="b"/>
            <a:pathLst>
              <a:path w="908" h="49">
                <a:moveTo>
                  <a:pt x="906" y="0"/>
                </a:moveTo>
                <a:lnTo>
                  <a:pt x="877" y="0"/>
                </a:lnTo>
                <a:lnTo>
                  <a:pt x="878" y="12"/>
                </a:lnTo>
                <a:lnTo>
                  <a:pt x="878" y="24"/>
                </a:lnTo>
                <a:lnTo>
                  <a:pt x="878" y="36"/>
                </a:lnTo>
                <a:lnTo>
                  <a:pt x="877" y="48"/>
                </a:lnTo>
                <a:lnTo>
                  <a:pt x="906" y="48"/>
                </a:lnTo>
                <a:lnTo>
                  <a:pt x="907" y="36"/>
                </a:lnTo>
                <a:lnTo>
                  <a:pt x="907" y="24"/>
                </a:lnTo>
                <a:lnTo>
                  <a:pt x="907" y="12"/>
                </a:lnTo>
                <a:lnTo>
                  <a:pt x="906" y="0"/>
                </a:lnTo>
                <a:lnTo>
                  <a:pt x="1" y="0"/>
                </a:lnTo>
                <a:lnTo>
                  <a:pt x="29" y="0"/>
                </a:lnTo>
                <a:lnTo>
                  <a:pt x="28" y="12"/>
                </a:lnTo>
                <a:lnTo>
                  <a:pt x="28" y="24"/>
                </a:lnTo>
                <a:lnTo>
                  <a:pt x="28" y="36"/>
                </a:lnTo>
                <a:lnTo>
                  <a:pt x="29" y="48"/>
                </a:lnTo>
                <a:lnTo>
                  <a:pt x="1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1" y="0"/>
                </a:lnTo>
                <a:lnTo>
                  <a:pt x="906" y="0"/>
                </a:lnTo>
              </a:path>
            </a:pathLst>
          </a:custGeom>
          <a:solidFill>
            <a:srgbClr val="a3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886200" y="6058080"/>
            <a:ext cx="1351080" cy="77760"/>
          </a:xfrm>
          <a:custGeom>
            <a:avLst/>
            <a:gdLst/>
            <a:ahLst/>
            <a:rect l="l" t="t" r="r" b="b"/>
            <a:pathLst>
              <a:path w="851" h="49">
                <a:moveTo>
                  <a:pt x="849" y="0"/>
                </a:moveTo>
                <a:lnTo>
                  <a:pt x="820" y="0"/>
                </a:lnTo>
                <a:lnTo>
                  <a:pt x="821" y="12"/>
                </a:lnTo>
                <a:lnTo>
                  <a:pt x="821" y="24"/>
                </a:lnTo>
                <a:lnTo>
                  <a:pt x="821" y="36"/>
                </a:lnTo>
                <a:lnTo>
                  <a:pt x="820" y="48"/>
                </a:lnTo>
                <a:lnTo>
                  <a:pt x="849" y="48"/>
                </a:lnTo>
                <a:lnTo>
                  <a:pt x="850" y="36"/>
                </a:lnTo>
                <a:lnTo>
                  <a:pt x="850" y="24"/>
                </a:lnTo>
                <a:lnTo>
                  <a:pt x="850" y="12"/>
                </a:lnTo>
                <a:lnTo>
                  <a:pt x="849" y="0"/>
                </a:lnTo>
                <a:lnTo>
                  <a:pt x="1" y="0"/>
                </a:lnTo>
                <a:lnTo>
                  <a:pt x="30" y="0"/>
                </a:lnTo>
                <a:lnTo>
                  <a:pt x="29" y="12"/>
                </a:lnTo>
                <a:lnTo>
                  <a:pt x="29" y="24"/>
                </a:lnTo>
                <a:lnTo>
                  <a:pt x="29" y="36"/>
                </a:lnTo>
                <a:lnTo>
                  <a:pt x="30" y="48"/>
                </a:lnTo>
                <a:lnTo>
                  <a:pt x="1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1" y="0"/>
                </a:lnTo>
                <a:lnTo>
                  <a:pt x="849" y="0"/>
                </a:lnTo>
              </a:path>
            </a:pathLst>
          </a:custGeom>
          <a:solidFill>
            <a:srgbClr val="a6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932280" y="6058080"/>
            <a:ext cx="1258920" cy="77760"/>
          </a:xfrm>
          <a:custGeom>
            <a:avLst/>
            <a:gdLst/>
            <a:ahLst/>
            <a:rect l="l" t="t" r="r" b="b"/>
            <a:pathLst>
              <a:path w="793" h="49">
                <a:moveTo>
                  <a:pt x="791" y="0"/>
                </a:moveTo>
                <a:lnTo>
                  <a:pt x="762" y="0"/>
                </a:lnTo>
                <a:lnTo>
                  <a:pt x="763" y="12"/>
                </a:lnTo>
                <a:lnTo>
                  <a:pt x="764" y="24"/>
                </a:lnTo>
                <a:lnTo>
                  <a:pt x="763" y="36"/>
                </a:lnTo>
                <a:lnTo>
                  <a:pt x="762" y="48"/>
                </a:lnTo>
                <a:lnTo>
                  <a:pt x="791" y="48"/>
                </a:lnTo>
                <a:lnTo>
                  <a:pt x="792" y="36"/>
                </a:lnTo>
                <a:lnTo>
                  <a:pt x="792" y="24"/>
                </a:lnTo>
                <a:lnTo>
                  <a:pt x="792" y="12"/>
                </a:lnTo>
                <a:lnTo>
                  <a:pt x="791" y="0"/>
                </a:lnTo>
                <a:lnTo>
                  <a:pt x="1" y="0"/>
                </a:lnTo>
                <a:lnTo>
                  <a:pt x="30" y="0"/>
                </a:lnTo>
                <a:lnTo>
                  <a:pt x="29" y="12"/>
                </a:lnTo>
                <a:lnTo>
                  <a:pt x="29" y="24"/>
                </a:lnTo>
                <a:lnTo>
                  <a:pt x="29" y="36"/>
                </a:lnTo>
                <a:lnTo>
                  <a:pt x="30" y="48"/>
                </a:lnTo>
                <a:lnTo>
                  <a:pt x="1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1" y="0"/>
                </a:lnTo>
                <a:lnTo>
                  <a:pt x="791" y="0"/>
                </a:lnTo>
              </a:path>
            </a:pathLst>
          </a:custGeom>
          <a:solidFill>
            <a:srgbClr val="a9f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978360" y="6058080"/>
            <a:ext cx="1168200" cy="77760"/>
          </a:xfrm>
          <a:custGeom>
            <a:avLst/>
            <a:gdLst/>
            <a:ahLst/>
            <a:rect l="l" t="t" r="r" b="b"/>
            <a:pathLst>
              <a:path w="736" h="49">
                <a:moveTo>
                  <a:pt x="733" y="0"/>
                </a:moveTo>
                <a:lnTo>
                  <a:pt x="705" y="0"/>
                </a:lnTo>
                <a:lnTo>
                  <a:pt x="706" y="12"/>
                </a:lnTo>
                <a:lnTo>
                  <a:pt x="706" y="24"/>
                </a:lnTo>
                <a:lnTo>
                  <a:pt x="706" y="36"/>
                </a:lnTo>
                <a:lnTo>
                  <a:pt x="705" y="48"/>
                </a:lnTo>
                <a:lnTo>
                  <a:pt x="733" y="48"/>
                </a:lnTo>
                <a:lnTo>
                  <a:pt x="734" y="36"/>
                </a:lnTo>
                <a:lnTo>
                  <a:pt x="735" y="24"/>
                </a:lnTo>
                <a:lnTo>
                  <a:pt x="734" y="12"/>
                </a:lnTo>
                <a:lnTo>
                  <a:pt x="733" y="0"/>
                </a:lnTo>
                <a:lnTo>
                  <a:pt x="1" y="0"/>
                </a:lnTo>
                <a:lnTo>
                  <a:pt x="30" y="0"/>
                </a:lnTo>
                <a:lnTo>
                  <a:pt x="29" y="12"/>
                </a:lnTo>
                <a:lnTo>
                  <a:pt x="28" y="24"/>
                </a:lnTo>
                <a:lnTo>
                  <a:pt x="29" y="36"/>
                </a:lnTo>
                <a:lnTo>
                  <a:pt x="30" y="48"/>
                </a:lnTo>
                <a:lnTo>
                  <a:pt x="1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1" y="0"/>
                </a:lnTo>
                <a:lnTo>
                  <a:pt x="733" y="0"/>
                </a:lnTo>
              </a:path>
            </a:pathLst>
          </a:custGeom>
          <a:solidFill>
            <a:srgbClr val="ab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022640" y="6058080"/>
            <a:ext cx="1077840" cy="77760"/>
          </a:xfrm>
          <a:custGeom>
            <a:avLst/>
            <a:gdLst/>
            <a:ahLst/>
            <a:rect l="l" t="t" r="r" b="b"/>
            <a:pathLst>
              <a:path w="679" h="49">
                <a:moveTo>
                  <a:pt x="677" y="0"/>
                </a:moveTo>
                <a:lnTo>
                  <a:pt x="648" y="0"/>
                </a:lnTo>
                <a:lnTo>
                  <a:pt x="649" y="12"/>
                </a:lnTo>
                <a:lnTo>
                  <a:pt x="649" y="24"/>
                </a:lnTo>
                <a:lnTo>
                  <a:pt x="649" y="36"/>
                </a:lnTo>
                <a:lnTo>
                  <a:pt x="648" y="48"/>
                </a:lnTo>
                <a:lnTo>
                  <a:pt x="677" y="48"/>
                </a:lnTo>
                <a:lnTo>
                  <a:pt x="678" y="36"/>
                </a:lnTo>
                <a:lnTo>
                  <a:pt x="678" y="24"/>
                </a:lnTo>
                <a:lnTo>
                  <a:pt x="678" y="12"/>
                </a:lnTo>
                <a:lnTo>
                  <a:pt x="677" y="0"/>
                </a:lnTo>
                <a:lnTo>
                  <a:pt x="2" y="0"/>
                </a:lnTo>
                <a:lnTo>
                  <a:pt x="31" y="0"/>
                </a:lnTo>
                <a:lnTo>
                  <a:pt x="30" y="12"/>
                </a:lnTo>
                <a:lnTo>
                  <a:pt x="29" y="24"/>
                </a:lnTo>
                <a:lnTo>
                  <a:pt x="30" y="36"/>
                </a:lnTo>
                <a:lnTo>
                  <a:pt x="31" y="48"/>
                </a:lnTo>
                <a:lnTo>
                  <a:pt x="2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2" y="0"/>
                </a:lnTo>
                <a:lnTo>
                  <a:pt x="677" y="0"/>
                </a:lnTo>
              </a:path>
            </a:pathLst>
          </a:custGeom>
          <a:solidFill>
            <a:srgbClr val="ae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068720" y="6058080"/>
            <a:ext cx="986040" cy="77760"/>
          </a:xfrm>
          <a:custGeom>
            <a:avLst/>
            <a:gdLst/>
            <a:ahLst/>
            <a:rect l="l" t="t" r="r" b="b"/>
            <a:pathLst>
              <a:path w="621" h="49">
                <a:moveTo>
                  <a:pt x="619" y="0"/>
                </a:moveTo>
                <a:lnTo>
                  <a:pt x="590" y="0"/>
                </a:lnTo>
                <a:lnTo>
                  <a:pt x="591" y="12"/>
                </a:lnTo>
                <a:lnTo>
                  <a:pt x="592" y="24"/>
                </a:lnTo>
                <a:lnTo>
                  <a:pt x="591" y="36"/>
                </a:lnTo>
                <a:lnTo>
                  <a:pt x="590" y="48"/>
                </a:lnTo>
                <a:lnTo>
                  <a:pt x="619" y="48"/>
                </a:lnTo>
                <a:lnTo>
                  <a:pt x="620" y="36"/>
                </a:lnTo>
                <a:lnTo>
                  <a:pt x="620" y="24"/>
                </a:lnTo>
                <a:lnTo>
                  <a:pt x="620" y="12"/>
                </a:lnTo>
                <a:lnTo>
                  <a:pt x="619" y="0"/>
                </a:lnTo>
                <a:lnTo>
                  <a:pt x="2" y="0"/>
                </a:lnTo>
                <a:lnTo>
                  <a:pt x="30" y="0"/>
                </a:lnTo>
                <a:lnTo>
                  <a:pt x="29" y="12"/>
                </a:lnTo>
                <a:lnTo>
                  <a:pt x="29" y="24"/>
                </a:lnTo>
                <a:lnTo>
                  <a:pt x="29" y="36"/>
                </a:lnTo>
                <a:lnTo>
                  <a:pt x="30" y="48"/>
                </a:lnTo>
                <a:lnTo>
                  <a:pt x="2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2" y="0"/>
                </a:lnTo>
                <a:lnTo>
                  <a:pt x="619" y="0"/>
                </a:lnTo>
              </a:path>
            </a:pathLst>
          </a:custGeom>
          <a:solidFill>
            <a:srgbClr val="b1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6058080"/>
            <a:ext cx="895320" cy="77760"/>
          </a:xfrm>
          <a:custGeom>
            <a:avLst/>
            <a:gdLst/>
            <a:ahLst/>
            <a:rect l="l" t="t" r="r" b="b"/>
            <a:pathLst>
              <a:path w="564" h="49">
                <a:moveTo>
                  <a:pt x="561" y="0"/>
                </a:moveTo>
                <a:lnTo>
                  <a:pt x="533" y="0"/>
                </a:lnTo>
                <a:lnTo>
                  <a:pt x="535" y="12"/>
                </a:lnTo>
                <a:lnTo>
                  <a:pt x="535" y="24"/>
                </a:lnTo>
                <a:lnTo>
                  <a:pt x="535" y="36"/>
                </a:lnTo>
                <a:lnTo>
                  <a:pt x="533" y="48"/>
                </a:lnTo>
                <a:lnTo>
                  <a:pt x="561" y="48"/>
                </a:lnTo>
                <a:lnTo>
                  <a:pt x="562" y="36"/>
                </a:lnTo>
                <a:lnTo>
                  <a:pt x="563" y="24"/>
                </a:lnTo>
                <a:lnTo>
                  <a:pt x="562" y="12"/>
                </a:lnTo>
                <a:lnTo>
                  <a:pt x="561" y="0"/>
                </a:lnTo>
                <a:lnTo>
                  <a:pt x="1" y="0"/>
                </a:lnTo>
                <a:lnTo>
                  <a:pt x="29" y="0"/>
                </a:lnTo>
                <a:lnTo>
                  <a:pt x="28" y="12"/>
                </a:lnTo>
                <a:lnTo>
                  <a:pt x="28" y="24"/>
                </a:lnTo>
                <a:lnTo>
                  <a:pt x="28" y="36"/>
                </a:lnTo>
                <a:lnTo>
                  <a:pt x="29" y="48"/>
                </a:lnTo>
                <a:lnTo>
                  <a:pt x="1" y="48"/>
                </a:lnTo>
                <a:lnTo>
                  <a:pt x="0" y="36"/>
                </a:lnTo>
                <a:lnTo>
                  <a:pt x="0" y="24"/>
                </a:lnTo>
                <a:lnTo>
                  <a:pt x="0" y="12"/>
                </a:lnTo>
                <a:lnTo>
                  <a:pt x="1" y="0"/>
                </a:lnTo>
                <a:lnTo>
                  <a:pt x="561" y="0"/>
                </a:lnTo>
              </a:path>
            </a:pathLst>
          </a:custGeom>
          <a:solidFill>
            <a:srgbClr val="b3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159080" y="6058080"/>
            <a:ext cx="804960" cy="77760"/>
          </a:xfrm>
          <a:custGeom>
            <a:avLst/>
            <a:gdLst/>
            <a:ahLst/>
            <a:rect l="l" t="t" r="r" b="b"/>
            <a:pathLst>
              <a:path w="507" h="49">
                <a:moveTo>
                  <a:pt x="504" y="0"/>
                </a:moveTo>
                <a:lnTo>
                  <a:pt x="476" y="0"/>
                </a:lnTo>
                <a:lnTo>
                  <a:pt x="478" y="12"/>
                </a:lnTo>
                <a:lnTo>
                  <a:pt x="478" y="24"/>
                </a:lnTo>
                <a:lnTo>
                  <a:pt x="478" y="36"/>
                </a:lnTo>
                <a:lnTo>
                  <a:pt x="476" y="48"/>
                </a:lnTo>
                <a:lnTo>
                  <a:pt x="504" y="48"/>
                </a:lnTo>
                <a:lnTo>
                  <a:pt x="506" y="36"/>
                </a:lnTo>
                <a:lnTo>
                  <a:pt x="506" y="24"/>
                </a:lnTo>
                <a:lnTo>
                  <a:pt x="506" y="12"/>
                </a:lnTo>
                <a:lnTo>
                  <a:pt x="504" y="0"/>
                </a:lnTo>
                <a:lnTo>
                  <a:pt x="2" y="0"/>
                </a:lnTo>
                <a:lnTo>
                  <a:pt x="30" y="0"/>
                </a:lnTo>
                <a:lnTo>
                  <a:pt x="29" y="12"/>
                </a:lnTo>
                <a:lnTo>
                  <a:pt x="28" y="24"/>
                </a:lnTo>
                <a:lnTo>
                  <a:pt x="29" y="36"/>
                </a:lnTo>
                <a:lnTo>
                  <a:pt x="30" y="48"/>
                </a:lnTo>
                <a:lnTo>
                  <a:pt x="2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2" y="0"/>
                </a:lnTo>
                <a:lnTo>
                  <a:pt x="504" y="0"/>
                </a:lnTo>
              </a:path>
            </a:pathLst>
          </a:custGeom>
          <a:solidFill>
            <a:srgbClr val="b6f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205160" y="6058080"/>
            <a:ext cx="712800" cy="77760"/>
          </a:xfrm>
          <a:custGeom>
            <a:avLst/>
            <a:gdLst/>
            <a:ahLst/>
            <a:rect l="l" t="t" r="r" b="b"/>
            <a:pathLst>
              <a:path w="449" h="49">
                <a:moveTo>
                  <a:pt x="446" y="0"/>
                </a:moveTo>
                <a:lnTo>
                  <a:pt x="418" y="0"/>
                </a:lnTo>
                <a:lnTo>
                  <a:pt x="420" y="12"/>
                </a:lnTo>
                <a:lnTo>
                  <a:pt x="421" y="24"/>
                </a:lnTo>
                <a:lnTo>
                  <a:pt x="420" y="36"/>
                </a:lnTo>
                <a:lnTo>
                  <a:pt x="418" y="48"/>
                </a:lnTo>
                <a:lnTo>
                  <a:pt x="446" y="48"/>
                </a:lnTo>
                <a:lnTo>
                  <a:pt x="448" y="36"/>
                </a:lnTo>
                <a:lnTo>
                  <a:pt x="448" y="24"/>
                </a:lnTo>
                <a:lnTo>
                  <a:pt x="448" y="12"/>
                </a:lnTo>
                <a:lnTo>
                  <a:pt x="446" y="0"/>
                </a:lnTo>
                <a:lnTo>
                  <a:pt x="2" y="0"/>
                </a:lnTo>
                <a:lnTo>
                  <a:pt x="30" y="0"/>
                </a:lnTo>
                <a:lnTo>
                  <a:pt x="29" y="12"/>
                </a:lnTo>
                <a:lnTo>
                  <a:pt x="28" y="24"/>
                </a:lnTo>
                <a:lnTo>
                  <a:pt x="29" y="36"/>
                </a:lnTo>
                <a:lnTo>
                  <a:pt x="30" y="48"/>
                </a:lnTo>
                <a:lnTo>
                  <a:pt x="2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2" y="0"/>
                </a:lnTo>
                <a:lnTo>
                  <a:pt x="446" y="0"/>
                </a:lnTo>
              </a:path>
            </a:pathLst>
          </a:custGeom>
          <a:solidFill>
            <a:srgbClr val="b9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251240" y="6058080"/>
            <a:ext cx="622440" cy="77760"/>
          </a:xfrm>
          <a:custGeom>
            <a:avLst/>
            <a:gdLst/>
            <a:ahLst/>
            <a:rect l="l" t="t" r="r" b="b"/>
            <a:pathLst>
              <a:path w="392" h="49">
                <a:moveTo>
                  <a:pt x="388" y="0"/>
                </a:moveTo>
                <a:lnTo>
                  <a:pt x="361" y="0"/>
                </a:lnTo>
                <a:lnTo>
                  <a:pt x="363" y="12"/>
                </a:lnTo>
                <a:lnTo>
                  <a:pt x="363" y="24"/>
                </a:lnTo>
                <a:lnTo>
                  <a:pt x="363" y="36"/>
                </a:lnTo>
                <a:lnTo>
                  <a:pt x="361" y="48"/>
                </a:lnTo>
                <a:lnTo>
                  <a:pt x="388" y="48"/>
                </a:lnTo>
                <a:lnTo>
                  <a:pt x="390" y="36"/>
                </a:lnTo>
                <a:lnTo>
                  <a:pt x="391" y="24"/>
                </a:lnTo>
                <a:lnTo>
                  <a:pt x="390" y="12"/>
                </a:lnTo>
                <a:lnTo>
                  <a:pt x="388" y="0"/>
                </a:lnTo>
                <a:lnTo>
                  <a:pt x="2" y="0"/>
                </a:lnTo>
                <a:lnTo>
                  <a:pt x="30" y="0"/>
                </a:lnTo>
                <a:lnTo>
                  <a:pt x="28" y="12"/>
                </a:lnTo>
                <a:lnTo>
                  <a:pt x="27" y="24"/>
                </a:lnTo>
                <a:lnTo>
                  <a:pt x="28" y="36"/>
                </a:lnTo>
                <a:lnTo>
                  <a:pt x="30" y="48"/>
                </a:lnTo>
                <a:lnTo>
                  <a:pt x="2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2" y="0"/>
                </a:lnTo>
                <a:lnTo>
                  <a:pt x="388" y="0"/>
                </a:lnTo>
              </a:path>
            </a:pathLst>
          </a:custGeom>
          <a:solidFill>
            <a:srgbClr val="bb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295880" y="6058080"/>
            <a:ext cx="531720" cy="77760"/>
          </a:xfrm>
          <a:custGeom>
            <a:avLst/>
            <a:gdLst/>
            <a:ahLst/>
            <a:rect l="l" t="t" r="r" b="b"/>
            <a:pathLst>
              <a:path w="335" h="49">
                <a:moveTo>
                  <a:pt x="332" y="0"/>
                </a:moveTo>
                <a:lnTo>
                  <a:pt x="303" y="0"/>
                </a:lnTo>
                <a:lnTo>
                  <a:pt x="306" y="12"/>
                </a:lnTo>
                <a:lnTo>
                  <a:pt x="306" y="24"/>
                </a:lnTo>
                <a:lnTo>
                  <a:pt x="306" y="36"/>
                </a:lnTo>
                <a:lnTo>
                  <a:pt x="303" y="48"/>
                </a:lnTo>
                <a:lnTo>
                  <a:pt x="332" y="48"/>
                </a:lnTo>
                <a:lnTo>
                  <a:pt x="334" y="36"/>
                </a:lnTo>
                <a:lnTo>
                  <a:pt x="334" y="24"/>
                </a:lnTo>
                <a:lnTo>
                  <a:pt x="334" y="12"/>
                </a:lnTo>
                <a:lnTo>
                  <a:pt x="332" y="0"/>
                </a:lnTo>
                <a:lnTo>
                  <a:pt x="3" y="0"/>
                </a:lnTo>
                <a:lnTo>
                  <a:pt x="31" y="0"/>
                </a:lnTo>
                <a:lnTo>
                  <a:pt x="29" y="12"/>
                </a:lnTo>
                <a:lnTo>
                  <a:pt x="28" y="24"/>
                </a:lnTo>
                <a:lnTo>
                  <a:pt x="29" y="36"/>
                </a:lnTo>
                <a:lnTo>
                  <a:pt x="31" y="48"/>
                </a:lnTo>
                <a:lnTo>
                  <a:pt x="3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3" y="0"/>
                </a:lnTo>
                <a:lnTo>
                  <a:pt x="332" y="0"/>
                </a:lnTo>
              </a:path>
            </a:pathLst>
          </a:custGeom>
          <a:solidFill>
            <a:srgbClr val="bef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41960" y="6058080"/>
            <a:ext cx="439560" cy="77760"/>
          </a:xfrm>
          <a:custGeom>
            <a:avLst/>
            <a:gdLst/>
            <a:ahLst/>
            <a:rect l="l" t="t" r="r" b="b"/>
            <a:pathLst>
              <a:path w="277" h="49">
                <a:moveTo>
                  <a:pt x="273" y="0"/>
                </a:moveTo>
                <a:lnTo>
                  <a:pt x="244" y="0"/>
                </a:lnTo>
                <a:lnTo>
                  <a:pt x="247" y="12"/>
                </a:lnTo>
                <a:lnTo>
                  <a:pt x="248" y="24"/>
                </a:lnTo>
                <a:lnTo>
                  <a:pt x="247" y="36"/>
                </a:lnTo>
                <a:lnTo>
                  <a:pt x="244" y="48"/>
                </a:lnTo>
                <a:lnTo>
                  <a:pt x="273" y="48"/>
                </a:lnTo>
                <a:lnTo>
                  <a:pt x="276" y="36"/>
                </a:lnTo>
                <a:lnTo>
                  <a:pt x="276" y="24"/>
                </a:lnTo>
                <a:lnTo>
                  <a:pt x="276" y="12"/>
                </a:lnTo>
                <a:lnTo>
                  <a:pt x="273" y="0"/>
                </a:lnTo>
                <a:lnTo>
                  <a:pt x="3" y="0"/>
                </a:lnTo>
                <a:lnTo>
                  <a:pt x="32" y="0"/>
                </a:lnTo>
                <a:lnTo>
                  <a:pt x="29" y="12"/>
                </a:lnTo>
                <a:lnTo>
                  <a:pt x="28" y="24"/>
                </a:lnTo>
                <a:lnTo>
                  <a:pt x="29" y="36"/>
                </a:lnTo>
                <a:lnTo>
                  <a:pt x="32" y="48"/>
                </a:lnTo>
                <a:lnTo>
                  <a:pt x="3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3" y="0"/>
                </a:lnTo>
                <a:lnTo>
                  <a:pt x="273" y="0"/>
                </a:lnTo>
              </a:path>
            </a:pathLst>
          </a:custGeom>
          <a:solidFill>
            <a:srgbClr val="c1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387680" y="6058080"/>
            <a:ext cx="347760" cy="77760"/>
          </a:xfrm>
          <a:custGeom>
            <a:avLst/>
            <a:gdLst/>
            <a:ahLst/>
            <a:rect l="l" t="t" r="r" b="b"/>
            <a:pathLst>
              <a:path w="219" h="49">
                <a:moveTo>
                  <a:pt x="214" y="0"/>
                </a:moveTo>
                <a:lnTo>
                  <a:pt x="186" y="0"/>
                </a:lnTo>
                <a:lnTo>
                  <a:pt x="190" y="12"/>
                </a:lnTo>
                <a:lnTo>
                  <a:pt x="191" y="24"/>
                </a:lnTo>
                <a:lnTo>
                  <a:pt x="190" y="36"/>
                </a:lnTo>
                <a:lnTo>
                  <a:pt x="186" y="48"/>
                </a:lnTo>
                <a:lnTo>
                  <a:pt x="214" y="48"/>
                </a:lnTo>
                <a:lnTo>
                  <a:pt x="217" y="36"/>
                </a:lnTo>
                <a:lnTo>
                  <a:pt x="218" y="24"/>
                </a:lnTo>
                <a:lnTo>
                  <a:pt x="217" y="12"/>
                </a:lnTo>
                <a:lnTo>
                  <a:pt x="214" y="0"/>
                </a:lnTo>
                <a:lnTo>
                  <a:pt x="4" y="0"/>
                </a:lnTo>
                <a:lnTo>
                  <a:pt x="33" y="0"/>
                </a:lnTo>
                <a:lnTo>
                  <a:pt x="29" y="12"/>
                </a:lnTo>
                <a:lnTo>
                  <a:pt x="28" y="24"/>
                </a:lnTo>
                <a:lnTo>
                  <a:pt x="29" y="36"/>
                </a:lnTo>
                <a:lnTo>
                  <a:pt x="33" y="48"/>
                </a:lnTo>
                <a:lnTo>
                  <a:pt x="4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4" y="0"/>
                </a:lnTo>
                <a:lnTo>
                  <a:pt x="214" y="0"/>
                </a:lnTo>
              </a:path>
            </a:pathLst>
          </a:custGeom>
          <a:solidFill>
            <a:srgbClr val="c3f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33760" y="6058080"/>
            <a:ext cx="257400" cy="77760"/>
          </a:xfrm>
          <a:custGeom>
            <a:avLst/>
            <a:gdLst/>
            <a:ahLst/>
            <a:rect l="l" t="t" r="r" b="b"/>
            <a:pathLst>
              <a:path w="162" h="49">
                <a:moveTo>
                  <a:pt x="156" y="0"/>
                </a:moveTo>
                <a:lnTo>
                  <a:pt x="125" y="0"/>
                </a:lnTo>
                <a:lnTo>
                  <a:pt x="132" y="12"/>
                </a:lnTo>
                <a:lnTo>
                  <a:pt x="134" y="24"/>
                </a:lnTo>
                <a:lnTo>
                  <a:pt x="132" y="36"/>
                </a:lnTo>
                <a:lnTo>
                  <a:pt x="125" y="48"/>
                </a:lnTo>
                <a:lnTo>
                  <a:pt x="156" y="48"/>
                </a:lnTo>
                <a:lnTo>
                  <a:pt x="160" y="36"/>
                </a:lnTo>
                <a:lnTo>
                  <a:pt x="161" y="24"/>
                </a:lnTo>
                <a:lnTo>
                  <a:pt x="160" y="12"/>
                </a:lnTo>
                <a:lnTo>
                  <a:pt x="156" y="0"/>
                </a:lnTo>
                <a:lnTo>
                  <a:pt x="5" y="0"/>
                </a:lnTo>
                <a:lnTo>
                  <a:pt x="36" y="0"/>
                </a:lnTo>
                <a:lnTo>
                  <a:pt x="29" y="12"/>
                </a:lnTo>
                <a:lnTo>
                  <a:pt x="26" y="24"/>
                </a:lnTo>
                <a:lnTo>
                  <a:pt x="29" y="36"/>
                </a:lnTo>
                <a:lnTo>
                  <a:pt x="36" y="48"/>
                </a:lnTo>
                <a:lnTo>
                  <a:pt x="5" y="48"/>
                </a:lnTo>
                <a:lnTo>
                  <a:pt x="1" y="36"/>
                </a:lnTo>
                <a:lnTo>
                  <a:pt x="0" y="24"/>
                </a:lnTo>
                <a:lnTo>
                  <a:pt x="1" y="12"/>
                </a:lnTo>
                <a:lnTo>
                  <a:pt x="5" y="0"/>
                </a:lnTo>
                <a:lnTo>
                  <a:pt x="156" y="0"/>
                </a:lnTo>
              </a:path>
            </a:pathLst>
          </a:custGeom>
          <a:solidFill>
            <a:srgbClr val="c6f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78400" y="6058080"/>
            <a:ext cx="166680" cy="77760"/>
          </a:xfrm>
          <a:custGeom>
            <a:avLst/>
            <a:gdLst/>
            <a:ahLst/>
            <a:rect l="l" t="t" r="r" b="b"/>
            <a:pathLst>
              <a:path w="105" h="49">
                <a:moveTo>
                  <a:pt x="78" y="24"/>
                </a:moveTo>
                <a:lnTo>
                  <a:pt x="78" y="19"/>
                </a:lnTo>
                <a:lnTo>
                  <a:pt x="76" y="15"/>
                </a:lnTo>
                <a:lnTo>
                  <a:pt x="74" y="11"/>
                </a:lnTo>
                <a:lnTo>
                  <a:pt x="70" y="7"/>
                </a:lnTo>
                <a:lnTo>
                  <a:pt x="67" y="4"/>
                </a:lnTo>
                <a:lnTo>
                  <a:pt x="62" y="2"/>
                </a:lnTo>
                <a:lnTo>
                  <a:pt x="57" y="1"/>
                </a:lnTo>
                <a:lnTo>
                  <a:pt x="52" y="0"/>
                </a:lnTo>
                <a:lnTo>
                  <a:pt x="47" y="1"/>
                </a:lnTo>
                <a:lnTo>
                  <a:pt x="42" y="2"/>
                </a:lnTo>
                <a:lnTo>
                  <a:pt x="37" y="4"/>
                </a:lnTo>
                <a:lnTo>
                  <a:pt x="34" y="7"/>
                </a:lnTo>
                <a:lnTo>
                  <a:pt x="31" y="11"/>
                </a:lnTo>
                <a:lnTo>
                  <a:pt x="28" y="15"/>
                </a:lnTo>
                <a:lnTo>
                  <a:pt x="26" y="19"/>
                </a:lnTo>
                <a:lnTo>
                  <a:pt x="26" y="24"/>
                </a:lnTo>
                <a:lnTo>
                  <a:pt x="26" y="28"/>
                </a:lnTo>
                <a:lnTo>
                  <a:pt x="28" y="33"/>
                </a:lnTo>
                <a:lnTo>
                  <a:pt x="31" y="37"/>
                </a:lnTo>
                <a:lnTo>
                  <a:pt x="34" y="41"/>
                </a:lnTo>
                <a:lnTo>
                  <a:pt x="37" y="43"/>
                </a:lnTo>
                <a:lnTo>
                  <a:pt x="42" y="46"/>
                </a:lnTo>
                <a:lnTo>
                  <a:pt x="47" y="47"/>
                </a:lnTo>
                <a:lnTo>
                  <a:pt x="52" y="47"/>
                </a:lnTo>
                <a:lnTo>
                  <a:pt x="57" y="47"/>
                </a:lnTo>
                <a:lnTo>
                  <a:pt x="62" y="46"/>
                </a:lnTo>
                <a:lnTo>
                  <a:pt x="67" y="43"/>
                </a:lnTo>
                <a:lnTo>
                  <a:pt x="70" y="41"/>
                </a:lnTo>
                <a:lnTo>
                  <a:pt x="74" y="37"/>
                </a:lnTo>
                <a:lnTo>
                  <a:pt x="76" y="33"/>
                </a:lnTo>
                <a:lnTo>
                  <a:pt x="78" y="28"/>
                </a:lnTo>
                <a:lnTo>
                  <a:pt x="78" y="24"/>
                </a:lnTo>
                <a:lnTo>
                  <a:pt x="96" y="0"/>
                </a:lnTo>
                <a:lnTo>
                  <a:pt x="9" y="0"/>
                </a:lnTo>
                <a:lnTo>
                  <a:pt x="3" y="12"/>
                </a:lnTo>
                <a:lnTo>
                  <a:pt x="0" y="24"/>
                </a:lnTo>
                <a:lnTo>
                  <a:pt x="3" y="36"/>
                </a:lnTo>
                <a:lnTo>
                  <a:pt x="9" y="48"/>
                </a:lnTo>
                <a:lnTo>
                  <a:pt x="96" y="48"/>
                </a:lnTo>
                <a:lnTo>
                  <a:pt x="102" y="36"/>
                </a:lnTo>
                <a:lnTo>
                  <a:pt x="104" y="24"/>
                </a:lnTo>
                <a:lnTo>
                  <a:pt x="102" y="12"/>
                </a:lnTo>
                <a:lnTo>
                  <a:pt x="96" y="0"/>
                </a:lnTo>
                <a:lnTo>
                  <a:pt x="78" y="24"/>
                </a:lnTo>
              </a:path>
            </a:pathLst>
          </a:custGeom>
          <a:solidFill>
            <a:srgbClr val="c9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24480" y="605808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7" y="24"/>
                </a:moveTo>
                <a:lnTo>
                  <a:pt x="46" y="19"/>
                </a:lnTo>
                <a:lnTo>
                  <a:pt x="45" y="15"/>
                </a:lnTo>
                <a:lnTo>
                  <a:pt x="43" y="11"/>
                </a:lnTo>
                <a:lnTo>
                  <a:pt x="40" y="7"/>
                </a:lnTo>
                <a:lnTo>
                  <a:pt x="36" y="4"/>
                </a:lnTo>
                <a:lnTo>
                  <a:pt x="32" y="2"/>
                </a:lnTo>
                <a:lnTo>
                  <a:pt x="28" y="1"/>
                </a:lnTo>
                <a:lnTo>
                  <a:pt x="23" y="0"/>
                </a:lnTo>
                <a:lnTo>
                  <a:pt x="19" y="1"/>
                </a:lnTo>
                <a:lnTo>
                  <a:pt x="14" y="2"/>
                </a:lnTo>
                <a:lnTo>
                  <a:pt x="10" y="4"/>
                </a:lnTo>
                <a:lnTo>
                  <a:pt x="7" y="7"/>
                </a:lnTo>
                <a:lnTo>
                  <a:pt x="4" y="11"/>
                </a:lnTo>
                <a:lnTo>
                  <a:pt x="2" y="15"/>
                </a:lnTo>
                <a:lnTo>
                  <a:pt x="0" y="19"/>
                </a:lnTo>
                <a:lnTo>
                  <a:pt x="0" y="24"/>
                </a:lnTo>
                <a:lnTo>
                  <a:pt x="0" y="28"/>
                </a:lnTo>
                <a:lnTo>
                  <a:pt x="2" y="33"/>
                </a:lnTo>
                <a:lnTo>
                  <a:pt x="4" y="37"/>
                </a:lnTo>
                <a:lnTo>
                  <a:pt x="7" y="40"/>
                </a:lnTo>
                <a:lnTo>
                  <a:pt x="10" y="43"/>
                </a:lnTo>
                <a:lnTo>
                  <a:pt x="14" y="45"/>
                </a:lnTo>
                <a:lnTo>
                  <a:pt x="19" y="47"/>
                </a:lnTo>
                <a:lnTo>
                  <a:pt x="23" y="47"/>
                </a:lnTo>
                <a:lnTo>
                  <a:pt x="28" y="47"/>
                </a:lnTo>
                <a:lnTo>
                  <a:pt x="32" y="45"/>
                </a:lnTo>
                <a:lnTo>
                  <a:pt x="36" y="43"/>
                </a:lnTo>
                <a:lnTo>
                  <a:pt x="40" y="40"/>
                </a:lnTo>
                <a:lnTo>
                  <a:pt x="43" y="37"/>
                </a:lnTo>
                <a:lnTo>
                  <a:pt x="45" y="33"/>
                </a:lnTo>
                <a:lnTo>
                  <a:pt x="46" y="28"/>
                </a:lnTo>
                <a:lnTo>
                  <a:pt x="47" y="24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659040" y="6058080"/>
            <a:ext cx="1820880" cy="93600"/>
          </a:xfrm>
          <a:custGeom>
            <a:avLst/>
            <a:gdLst/>
            <a:ahLst/>
            <a:rect l="l" t="t" r="r" b="b"/>
            <a:pathLst>
              <a:path w="1147" h="59">
                <a:moveTo>
                  <a:pt x="1034" y="58"/>
                </a:moveTo>
                <a:lnTo>
                  <a:pt x="1146" y="0"/>
                </a:lnTo>
                <a:lnTo>
                  <a:pt x="112" y="0"/>
                </a:lnTo>
                <a:lnTo>
                  <a:pt x="0" y="58"/>
                </a:lnTo>
                <a:lnTo>
                  <a:pt x="1034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300640" y="4665600"/>
            <a:ext cx="163440" cy="1470240"/>
          </a:xfrm>
          <a:custGeom>
            <a:avLst/>
            <a:gdLst/>
            <a:ahLst/>
            <a:rect l="l" t="t" r="r" b="b"/>
            <a:pathLst>
              <a:path w="103" h="926">
                <a:moveTo>
                  <a:pt x="102" y="23"/>
                </a:moveTo>
                <a:lnTo>
                  <a:pt x="102" y="0"/>
                </a:lnTo>
                <a:lnTo>
                  <a:pt x="66" y="20"/>
                </a:lnTo>
                <a:lnTo>
                  <a:pt x="70" y="20"/>
                </a:lnTo>
                <a:lnTo>
                  <a:pt x="75" y="20"/>
                </a:lnTo>
                <a:lnTo>
                  <a:pt x="79" y="21"/>
                </a:lnTo>
                <a:lnTo>
                  <a:pt x="84" y="21"/>
                </a:lnTo>
                <a:lnTo>
                  <a:pt x="88" y="21"/>
                </a:lnTo>
                <a:lnTo>
                  <a:pt x="93" y="22"/>
                </a:lnTo>
                <a:lnTo>
                  <a:pt x="97" y="23"/>
                </a:lnTo>
                <a:lnTo>
                  <a:pt x="102" y="23"/>
                </a:lnTo>
                <a:lnTo>
                  <a:pt x="0" y="901"/>
                </a:lnTo>
                <a:lnTo>
                  <a:pt x="0" y="925"/>
                </a:lnTo>
                <a:lnTo>
                  <a:pt x="36" y="904"/>
                </a:lnTo>
                <a:lnTo>
                  <a:pt x="33" y="904"/>
                </a:lnTo>
                <a:lnTo>
                  <a:pt x="28" y="904"/>
                </a:lnTo>
                <a:lnTo>
                  <a:pt x="24" y="904"/>
                </a:lnTo>
                <a:lnTo>
                  <a:pt x="19" y="903"/>
                </a:lnTo>
                <a:lnTo>
                  <a:pt x="15" y="903"/>
                </a:lnTo>
                <a:lnTo>
                  <a:pt x="10" y="903"/>
                </a:lnTo>
                <a:lnTo>
                  <a:pt x="5" y="902"/>
                </a:lnTo>
                <a:lnTo>
                  <a:pt x="0" y="901"/>
                </a:lnTo>
                <a:lnTo>
                  <a:pt x="102" y="23"/>
                </a:lnTo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00640" y="4697280"/>
            <a:ext cx="163440" cy="1405080"/>
          </a:xfrm>
          <a:custGeom>
            <a:avLst/>
            <a:gdLst/>
            <a:ahLst/>
            <a:rect l="l" t="t" r="r" b="b"/>
            <a:pathLst>
              <a:path w="103" h="885">
                <a:moveTo>
                  <a:pt x="102" y="3"/>
                </a:moveTo>
                <a:lnTo>
                  <a:pt x="102" y="27"/>
                </a:lnTo>
                <a:lnTo>
                  <a:pt x="97" y="27"/>
                </a:lnTo>
                <a:lnTo>
                  <a:pt x="92" y="26"/>
                </a:lnTo>
                <a:lnTo>
                  <a:pt x="87" y="25"/>
                </a:lnTo>
                <a:lnTo>
                  <a:pt x="82" y="25"/>
                </a:lnTo>
                <a:lnTo>
                  <a:pt x="77" y="24"/>
                </a:lnTo>
                <a:lnTo>
                  <a:pt x="73" y="24"/>
                </a:lnTo>
                <a:lnTo>
                  <a:pt x="67" y="24"/>
                </a:lnTo>
                <a:lnTo>
                  <a:pt x="63" y="23"/>
                </a:lnTo>
                <a:lnTo>
                  <a:pt x="58" y="23"/>
                </a:lnTo>
                <a:lnTo>
                  <a:pt x="53" y="23"/>
                </a:lnTo>
                <a:lnTo>
                  <a:pt x="48" y="23"/>
                </a:lnTo>
                <a:lnTo>
                  <a:pt x="44" y="23"/>
                </a:lnTo>
                <a:lnTo>
                  <a:pt x="38" y="23"/>
                </a:lnTo>
                <a:lnTo>
                  <a:pt x="34" y="24"/>
                </a:lnTo>
                <a:lnTo>
                  <a:pt x="29" y="24"/>
                </a:lnTo>
                <a:lnTo>
                  <a:pt x="24" y="24"/>
                </a:lnTo>
                <a:lnTo>
                  <a:pt x="66" y="0"/>
                </a:lnTo>
                <a:lnTo>
                  <a:pt x="70" y="0"/>
                </a:lnTo>
                <a:lnTo>
                  <a:pt x="75" y="0"/>
                </a:lnTo>
                <a:lnTo>
                  <a:pt x="79" y="1"/>
                </a:lnTo>
                <a:lnTo>
                  <a:pt x="84" y="1"/>
                </a:lnTo>
                <a:lnTo>
                  <a:pt x="88" y="1"/>
                </a:lnTo>
                <a:lnTo>
                  <a:pt x="93" y="2"/>
                </a:lnTo>
                <a:lnTo>
                  <a:pt x="97" y="3"/>
                </a:lnTo>
                <a:lnTo>
                  <a:pt x="102" y="3"/>
                </a:lnTo>
                <a:lnTo>
                  <a:pt x="0" y="881"/>
                </a:lnTo>
                <a:lnTo>
                  <a:pt x="0" y="857"/>
                </a:lnTo>
                <a:lnTo>
                  <a:pt x="5" y="858"/>
                </a:lnTo>
                <a:lnTo>
                  <a:pt x="10" y="859"/>
                </a:lnTo>
                <a:lnTo>
                  <a:pt x="15" y="859"/>
                </a:lnTo>
                <a:lnTo>
                  <a:pt x="20" y="860"/>
                </a:lnTo>
                <a:lnTo>
                  <a:pt x="26" y="860"/>
                </a:lnTo>
                <a:lnTo>
                  <a:pt x="30" y="860"/>
                </a:lnTo>
                <a:lnTo>
                  <a:pt x="36" y="861"/>
                </a:lnTo>
                <a:lnTo>
                  <a:pt x="40" y="861"/>
                </a:lnTo>
                <a:lnTo>
                  <a:pt x="46" y="861"/>
                </a:lnTo>
                <a:lnTo>
                  <a:pt x="50" y="861"/>
                </a:lnTo>
                <a:lnTo>
                  <a:pt x="55" y="861"/>
                </a:lnTo>
                <a:lnTo>
                  <a:pt x="60" y="861"/>
                </a:lnTo>
                <a:lnTo>
                  <a:pt x="65" y="861"/>
                </a:lnTo>
                <a:lnTo>
                  <a:pt x="69" y="861"/>
                </a:lnTo>
                <a:lnTo>
                  <a:pt x="75" y="861"/>
                </a:lnTo>
                <a:lnTo>
                  <a:pt x="79" y="860"/>
                </a:lnTo>
                <a:lnTo>
                  <a:pt x="36" y="884"/>
                </a:lnTo>
                <a:lnTo>
                  <a:pt x="33" y="884"/>
                </a:lnTo>
                <a:lnTo>
                  <a:pt x="28" y="884"/>
                </a:lnTo>
                <a:lnTo>
                  <a:pt x="24" y="884"/>
                </a:lnTo>
                <a:lnTo>
                  <a:pt x="19" y="883"/>
                </a:lnTo>
                <a:lnTo>
                  <a:pt x="15" y="883"/>
                </a:lnTo>
                <a:lnTo>
                  <a:pt x="10" y="883"/>
                </a:lnTo>
                <a:lnTo>
                  <a:pt x="5" y="882"/>
                </a:lnTo>
                <a:lnTo>
                  <a:pt x="0" y="881"/>
                </a:lnTo>
                <a:lnTo>
                  <a:pt x="102" y="3"/>
                </a:lnTo>
              </a:path>
            </a:pathLst>
          </a:custGeom>
          <a:solidFill>
            <a:srgbClr val="9bf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300640" y="4734000"/>
            <a:ext cx="163440" cy="1332000"/>
          </a:xfrm>
          <a:custGeom>
            <a:avLst/>
            <a:gdLst/>
            <a:ahLst/>
            <a:rect l="l" t="t" r="r" b="b"/>
            <a:pathLst>
              <a:path w="103" h="839">
                <a:moveTo>
                  <a:pt x="102" y="4"/>
                </a:moveTo>
                <a:lnTo>
                  <a:pt x="102" y="28"/>
                </a:lnTo>
                <a:lnTo>
                  <a:pt x="96" y="27"/>
                </a:lnTo>
                <a:lnTo>
                  <a:pt x="89" y="26"/>
                </a:lnTo>
                <a:lnTo>
                  <a:pt x="83" y="25"/>
                </a:lnTo>
                <a:lnTo>
                  <a:pt x="77" y="25"/>
                </a:lnTo>
                <a:lnTo>
                  <a:pt x="70" y="25"/>
                </a:lnTo>
                <a:lnTo>
                  <a:pt x="64" y="24"/>
                </a:lnTo>
                <a:lnTo>
                  <a:pt x="57" y="24"/>
                </a:lnTo>
                <a:lnTo>
                  <a:pt x="51" y="24"/>
                </a:lnTo>
                <a:lnTo>
                  <a:pt x="45" y="24"/>
                </a:lnTo>
                <a:lnTo>
                  <a:pt x="38" y="24"/>
                </a:lnTo>
                <a:lnTo>
                  <a:pt x="32" y="25"/>
                </a:lnTo>
                <a:lnTo>
                  <a:pt x="26" y="25"/>
                </a:lnTo>
                <a:lnTo>
                  <a:pt x="19" y="25"/>
                </a:lnTo>
                <a:lnTo>
                  <a:pt x="13" y="26"/>
                </a:lnTo>
                <a:lnTo>
                  <a:pt x="6" y="27"/>
                </a:lnTo>
                <a:lnTo>
                  <a:pt x="0" y="28"/>
                </a:lnTo>
                <a:lnTo>
                  <a:pt x="0" y="15"/>
                </a:lnTo>
                <a:lnTo>
                  <a:pt x="24" y="1"/>
                </a:lnTo>
                <a:lnTo>
                  <a:pt x="29" y="1"/>
                </a:lnTo>
                <a:lnTo>
                  <a:pt x="34" y="1"/>
                </a:lnTo>
                <a:lnTo>
                  <a:pt x="38" y="0"/>
                </a:lnTo>
                <a:lnTo>
                  <a:pt x="44" y="0"/>
                </a:lnTo>
                <a:lnTo>
                  <a:pt x="48" y="0"/>
                </a:lnTo>
                <a:lnTo>
                  <a:pt x="53" y="0"/>
                </a:lnTo>
                <a:lnTo>
                  <a:pt x="58" y="0"/>
                </a:lnTo>
                <a:lnTo>
                  <a:pt x="63" y="0"/>
                </a:lnTo>
                <a:lnTo>
                  <a:pt x="67" y="1"/>
                </a:lnTo>
                <a:lnTo>
                  <a:pt x="73" y="1"/>
                </a:lnTo>
                <a:lnTo>
                  <a:pt x="77" y="1"/>
                </a:lnTo>
                <a:lnTo>
                  <a:pt x="82" y="2"/>
                </a:lnTo>
                <a:lnTo>
                  <a:pt x="87" y="2"/>
                </a:lnTo>
                <a:lnTo>
                  <a:pt x="92" y="3"/>
                </a:lnTo>
                <a:lnTo>
                  <a:pt x="97" y="4"/>
                </a:lnTo>
                <a:lnTo>
                  <a:pt x="102" y="4"/>
                </a:lnTo>
                <a:lnTo>
                  <a:pt x="0" y="834"/>
                </a:lnTo>
                <a:lnTo>
                  <a:pt x="0" y="811"/>
                </a:lnTo>
                <a:lnTo>
                  <a:pt x="6" y="812"/>
                </a:lnTo>
                <a:lnTo>
                  <a:pt x="13" y="812"/>
                </a:lnTo>
                <a:lnTo>
                  <a:pt x="19" y="813"/>
                </a:lnTo>
                <a:lnTo>
                  <a:pt x="26" y="814"/>
                </a:lnTo>
                <a:lnTo>
                  <a:pt x="32" y="814"/>
                </a:lnTo>
                <a:lnTo>
                  <a:pt x="38" y="814"/>
                </a:lnTo>
                <a:lnTo>
                  <a:pt x="45" y="814"/>
                </a:lnTo>
                <a:lnTo>
                  <a:pt x="51" y="814"/>
                </a:lnTo>
                <a:lnTo>
                  <a:pt x="57" y="814"/>
                </a:lnTo>
                <a:lnTo>
                  <a:pt x="64" y="814"/>
                </a:lnTo>
                <a:lnTo>
                  <a:pt x="70" y="814"/>
                </a:lnTo>
                <a:lnTo>
                  <a:pt x="77" y="814"/>
                </a:lnTo>
                <a:lnTo>
                  <a:pt x="83" y="813"/>
                </a:lnTo>
                <a:lnTo>
                  <a:pt x="89" y="812"/>
                </a:lnTo>
                <a:lnTo>
                  <a:pt x="96" y="812"/>
                </a:lnTo>
                <a:lnTo>
                  <a:pt x="102" y="811"/>
                </a:lnTo>
                <a:lnTo>
                  <a:pt x="102" y="824"/>
                </a:lnTo>
                <a:lnTo>
                  <a:pt x="79" y="837"/>
                </a:lnTo>
                <a:lnTo>
                  <a:pt x="75" y="838"/>
                </a:lnTo>
                <a:lnTo>
                  <a:pt x="69" y="838"/>
                </a:lnTo>
                <a:lnTo>
                  <a:pt x="65" y="838"/>
                </a:lnTo>
                <a:lnTo>
                  <a:pt x="60" y="838"/>
                </a:lnTo>
                <a:lnTo>
                  <a:pt x="55" y="838"/>
                </a:lnTo>
                <a:lnTo>
                  <a:pt x="50" y="838"/>
                </a:lnTo>
                <a:lnTo>
                  <a:pt x="46" y="838"/>
                </a:lnTo>
                <a:lnTo>
                  <a:pt x="40" y="838"/>
                </a:lnTo>
                <a:lnTo>
                  <a:pt x="36" y="838"/>
                </a:lnTo>
                <a:lnTo>
                  <a:pt x="30" y="837"/>
                </a:lnTo>
                <a:lnTo>
                  <a:pt x="26" y="837"/>
                </a:lnTo>
                <a:lnTo>
                  <a:pt x="20" y="837"/>
                </a:lnTo>
                <a:lnTo>
                  <a:pt x="15" y="836"/>
                </a:lnTo>
                <a:lnTo>
                  <a:pt x="10" y="836"/>
                </a:lnTo>
                <a:lnTo>
                  <a:pt x="5" y="835"/>
                </a:lnTo>
                <a:lnTo>
                  <a:pt x="0" y="834"/>
                </a:lnTo>
                <a:lnTo>
                  <a:pt x="102" y="4"/>
                </a:lnTo>
              </a:path>
            </a:pathLst>
          </a:custGeom>
          <a:solidFill>
            <a:srgbClr val="9e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300640" y="4772160"/>
            <a:ext cx="163440" cy="1255680"/>
          </a:xfrm>
          <a:custGeom>
            <a:avLst/>
            <a:gdLst/>
            <a:ahLst/>
            <a:rect l="l" t="t" r="r" b="b"/>
            <a:pathLst>
              <a:path w="103" h="791">
                <a:moveTo>
                  <a:pt x="102" y="4"/>
                </a:moveTo>
                <a:lnTo>
                  <a:pt x="102" y="28"/>
                </a:lnTo>
                <a:lnTo>
                  <a:pt x="96" y="27"/>
                </a:lnTo>
                <a:lnTo>
                  <a:pt x="89" y="26"/>
                </a:lnTo>
                <a:lnTo>
                  <a:pt x="83" y="25"/>
                </a:lnTo>
                <a:lnTo>
                  <a:pt x="77" y="24"/>
                </a:lnTo>
                <a:lnTo>
                  <a:pt x="70" y="24"/>
                </a:lnTo>
                <a:lnTo>
                  <a:pt x="64" y="24"/>
                </a:lnTo>
                <a:lnTo>
                  <a:pt x="57" y="23"/>
                </a:lnTo>
                <a:lnTo>
                  <a:pt x="51" y="23"/>
                </a:lnTo>
                <a:lnTo>
                  <a:pt x="45" y="23"/>
                </a:lnTo>
                <a:lnTo>
                  <a:pt x="38" y="24"/>
                </a:lnTo>
                <a:lnTo>
                  <a:pt x="32" y="24"/>
                </a:lnTo>
                <a:lnTo>
                  <a:pt x="26" y="24"/>
                </a:lnTo>
                <a:lnTo>
                  <a:pt x="19" y="25"/>
                </a:lnTo>
                <a:lnTo>
                  <a:pt x="13" y="26"/>
                </a:lnTo>
                <a:lnTo>
                  <a:pt x="6" y="27"/>
                </a:lnTo>
                <a:lnTo>
                  <a:pt x="0" y="28"/>
                </a:lnTo>
                <a:lnTo>
                  <a:pt x="0" y="4"/>
                </a:lnTo>
                <a:lnTo>
                  <a:pt x="6" y="3"/>
                </a:lnTo>
                <a:lnTo>
                  <a:pt x="13" y="2"/>
                </a:lnTo>
                <a:lnTo>
                  <a:pt x="19" y="1"/>
                </a:lnTo>
                <a:lnTo>
                  <a:pt x="26" y="1"/>
                </a:lnTo>
                <a:lnTo>
                  <a:pt x="32" y="1"/>
                </a:lnTo>
                <a:lnTo>
                  <a:pt x="38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0"/>
                </a:lnTo>
                <a:lnTo>
                  <a:pt x="70" y="1"/>
                </a:lnTo>
                <a:lnTo>
                  <a:pt x="77" y="1"/>
                </a:lnTo>
                <a:lnTo>
                  <a:pt x="83" y="1"/>
                </a:lnTo>
                <a:lnTo>
                  <a:pt x="89" y="2"/>
                </a:lnTo>
                <a:lnTo>
                  <a:pt x="96" y="3"/>
                </a:lnTo>
                <a:lnTo>
                  <a:pt x="102" y="4"/>
                </a:lnTo>
                <a:lnTo>
                  <a:pt x="0" y="787"/>
                </a:lnTo>
                <a:lnTo>
                  <a:pt x="0" y="763"/>
                </a:lnTo>
                <a:lnTo>
                  <a:pt x="6" y="764"/>
                </a:lnTo>
                <a:lnTo>
                  <a:pt x="13" y="765"/>
                </a:lnTo>
                <a:lnTo>
                  <a:pt x="19" y="765"/>
                </a:lnTo>
                <a:lnTo>
                  <a:pt x="26" y="766"/>
                </a:lnTo>
                <a:lnTo>
                  <a:pt x="32" y="767"/>
                </a:lnTo>
                <a:lnTo>
                  <a:pt x="38" y="767"/>
                </a:lnTo>
                <a:lnTo>
                  <a:pt x="45" y="767"/>
                </a:lnTo>
                <a:lnTo>
                  <a:pt x="51" y="767"/>
                </a:lnTo>
                <a:lnTo>
                  <a:pt x="57" y="767"/>
                </a:lnTo>
                <a:lnTo>
                  <a:pt x="64" y="767"/>
                </a:lnTo>
                <a:lnTo>
                  <a:pt x="70" y="767"/>
                </a:lnTo>
                <a:lnTo>
                  <a:pt x="77" y="766"/>
                </a:lnTo>
                <a:lnTo>
                  <a:pt x="83" y="765"/>
                </a:lnTo>
                <a:lnTo>
                  <a:pt x="89" y="765"/>
                </a:lnTo>
                <a:lnTo>
                  <a:pt x="96" y="764"/>
                </a:lnTo>
                <a:lnTo>
                  <a:pt x="102" y="763"/>
                </a:lnTo>
                <a:lnTo>
                  <a:pt x="102" y="787"/>
                </a:lnTo>
                <a:lnTo>
                  <a:pt x="96" y="788"/>
                </a:lnTo>
                <a:lnTo>
                  <a:pt x="89" y="788"/>
                </a:lnTo>
                <a:lnTo>
                  <a:pt x="83" y="789"/>
                </a:lnTo>
                <a:lnTo>
                  <a:pt x="77" y="790"/>
                </a:lnTo>
                <a:lnTo>
                  <a:pt x="70" y="790"/>
                </a:lnTo>
                <a:lnTo>
                  <a:pt x="64" y="790"/>
                </a:lnTo>
                <a:lnTo>
                  <a:pt x="57" y="790"/>
                </a:lnTo>
                <a:lnTo>
                  <a:pt x="51" y="790"/>
                </a:lnTo>
                <a:lnTo>
                  <a:pt x="45" y="790"/>
                </a:lnTo>
                <a:lnTo>
                  <a:pt x="38" y="790"/>
                </a:lnTo>
                <a:lnTo>
                  <a:pt x="32" y="790"/>
                </a:lnTo>
                <a:lnTo>
                  <a:pt x="26" y="790"/>
                </a:lnTo>
                <a:lnTo>
                  <a:pt x="19" y="789"/>
                </a:lnTo>
                <a:lnTo>
                  <a:pt x="13" y="788"/>
                </a:lnTo>
                <a:lnTo>
                  <a:pt x="6" y="788"/>
                </a:lnTo>
                <a:lnTo>
                  <a:pt x="0" y="787"/>
                </a:lnTo>
                <a:lnTo>
                  <a:pt x="102" y="4"/>
                </a:lnTo>
              </a:path>
            </a:pathLst>
          </a:custGeom>
          <a:solidFill>
            <a:srgbClr val="a1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300640" y="4808520"/>
            <a:ext cx="163440" cy="1182600"/>
          </a:xfrm>
          <a:custGeom>
            <a:avLst/>
            <a:gdLst/>
            <a:ahLst/>
            <a:rect l="l" t="t" r="r" b="b"/>
            <a:pathLst>
              <a:path w="103" h="745">
                <a:moveTo>
                  <a:pt x="102" y="5"/>
                </a:moveTo>
                <a:lnTo>
                  <a:pt x="102" y="28"/>
                </a:lnTo>
                <a:lnTo>
                  <a:pt x="96" y="27"/>
                </a:lnTo>
                <a:lnTo>
                  <a:pt x="89" y="26"/>
                </a:lnTo>
                <a:lnTo>
                  <a:pt x="83" y="26"/>
                </a:lnTo>
                <a:lnTo>
                  <a:pt x="77" y="25"/>
                </a:lnTo>
                <a:lnTo>
                  <a:pt x="70" y="24"/>
                </a:lnTo>
                <a:lnTo>
                  <a:pt x="64" y="24"/>
                </a:lnTo>
                <a:lnTo>
                  <a:pt x="57" y="24"/>
                </a:lnTo>
                <a:lnTo>
                  <a:pt x="51" y="24"/>
                </a:lnTo>
                <a:lnTo>
                  <a:pt x="45" y="24"/>
                </a:lnTo>
                <a:lnTo>
                  <a:pt x="38" y="24"/>
                </a:lnTo>
                <a:lnTo>
                  <a:pt x="32" y="24"/>
                </a:lnTo>
                <a:lnTo>
                  <a:pt x="26" y="25"/>
                </a:lnTo>
                <a:lnTo>
                  <a:pt x="19" y="26"/>
                </a:lnTo>
                <a:lnTo>
                  <a:pt x="13" y="26"/>
                </a:lnTo>
                <a:lnTo>
                  <a:pt x="6" y="27"/>
                </a:lnTo>
                <a:lnTo>
                  <a:pt x="0" y="28"/>
                </a:lnTo>
                <a:lnTo>
                  <a:pt x="0" y="5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2" y="1"/>
                </a:lnTo>
                <a:lnTo>
                  <a:pt x="38" y="1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1"/>
                </a:lnTo>
                <a:lnTo>
                  <a:pt x="70" y="1"/>
                </a:lnTo>
                <a:lnTo>
                  <a:pt x="77" y="1"/>
                </a:lnTo>
                <a:lnTo>
                  <a:pt x="83" y="2"/>
                </a:lnTo>
                <a:lnTo>
                  <a:pt x="89" y="3"/>
                </a:lnTo>
                <a:lnTo>
                  <a:pt x="96" y="4"/>
                </a:lnTo>
                <a:lnTo>
                  <a:pt x="102" y="5"/>
                </a:lnTo>
                <a:lnTo>
                  <a:pt x="0" y="740"/>
                </a:lnTo>
                <a:lnTo>
                  <a:pt x="0" y="716"/>
                </a:lnTo>
                <a:lnTo>
                  <a:pt x="6" y="717"/>
                </a:lnTo>
                <a:lnTo>
                  <a:pt x="13" y="718"/>
                </a:lnTo>
                <a:lnTo>
                  <a:pt x="19" y="719"/>
                </a:lnTo>
                <a:lnTo>
                  <a:pt x="26" y="720"/>
                </a:lnTo>
                <a:lnTo>
                  <a:pt x="32" y="720"/>
                </a:lnTo>
                <a:lnTo>
                  <a:pt x="38" y="720"/>
                </a:lnTo>
                <a:lnTo>
                  <a:pt x="45" y="721"/>
                </a:lnTo>
                <a:lnTo>
                  <a:pt x="51" y="721"/>
                </a:lnTo>
                <a:lnTo>
                  <a:pt x="57" y="721"/>
                </a:lnTo>
                <a:lnTo>
                  <a:pt x="64" y="720"/>
                </a:lnTo>
                <a:lnTo>
                  <a:pt x="70" y="720"/>
                </a:lnTo>
                <a:lnTo>
                  <a:pt x="77" y="720"/>
                </a:lnTo>
                <a:lnTo>
                  <a:pt x="83" y="719"/>
                </a:lnTo>
                <a:lnTo>
                  <a:pt x="89" y="718"/>
                </a:lnTo>
                <a:lnTo>
                  <a:pt x="96" y="717"/>
                </a:lnTo>
                <a:lnTo>
                  <a:pt x="102" y="716"/>
                </a:lnTo>
                <a:lnTo>
                  <a:pt x="102" y="740"/>
                </a:lnTo>
                <a:lnTo>
                  <a:pt x="96" y="741"/>
                </a:lnTo>
                <a:lnTo>
                  <a:pt x="89" y="742"/>
                </a:lnTo>
                <a:lnTo>
                  <a:pt x="83" y="742"/>
                </a:lnTo>
                <a:lnTo>
                  <a:pt x="77" y="743"/>
                </a:lnTo>
                <a:lnTo>
                  <a:pt x="70" y="744"/>
                </a:lnTo>
                <a:lnTo>
                  <a:pt x="64" y="744"/>
                </a:lnTo>
                <a:lnTo>
                  <a:pt x="57" y="744"/>
                </a:lnTo>
                <a:lnTo>
                  <a:pt x="51" y="744"/>
                </a:lnTo>
                <a:lnTo>
                  <a:pt x="45" y="744"/>
                </a:lnTo>
                <a:lnTo>
                  <a:pt x="38" y="744"/>
                </a:lnTo>
                <a:lnTo>
                  <a:pt x="32" y="744"/>
                </a:lnTo>
                <a:lnTo>
                  <a:pt x="26" y="743"/>
                </a:lnTo>
                <a:lnTo>
                  <a:pt x="19" y="742"/>
                </a:lnTo>
                <a:lnTo>
                  <a:pt x="13" y="742"/>
                </a:lnTo>
                <a:lnTo>
                  <a:pt x="6" y="741"/>
                </a:lnTo>
                <a:lnTo>
                  <a:pt x="0" y="740"/>
                </a:lnTo>
                <a:lnTo>
                  <a:pt x="102" y="5"/>
                </a:lnTo>
              </a:path>
            </a:pathLst>
          </a:custGeom>
          <a:solidFill>
            <a:srgbClr val="a3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00640" y="4846680"/>
            <a:ext cx="163440" cy="1108080"/>
          </a:xfrm>
          <a:custGeom>
            <a:avLst/>
            <a:gdLst/>
            <a:ahLst/>
            <a:rect l="l" t="t" r="r" b="b"/>
            <a:pathLst>
              <a:path w="103" h="698">
                <a:moveTo>
                  <a:pt x="102" y="4"/>
                </a:moveTo>
                <a:lnTo>
                  <a:pt x="102" y="28"/>
                </a:lnTo>
                <a:lnTo>
                  <a:pt x="96" y="27"/>
                </a:lnTo>
                <a:lnTo>
                  <a:pt x="89" y="26"/>
                </a:lnTo>
                <a:lnTo>
                  <a:pt x="83" y="25"/>
                </a:lnTo>
                <a:lnTo>
                  <a:pt x="77" y="25"/>
                </a:lnTo>
                <a:lnTo>
                  <a:pt x="70" y="24"/>
                </a:lnTo>
                <a:lnTo>
                  <a:pt x="64" y="24"/>
                </a:lnTo>
                <a:lnTo>
                  <a:pt x="57" y="23"/>
                </a:lnTo>
                <a:lnTo>
                  <a:pt x="51" y="23"/>
                </a:lnTo>
                <a:lnTo>
                  <a:pt x="45" y="23"/>
                </a:lnTo>
                <a:lnTo>
                  <a:pt x="38" y="24"/>
                </a:lnTo>
                <a:lnTo>
                  <a:pt x="32" y="24"/>
                </a:lnTo>
                <a:lnTo>
                  <a:pt x="26" y="25"/>
                </a:lnTo>
                <a:lnTo>
                  <a:pt x="19" y="25"/>
                </a:lnTo>
                <a:lnTo>
                  <a:pt x="13" y="26"/>
                </a:lnTo>
                <a:lnTo>
                  <a:pt x="6" y="27"/>
                </a:lnTo>
                <a:lnTo>
                  <a:pt x="0" y="28"/>
                </a:lnTo>
                <a:lnTo>
                  <a:pt x="0" y="4"/>
                </a:lnTo>
                <a:lnTo>
                  <a:pt x="6" y="3"/>
                </a:lnTo>
                <a:lnTo>
                  <a:pt x="13" y="2"/>
                </a:lnTo>
                <a:lnTo>
                  <a:pt x="19" y="2"/>
                </a:lnTo>
                <a:lnTo>
                  <a:pt x="26" y="1"/>
                </a:lnTo>
                <a:lnTo>
                  <a:pt x="32" y="0"/>
                </a:lnTo>
                <a:lnTo>
                  <a:pt x="38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0"/>
                </a:lnTo>
                <a:lnTo>
                  <a:pt x="70" y="0"/>
                </a:lnTo>
                <a:lnTo>
                  <a:pt x="77" y="1"/>
                </a:lnTo>
                <a:lnTo>
                  <a:pt x="83" y="2"/>
                </a:lnTo>
                <a:lnTo>
                  <a:pt x="89" y="2"/>
                </a:lnTo>
                <a:lnTo>
                  <a:pt x="96" y="3"/>
                </a:lnTo>
                <a:lnTo>
                  <a:pt x="102" y="4"/>
                </a:lnTo>
                <a:lnTo>
                  <a:pt x="0" y="692"/>
                </a:lnTo>
                <a:lnTo>
                  <a:pt x="0" y="668"/>
                </a:lnTo>
                <a:lnTo>
                  <a:pt x="6" y="669"/>
                </a:lnTo>
                <a:lnTo>
                  <a:pt x="13" y="670"/>
                </a:lnTo>
                <a:lnTo>
                  <a:pt x="19" y="671"/>
                </a:lnTo>
                <a:lnTo>
                  <a:pt x="26" y="672"/>
                </a:lnTo>
                <a:lnTo>
                  <a:pt x="32" y="672"/>
                </a:lnTo>
                <a:lnTo>
                  <a:pt x="38" y="673"/>
                </a:lnTo>
                <a:lnTo>
                  <a:pt x="45" y="673"/>
                </a:lnTo>
                <a:lnTo>
                  <a:pt x="51" y="673"/>
                </a:lnTo>
                <a:lnTo>
                  <a:pt x="57" y="673"/>
                </a:lnTo>
                <a:lnTo>
                  <a:pt x="64" y="673"/>
                </a:lnTo>
                <a:lnTo>
                  <a:pt x="70" y="672"/>
                </a:lnTo>
                <a:lnTo>
                  <a:pt x="77" y="672"/>
                </a:lnTo>
                <a:lnTo>
                  <a:pt x="83" y="671"/>
                </a:lnTo>
                <a:lnTo>
                  <a:pt x="89" y="670"/>
                </a:lnTo>
                <a:lnTo>
                  <a:pt x="96" y="669"/>
                </a:lnTo>
                <a:lnTo>
                  <a:pt x="102" y="668"/>
                </a:lnTo>
                <a:lnTo>
                  <a:pt x="102" y="692"/>
                </a:lnTo>
                <a:lnTo>
                  <a:pt x="96" y="693"/>
                </a:lnTo>
                <a:lnTo>
                  <a:pt x="89" y="694"/>
                </a:lnTo>
                <a:lnTo>
                  <a:pt x="83" y="695"/>
                </a:lnTo>
                <a:lnTo>
                  <a:pt x="77" y="696"/>
                </a:lnTo>
                <a:lnTo>
                  <a:pt x="70" y="696"/>
                </a:lnTo>
                <a:lnTo>
                  <a:pt x="64" y="696"/>
                </a:lnTo>
                <a:lnTo>
                  <a:pt x="57" y="697"/>
                </a:lnTo>
                <a:lnTo>
                  <a:pt x="51" y="697"/>
                </a:lnTo>
                <a:lnTo>
                  <a:pt x="45" y="697"/>
                </a:lnTo>
                <a:lnTo>
                  <a:pt x="38" y="696"/>
                </a:lnTo>
                <a:lnTo>
                  <a:pt x="32" y="696"/>
                </a:lnTo>
                <a:lnTo>
                  <a:pt x="26" y="696"/>
                </a:lnTo>
                <a:lnTo>
                  <a:pt x="19" y="695"/>
                </a:lnTo>
                <a:lnTo>
                  <a:pt x="13" y="694"/>
                </a:lnTo>
                <a:lnTo>
                  <a:pt x="6" y="693"/>
                </a:lnTo>
                <a:lnTo>
                  <a:pt x="0" y="692"/>
                </a:lnTo>
                <a:lnTo>
                  <a:pt x="102" y="4"/>
                </a:lnTo>
              </a:path>
            </a:pathLst>
          </a:custGeom>
          <a:solidFill>
            <a:srgbClr val="a6ff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300640" y="4883040"/>
            <a:ext cx="163440" cy="1033560"/>
          </a:xfrm>
          <a:custGeom>
            <a:avLst/>
            <a:gdLst/>
            <a:ahLst/>
            <a:rect l="l" t="t" r="r" b="b"/>
            <a:pathLst>
              <a:path w="103" h="651">
                <a:moveTo>
                  <a:pt x="102" y="5"/>
                </a:moveTo>
                <a:lnTo>
                  <a:pt x="102" y="29"/>
                </a:lnTo>
                <a:lnTo>
                  <a:pt x="96" y="28"/>
                </a:lnTo>
                <a:lnTo>
                  <a:pt x="89" y="27"/>
                </a:lnTo>
                <a:lnTo>
                  <a:pt x="83" y="26"/>
                </a:lnTo>
                <a:lnTo>
                  <a:pt x="77" y="26"/>
                </a:lnTo>
                <a:lnTo>
                  <a:pt x="70" y="25"/>
                </a:lnTo>
                <a:lnTo>
                  <a:pt x="64" y="25"/>
                </a:lnTo>
                <a:lnTo>
                  <a:pt x="57" y="24"/>
                </a:lnTo>
                <a:lnTo>
                  <a:pt x="51" y="24"/>
                </a:lnTo>
                <a:lnTo>
                  <a:pt x="45" y="24"/>
                </a:lnTo>
                <a:lnTo>
                  <a:pt x="38" y="25"/>
                </a:lnTo>
                <a:lnTo>
                  <a:pt x="32" y="25"/>
                </a:lnTo>
                <a:lnTo>
                  <a:pt x="26" y="26"/>
                </a:lnTo>
                <a:lnTo>
                  <a:pt x="19" y="26"/>
                </a:lnTo>
                <a:lnTo>
                  <a:pt x="13" y="27"/>
                </a:lnTo>
                <a:lnTo>
                  <a:pt x="6" y="28"/>
                </a:lnTo>
                <a:lnTo>
                  <a:pt x="0" y="29"/>
                </a:lnTo>
                <a:lnTo>
                  <a:pt x="0" y="5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2"/>
                </a:lnTo>
                <a:lnTo>
                  <a:pt x="32" y="1"/>
                </a:lnTo>
                <a:lnTo>
                  <a:pt x="38" y="1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1"/>
                </a:lnTo>
                <a:lnTo>
                  <a:pt x="70" y="1"/>
                </a:lnTo>
                <a:lnTo>
                  <a:pt x="77" y="2"/>
                </a:lnTo>
                <a:lnTo>
                  <a:pt x="83" y="2"/>
                </a:lnTo>
                <a:lnTo>
                  <a:pt x="89" y="3"/>
                </a:lnTo>
                <a:lnTo>
                  <a:pt x="96" y="4"/>
                </a:lnTo>
                <a:lnTo>
                  <a:pt x="102" y="5"/>
                </a:lnTo>
                <a:lnTo>
                  <a:pt x="0" y="645"/>
                </a:lnTo>
                <a:lnTo>
                  <a:pt x="0" y="621"/>
                </a:lnTo>
                <a:lnTo>
                  <a:pt x="6" y="622"/>
                </a:lnTo>
                <a:lnTo>
                  <a:pt x="13" y="623"/>
                </a:lnTo>
                <a:lnTo>
                  <a:pt x="19" y="624"/>
                </a:lnTo>
                <a:lnTo>
                  <a:pt x="26" y="625"/>
                </a:lnTo>
                <a:lnTo>
                  <a:pt x="32" y="625"/>
                </a:lnTo>
                <a:lnTo>
                  <a:pt x="38" y="626"/>
                </a:lnTo>
                <a:lnTo>
                  <a:pt x="45" y="626"/>
                </a:lnTo>
                <a:lnTo>
                  <a:pt x="51" y="626"/>
                </a:lnTo>
                <a:lnTo>
                  <a:pt x="57" y="626"/>
                </a:lnTo>
                <a:lnTo>
                  <a:pt x="64" y="626"/>
                </a:lnTo>
                <a:lnTo>
                  <a:pt x="70" y="625"/>
                </a:lnTo>
                <a:lnTo>
                  <a:pt x="77" y="625"/>
                </a:lnTo>
                <a:lnTo>
                  <a:pt x="83" y="624"/>
                </a:lnTo>
                <a:lnTo>
                  <a:pt x="89" y="623"/>
                </a:lnTo>
                <a:lnTo>
                  <a:pt x="96" y="622"/>
                </a:lnTo>
                <a:lnTo>
                  <a:pt x="102" y="621"/>
                </a:lnTo>
                <a:lnTo>
                  <a:pt x="102" y="645"/>
                </a:lnTo>
                <a:lnTo>
                  <a:pt x="96" y="646"/>
                </a:lnTo>
                <a:lnTo>
                  <a:pt x="89" y="647"/>
                </a:lnTo>
                <a:lnTo>
                  <a:pt x="83" y="648"/>
                </a:lnTo>
                <a:lnTo>
                  <a:pt x="77" y="649"/>
                </a:lnTo>
                <a:lnTo>
                  <a:pt x="70" y="649"/>
                </a:lnTo>
                <a:lnTo>
                  <a:pt x="64" y="650"/>
                </a:lnTo>
                <a:lnTo>
                  <a:pt x="57" y="650"/>
                </a:lnTo>
                <a:lnTo>
                  <a:pt x="51" y="650"/>
                </a:lnTo>
                <a:lnTo>
                  <a:pt x="45" y="650"/>
                </a:lnTo>
                <a:lnTo>
                  <a:pt x="38" y="650"/>
                </a:lnTo>
                <a:lnTo>
                  <a:pt x="32" y="649"/>
                </a:lnTo>
                <a:lnTo>
                  <a:pt x="26" y="649"/>
                </a:lnTo>
                <a:lnTo>
                  <a:pt x="19" y="648"/>
                </a:lnTo>
                <a:lnTo>
                  <a:pt x="13" y="647"/>
                </a:lnTo>
                <a:lnTo>
                  <a:pt x="6" y="646"/>
                </a:lnTo>
                <a:lnTo>
                  <a:pt x="0" y="645"/>
                </a:lnTo>
                <a:lnTo>
                  <a:pt x="102" y="5"/>
                </a:lnTo>
              </a:path>
            </a:pathLst>
          </a:custGeom>
          <a:solidFill>
            <a:srgbClr val="a9f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00640" y="4921200"/>
            <a:ext cx="163440" cy="957240"/>
          </a:xfrm>
          <a:custGeom>
            <a:avLst/>
            <a:gdLst/>
            <a:ahLst/>
            <a:rect l="l" t="t" r="r" b="b"/>
            <a:pathLst>
              <a:path w="103" h="603">
                <a:moveTo>
                  <a:pt x="102" y="5"/>
                </a:moveTo>
                <a:lnTo>
                  <a:pt x="102" y="29"/>
                </a:lnTo>
                <a:lnTo>
                  <a:pt x="96" y="28"/>
                </a:lnTo>
                <a:lnTo>
                  <a:pt x="89" y="27"/>
                </a:lnTo>
                <a:lnTo>
                  <a:pt x="83" y="26"/>
                </a:lnTo>
                <a:lnTo>
                  <a:pt x="77" y="25"/>
                </a:lnTo>
                <a:lnTo>
                  <a:pt x="70" y="25"/>
                </a:lnTo>
                <a:lnTo>
                  <a:pt x="64" y="24"/>
                </a:lnTo>
                <a:lnTo>
                  <a:pt x="57" y="24"/>
                </a:lnTo>
                <a:lnTo>
                  <a:pt x="51" y="24"/>
                </a:lnTo>
                <a:lnTo>
                  <a:pt x="45" y="24"/>
                </a:lnTo>
                <a:lnTo>
                  <a:pt x="38" y="24"/>
                </a:lnTo>
                <a:lnTo>
                  <a:pt x="32" y="25"/>
                </a:lnTo>
                <a:lnTo>
                  <a:pt x="26" y="25"/>
                </a:lnTo>
                <a:lnTo>
                  <a:pt x="19" y="26"/>
                </a:lnTo>
                <a:lnTo>
                  <a:pt x="13" y="27"/>
                </a:lnTo>
                <a:lnTo>
                  <a:pt x="6" y="28"/>
                </a:lnTo>
                <a:lnTo>
                  <a:pt x="0" y="29"/>
                </a:lnTo>
                <a:lnTo>
                  <a:pt x="0" y="5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2"/>
                </a:lnTo>
                <a:lnTo>
                  <a:pt x="32" y="1"/>
                </a:lnTo>
                <a:lnTo>
                  <a:pt x="38" y="1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1"/>
                </a:lnTo>
                <a:lnTo>
                  <a:pt x="70" y="1"/>
                </a:lnTo>
                <a:lnTo>
                  <a:pt x="77" y="2"/>
                </a:lnTo>
                <a:lnTo>
                  <a:pt x="83" y="2"/>
                </a:lnTo>
                <a:lnTo>
                  <a:pt x="89" y="3"/>
                </a:lnTo>
                <a:lnTo>
                  <a:pt x="96" y="4"/>
                </a:lnTo>
                <a:lnTo>
                  <a:pt x="102" y="5"/>
                </a:lnTo>
                <a:lnTo>
                  <a:pt x="0" y="597"/>
                </a:lnTo>
                <a:lnTo>
                  <a:pt x="0" y="573"/>
                </a:lnTo>
                <a:lnTo>
                  <a:pt x="6" y="574"/>
                </a:lnTo>
                <a:lnTo>
                  <a:pt x="13" y="576"/>
                </a:lnTo>
                <a:lnTo>
                  <a:pt x="19" y="576"/>
                </a:lnTo>
                <a:lnTo>
                  <a:pt x="26" y="577"/>
                </a:lnTo>
                <a:lnTo>
                  <a:pt x="32" y="578"/>
                </a:lnTo>
                <a:lnTo>
                  <a:pt x="38" y="578"/>
                </a:lnTo>
                <a:lnTo>
                  <a:pt x="45" y="578"/>
                </a:lnTo>
                <a:lnTo>
                  <a:pt x="51" y="578"/>
                </a:lnTo>
                <a:lnTo>
                  <a:pt x="57" y="578"/>
                </a:lnTo>
                <a:lnTo>
                  <a:pt x="64" y="578"/>
                </a:lnTo>
                <a:lnTo>
                  <a:pt x="70" y="578"/>
                </a:lnTo>
                <a:lnTo>
                  <a:pt x="77" y="577"/>
                </a:lnTo>
                <a:lnTo>
                  <a:pt x="83" y="576"/>
                </a:lnTo>
                <a:lnTo>
                  <a:pt x="89" y="576"/>
                </a:lnTo>
                <a:lnTo>
                  <a:pt x="96" y="574"/>
                </a:lnTo>
                <a:lnTo>
                  <a:pt x="102" y="573"/>
                </a:lnTo>
                <a:lnTo>
                  <a:pt x="102" y="597"/>
                </a:lnTo>
                <a:lnTo>
                  <a:pt x="96" y="598"/>
                </a:lnTo>
                <a:lnTo>
                  <a:pt x="89" y="599"/>
                </a:lnTo>
                <a:lnTo>
                  <a:pt x="83" y="600"/>
                </a:lnTo>
                <a:lnTo>
                  <a:pt x="77" y="601"/>
                </a:lnTo>
                <a:lnTo>
                  <a:pt x="70" y="601"/>
                </a:lnTo>
                <a:lnTo>
                  <a:pt x="64" y="602"/>
                </a:lnTo>
                <a:lnTo>
                  <a:pt x="57" y="602"/>
                </a:lnTo>
                <a:lnTo>
                  <a:pt x="51" y="602"/>
                </a:lnTo>
                <a:lnTo>
                  <a:pt x="45" y="602"/>
                </a:lnTo>
                <a:lnTo>
                  <a:pt x="38" y="602"/>
                </a:lnTo>
                <a:lnTo>
                  <a:pt x="32" y="601"/>
                </a:lnTo>
                <a:lnTo>
                  <a:pt x="26" y="601"/>
                </a:lnTo>
                <a:lnTo>
                  <a:pt x="19" y="600"/>
                </a:lnTo>
                <a:lnTo>
                  <a:pt x="13" y="599"/>
                </a:lnTo>
                <a:lnTo>
                  <a:pt x="6" y="598"/>
                </a:lnTo>
                <a:lnTo>
                  <a:pt x="0" y="597"/>
                </a:lnTo>
                <a:lnTo>
                  <a:pt x="102" y="5"/>
                </a:lnTo>
              </a:path>
            </a:pathLst>
          </a:custGeom>
          <a:solidFill>
            <a:srgbClr val="ab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300640" y="4959360"/>
            <a:ext cx="163440" cy="880920"/>
          </a:xfrm>
          <a:custGeom>
            <a:avLst/>
            <a:gdLst/>
            <a:ahLst/>
            <a:rect l="l" t="t" r="r" b="b"/>
            <a:pathLst>
              <a:path w="103" h="555">
                <a:moveTo>
                  <a:pt x="102" y="5"/>
                </a:moveTo>
                <a:lnTo>
                  <a:pt x="102" y="29"/>
                </a:lnTo>
                <a:lnTo>
                  <a:pt x="96" y="28"/>
                </a:lnTo>
                <a:lnTo>
                  <a:pt x="89" y="27"/>
                </a:lnTo>
                <a:lnTo>
                  <a:pt x="83" y="26"/>
                </a:lnTo>
                <a:lnTo>
                  <a:pt x="77" y="25"/>
                </a:lnTo>
                <a:lnTo>
                  <a:pt x="70" y="24"/>
                </a:lnTo>
                <a:lnTo>
                  <a:pt x="64" y="24"/>
                </a:lnTo>
                <a:lnTo>
                  <a:pt x="57" y="23"/>
                </a:lnTo>
                <a:lnTo>
                  <a:pt x="51" y="23"/>
                </a:lnTo>
                <a:lnTo>
                  <a:pt x="45" y="23"/>
                </a:lnTo>
                <a:lnTo>
                  <a:pt x="38" y="24"/>
                </a:lnTo>
                <a:lnTo>
                  <a:pt x="32" y="24"/>
                </a:lnTo>
                <a:lnTo>
                  <a:pt x="26" y="25"/>
                </a:lnTo>
                <a:lnTo>
                  <a:pt x="19" y="26"/>
                </a:lnTo>
                <a:lnTo>
                  <a:pt x="13" y="27"/>
                </a:lnTo>
                <a:lnTo>
                  <a:pt x="6" y="28"/>
                </a:lnTo>
                <a:lnTo>
                  <a:pt x="0" y="29"/>
                </a:lnTo>
                <a:lnTo>
                  <a:pt x="0" y="5"/>
                </a:lnTo>
                <a:lnTo>
                  <a:pt x="6" y="4"/>
                </a:lnTo>
                <a:lnTo>
                  <a:pt x="13" y="3"/>
                </a:lnTo>
                <a:lnTo>
                  <a:pt x="19" y="2"/>
                </a:lnTo>
                <a:lnTo>
                  <a:pt x="26" y="1"/>
                </a:lnTo>
                <a:lnTo>
                  <a:pt x="32" y="1"/>
                </a:lnTo>
                <a:lnTo>
                  <a:pt x="38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0"/>
                </a:lnTo>
                <a:lnTo>
                  <a:pt x="70" y="1"/>
                </a:lnTo>
                <a:lnTo>
                  <a:pt x="77" y="1"/>
                </a:lnTo>
                <a:lnTo>
                  <a:pt x="83" y="2"/>
                </a:lnTo>
                <a:lnTo>
                  <a:pt x="89" y="3"/>
                </a:lnTo>
                <a:lnTo>
                  <a:pt x="96" y="4"/>
                </a:lnTo>
                <a:lnTo>
                  <a:pt x="102" y="5"/>
                </a:lnTo>
                <a:lnTo>
                  <a:pt x="0" y="549"/>
                </a:lnTo>
                <a:lnTo>
                  <a:pt x="0" y="526"/>
                </a:lnTo>
                <a:lnTo>
                  <a:pt x="6" y="526"/>
                </a:lnTo>
                <a:lnTo>
                  <a:pt x="13" y="528"/>
                </a:lnTo>
                <a:lnTo>
                  <a:pt x="19" y="529"/>
                </a:lnTo>
                <a:lnTo>
                  <a:pt x="26" y="530"/>
                </a:lnTo>
                <a:lnTo>
                  <a:pt x="32" y="530"/>
                </a:lnTo>
                <a:lnTo>
                  <a:pt x="38" y="531"/>
                </a:lnTo>
                <a:lnTo>
                  <a:pt x="45" y="531"/>
                </a:lnTo>
                <a:lnTo>
                  <a:pt x="51" y="531"/>
                </a:lnTo>
                <a:lnTo>
                  <a:pt x="57" y="531"/>
                </a:lnTo>
                <a:lnTo>
                  <a:pt x="64" y="531"/>
                </a:lnTo>
                <a:lnTo>
                  <a:pt x="70" y="530"/>
                </a:lnTo>
                <a:lnTo>
                  <a:pt x="77" y="530"/>
                </a:lnTo>
                <a:lnTo>
                  <a:pt x="83" y="529"/>
                </a:lnTo>
                <a:lnTo>
                  <a:pt x="89" y="528"/>
                </a:lnTo>
                <a:lnTo>
                  <a:pt x="96" y="526"/>
                </a:lnTo>
                <a:lnTo>
                  <a:pt x="102" y="526"/>
                </a:lnTo>
                <a:lnTo>
                  <a:pt x="102" y="549"/>
                </a:lnTo>
                <a:lnTo>
                  <a:pt x="96" y="550"/>
                </a:lnTo>
                <a:lnTo>
                  <a:pt x="89" y="552"/>
                </a:lnTo>
                <a:lnTo>
                  <a:pt x="83" y="552"/>
                </a:lnTo>
                <a:lnTo>
                  <a:pt x="77" y="553"/>
                </a:lnTo>
                <a:lnTo>
                  <a:pt x="70" y="554"/>
                </a:lnTo>
                <a:lnTo>
                  <a:pt x="64" y="554"/>
                </a:lnTo>
                <a:lnTo>
                  <a:pt x="57" y="554"/>
                </a:lnTo>
                <a:lnTo>
                  <a:pt x="51" y="554"/>
                </a:lnTo>
                <a:lnTo>
                  <a:pt x="45" y="554"/>
                </a:lnTo>
                <a:lnTo>
                  <a:pt x="38" y="554"/>
                </a:lnTo>
                <a:lnTo>
                  <a:pt x="32" y="554"/>
                </a:lnTo>
                <a:lnTo>
                  <a:pt x="26" y="553"/>
                </a:lnTo>
                <a:lnTo>
                  <a:pt x="19" y="552"/>
                </a:lnTo>
                <a:lnTo>
                  <a:pt x="13" y="552"/>
                </a:lnTo>
                <a:lnTo>
                  <a:pt x="6" y="550"/>
                </a:lnTo>
                <a:lnTo>
                  <a:pt x="0" y="549"/>
                </a:lnTo>
                <a:lnTo>
                  <a:pt x="102" y="5"/>
                </a:lnTo>
              </a:path>
            </a:pathLst>
          </a:custGeom>
          <a:solidFill>
            <a:srgbClr val="aeff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00640" y="4995720"/>
            <a:ext cx="163440" cy="808200"/>
          </a:xfrm>
          <a:custGeom>
            <a:avLst/>
            <a:gdLst/>
            <a:ahLst/>
            <a:rect l="l" t="t" r="r" b="b"/>
            <a:pathLst>
              <a:path w="103" h="509">
                <a:moveTo>
                  <a:pt x="102" y="7"/>
                </a:moveTo>
                <a:lnTo>
                  <a:pt x="102" y="30"/>
                </a:lnTo>
                <a:lnTo>
                  <a:pt x="96" y="28"/>
                </a:lnTo>
                <a:lnTo>
                  <a:pt x="89" y="27"/>
                </a:lnTo>
                <a:lnTo>
                  <a:pt x="83" y="26"/>
                </a:lnTo>
                <a:lnTo>
                  <a:pt x="77" y="25"/>
                </a:lnTo>
                <a:lnTo>
                  <a:pt x="70" y="25"/>
                </a:lnTo>
                <a:lnTo>
                  <a:pt x="64" y="24"/>
                </a:lnTo>
                <a:lnTo>
                  <a:pt x="57" y="24"/>
                </a:lnTo>
                <a:lnTo>
                  <a:pt x="51" y="24"/>
                </a:lnTo>
                <a:lnTo>
                  <a:pt x="45" y="24"/>
                </a:lnTo>
                <a:lnTo>
                  <a:pt x="38" y="24"/>
                </a:lnTo>
                <a:lnTo>
                  <a:pt x="32" y="25"/>
                </a:lnTo>
                <a:lnTo>
                  <a:pt x="26" y="25"/>
                </a:lnTo>
                <a:lnTo>
                  <a:pt x="19" y="26"/>
                </a:lnTo>
                <a:lnTo>
                  <a:pt x="13" y="27"/>
                </a:lnTo>
                <a:lnTo>
                  <a:pt x="6" y="28"/>
                </a:lnTo>
                <a:lnTo>
                  <a:pt x="0" y="30"/>
                </a:lnTo>
                <a:lnTo>
                  <a:pt x="0" y="7"/>
                </a:lnTo>
                <a:lnTo>
                  <a:pt x="6" y="5"/>
                </a:lnTo>
                <a:lnTo>
                  <a:pt x="13" y="4"/>
                </a:lnTo>
                <a:lnTo>
                  <a:pt x="19" y="3"/>
                </a:lnTo>
                <a:lnTo>
                  <a:pt x="26" y="2"/>
                </a:lnTo>
                <a:lnTo>
                  <a:pt x="32" y="1"/>
                </a:lnTo>
                <a:lnTo>
                  <a:pt x="38" y="1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1"/>
                </a:lnTo>
                <a:lnTo>
                  <a:pt x="70" y="1"/>
                </a:lnTo>
                <a:lnTo>
                  <a:pt x="77" y="2"/>
                </a:lnTo>
                <a:lnTo>
                  <a:pt x="83" y="3"/>
                </a:lnTo>
                <a:lnTo>
                  <a:pt x="89" y="4"/>
                </a:lnTo>
                <a:lnTo>
                  <a:pt x="96" y="5"/>
                </a:lnTo>
                <a:lnTo>
                  <a:pt x="102" y="7"/>
                </a:lnTo>
                <a:lnTo>
                  <a:pt x="0" y="502"/>
                </a:lnTo>
                <a:lnTo>
                  <a:pt x="0" y="479"/>
                </a:lnTo>
                <a:lnTo>
                  <a:pt x="6" y="480"/>
                </a:lnTo>
                <a:lnTo>
                  <a:pt x="13" y="482"/>
                </a:lnTo>
                <a:lnTo>
                  <a:pt x="19" y="483"/>
                </a:lnTo>
                <a:lnTo>
                  <a:pt x="26" y="483"/>
                </a:lnTo>
                <a:lnTo>
                  <a:pt x="32" y="484"/>
                </a:lnTo>
                <a:lnTo>
                  <a:pt x="38" y="484"/>
                </a:lnTo>
                <a:lnTo>
                  <a:pt x="45" y="484"/>
                </a:lnTo>
                <a:lnTo>
                  <a:pt x="51" y="484"/>
                </a:lnTo>
                <a:lnTo>
                  <a:pt x="57" y="484"/>
                </a:lnTo>
                <a:lnTo>
                  <a:pt x="64" y="484"/>
                </a:lnTo>
                <a:lnTo>
                  <a:pt x="70" y="484"/>
                </a:lnTo>
                <a:lnTo>
                  <a:pt x="77" y="483"/>
                </a:lnTo>
                <a:lnTo>
                  <a:pt x="83" y="483"/>
                </a:lnTo>
                <a:lnTo>
                  <a:pt x="89" y="482"/>
                </a:lnTo>
                <a:lnTo>
                  <a:pt x="96" y="480"/>
                </a:lnTo>
                <a:lnTo>
                  <a:pt x="102" y="479"/>
                </a:lnTo>
                <a:lnTo>
                  <a:pt x="102" y="502"/>
                </a:lnTo>
                <a:lnTo>
                  <a:pt x="96" y="503"/>
                </a:lnTo>
                <a:lnTo>
                  <a:pt x="89" y="505"/>
                </a:lnTo>
                <a:lnTo>
                  <a:pt x="83" y="506"/>
                </a:lnTo>
                <a:lnTo>
                  <a:pt x="77" y="507"/>
                </a:lnTo>
                <a:lnTo>
                  <a:pt x="70" y="507"/>
                </a:lnTo>
                <a:lnTo>
                  <a:pt x="64" y="508"/>
                </a:lnTo>
                <a:lnTo>
                  <a:pt x="57" y="508"/>
                </a:lnTo>
                <a:lnTo>
                  <a:pt x="51" y="508"/>
                </a:lnTo>
                <a:lnTo>
                  <a:pt x="45" y="508"/>
                </a:lnTo>
                <a:lnTo>
                  <a:pt x="38" y="508"/>
                </a:lnTo>
                <a:lnTo>
                  <a:pt x="32" y="507"/>
                </a:lnTo>
                <a:lnTo>
                  <a:pt x="26" y="507"/>
                </a:lnTo>
                <a:lnTo>
                  <a:pt x="19" y="506"/>
                </a:lnTo>
                <a:lnTo>
                  <a:pt x="13" y="505"/>
                </a:lnTo>
                <a:lnTo>
                  <a:pt x="6" y="503"/>
                </a:lnTo>
                <a:lnTo>
                  <a:pt x="0" y="502"/>
                </a:lnTo>
                <a:lnTo>
                  <a:pt x="102" y="7"/>
                </a:lnTo>
              </a:path>
            </a:pathLst>
          </a:custGeom>
          <a:solidFill>
            <a:srgbClr val="b1ff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00640" y="5033880"/>
            <a:ext cx="163440" cy="731880"/>
          </a:xfrm>
          <a:custGeom>
            <a:avLst/>
            <a:gdLst/>
            <a:ahLst/>
            <a:rect l="l" t="t" r="r" b="b"/>
            <a:pathLst>
              <a:path w="103" h="461">
                <a:moveTo>
                  <a:pt x="102" y="7"/>
                </a:moveTo>
                <a:lnTo>
                  <a:pt x="102" y="30"/>
                </a:lnTo>
                <a:lnTo>
                  <a:pt x="96" y="28"/>
                </a:lnTo>
                <a:lnTo>
                  <a:pt x="89" y="27"/>
                </a:lnTo>
                <a:lnTo>
                  <a:pt x="83" y="25"/>
                </a:lnTo>
                <a:lnTo>
                  <a:pt x="77" y="24"/>
                </a:lnTo>
                <a:lnTo>
                  <a:pt x="70" y="23"/>
                </a:lnTo>
                <a:lnTo>
                  <a:pt x="64" y="23"/>
                </a:lnTo>
                <a:lnTo>
                  <a:pt x="57" y="23"/>
                </a:lnTo>
                <a:lnTo>
                  <a:pt x="51" y="23"/>
                </a:lnTo>
                <a:lnTo>
                  <a:pt x="45" y="23"/>
                </a:lnTo>
                <a:lnTo>
                  <a:pt x="38" y="23"/>
                </a:lnTo>
                <a:lnTo>
                  <a:pt x="32" y="23"/>
                </a:lnTo>
                <a:lnTo>
                  <a:pt x="26" y="24"/>
                </a:lnTo>
                <a:lnTo>
                  <a:pt x="19" y="25"/>
                </a:lnTo>
                <a:lnTo>
                  <a:pt x="13" y="27"/>
                </a:lnTo>
                <a:lnTo>
                  <a:pt x="6" y="28"/>
                </a:lnTo>
                <a:lnTo>
                  <a:pt x="0" y="30"/>
                </a:lnTo>
                <a:lnTo>
                  <a:pt x="0" y="7"/>
                </a:lnTo>
                <a:lnTo>
                  <a:pt x="6" y="5"/>
                </a:lnTo>
                <a:lnTo>
                  <a:pt x="13" y="4"/>
                </a:lnTo>
                <a:lnTo>
                  <a:pt x="19" y="3"/>
                </a:lnTo>
                <a:lnTo>
                  <a:pt x="26" y="2"/>
                </a:lnTo>
                <a:lnTo>
                  <a:pt x="32" y="1"/>
                </a:lnTo>
                <a:lnTo>
                  <a:pt x="38" y="0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0"/>
                </a:lnTo>
                <a:lnTo>
                  <a:pt x="70" y="1"/>
                </a:lnTo>
                <a:lnTo>
                  <a:pt x="77" y="2"/>
                </a:lnTo>
                <a:lnTo>
                  <a:pt x="83" y="3"/>
                </a:lnTo>
                <a:lnTo>
                  <a:pt x="89" y="4"/>
                </a:lnTo>
                <a:lnTo>
                  <a:pt x="96" y="5"/>
                </a:lnTo>
                <a:lnTo>
                  <a:pt x="102" y="7"/>
                </a:lnTo>
                <a:lnTo>
                  <a:pt x="0" y="454"/>
                </a:lnTo>
                <a:lnTo>
                  <a:pt x="0" y="430"/>
                </a:lnTo>
                <a:lnTo>
                  <a:pt x="6" y="432"/>
                </a:lnTo>
                <a:lnTo>
                  <a:pt x="13" y="434"/>
                </a:lnTo>
                <a:lnTo>
                  <a:pt x="19" y="435"/>
                </a:lnTo>
                <a:lnTo>
                  <a:pt x="26" y="436"/>
                </a:lnTo>
                <a:lnTo>
                  <a:pt x="32" y="437"/>
                </a:lnTo>
                <a:lnTo>
                  <a:pt x="38" y="437"/>
                </a:lnTo>
                <a:lnTo>
                  <a:pt x="45" y="437"/>
                </a:lnTo>
                <a:lnTo>
                  <a:pt x="51" y="437"/>
                </a:lnTo>
                <a:lnTo>
                  <a:pt x="57" y="437"/>
                </a:lnTo>
                <a:lnTo>
                  <a:pt x="64" y="437"/>
                </a:lnTo>
                <a:lnTo>
                  <a:pt x="70" y="437"/>
                </a:lnTo>
                <a:lnTo>
                  <a:pt x="77" y="436"/>
                </a:lnTo>
                <a:lnTo>
                  <a:pt x="83" y="435"/>
                </a:lnTo>
                <a:lnTo>
                  <a:pt x="89" y="434"/>
                </a:lnTo>
                <a:lnTo>
                  <a:pt x="96" y="432"/>
                </a:lnTo>
                <a:lnTo>
                  <a:pt x="102" y="430"/>
                </a:lnTo>
                <a:lnTo>
                  <a:pt x="102" y="454"/>
                </a:lnTo>
                <a:lnTo>
                  <a:pt x="96" y="455"/>
                </a:lnTo>
                <a:lnTo>
                  <a:pt x="89" y="457"/>
                </a:lnTo>
                <a:lnTo>
                  <a:pt x="83" y="458"/>
                </a:lnTo>
                <a:lnTo>
                  <a:pt x="77" y="459"/>
                </a:lnTo>
                <a:lnTo>
                  <a:pt x="70" y="460"/>
                </a:lnTo>
                <a:lnTo>
                  <a:pt x="64" y="460"/>
                </a:lnTo>
                <a:lnTo>
                  <a:pt x="57" y="460"/>
                </a:lnTo>
                <a:lnTo>
                  <a:pt x="51" y="460"/>
                </a:lnTo>
                <a:lnTo>
                  <a:pt x="45" y="460"/>
                </a:lnTo>
                <a:lnTo>
                  <a:pt x="38" y="460"/>
                </a:lnTo>
                <a:lnTo>
                  <a:pt x="32" y="460"/>
                </a:lnTo>
                <a:lnTo>
                  <a:pt x="26" y="459"/>
                </a:lnTo>
                <a:lnTo>
                  <a:pt x="19" y="458"/>
                </a:lnTo>
                <a:lnTo>
                  <a:pt x="13" y="457"/>
                </a:lnTo>
                <a:lnTo>
                  <a:pt x="6" y="455"/>
                </a:lnTo>
                <a:lnTo>
                  <a:pt x="0" y="454"/>
                </a:lnTo>
                <a:lnTo>
                  <a:pt x="102" y="7"/>
                </a:lnTo>
              </a:path>
            </a:pathLst>
          </a:custGeom>
          <a:solidFill>
            <a:srgbClr val="b3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00640" y="5070600"/>
            <a:ext cx="163440" cy="658800"/>
          </a:xfrm>
          <a:custGeom>
            <a:avLst/>
            <a:gdLst/>
            <a:ahLst/>
            <a:rect l="l" t="t" r="r" b="b"/>
            <a:pathLst>
              <a:path w="103" h="415">
                <a:moveTo>
                  <a:pt x="102" y="8"/>
                </a:moveTo>
                <a:lnTo>
                  <a:pt x="102" y="31"/>
                </a:lnTo>
                <a:lnTo>
                  <a:pt x="96" y="29"/>
                </a:lnTo>
                <a:lnTo>
                  <a:pt x="89" y="28"/>
                </a:lnTo>
                <a:lnTo>
                  <a:pt x="83" y="26"/>
                </a:lnTo>
                <a:lnTo>
                  <a:pt x="77" y="25"/>
                </a:lnTo>
                <a:lnTo>
                  <a:pt x="70" y="24"/>
                </a:lnTo>
                <a:lnTo>
                  <a:pt x="64" y="24"/>
                </a:lnTo>
                <a:lnTo>
                  <a:pt x="57" y="23"/>
                </a:lnTo>
                <a:lnTo>
                  <a:pt x="51" y="23"/>
                </a:lnTo>
                <a:lnTo>
                  <a:pt x="45" y="23"/>
                </a:lnTo>
                <a:lnTo>
                  <a:pt x="38" y="24"/>
                </a:lnTo>
                <a:lnTo>
                  <a:pt x="32" y="24"/>
                </a:lnTo>
                <a:lnTo>
                  <a:pt x="26" y="25"/>
                </a:lnTo>
                <a:lnTo>
                  <a:pt x="19" y="26"/>
                </a:lnTo>
                <a:lnTo>
                  <a:pt x="13" y="28"/>
                </a:lnTo>
                <a:lnTo>
                  <a:pt x="6" y="29"/>
                </a:lnTo>
                <a:lnTo>
                  <a:pt x="0" y="31"/>
                </a:lnTo>
                <a:lnTo>
                  <a:pt x="0" y="8"/>
                </a:lnTo>
                <a:lnTo>
                  <a:pt x="6" y="6"/>
                </a:lnTo>
                <a:lnTo>
                  <a:pt x="13" y="5"/>
                </a:lnTo>
                <a:lnTo>
                  <a:pt x="19" y="3"/>
                </a:lnTo>
                <a:lnTo>
                  <a:pt x="26" y="2"/>
                </a:lnTo>
                <a:lnTo>
                  <a:pt x="32" y="1"/>
                </a:lnTo>
                <a:lnTo>
                  <a:pt x="38" y="1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1"/>
                </a:lnTo>
                <a:lnTo>
                  <a:pt x="70" y="1"/>
                </a:lnTo>
                <a:lnTo>
                  <a:pt x="77" y="2"/>
                </a:lnTo>
                <a:lnTo>
                  <a:pt x="83" y="3"/>
                </a:lnTo>
                <a:lnTo>
                  <a:pt x="89" y="5"/>
                </a:lnTo>
                <a:lnTo>
                  <a:pt x="96" y="6"/>
                </a:lnTo>
                <a:lnTo>
                  <a:pt x="102" y="8"/>
                </a:lnTo>
                <a:lnTo>
                  <a:pt x="0" y="406"/>
                </a:lnTo>
                <a:lnTo>
                  <a:pt x="0" y="383"/>
                </a:lnTo>
                <a:lnTo>
                  <a:pt x="6" y="385"/>
                </a:lnTo>
                <a:lnTo>
                  <a:pt x="13" y="387"/>
                </a:lnTo>
                <a:lnTo>
                  <a:pt x="19" y="388"/>
                </a:lnTo>
                <a:lnTo>
                  <a:pt x="26" y="389"/>
                </a:lnTo>
                <a:lnTo>
                  <a:pt x="32" y="390"/>
                </a:lnTo>
                <a:lnTo>
                  <a:pt x="38" y="391"/>
                </a:lnTo>
                <a:lnTo>
                  <a:pt x="45" y="391"/>
                </a:lnTo>
                <a:lnTo>
                  <a:pt x="51" y="391"/>
                </a:lnTo>
                <a:lnTo>
                  <a:pt x="57" y="391"/>
                </a:lnTo>
                <a:lnTo>
                  <a:pt x="64" y="391"/>
                </a:lnTo>
                <a:lnTo>
                  <a:pt x="70" y="390"/>
                </a:lnTo>
                <a:lnTo>
                  <a:pt x="77" y="389"/>
                </a:lnTo>
                <a:lnTo>
                  <a:pt x="83" y="388"/>
                </a:lnTo>
                <a:lnTo>
                  <a:pt x="89" y="387"/>
                </a:lnTo>
                <a:lnTo>
                  <a:pt x="96" y="385"/>
                </a:lnTo>
                <a:lnTo>
                  <a:pt x="102" y="383"/>
                </a:lnTo>
                <a:lnTo>
                  <a:pt x="102" y="406"/>
                </a:lnTo>
                <a:lnTo>
                  <a:pt x="96" y="408"/>
                </a:lnTo>
                <a:lnTo>
                  <a:pt x="89" y="410"/>
                </a:lnTo>
                <a:lnTo>
                  <a:pt x="83" y="411"/>
                </a:lnTo>
                <a:lnTo>
                  <a:pt x="77" y="412"/>
                </a:lnTo>
                <a:lnTo>
                  <a:pt x="70" y="413"/>
                </a:lnTo>
                <a:lnTo>
                  <a:pt x="64" y="414"/>
                </a:lnTo>
                <a:lnTo>
                  <a:pt x="57" y="414"/>
                </a:lnTo>
                <a:lnTo>
                  <a:pt x="51" y="414"/>
                </a:lnTo>
                <a:lnTo>
                  <a:pt x="45" y="414"/>
                </a:lnTo>
                <a:lnTo>
                  <a:pt x="38" y="414"/>
                </a:lnTo>
                <a:lnTo>
                  <a:pt x="32" y="413"/>
                </a:lnTo>
                <a:lnTo>
                  <a:pt x="26" y="412"/>
                </a:lnTo>
                <a:lnTo>
                  <a:pt x="19" y="411"/>
                </a:lnTo>
                <a:lnTo>
                  <a:pt x="13" y="410"/>
                </a:lnTo>
                <a:lnTo>
                  <a:pt x="6" y="408"/>
                </a:lnTo>
                <a:lnTo>
                  <a:pt x="0" y="406"/>
                </a:lnTo>
                <a:lnTo>
                  <a:pt x="102" y="8"/>
                </a:lnTo>
              </a:path>
            </a:pathLst>
          </a:custGeom>
          <a:solidFill>
            <a:srgbClr val="b6f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300640" y="5108400"/>
            <a:ext cx="163440" cy="582840"/>
          </a:xfrm>
          <a:custGeom>
            <a:avLst/>
            <a:gdLst/>
            <a:ahLst/>
            <a:rect l="l" t="t" r="r" b="b"/>
            <a:pathLst>
              <a:path w="103" h="367">
                <a:moveTo>
                  <a:pt x="102" y="8"/>
                </a:moveTo>
                <a:lnTo>
                  <a:pt x="102" y="32"/>
                </a:lnTo>
                <a:lnTo>
                  <a:pt x="96" y="30"/>
                </a:lnTo>
                <a:lnTo>
                  <a:pt x="89" y="28"/>
                </a:lnTo>
                <a:lnTo>
                  <a:pt x="83" y="26"/>
                </a:lnTo>
                <a:lnTo>
                  <a:pt x="77" y="25"/>
                </a:lnTo>
                <a:lnTo>
                  <a:pt x="70" y="24"/>
                </a:lnTo>
                <a:lnTo>
                  <a:pt x="64" y="23"/>
                </a:lnTo>
                <a:lnTo>
                  <a:pt x="57" y="23"/>
                </a:lnTo>
                <a:lnTo>
                  <a:pt x="51" y="22"/>
                </a:lnTo>
                <a:lnTo>
                  <a:pt x="45" y="23"/>
                </a:lnTo>
                <a:lnTo>
                  <a:pt x="38" y="23"/>
                </a:lnTo>
                <a:lnTo>
                  <a:pt x="32" y="24"/>
                </a:lnTo>
                <a:lnTo>
                  <a:pt x="26" y="25"/>
                </a:lnTo>
                <a:lnTo>
                  <a:pt x="19" y="26"/>
                </a:lnTo>
                <a:lnTo>
                  <a:pt x="13" y="28"/>
                </a:lnTo>
                <a:lnTo>
                  <a:pt x="6" y="30"/>
                </a:lnTo>
                <a:lnTo>
                  <a:pt x="0" y="32"/>
                </a:lnTo>
                <a:lnTo>
                  <a:pt x="0" y="8"/>
                </a:lnTo>
                <a:lnTo>
                  <a:pt x="6" y="6"/>
                </a:lnTo>
                <a:lnTo>
                  <a:pt x="13" y="5"/>
                </a:lnTo>
                <a:lnTo>
                  <a:pt x="19" y="3"/>
                </a:lnTo>
                <a:lnTo>
                  <a:pt x="26" y="2"/>
                </a:lnTo>
                <a:lnTo>
                  <a:pt x="32" y="1"/>
                </a:lnTo>
                <a:lnTo>
                  <a:pt x="38" y="1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1"/>
                </a:lnTo>
                <a:lnTo>
                  <a:pt x="70" y="1"/>
                </a:lnTo>
                <a:lnTo>
                  <a:pt x="77" y="2"/>
                </a:lnTo>
                <a:lnTo>
                  <a:pt x="83" y="3"/>
                </a:lnTo>
                <a:lnTo>
                  <a:pt x="89" y="5"/>
                </a:lnTo>
                <a:lnTo>
                  <a:pt x="96" y="6"/>
                </a:lnTo>
                <a:lnTo>
                  <a:pt x="102" y="8"/>
                </a:lnTo>
                <a:lnTo>
                  <a:pt x="0" y="358"/>
                </a:lnTo>
                <a:lnTo>
                  <a:pt x="0" y="334"/>
                </a:lnTo>
                <a:lnTo>
                  <a:pt x="6" y="337"/>
                </a:lnTo>
                <a:lnTo>
                  <a:pt x="13" y="339"/>
                </a:lnTo>
                <a:lnTo>
                  <a:pt x="19" y="340"/>
                </a:lnTo>
                <a:lnTo>
                  <a:pt x="26" y="342"/>
                </a:lnTo>
                <a:lnTo>
                  <a:pt x="32" y="343"/>
                </a:lnTo>
                <a:lnTo>
                  <a:pt x="38" y="343"/>
                </a:lnTo>
                <a:lnTo>
                  <a:pt x="45" y="344"/>
                </a:lnTo>
                <a:lnTo>
                  <a:pt x="51" y="344"/>
                </a:lnTo>
                <a:lnTo>
                  <a:pt x="57" y="344"/>
                </a:lnTo>
                <a:lnTo>
                  <a:pt x="64" y="343"/>
                </a:lnTo>
                <a:lnTo>
                  <a:pt x="70" y="343"/>
                </a:lnTo>
                <a:lnTo>
                  <a:pt x="77" y="342"/>
                </a:lnTo>
                <a:lnTo>
                  <a:pt x="83" y="340"/>
                </a:lnTo>
                <a:lnTo>
                  <a:pt x="89" y="339"/>
                </a:lnTo>
                <a:lnTo>
                  <a:pt x="96" y="337"/>
                </a:lnTo>
                <a:lnTo>
                  <a:pt x="102" y="334"/>
                </a:lnTo>
                <a:lnTo>
                  <a:pt x="102" y="358"/>
                </a:lnTo>
                <a:lnTo>
                  <a:pt x="96" y="360"/>
                </a:lnTo>
                <a:lnTo>
                  <a:pt x="89" y="362"/>
                </a:lnTo>
                <a:lnTo>
                  <a:pt x="83" y="363"/>
                </a:lnTo>
                <a:lnTo>
                  <a:pt x="77" y="364"/>
                </a:lnTo>
                <a:lnTo>
                  <a:pt x="70" y="365"/>
                </a:lnTo>
                <a:lnTo>
                  <a:pt x="64" y="366"/>
                </a:lnTo>
                <a:lnTo>
                  <a:pt x="57" y="366"/>
                </a:lnTo>
                <a:lnTo>
                  <a:pt x="51" y="366"/>
                </a:lnTo>
                <a:lnTo>
                  <a:pt x="45" y="366"/>
                </a:lnTo>
                <a:lnTo>
                  <a:pt x="38" y="366"/>
                </a:lnTo>
                <a:lnTo>
                  <a:pt x="32" y="365"/>
                </a:lnTo>
                <a:lnTo>
                  <a:pt x="26" y="364"/>
                </a:lnTo>
                <a:lnTo>
                  <a:pt x="19" y="363"/>
                </a:lnTo>
                <a:lnTo>
                  <a:pt x="13" y="362"/>
                </a:lnTo>
                <a:lnTo>
                  <a:pt x="6" y="360"/>
                </a:lnTo>
                <a:lnTo>
                  <a:pt x="0" y="358"/>
                </a:lnTo>
                <a:lnTo>
                  <a:pt x="102" y="8"/>
                </a:lnTo>
              </a:path>
            </a:pathLst>
          </a:custGeom>
          <a:solidFill>
            <a:srgbClr val="b9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300640" y="5145120"/>
            <a:ext cx="163440" cy="509400"/>
          </a:xfrm>
          <a:custGeom>
            <a:avLst/>
            <a:gdLst/>
            <a:ahLst/>
            <a:rect l="l" t="t" r="r" b="b"/>
            <a:pathLst>
              <a:path w="103" h="321">
                <a:moveTo>
                  <a:pt x="102" y="10"/>
                </a:moveTo>
                <a:lnTo>
                  <a:pt x="102" y="35"/>
                </a:lnTo>
                <a:lnTo>
                  <a:pt x="96" y="32"/>
                </a:lnTo>
                <a:lnTo>
                  <a:pt x="90" y="30"/>
                </a:lnTo>
                <a:lnTo>
                  <a:pt x="84" y="28"/>
                </a:lnTo>
                <a:lnTo>
                  <a:pt x="77" y="26"/>
                </a:lnTo>
                <a:lnTo>
                  <a:pt x="71" y="25"/>
                </a:lnTo>
                <a:lnTo>
                  <a:pt x="64" y="24"/>
                </a:lnTo>
                <a:lnTo>
                  <a:pt x="57" y="23"/>
                </a:lnTo>
                <a:lnTo>
                  <a:pt x="51" y="23"/>
                </a:lnTo>
                <a:lnTo>
                  <a:pt x="45" y="23"/>
                </a:lnTo>
                <a:lnTo>
                  <a:pt x="38" y="24"/>
                </a:lnTo>
                <a:lnTo>
                  <a:pt x="32" y="25"/>
                </a:lnTo>
                <a:lnTo>
                  <a:pt x="26" y="26"/>
                </a:lnTo>
                <a:lnTo>
                  <a:pt x="19" y="28"/>
                </a:lnTo>
                <a:lnTo>
                  <a:pt x="13" y="30"/>
                </a:lnTo>
                <a:lnTo>
                  <a:pt x="6" y="32"/>
                </a:lnTo>
                <a:lnTo>
                  <a:pt x="0" y="35"/>
                </a:lnTo>
                <a:lnTo>
                  <a:pt x="0" y="10"/>
                </a:lnTo>
                <a:lnTo>
                  <a:pt x="6" y="8"/>
                </a:lnTo>
                <a:lnTo>
                  <a:pt x="13" y="6"/>
                </a:lnTo>
                <a:lnTo>
                  <a:pt x="19" y="4"/>
                </a:lnTo>
                <a:lnTo>
                  <a:pt x="26" y="3"/>
                </a:lnTo>
                <a:lnTo>
                  <a:pt x="32" y="2"/>
                </a:lnTo>
                <a:lnTo>
                  <a:pt x="38" y="1"/>
                </a:lnTo>
                <a:lnTo>
                  <a:pt x="45" y="1"/>
                </a:lnTo>
                <a:lnTo>
                  <a:pt x="51" y="0"/>
                </a:lnTo>
                <a:lnTo>
                  <a:pt x="57" y="1"/>
                </a:lnTo>
                <a:lnTo>
                  <a:pt x="64" y="1"/>
                </a:lnTo>
                <a:lnTo>
                  <a:pt x="70" y="2"/>
                </a:lnTo>
                <a:lnTo>
                  <a:pt x="77" y="3"/>
                </a:lnTo>
                <a:lnTo>
                  <a:pt x="83" y="4"/>
                </a:lnTo>
                <a:lnTo>
                  <a:pt x="89" y="6"/>
                </a:lnTo>
                <a:lnTo>
                  <a:pt x="96" y="8"/>
                </a:lnTo>
                <a:lnTo>
                  <a:pt x="102" y="10"/>
                </a:lnTo>
                <a:lnTo>
                  <a:pt x="0" y="310"/>
                </a:lnTo>
                <a:lnTo>
                  <a:pt x="0" y="286"/>
                </a:lnTo>
                <a:lnTo>
                  <a:pt x="6" y="288"/>
                </a:lnTo>
                <a:lnTo>
                  <a:pt x="13" y="291"/>
                </a:lnTo>
                <a:lnTo>
                  <a:pt x="19" y="293"/>
                </a:lnTo>
                <a:lnTo>
                  <a:pt x="26" y="294"/>
                </a:lnTo>
                <a:lnTo>
                  <a:pt x="32" y="296"/>
                </a:lnTo>
                <a:lnTo>
                  <a:pt x="38" y="297"/>
                </a:lnTo>
                <a:lnTo>
                  <a:pt x="45" y="297"/>
                </a:lnTo>
                <a:lnTo>
                  <a:pt x="51" y="297"/>
                </a:lnTo>
                <a:lnTo>
                  <a:pt x="57" y="297"/>
                </a:lnTo>
                <a:lnTo>
                  <a:pt x="64" y="297"/>
                </a:lnTo>
                <a:lnTo>
                  <a:pt x="71" y="296"/>
                </a:lnTo>
                <a:lnTo>
                  <a:pt x="77" y="294"/>
                </a:lnTo>
                <a:lnTo>
                  <a:pt x="84" y="293"/>
                </a:lnTo>
                <a:lnTo>
                  <a:pt x="90" y="291"/>
                </a:lnTo>
                <a:lnTo>
                  <a:pt x="96" y="288"/>
                </a:lnTo>
                <a:lnTo>
                  <a:pt x="102" y="286"/>
                </a:lnTo>
                <a:lnTo>
                  <a:pt x="102" y="310"/>
                </a:lnTo>
                <a:lnTo>
                  <a:pt x="96" y="313"/>
                </a:lnTo>
                <a:lnTo>
                  <a:pt x="89" y="315"/>
                </a:lnTo>
                <a:lnTo>
                  <a:pt x="83" y="316"/>
                </a:lnTo>
                <a:lnTo>
                  <a:pt x="77" y="318"/>
                </a:lnTo>
                <a:lnTo>
                  <a:pt x="70" y="319"/>
                </a:lnTo>
                <a:lnTo>
                  <a:pt x="64" y="319"/>
                </a:lnTo>
                <a:lnTo>
                  <a:pt x="57" y="320"/>
                </a:lnTo>
                <a:lnTo>
                  <a:pt x="51" y="320"/>
                </a:lnTo>
                <a:lnTo>
                  <a:pt x="45" y="320"/>
                </a:lnTo>
                <a:lnTo>
                  <a:pt x="38" y="319"/>
                </a:lnTo>
                <a:lnTo>
                  <a:pt x="32" y="319"/>
                </a:lnTo>
                <a:lnTo>
                  <a:pt x="26" y="318"/>
                </a:lnTo>
                <a:lnTo>
                  <a:pt x="19" y="316"/>
                </a:lnTo>
                <a:lnTo>
                  <a:pt x="13" y="315"/>
                </a:lnTo>
                <a:lnTo>
                  <a:pt x="6" y="313"/>
                </a:lnTo>
                <a:lnTo>
                  <a:pt x="0" y="310"/>
                </a:lnTo>
                <a:lnTo>
                  <a:pt x="102" y="10"/>
                </a:lnTo>
              </a:path>
            </a:pathLst>
          </a:custGeom>
          <a:solidFill>
            <a:srgbClr val="bb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00640" y="5183280"/>
            <a:ext cx="163440" cy="433440"/>
          </a:xfrm>
          <a:custGeom>
            <a:avLst/>
            <a:gdLst/>
            <a:ahLst/>
            <a:rect l="l" t="t" r="r" b="b"/>
            <a:pathLst>
              <a:path w="103" h="273">
                <a:moveTo>
                  <a:pt x="102" y="12"/>
                </a:moveTo>
                <a:lnTo>
                  <a:pt x="102" y="38"/>
                </a:lnTo>
                <a:lnTo>
                  <a:pt x="97" y="34"/>
                </a:lnTo>
                <a:lnTo>
                  <a:pt x="90" y="31"/>
                </a:lnTo>
                <a:lnTo>
                  <a:pt x="84" y="29"/>
                </a:lnTo>
                <a:lnTo>
                  <a:pt x="77" y="27"/>
                </a:lnTo>
                <a:lnTo>
                  <a:pt x="71" y="25"/>
                </a:lnTo>
                <a:lnTo>
                  <a:pt x="65" y="24"/>
                </a:lnTo>
                <a:lnTo>
                  <a:pt x="57" y="23"/>
                </a:lnTo>
                <a:lnTo>
                  <a:pt x="51" y="23"/>
                </a:lnTo>
                <a:lnTo>
                  <a:pt x="45" y="23"/>
                </a:lnTo>
                <a:lnTo>
                  <a:pt x="38" y="24"/>
                </a:lnTo>
                <a:lnTo>
                  <a:pt x="32" y="25"/>
                </a:lnTo>
                <a:lnTo>
                  <a:pt x="26" y="27"/>
                </a:lnTo>
                <a:lnTo>
                  <a:pt x="19" y="29"/>
                </a:lnTo>
                <a:lnTo>
                  <a:pt x="13" y="31"/>
                </a:lnTo>
                <a:lnTo>
                  <a:pt x="6" y="34"/>
                </a:lnTo>
                <a:lnTo>
                  <a:pt x="0" y="38"/>
                </a:lnTo>
                <a:lnTo>
                  <a:pt x="0" y="12"/>
                </a:lnTo>
                <a:lnTo>
                  <a:pt x="6" y="9"/>
                </a:lnTo>
                <a:lnTo>
                  <a:pt x="13" y="7"/>
                </a:lnTo>
                <a:lnTo>
                  <a:pt x="19" y="5"/>
                </a:lnTo>
                <a:lnTo>
                  <a:pt x="26" y="3"/>
                </a:lnTo>
                <a:lnTo>
                  <a:pt x="32" y="2"/>
                </a:lnTo>
                <a:lnTo>
                  <a:pt x="38" y="1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4" y="1"/>
                </a:lnTo>
                <a:lnTo>
                  <a:pt x="71" y="2"/>
                </a:lnTo>
                <a:lnTo>
                  <a:pt x="77" y="3"/>
                </a:lnTo>
                <a:lnTo>
                  <a:pt x="84" y="5"/>
                </a:lnTo>
                <a:lnTo>
                  <a:pt x="90" y="7"/>
                </a:lnTo>
                <a:lnTo>
                  <a:pt x="96" y="9"/>
                </a:lnTo>
                <a:lnTo>
                  <a:pt x="102" y="12"/>
                </a:lnTo>
                <a:lnTo>
                  <a:pt x="0" y="261"/>
                </a:lnTo>
                <a:lnTo>
                  <a:pt x="0" y="235"/>
                </a:lnTo>
                <a:lnTo>
                  <a:pt x="6" y="238"/>
                </a:lnTo>
                <a:lnTo>
                  <a:pt x="13" y="241"/>
                </a:lnTo>
                <a:lnTo>
                  <a:pt x="19" y="244"/>
                </a:lnTo>
                <a:lnTo>
                  <a:pt x="26" y="246"/>
                </a:lnTo>
                <a:lnTo>
                  <a:pt x="32" y="247"/>
                </a:lnTo>
                <a:lnTo>
                  <a:pt x="38" y="248"/>
                </a:lnTo>
                <a:lnTo>
                  <a:pt x="45" y="249"/>
                </a:lnTo>
                <a:lnTo>
                  <a:pt x="51" y="249"/>
                </a:lnTo>
                <a:lnTo>
                  <a:pt x="57" y="249"/>
                </a:lnTo>
                <a:lnTo>
                  <a:pt x="65" y="248"/>
                </a:lnTo>
                <a:lnTo>
                  <a:pt x="71" y="247"/>
                </a:lnTo>
                <a:lnTo>
                  <a:pt x="77" y="246"/>
                </a:lnTo>
                <a:lnTo>
                  <a:pt x="84" y="244"/>
                </a:lnTo>
                <a:lnTo>
                  <a:pt x="90" y="241"/>
                </a:lnTo>
                <a:lnTo>
                  <a:pt x="97" y="238"/>
                </a:lnTo>
                <a:lnTo>
                  <a:pt x="102" y="235"/>
                </a:lnTo>
                <a:lnTo>
                  <a:pt x="102" y="261"/>
                </a:lnTo>
                <a:lnTo>
                  <a:pt x="96" y="263"/>
                </a:lnTo>
                <a:lnTo>
                  <a:pt x="90" y="266"/>
                </a:lnTo>
                <a:lnTo>
                  <a:pt x="84" y="268"/>
                </a:lnTo>
                <a:lnTo>
                  <a:pt x="77" y="269"/>
                </a:lnTo>
                <a:lnTo>
                  <a:pt x="71" y="271"/>
                </a:lnTo>
                <a:lnTo>
                  <a:pt x="64" y="272"/>
                </a:lnTo>
                <a:lnTo>
                  <a:pt x="57" y="272"/>
                </a:lnTo>
                <a:lnTo>
                  <a:pt x="51" y="272"/>
                </a:lnTo>
                <a:lnTo>
                  <a:pt x="45" y="272"/>
                </a:lnTo>
                <a:lnTo>
                  <a:pt x="38" y="272"/>
                </a:lnTo>
                <a:lnTo>
                  <a:pt x="32" y="271"/>
                </a:lnTo>
                <a:lnTo>
                  <a:pt x="26" y="269"/>
                </a:lnTo>
                <a:lnTo>
                  <a:pt x="19" y="268"/>
                </a:lnTo>
                <a:lnTo>
                  <a:pt x="13" y="266"/>
                </a:lnTo>
                <a:lnTo>
                  <a:pt x="6" y="263"/>
                </a:lnTo>
                <a:lnTo>
                  <a:pt x="0" y="261"/>
                </a:lnTo>
                <a:lnTo>
                  <a:pt x="102" y="12"/>
                </a:lnTo>
              </a:path>
            </a:pathLst>
          </a:custGeom>
          <a:solidFill>
            <a:srgbClr val="bef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300640" y="5221440"/>
            <a:ext cx="163440" cy="357120"/>
          </a:xfrm>
          <a:custGeom>
            <a:avLst/>
            <a:gdLst/>
            <a:ahLst/>
            <a:rect l="l" t="t" r="r" b="b"/>
            <a:pathLst>
              <a:path w="103" h="225">
                <a:moveTo>
                  <a:pt x="102" y="14"/>
                </a:moveTo>
                <a:lnTo>
                  <a:pt x="102" y="40"/>
                </a:lnTo>
                <a:lnTo>
                  <a:pt x="97" y="36"/>
                </a:lnTo>
                <a:lnTo>
                  <a:pt x="90" y="33"/>
                </a:lnTo>
                <a:lnTo>
                  <a:pt x="84" y="30"/>
                </a:lnTo>
                <a:lnTo>
                  <a:pt x="77" y="27"/>
                </a:lnTo>
                <a:lnTo>
                  <a:pt x="71" y="25"/>
                </a:lnTo>
                <a:lnTo>
                  <a:pt x="65" y="24"/>
                </a:lnTo>
                <a:lnTo>
                  <a:pt x="58" y="23"/>
                </a:lnTo>
                <a:lnTo>
                  <a:pt x="51" y="22"/>
                </a:lnTo>
                <a:lnTo>
                  <a:pt x="45" y="23"/>
                </a:lnTo>
                <a:lnTo>
                  <a:pt x="38" y="24"/>
                </a:lnTo>
                <a:lnTo>
                  <a:pt x="31" y="25"/>
                </a:lnTo>
                <a:lnTo>
                  <a:pt x="25" y="27"/>
                </a:lnTo>
                <a:lnTo>
                  <a:pt x="18" y="30"/>
                </a:lnTo>
                <a:lnTo>
                  <a:pt x="12" y="33"/>
                </a:lnTo>
                <a:lnTo>
                  <a:pt x="6" y="36"/>
                </a:lnTo>
                <a:lnTo>
                  <a:pt x="0" y="40"/>
                </a:lnTo>
                <a:lnTo>
                  <a:pt x="0" y="14"/>
                </a:lnTo>
                <a:lnTo>
                  <a:pt x="6" y="11"/>
                </a:lnTo>
                <a:lnTo>
                  <a:pt x="13" y="8"/>
                </a:lnTo>
                <a:lnTo>
                  <a:pt x="19" y="6"/>
                </a:lnTo>
                <a:lnTo>
                  <a:pt x="26" y="4"/>
                </a:lnTo>
                <a:lnTo>
                  <a:pt x="32" y="2"/>
                </a:lnTo>
                <a:lnTo>
                  <a:pt x="38" y="1"/>
                </a:lnTo>
                <a:lnTo>
                  <a:pt x="45" y="0"/>
                </a:lnTo>
                <a:lnTo>
                  <a:pt x="51" y="0"/>
                </a:lnTo>
                <a:lnTo>
                  <a:pt x="57" y="0"/>
                </a:lnTo>
                <a:lnTo>
                  <a:pt x="65" y="1"/>
                </a:lnTo>
                <a:lnTo>
                  <a:pt x="71" y="2"/>
                </a:lnTo>
                <a:lnTo>
                  <a:pt x="77" y="4"/>
                </a:lnTo>
                <a:lnTo>
                  <a:pt x="84" y="6"/>
                </a:lnTo>
                <a:lnTo>
                  <a:pt x="90" y="8"/>
                </a:lnTo>
                <a:lnTo>
                  <a:pt x="97" y="11"/>
                </a:lnTo>
                <a:lnTo>
                  <a:pt x="102" y="14"/>
                </a:lnTo>
                <a:lnTo>
                  <a:pt x="0" y="211"/>
                </a:lnTo>
                <a:lnTo>
                  <a:pt x="0" y="184"/>
                </a:lnTo>
                <a:lnTo>
                  <a:pt x="6" y="189"/>
                </a:lnTo>
                <a:lnTo>
                  <a:pt x="12" y="191"/>
                </a:lnTo>
                <a:lnTo>
                  <a:pt x="18" y="195"/>
                </a:lnTo>
                <a:lnTo>
                  <a:pt x="25" y="197"/>
                </a:lnTo>
                <a:lnTo>
                  <a:pt x="31" y="199"/>
                </a:lnTo>
                <a:lnTo>
                  <a:pt x="38" y="201"/>
                </a:lnTo>
                <a:lnTo>
                  <a:pt x="45" y="202"/>
                </a:lnTo>
                <a:lnTo>
                  <a:pt x="51" y="202"/>
                </a:lnTo>
                <a:lnTo>
                  <a:pt x="58" y="202"/>
                </a:lnTo>
                <a:lnTo>
                  <a:pt x="65" y="201"/>
                </a:lnTo>
                <a:lnTo>
                  <a:pt x="71" y="199"/>
                </a:lnTo>
                <a:lnTo>
                  <a:pt x="77" y="197"/>
                </a:lnTo>
                <a:lnTo>
                  <a:pt x="84" y="195"/>
                </a:lnTo>
                <a:lnTo>
                  <a:pt x="90" y="191"/>
                </a:lnTo>
                <a:lnTo>
                  <a:pt x="97" y="189"/>
                </a:lnTo>
                <a:lnTo>
                  <a:pt x="102" y="184"/>
                </a:lnTo>
                <a:lnTo>
                  <a:pt x="102" y="211"/>
                </a:lnTo>
                <a:lnTo>
                  <a:pt x="97" y="213"/>
                </a:lnTo>
                <a:lnTo>
                  <a:pt x="90" y="216"/>
                </a:lnTo>
                <a:lnTo>
                  <a:pt x="84" y="219"/>
                </a:lnTo>
                <a:lnTo>
                  <a:pt x="77" y="221"/>
                </a:lnTo>
                <a:lnTo>
                  <a:pt x="71" y="222"/>
                </a:lnTo>
                <a:lnTo>
                  <a:pt x="65" y="223"/>
                </a:lnTo>
                <a:lnTo>
                  <a:pt x="57" y="224"/>
                </a:lnTo>
                <a:lnTo>
                  <a:pt x="51" y="224"/>
                </a:lnTo>
                <a:lnTo>
                  <a:pt x="45" y="224"/>
                </a:lnTo>
                <a:lnTo>
                  <a:pt x="38" y="223"/>
                </a:lnTo>
                <a:lnTo>
                  <a:pt x="32" y="222"/>
                </a:lnTo>
                <a:lnTo>
                  <a:pt x="26" y="221"/>
                </a:lnTo>
                <a:lnTo>
                  <a:pt x="19" y="219"/>
                </a:lnTo>
                <a:lnTo>
                  <a:pt x="13" y="216"/>
                </a:lnTo>
                <a:lnTo>
                  <a:pt x="6" y="213"/>
                </a:lnTo>
                <a:lnTo>
                  <a:pt x="0" y="211"/>
                </a:lnTo>
                <a:lnTo>
                  <a:pt x="102" y="14"/>
                </a:lnTo>
              </a:path>
            </a:pathLst>
          </a:custGeom>
          <a:solidFill>
            <a:srgbClr val="c1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00640" y="5257800"/>
            <a:ext cx="163440" cy="284040"/>
          </a:xfrm>
          <a:custGeom>
            <a:avLst/>
            <a:gdLst/>
            <a:ahLst/>
            <a:rect l="l" t="t" r="r" b="b"/>
            <a:pathLst>
              <a:path w="103" h="179">
                <a:moveTo>
                  <a:pt x="102" y="18"/>
                </a:moveTo>
                <a:lnTo>
                  <a:pt x="102" y="49"/>
                </a:lnTo>
                <a:lnTo>
                  <a:pt x="97" y="44"/>
                </a:lnTo>
                <a:lnTo>
                  <a:pt x="92" y="38"/>
                </a:lnTo>
                <a:lnTo>
                  <a:pt x="87" y="33"/>
                </a:lnTo>
                <a:lnTo>
                  <a:pt x="80" y="29"/>
                </a:lnTo>
                <a:lnTo>
                  <a:pt x="73" y="27"/>
                </a:lnTo>
                <a:lnTo>
                  <a:pt x="66" y="25"/>
                </a:lnTo>
                <a:lnTo>
                  <a:pt x="58" y="23"/>
                </a:lnTo>
                <a:lnTo>
                  <a:pt x="51" y="23"/>
                </a:lnTo>
                <a:lnTo>
                  <a:pt x="44" y="23"/>
                </a:lnTo>
                <a:lnTo>
                  <a:pt x="36" y="25"/>
                </a:lnTo>
                <a:lnTo>
                  <a:pt x="29" y="27"/>
                </a:lnTo>
                <a:lnTo>
                  <a:pt x="23" y="29"/>
                </a:lnTo>
                <a:lnTo>
                  <a:pt x="16" y="33"/>
                </a:lnTo>
                <a:lnTo>
                  <a:pt x="10" y="38"/>
                </a:lnTo>
                <a:lnTo>
                  <a:pt x="5" y="44"/>
                </a:lnTo>
                <a:lnTo>
                  <a:pt x="0" y="49"/>
                </a:lnTo>
                <a:lnTo>
                  <a:pt x="0" y="18"/>
                </a:lnTo>
                <a:lnTo>
                  <a:pt x="6" y="14"/>
                </a:lnTo>
                <a:lnTo>
                  <a:pt x="12" y="10"/>
                </a:lnTo>
                <a:lnTo>
                  <a:pt x="18" y="8"/>
                </a:lnTo>
                <a:lnTo>
                  <a:pt x="25" y="5"/>
                </a:lnTo>
                <a:lnTo>
                  <a:pt x="31" y="3"/>
                </a:lnTo>
                <a:lnTo>
                  <a:pt x="38" y="2"/>
                </a:lnTo>
                <a:lnTo>
                  <a:pt x="45" y="1"/>
                </a:lnTo>
                <a:lnTo>
                  <a:pt x="51" y="0"/>
                </a:lnTo>
                <a:lnTo>
                  <a:pt x="58" y="1"/>
                </a:lnTo>
                <a:lnTo>
                  <a:pt x="65" y="2"/>
                </a:lnTo>
                <a:lnTo>
                  <a:pt x="71" y="3"/>
                </a:lnTo>
                <a:lnTo>
                  <a:pt x="77" y="5"/>
                </a:lnTo>
                <a:lnTo>
                  <a:pt x="84" y="8"/>
                </a:lnTo>
                <a:lnTo>
                  <a:pt x="90" y="10"/>
                </a:lnTo>
                <a:lnTo>
                  <a:pt x="97" y="14"/>
                </a:lnTo>
                <a:lnTo>
                  <a:pt x="102" y="18"/>
                </a:lnTo>
                <a:lnTo>
                  <a:pt x="0" y="160"/>
                </a:lnTo>
                <a:lnTo>
                  <a:pt x="0" y="129"/>
                </a:lnTo>
                <a:lnTo>
                  <a:pt x="5" y="135"/>
                </a:lnTo>
                <a:lnTo>
                  <a:pt x="10" y="140"/>
                </a:lnTo>
                <a:lnTo>
                  <a:pt x="16" y="145"/>
                </a:lnTo>
                <a:lnTo>
                  <a:pt x="23" y="149"/>
                </a:lnTo>
                <a:lnTo>
                  <a:pt x="29" y="151"/>
                </a:lnTo>
                <a:lnTo>
                  <a:pt x="36" y="154"/>
                </a:lnTo>
                <a:lnTo>
                  <a:pt x="44" y="155"/>
                </a:lnTo>
                <a:lnTo>
                  <a:pt x="51" y="156"/>
                </a:lnTo>
                <a:lnTo>
                  <a:pt x="58" y="155"/>
                </a:lnTo>
                <a:lnTo>
                  <a:pt x="66" y="154"/>
                </a:lnTo>
                <a:lnTo>
                  <a:pt x="73" y="151"/>
                </a:lnTo>
                <a:lnTo>
                  <a:pt x="80" y="149"/>
                </a:lnTo>
                <a:lnTo>
                  <a:pt x="87" y="145"/>
                </a:lnTo>
                <a:lnTo>
                  <a:pt x="92" y="140"/>
                </a:lnTo>
                <a:lnTo>
                  <a:pt x="97" y="135"/>
                </a:lnTo>
                <a:lnTo>
                  <a:pt x="102" y="129"/>
                </a:lnTo>
                <a:lnTo>
                  <a:pt x="102" y="160"/>
                </a:lnTo>
                <a:lnTo>
                  <a:pt x="97" y="165"/>
                </a:lnTo>
                <a:lnTo>
                  <a:pt x="90" y="168"/>
                </a:lnTo>
                <a:lnTo>
                  <a:pt x="84" y="171"/>
                </a:lnTo>
                <a:lnTo>
                  <a:pt x="77" y="173"/>
                </a:lnTo>
                <a:lnTo>
                  <a:pt x="71" y="175"/>
                </a:lnTo>
                <a:lnTo>
                  <a:pt x="65" y="177"/>
                </a:lnTo>
                <a:lnTo>
                  <a:pt x="58" y="178"/>
                </a:lnTo>
                <a:lnTo>
                  <a:pt x="51" y="178"/>
                </a:lnTo>
                <a:lnTo>
                  <a:pt x="45" y="178"/>
                </a:lnTo>
                <a:lnTo>
                  <a:pt x="38" y="177"/>
                </a:lnTo>
                <a:lnTo>
                  <a:pt x="31" y="175"/>
                </a:lnTo>
                <a:lnTo>
                  <a:pt x="25" y="173"/>
                </a:lnTo>
                <a:lnTo>
                  <a:pt x="18" y="171"/>
                </a:lnTo>
                <a:lnTo>
                  <a:pt x="12" y="168"/>
                </a:lnTo>
                <a:lnTo>
                  <a:pt x="6" y="165"/>
                </a:lnTo>
                <a:lnTo>
                  <a:pt x="0" y="160"/>
                </a:lnTo>
                <a:lnTo>
                  <a:pt x="102" y="18"/>
                </a:lnTo>
              </a:path>
            </a:pathLst>
          </a:custGeom>
          <a:solidFill>
            <a:srgbClr val="c3f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300640" y="5295960"/>
            <a:ext cx="163440" cy="209520"/>
          </a:xfrm>
          <a:custGeom>
            <a:avLst/>
            <a:gdLst/>
            <a:ahLst/>
            <a:rect l="l" t="t" r="r" b="b"/>
            <a:pathLst>
              <a:path w="103" h="132">
                <a:moveTo>
                  <a:pt x="94" y="65"/>
                </a:moveTo>
                <a:lnTo>
                  <a:pt x="93" y="57"/>
                </a:lnTo>
                <a:lnTo>
                  <a:pt x="90" y="48"/>
                </a:lnTo>
                <a:lnTo>
                  <a:pt x="87" y="41"/>
                </a:lnTo>
                <a:lnTo>
                  <a:pt x="81" y="34"/>
                </a:lnTo>
                <a:lnTo>
                  <a:pt x="75" y="29"/>
                </a:lnTo>
                <a:lnTo>
                  <a:pt x="67" y="25"/>
                </a:lnTo>
                <a:lnTo>
                  <a:pt x="60" y="22"/>
                </a:lnTo>
                <a:lnTo>
                  <a:pt x="51" y="21"/>
                </a:lnTo>
                <a:lnTo>
                  <a:pt x="43" y="22"/>
                </a:lnTo>
                <a:lnTo>
                  <a:pt x="35" y="25"/>
                </a:lnTo>
                <a:lnTo>
                  <a:pt x="27" y="29"/>
                </a:lnTo>
                <a:lnTo>
                  <a:pt x="21" y="34"/>
                </a:lnTo>
                <a:lnTo>
                  <a:pt x="15" y="41"/>
                </a:lnTo>
                <a:lnTo>
                  <a:pt x="12" y="48"/>
                </a:lnTo>
                <a:lnTo>
                  <a:pt x="9" y="57"/>
                </a:lnTo>
                <a:lnTo>
                  <a:pt x="8" y="65"/>
                </a:lnTo>
                <a:lnTo>
                  <a:pt x="9" y="74"/>
                </a:lnTo>
                <a:lnTo>
                  <a:pt x="12" y="82"/>
                </a:lnTo>
                <a:lnTo>
                  <a:pt x="15" y="89"/>
                </a:lnTo>
                <a:lnTo>
                  <a:pt x="21" y="96"/>
                </a:lnTo>
                <a:lnTo>
                  <a:pt x="27" y="101"/>
                </a:lnTo>
                <a:lnTo>
                  <a:pt x="35" y="105"/>
                </a:lnTo>
                <a:lnTo>
                  <a:pt x="43" y="108"/>
                </a:lnTo>
                <a:lnTo>
                  <a:pt x="51" y="109"/>
                </a:lnTo>
                <a:lnTo>
                  <a:pt x="60" y="108"/>
                </a:lnTo>
                <a:lnTo>
                  <a:pt x="67" y="105"/>
                </a:lnTo>
                <a:lnTo>
                  <a:pt x="75" y="101"/>
                </a:lnTo>
                <a:lnTo>
                  <a:pt x="81" y="96"/>
                </a:lnTo>
                <a:lnTo>
                  <a:pt x="87" y="89"/>
                </a:lnTo>
                <a:lnTo>
                  <a:pt x="90" y="82"/>
                </a:lnTo>
                <a:lnTo>
                  <a:pt x="93" y="74"/>
                </a:lnTo>
                <a:lnTo>
                  <a:pt x="94" y="65"/>
                </a:lnTo>
                <a:lnTo>
                  <a:pt x="102" y="26"/>
                </a:lnTo>
                <a:lnTo>
                  <a:pt x="102" y="104"/>
                </a:lnTo>
                <a:lnTo>
                  <a:pt x="97" y="111"/>
                </a:lnTo>
                <a:lnTo>
                  <a:pt x="92" y="115"/>
                </a:lnTo>
                <a:lnTo>
                  <a:pt x="87" y="120"/>
                </a:lnTo>
                <a:lnTo>
                  <a:pt x="80" y="124"/>
                </a:lnTo>
                <a:lnTo>
                  <a:pt x="73" y="126"/>
                </a:lnTo>
                <a:lnTo>
                  <a:pt x="66" y="129"/>
                </a:lnTo>
                <a:lnTo>
                  <a:pt x="58" y="130"/>
                </a:lnTo>
                <a:lnTo>
                  <a:pt x="51" y="131"/>
                </a:lnTo>
                <a:lnTo>
                  <a:pt x="44" y="130"/>
                </a:lnTo>
                <a:lnTo>
                  <a:pt x="36" y="129"/>
                </a:lnTo>
                <a:lnTo>
                  <a:pt x="29" y="126"/>
                </a:lnTo>
                <a:lnTo>
                  <a:pt x="23" y="124"/>
                </a:lnTo>
                <a:lnTo>
                  <a:pt x="16" y="120"/>
                </a:lnTo>
                <a:lnTo>
                  <a:pt x="10" y="115"/>
                </a:lnTo>
                <a:lnTo>
                  <a:pt x="5" y="111"/>
                </a:lnTo>
                <a:lnTo>
                  <a:pt x="0" y="104"/>
                </a:lnTo>
                <a:lnTo>
                  <a:pt x="0" y="26"/>
                </a:lnTo>
                <a:lnTo>
                  <a:pt x="5" y="20"/>
                </a:lnTo>
                <a:lnTo>
                  <a:pt x="10" y="15"/>
                </a:lnTo>
                <a:lnTo>
                  <a:pt x="16" y="10"/>
                </a:lnTo>
                <a:lnTo>
                  <a:pt x="23" y="7"/>
                </a:lnTo>
                <a:lnTo>
                  <a:pt x="29" y="4"/>
                </a:lnTo>
                <a:lnTo>
                  <a:pt x="36" y="2"/>
                </a:lnTo>
                <a:lnTo>
                  <a:pt x="44" y="0"/>
                </a:lnTo>
                <a:lnTo>
                  <a:pt x="51" y="0"/>
                </a:lnTo>
                <a:lnTo>
                  <a:pt x="58" y="0"/>
                </a:lnTo>
                <a:lnTo>
                  <a:pt x="66" y="2"/>
                </a:lnTo>
                <a:lnTo>
                  <a:pt x="73" y="4"/>
                </a:lnTo>
                <a:lnTo>
                  <a:pt x="80" y="7"/>
                </a:lnTo>
                <a:lnTo>
                  <a:pt x="87" y="10"/>
                </a:lnTo>
                <a:lnTo>
                  <a:pt x="92" y="15"/>
                </a:lnTo>
                <a:lnTo>
                  <a:pt x="97" y="20"/>
                </a:lnTo>
                <a:lnTo>
                  <a:pt x="102" y="26"/>
                </a:lnTo>
                <a:lnTo>
                  <a:pt x="94" y="65"/>
                </a:lnTo>
              </a:path>
            </a:pathLst>
          </a:custGeom>
          <a:solidFill>
            <a:srgbClr val="c6f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5040" y="5332320"/>
            <a:ext cx="135000" cy="135000"/>
          </a:xfrm>
          <a:custGeom>
            <a:avLst/>
            <a:gdLst/>
            <a:ahLst/>
            <a:rect l="l" t="t" r="r" b="b"/>
            <a:pathLst>
              <a:path w="85" h="85">
                <a:moveTo>
                  <a:pt x="84" y="42"/>
                </a:moveTo>
                <a:lnTo>
                  <a:pt x="83" y="34"/>
                </a:lnTo>
                <a:lnTo>
                  <a:pt x="80" y="26"/>
                </a:lnTo>
                <a:lnTo>
                  <a:pt x="77" y="19"/>
                </a:lnTo>
                <a:lnTo>
                  <a:pt x="71" y="13"/>
                </a:lnTo>
                <a:lnTo>
                  <a:pt x="65" y="7"/>
                </a:lnTo>
                <a:lnTo>
                  <a:pt x="58" y="4"/>
                </a:lnTo>
                <a:lnTo>
                  <a:pt x="51" y="1"/>
                </a:lnTo>
                <a:lnTo>
                  <a:pt x="42" y="0"/>
                </a:lnTo>
                <a:lnTo>
                  <a:pt x="34" y="1"/>
                </a:lnTo>
                <a:lnTo>
                  <a:pt x="26" y="4"/>
                </a:lnTo>
                <a:lnTo>
                  <a:pt x="19" y="7"/>
                </a:lnTo>
                <a:lnTo>
                  <a:pt x="13" y="13"/>
                </a:lnTo>
                <a:lnTo>
                  <a:pt x="7" y="19"/>
                </a:lnTo>
                <a:lnTo>
                  <a:pt x="4" y="26"/>
                </a:lnTo>
                <a:lnTo>
                  <a:pt x="1" y="34"/>
                </a:lnTo>
                <a:lnTo>
                  <a:pt x="0" y="42"/>
                </a:lnTo>
                <a:lnTo>
                  <a:pt x="1" y="51"/>
                </a:lnTo>
                <a:lnTo>
                  <a:pt x="4" y="58"/>
                </a:lnTo>
                <a:lnTo>
                  <a:pt x="7" y="65"/>
                </a:lnTo>
                <a:lnTo>
                  <a:pt x="13" y="71"/>
                </a:lnTo>
                <a:lnTo>
                  <a:pt x="19" y="77"/>
                </a:lnTo>
                <a:lnTo>
                  <a:pt x="26" y="80"/>
                </a:lnTo>
                <a:lnTo>
                  <a:pt x="34" y="83"/>
                </a:lnTo>
                <a:lnTo>
                  <a:pt x="42" y="84"/>
                </a:lnTo>
                <a:lnTo>
                  <a:pt x="51" y="83"/>
                </a:lnTo>
                <a:lnTo>
                  <a:pt x="58" y="80"/>
                </a:lnTo>
                <a:lnTo>
                  <a:pt x="65" y="77"/>
                </a:lnTo>
                <a:lnTo>
                  <a:pt x="71" y="71"/>
                </a:lnTo>
                <a:lnTo>
                  <a:pt x="77" y="65"/>
                </a:lnTo>
                <a:lnTo>
                  <a:pt x="80" y="58"/>
                </a:lnTo>
                <a:lnTo>
                  <a:pt x="83" y="51"/>
                </a:lnTo>
                <a:lnTo>
                  <a:pt x="84" y="42"/>
                </a:lnTo>
                <a:lnTo>
                  <a:pt x="63" y="42"/>
                </a:lnTo>
                <a:lnTo>
                  <a:pt x="63" y="38"/>
                </a:lnTo>
                <a:lnTo>
                  <a:pt x="62" y="34"/>
                </a:lnTo>
                <a:lnTo>
                  <a:pt x="60" y="30"/>
                </a:lnTo>
                <a:lnTo>
                  <a:pt x="57" y="28"/>
                </a:lnTo>
                <a:lnTo>
                  <a:pt x="54" y="25"/>
                </a:lnTo>
                <a:lnTo>
                  <a:pt x="50" y="23"/>
                </a:lnTo>
                <a:lnTo>
                  <a:pt x="46" y="21"/>
                </a:lnTo>
                <a:lnTo>
                  <a:pt x="42" y="21"/>
                </a:lnTo>
                <a:lnTo>
                  <a:pt x="38" y="21"/>
                </a:lnTo>
                <a:lnTo>
                  <a:pt x="34" y="23"/>
                </a:lnTo>
                <a:lnTo>
                  <a:pt x="30" y="25"/>
                </a:lnTo>
                <a:lnTo>
                  <a:pt x="28" y="28"/>
                </a:lnTo>
                <a:lnTo>
                  <a:pt x="25" y="30"/>
                </a:lnTo>
                <a:lnTo>
                  <a:pt x="23" y="34"/>
                </a:lnTo>
                <a:lnTo>
                  <a:pt x="21" y="38"/>
                </a:lnTo>
                <a:lnTo>
                  <a:pt x="21" y="42"/>
                </a:lnTo>
                <a:lnTo>
                  <a:pt x="21" y="46"/>
                </a:lnTo>
                <a:lnTo>
                  <a:pt x="23" y="50"/>
                </a:lnTo>
                <a:lnTo>
                  <a:pt x="25" y="54"/>
                </a:lnTo>
                <a:lnTo>
                  <a:pt x="28" y="57"/>
                </a:lnTo>
                <a:lnTo>
                  <a:pt x="30" y="60"/>
                </a:lnTo>
                <a:lnTo>
                  <a:pt x="34" y="62"/>
                </a:lnTo>
                <a:lnTo>
                  <a:pt x="38" y="63"/>
                </a:lnTo>
                <a:lnTo>
                  <a:pt x="42" y="63"/>
                </a:lnTo>
                <a:lnTo>
                  <a:pt x="46" y="63"/>
                </a:lnTo>
                <a:lnTo>
                  <a:pt x="50" y="62"/>
                </a:lnTo>
                <a:lnTo>
                  <a:pt x="54" y="60"/>
                </a:lnTo>
                <a:lnTo>
                  <a:pt x="57" y="57"/>
                </a:lnTo>
                <a:lnTo>
                  <a:pt x="60" y="54"/>
                </a:lnTo>
                <a:lnTo>
                  <a:pt x="62" y="50"/>
                </a:lnTo>
                <a:lnTo>
                  <a:pt x="63" y="46"/>
                </a:lnTo>
                <a:lnTo>
                  <a:pt x="63" y="42"/>
                </a:lnTo>
                <a:lnTo>
                  <a:pt x="84" y="42"/>
                </a:lnTo>
              </a:path>
            </a:pathLst>
          </a:custGeom>
          <a:solidFill>
            <a:srgbClr val="c9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353200" y="5370480"/>
            <a:ext cx="6012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37" y="18"/>
                </a:moveTo>
                <a:lnTo>
                  <a:pt x="36" y="15"/>
                </a:lnTo>
                <a:lnTo>
                  <a:pt x="35" y="11"/>
                </a:lnTo>
                <a:lnTo>
                  <a:pt x="34" y="8"/>
                </a:lnTo>
                <a:lnTo>
                  <a:pt x="31" y="6"/>
                </a:lnTo>
                <a:lnTo>
                  <a:pt x="28" y="3"/>
                </a:lnTo>
                <a:lnTo>
                  <a:pt x="25" y="2"/>
                </a:lnTo>
                <a:lnTo>
                  <a:pt x="22" y="0"/>
                </a:lnTo>
                <a:lnTo>
                  <a:pt x="18" y="0"/>
                </a:lnTo>
                <a:lnTo>
                  <a:pt x="15" y="0"/>
                </a:lnTo>
                <a:lnTo>
                  <a:pt x="11" y="2"/>
                </a:lnTo>
                <a:lnTo>
                  <a:pt x="8" y="3"/>
                </a:lnTo>
                <a:lnTo>
                  <a:pt x="6" y="6"/>
                </a:lnTo>
                <a:lnTo>
                  <a:pt x="3" y="8"/>
                </a:lnTo>
                <a:lnTo>
                  <a:pt x="2" y="11"/>
                </a:lnTo>
                <a:lnTo>
                  <a:pt x="0" y="15"/>
                </a:lnTo>
                <a:lnTo>
                  <a:pt x="0" y="18"/>
                </a:lnTo>
                <a:lnTo>
                  <a:pt x="0" y="22"/>
                </a:lnTo>
                <a:lnTo>
                  <a:pt x="2" y="25"/>
                </a:lnTo>
                <a:lnTo>
                  <a:pt x="3" y="28"/>
                </a:lnTo>
                <a:lnTo>
                  <a:pt x="6" y="31"/>
                </a:lnTo>
                <a:lnTo>
                  <a:pt x="8" y="34"/>
                </a:lnTo>
                <a:lnTo>
                  <a:pt x="11" y="35"/>
                </a:lnTo>
                <a:lnTo>
                  <a:pt x="15" y="36"/>
                </a:lnTo>
                <a:lnTo>
                  <a:pt x="18" y="37"/>
                </a:lnTo>
                <a:lnTo>
                  <a:pt x="22" y="36"/>
                </a:lnTo>
                <a:lnTo>
                  <a:pt x="25" y="35"/>
                </a:lnTo>
                <a:lnTo>
                  <a:pt x="28" y="34"/>
                </a:lnTo>
                <a:lnTo>
                  <a:pt x="31" y="31"/>
                </a:lnTo>
                <a:lnTo>
                  <a:pt x="34" y="28"/>
                </a:lnTo>
                <a:lnTo>
                  <a:pt x="35" y="25"/>
                </a:lnTo>
                <a:lnTo>
                  <a:pt x="36" y="22"/>
                </a:lnTo>
                <a:lnTo>
                  <a:pt x="37" y="18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300640" y="4665600"/>
            <a:ext cx="179280" cy="1486080"/>
          </a:xfrm>
          <a:custGeom>
            <a:avLst/>
            <a:gdLst/>
            <a:ahLst/>
            <a:rect l="l" t="t" r="r" b="b"/>
            <a:pathLst>
              <a:path w="113" h="936">
                <a:moveTo>
                  <a:pt x="0" y="58"/>
                </a:moveTo>
                <a:lnTo>
                  <a:pt x="112" y="0"/>
                </a:lnTo>
                <a:lnTo>
                  <a:pt x="112" y="877"/>
                </a:lnTo>
                <a:lnTo>
                  <a:pt x="0" y="935"/>
                </a:lnTo>
                <a:lnTo>
                  <a:pt x="0" y="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60720" y="5557680"/>
            <a:ext cx="12960" cy="16200"/>
          </a:xfrm>
          <a:custGeom>
            <a:avLst/>
            <a:gdLst/>
            <a:ahLst/>
            <a:rect l="l" t="t" r="r" b="b"/>
            <a:pathLst>
              <a:path w="8" h="10">
                <a:moveTo>
                  <a:pt x="3" y="9"/>
                </a:moveTo>
                <a:lnTo>
                  <a:pt x="2" y="9"/>
                </a:lnTo>
                <a:lnTo>
                  <a:pt x="1" y="9"/>
                </a:lnTo>
                <a:lnTo>
                  <a:pt x="0" y="9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7" y="9"/>
                </a:lnTo>
                <a:lnTo>
                  <a:pt x="6" y="9"/>
                </a:lnTo>
                <a:lnTo>
                  <a:pt x="5" y="9"/>
                </a:lnTo>
                <a:lnTo>
                  <a:pt x="3" y="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960720" y="5572080"/>
            <a:ext cx="28800" cy="3240"/>
          </a:xfrm>
          <a:custGeom>
            <a:avLst/>
            <a:gdLst/>
            <a:ahLst/>
            <a:rect l="l" t="t" r="r" b="b"/>
            <a:pathLst>
              <a:path w="18" h="2">
                <a:moveTo>
                  <a:pt x="8" y="0"/>
                </a:move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1"/>
                </a:lnTo>
                <a:lnTo>
                  <a:pt x="11" y="1"/>
                </a:lnTo>
                <a:lnTo>
                  <a:pt x="14" y="1"/>
                </a:lnTo>
                <a:lnTo>
                  <a:pt x="16" y="1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1" y="0"/>
                </a:lnTo>
                <a:lnTo>
                  <a:pt x="8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676680" y="5354640"/>
            <a:ext cx="1768320" cy="682560"/>
          </a:xfrm>
          <a:custGeom>
            <a:avLst/>
            <a:gdLst/>
            <a:ahLst/>
            <a:rect l="l" t="t" r="r" b="b"/>
            <a:pathLst>
              <a:path w="1114" h="430">
                <a:moveTo>
                  <a:pt x="1074" y="428"/>
                </a:moveTo>
                <a:lnTo>
                  <a:pt x="1035" y="429"/>
                </a:lnTo>
                <a:lnTo>
                  <a:pt x="996" y="427"/>
                </a:lnTo>
                <a:lnTo>
                  <a:pt x="957" y="424"/>
                </a:lnTo>
                <a:lnTo>
                  <a:pt x="921" y="419"/>
                </a:lnTo>
                <a:lnTo>
                  <a:pt x="884" y="412"/>
                </a:lnTo>
                <a:lnTo>
                  <a:pt x="848" y="405"/>
                </a:lnTo>
                <a:lnTo>
                  <a:pt x="814" y="395"/>
                </a:lnTo>
                <a:lnTo>
                  <a:pt x="779" y="385"/>
                </a:lnTo>
                <a:lnTo>
                  <a:pt x="745" y="373"/>
                </a:lnTo>
                <a:lnTo>
                  <a:pt x="712" y="361"/>
                </a:lnTo>
                <a:lnTo>
                  <a:pt x="679" y="348"/>
                </a:lnTo>
                <a:lnTo>
                  <a:pt x="646" y="333"/>
                </a:lnTo>
                <a:lnTo>
                  <a:pt x="614" y="320"/>
                </a:lnTo>
                <a:lnTo>
                  <a:pt x="583" y="305"/>
                </a:lnTo>
                <a:lnTo>
                  <a:pt x="551" y="289"/>
                </a:lnTo>
                <a:lnTo>
                  <a:pt x="520" y="275"/>
                </a:lnTo>
                <a:lnTo>
                  <a:pt x="490" y="260"/>
                </a:lnTo>
                <a:lnTo>
                  <a:pt x="459" y="244"/>
                </a:lnTo>
                <a:lnTo>
                  <a:pt x="429" y="230"/>
                </a:lnTo>
                <a:lnTo>
                  <a:pt x="398" y="216"/>
                </a:lnTo>
                <a:lnTo>
                  <a:pt x="369" y="202"/>
                </a:lnTo>
                <a:lnTo>
                  <a:pt x="339" y="190"/>
                </a:lnTo>
                <a:lnTo>
                  <a:pt x="309" y="178"/>
                </a:lnTo>
                <a:lnTo>
                  <a:pt x="278" y="166"/>
                </a:lnTo>
                <a:lnTo>
                  <a:pt x="249" y="156"/>
                </a:lnTo>
                <a:lnTo>
                  <a:pt x="219" y="148"/>
                </a:lnTo>
                <a:lnTo>
                  <a:pt x="188" y="141"/>
                </a:lnTo>
                <a:lnTo>
                  <a:pt x="159" y="135"/>
                </a:lnTo>
                <a:lnTo>
                  <a:pt x="128" y="131"/>
                </a:lnTo>
                <a:lnTo>
                  <a:pt x="97" y="128"/>
                </a:lnTo>
                <a:lnTo>
                  <a:pt x="65" y="128"/>
                </a:lnTo>
                <a:lnTo>
                  <a:pt x="35" y="129"/>
                </a:lnTo>
                <a:lnTo>
                  <a:pt x="14" y="113"/>
                </a:lnTo>
                <a:lnTo>
                  <a:pt x="3" y="93"/>
                </a:lnTo>
                <a:lnTo>
                  <a:pt x="0" y="70"/>
                </a:lnTo>
                <a:lnTo>
                  <a:pt x="2" y="48"/>
                </a:lnTo>
                <a:lnTo>
                  <a:pt x="8" y="27"/>
                </a:lnTo>
                <a:lnTo>
                  <a:pt x="17" y="12"/>
                </a:lnTo>
                <a:lnTo>
                  <a:pt x="28" y="2"/>
                </a:lnTo>
                <a:lnTo>
                  <a:pt x="38" y="0"/>
                </a:lnTo>
                <a:lnTo>
                  <a:pt x="74" y="1"/>
                </a:lnTo>
                <a:lnTo>
                  <a:pt x="110" y="3"/>
                </a:lnTo>
                <a:lnTo>
                  <a:pt x="145" y="7"/>
                </a:lnTo>
                <a:lnTo>
                  <a:pt x="177" y="13"/>
                </a:lnTo>
                <a:lnTo>
                  <a:pt x="210" y="20"/>
                </a:lnTo>
                <a:lnTo>
                  <a:pt x="242" y="27"/>
                </a:lnTo>
                <a:lnTo>
                  <a:pt x="273" y="36"/>
                </a:lnTo>
                <a:lnTo>
                  <a:pt x="302" y="46"/>
                </a:lnTo>
                <a:lnTo>
                  <a:pt x="332" y="58"/>
                </a:lnTo>
                <a:lnTo>
                  <a:pt x="362" y="69"/>
                </a:lnTo>
                <a:lnTo>
                  <a:pt x="390" y="81"/>
                </a:lnTo>
                <a:lnTo>
                  <a:pt x="418" y="95"/>
                </a:lnTo>
                <a:lnTo>
                  <a:pt x="447" y="108"/>
                </a:lnTo>
                <a:lnTo>
                  <a:pt x="475" y="122"/>
                </a:lnTo>
                <a:lnTo>
                  <a:pt x="503" y="136"/>
                </a:lnTo>
                <a:lnTo>
                  <a:pt x="531" y="150"/>
                </a:lnTo>
                <a:lnTo>
                  <a:pt x="560" y="164"/>
                </a:lnTo>
                <a:lnTo>
                  <a:pt x="589" y="178"/>
                </a:lnTo>
                <a:lnTo>
                  <a:pt x="617" y="192"/>
                </a:lnTo>
                <a:lnTo>
                  <a:pt x="647" y="205"/>
                </a:lnTo>
                <a:lnTo>
                  <a:pt x="677" y="218"/>
                </a:lnTo>
                <a:lnTo>
                  <a:pt x="708" y="231"/>
                </a:lnTo>
                <a:lnTo>
                  <a:pt x="738" y="242"/>
                </a:lnTo>
                <a:lnTo>
                  <a:pt x="771" y="253"/>
                </a:lnTo>
                <a:lnTo>
                  <a:pt x="804" y="264"/>
                </a:lnTo>
                <a:lnTo>
                  <a:pt x="838" y="273"/>
                </a:lnTo>
                <a:lnTo>
                  <a:pt x="873" y="280"/>
                </a:lnTo>
                <a:lnTo>
                  <a:pt x="910" y="287"/>
                </a:lnTo>
                <a:lnTo>
                  <a:pt x="947" y="292"/>
                </a:lnTo>
                <a:lnTo>
                  <a:pt x="986" y="296"/>
                </a:lnTo>
                <a:lnTo>
                  <a:pt x="1027" y="299"/>
                </a:lnTo>
                <a:lnTo>
                  <a:pt x="1069" y="299"/>
                </a:lnTo>
                <a:lnTo>
                  <a:pt x="1056" y="305"/>
                </a:lnTo>
                <a:lnTo>
                  <a:pt x="1045" y="318"/>
                </a:lnTo>
                <a:lnTo>
                  <a:pt x="1037" y="336"/>
                </a:lnTo>
                <a:lnTo>
                  <a:pt x="1034" y="358"/>
                </a:lnTo>
                <a:lnTo>
                  <a:pt x="1035" y="380"/>
                </a:lnTo>
                <a:lnTo>
                  <a:pt x="1041" y="401"/>
                </a:lnTo>
                <a:lnTo>
                  <a:pt x="1055" y="418"/>
                </a:lnTo>
                <a:lnTo>
                  <a:pt x="1074" y="428"/>
                </a:lnTo>
                <a:lnTo>
                  <a:pt x="1074" y="427"/>
                </a:lnTo>
                <a:lnTo>
                  <a:pt x="1066" y="426"/>
                </a:lnTo>
                <a:lnTo>
                  <a:pt x="1058" y="422"/>
                </a:lnTo>
                <a:lnTo>
                  <a:pt x="1052" y="416"/>
                </a:lnTo>
                <a:lnTo>
                  <a:pt x="1047" y="408"/>
                </a:lnTo>
                <a:lnTo>
                  <a:pt x="1042" y="399"/>
                </a:lnTo>
                <a:lnTo>
                  <a:pt x="1038" y="388"/>
                </a:lnTo>
                <a:lnTo>
                  <a:pt x="1036" y="376"/>
                </a:lnTo>
                <a:lnTo>
                  <a:pt x="1035" y="364"/>
                </a:lnTo>
                <a:lnTo>
                  <a:pt x="1036" y="350"/>
                </a:lnTo>
                <a:lnTo>
                  <a:pt x="1038" y="338"/>
                </a:lnTo>
                <a:lnTo>
                  <a:pt x="1042" y="327"/>
                </a:lnTo>
                <a:lnTo>
                  <a:pt x="1047" y="318"/>
                </a:lnTo>
                <a:lnTo>
                  <a:pt x="1052" y="310"/>
                </a:lnTo>
                <a:lnTo>
                  <a:pt x="1058" y="304"/>
                </a:lnTo>
                <a:lnTo>
                  <a:pt x="1066" y="300"/>
                </a:lnTo>
                <a:lnTo>
                  <a:pt x="1074" y="299"/>
                </a:lnTo>
                <a:lnTo>
                  <a:pt x="1082" y="300"/>
                </a:lnTo>
                <a:lnTo>
                  <a:pt x="1089" y="304"/>
                </a:lnTo>
                <a:lnTo>
                  <a:pt x="1096" y="310"/>
                </a:lnTo>
                <a:lnTo>
                  <a:pt x="1101" y="318"/>
                </a:lnTo>
                <a:lnTo>
                  <a:pt x="1106" y="327"/>
                </a:lnTo>
                <a:lnTo>
                  <a:pt x="1110" y="338"/>
                </a:lnTo>
                <a:lnTo>
                  <a:pt x="1112" y="350"/>
                </a:lnTo>
                <a:lnTo>
                  <a:pt x="1113" y="364"/>
                </a:lnTo>
                <a:lnTo>
                  <a:pt x="1112" y="376"/>
                </a:lnTo>
                <a:lnTo>
                  <a:pt x="1110" y="388"/>
                </a:lnTo>
                <a:lnTo>
                  <a:pt x="1106" y="399"/>
                </a:lnTo>
                <a:lnTo>
                  <a:pt x="1101" y="408"/>
                </a:lnTo>
                <a:lnTo>
                  <a:pt x="1096" y="416"/>
                </a:lnTo>
                <a:lnTo>
                  <a:pt x="1089" y="422"/>
                </a:lnTo>
                <a:lnTo>
                  <a:pt x="1082" y="426"/>
                </a:lnTo>
                <a:lnTo>
                  <a:pt x="1074" y="427"/>
                </a:lnTo>
                <a:lnTo>
                  <a:pt x="1074" y="428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676680" y="5354640"/>
            <a:ext cx="1722240" cy="698400"/>
          </a:xfrm>
          <a:custGeom>
            <a:avLst/>
            <a:gdLst/>
            <a:ahLst/>
            <a:rect l="l" t="t" r="r" b="b"/>
            <a:pathLst>
              <a:path w="1085" h="440">
                <a:moveTo>
                  <a:pt x="1084" y="438"/>
                </a:moveTo>
                <a:lnTo>
                  <a:pt x="1044" y="439"/>
                </a:lnTo>
                <a:lnTo>
                  <a:pt x="1005" y="437"/>
                </a:lnTo>
                <a:lnTo>
                  <a:pt x="966" y="434"/>
                </a:lnTo>
                <a:lnTo>
                  <a:pt x="929" y="429"/>
                </a:lnTo>
                <a:lnTo>
                  <a:pt x="892" y="422"/>
                </a:lnTo>
                <a:lnTo>
                  <a:pt x="856" y="414"/>
                </a:lnTo>
                <a:lnTo>
                  <a:pt x="821" y="404"/>
                </a:lnTo>
                <a:lnTo>
                  <a:pt x="786" y="394"/>
                </a:lnTo>
                <a:lnTo>
                  <a:pt x="752" y="382"/>
                </a:lnTo>
                <a:lnTo>
                  <a:pt x="718" y="369"/>
                </a:lnTo>
                <a:lnTo>
                  <a:pt x="685" y="356"/>
                </a:lnTo>
                <a:lnTo>
                  <a:pt x="652" y="341"/>
                </a:lnTo>
                <a:lnTo>
                  <a:pt x="620" y="327"/>
                </a:lnTo>
                <a:lnTo>
                  <a:pt x="588" y="312"/>
                </a:lnTo>
                <a:lnTo>
                  <a:pt x="556" y="296"/>
                </a:lnTo>
                <a:lnTo>
                  <a:pt x="525" y="281"/>
                </a:lnTo>
                <a:lnTo>
                  <a:pt x="494" y="266"/>
                </a:lnTo>
                <a:lnTo>
                  <a:pt x="463" y="250"/>
                </a:lnTo>
                <a:lnTo>
                  <a:pt x="433" y="235"/>
                </a:lnTo>
                <a:lnTo>
                  <a:pt x="402" y="221"/>
                </a:lnTo>
                <a:lnTo>
                  <a:pt x="372" y="207"/>
                </a:lnTo>
                <a:lnTo>
                  <a:pt x="342" y="194"/>
                </a:lnTo>
                <a:lnTo>
                  <a:pt x="312" y="182"/>
                </a:lnTo>
                <a:lnTo>
                  <a:pt x="281" y="170"/>
                </a:lnTo>
                <a:lnTo>
                  <a:pt x="251" y="160"/>
                </a:lnTo>
                <a:lnTo>
                  <a:pt x="221" y="151"/>
                </a:lnTo>
                <a:lnTo>
                  <a:pt x="190" y="144"/>
                </a:lnTo>
                <a:lnTo>
                  <a:pt x="160" y="138"/>
                </a:lnTo>
                <a:lnTo>
                  <a:pt x="129" y="134"/>
                </a:lnTo>
                <a:lnTo>
                  <a:pt x="98" y="131"/>
                </a:lnTo>
                <a:lnTo>
                  <a:pt x="66" y="131"/>
                </a:lnTo>
                <a:lnTo>
                  <a:pt x="35" y="132"/>
                </a:lnTo>
                <a:lnTo>
                  <a:pt x="14" y="116"/>
                </a:lnTo>
                <a:lnTo>
                  <a:pt x="3" y="95"/>
                </a:lnTo>
                <a:lnTo>
                  <a:pt x="0" y="72"/>
                </a:lnTo>
                <a:lnTo>
                  <a:pt x="2" y="49"/>
                </a:lnTo>
                <a:lnTo>
                  <a:pt x="8" y="28"/>
                </a:lnTo>
                <a:lnTo>
                  <a:pt x="17" y="12"/>
                </a:lnTo>
                <a:lnTo>
                  <a:pt x="28" y="2"/>
                </a:lnTo>
                <a:lnTo>
                  <a:pt x="38" y="0"/>
                </a:lnTo>
                <a:lnTo>
                  <a:pt x="75" y="1"/>
                </a:lnTo>
                <a:lnTo>
                  <a:pt x="111" y="3"/>
                </a:lnTo>
                <a:lnTo>
                  <a:pt x="146" y="7"/>
                </a:lnTo>
                <a:lnTo>
                  <a:pt x="179" y="13"/>
                </a:lnTo>
                <a:lnTo>
                  <a:pt x="212" y="20"/>
                </a:lnTo>
                <a:lnTo>
                  <a:pt x="244" y="28"/>
                </a:lnTo>
                <a:lnTo>
                  <a:pt x="275" y="37"/>
                </a:lnTo>
                <a:lnTo>
                  <a:pt x="305" y="47"/>
                </a:lnTo>
                <a:lnTo>
                  <a:pt x="335" y="59"/>
                </a:lnTo>
                <a:lnTo>
                  <a:pt x="365" y="71"/>
                </a:lnTo>
                <a:lnTo>
                  <a:pt x="394" y="83"/>
                </a:lnTo>
                <a:lnTo>
                  <a:pt x="422" y="97"/>
                </a:lnTo>
                <a:lnTo>
                  <a:pt x="451" y="111"/>
                </a:lnTo>
                <a:lnTo>
                  <a:pt x="479" y="125"/>
                </a:lnTo>
                <a:lnTo>
                  <a:pt x="508" y="139"/>
                </a:lnTo>
                <a:lnTo>
                  <a:pt x="536" y="153"/>
                </a:lnTo>
                <a:lnTo>
                  <a:pt x="565" y="168"/>
                </a:lnTo>
                <a:lnTo>
                  <a:pt x="594" y="182"/>
                </a:lnTo>
                <a:lnTo>
                  <a:pt x="623" y="196"/>
                </a:lnTo>
                <a:lnTo>
                  <a:pt x="653" y="210"/>
                </a:lnTo>
                <a:lnTo>
                  <a:pt x="683" y="223"/>
                </a:lnTo>
                <a:lnTo>
                  <a:pt x="714" y="236"/>
                </a:lnTo>
                <a:lnTo>
                  <a:pt x="745" y="248"/>
                </a:lnTo>
                <a:lnTo>
                  <a:pt x="778" y="259"/>
                </a:lnTo>
                <a:lnTo>
                  <a:pt x="811" y="270"/>
                </a:lnTo>
                <a:lnTo>
                  <a:pt x="846" y="279"/>
                </a:lnTo>
                <a:lnTo>
                  <a:pt x="881" y="287"/>
                </a:lnTo>
                <a:lnTo>
                  <a:pt x="918" y="294"/>
                </a:lnTo>
                <a:lnTo>
                  <a:pt x="956" y="299"/>
                </a:lnTo>
                <a:lnTo>
                  <a:pt x="995" y="303"/>
                </a:lnTo>
                <a:lnTo>
                  <a:pt x="1036" y="306"/>
                </a:lnTo>
                <a:lnTo>
                  <a:pt x="1079" y="306"/>
                </a:lnTo>
                <a:lnTo>
                  <a:pt x="1065" y="312"/>
                </a:lnTo>
                <a:lnTo>
                  <a:pt x="1054" y="325"/>
                </a:lnTo>
                <a:lnTo>
                  <a:pt x="1046" y="344"/>
                </a:lnTo>
                <a:lnTo>
                  <a:pt x="1043" y="366"/>
                </a:lnTo>
                <a:lnTo>
                  <a:pt x="1044" y="389"/>
                </a:lnTo>
                <a:lnTo>
                  <a:pt x="1050" y="410"/>
                </a:lnTo>
                <a:lnTo>
                  <a:pt x="1064" y="428"/>
                </a:lnTo>
                <a:lnTo>
                  <a:pt x="1084" y="4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334120" y="5840280"/>
            <a:ext cx="126720" cy="209520"/>
          </a:xfrm>
          <a:custGeom>
            <a:avLst/>
            <a:gdLst/>
            <a:ahLst/>
            <a:rect l="l" t="t" r="r" b="b"/>
            <a:pathLst>
              <a:path w="80" h="132">
                <a:moveTo>
                  <a:pt x="40" y="131"/>
                </a:moveTo>
                <a:lnTo>
                  <a:pt x="32" y="130"/>
                </a:lnTo>
                <a:lnTo>
                  <a:pt x="24" y="126"/>
                </a:lnTo>
                <a:lnTo>
                  <a:pt x="17" y="120"/>
                </a:lnTo>
                <a:lnTo>
                  <a:pt x="12" y="112"/>
                </a:lnTo>
                <a:lnTo>
                  <a:pt x="7" y="102"/>
                </a:lnTo>
                <a:lnTo>
                  <a:pt x="3" y="91"/>
                </a:lnTo>
                <a:lnTo>
                  <a:pt x="1" y="79"/>
                </a:lnTo>
                <a:lnTo>
                  <a:pt x="0" y="66"/>
                </a:lnTo>
                <a:lnTo>
                  <a:pt x="1" y="52"/>
                </a:lnTo>
                <a:lnTo>
                  <a:pt x="3" y="40"/>
                </a:lnTo>
                <a:lnTo>
                  <a:pt x="7" y="29"/>
                </a:lnTo>
                <a:lnTo>
                  <a:pt x="12" y="19"/>
                </a:lnTo>
                <a:lnTo>
                  <a:pt x="17" y="11"/>
                </a:lnTo>
                <a:lnTo>
                  <a:pt x="24" y="5"/>
                </a:lnTo>
                <a:lnTo>
                  <a:pt x="32" y="1"/>
                </a:lnTo>
                <a:lnTo>
                  <a:pt x="40" y="0"/>
                </a:lnTo>
                <a:lnTo>
                  <a:pt x="48" y="1"/>
                </a:lnTo>
                <a:lnTo>
                  <a:pt x="55" y="5"/>
                </a:lnTo>
                <a:lnTo>
                  <a:pt x="62" y="11"/>
                </a:lnTo>
                <a:lnTo>
                  <a:pt x="67" y="19"/>
                </a:lnTo>
                <a:lnTo>
                  <a:pt x="72" y="29"/>
                </a:lnTo>
                <a:lnTo>
                  <a:pt x="76" y="40"/>
                </a:lnTo>
                <a:lnTo>
                  <a:pt x="78" y="52"/>
                </a:lnTo>
                <a:lnTo>
                  <a:pt x="79" y="66"/>
                </a:lnTo>
                <a:lnTo>
                  <a:pt x="78" y="79"/>
                </a:lnTo>
                <a:lnTo>
                  <a:pt x="76" y="91"/>
                </a:lnTo>
                <a:lnTo>
                  <a:pt x="72" y="102"/>
                </a:lnTo>
                <a:lnTo>
                  <a:pt x="67" y="112"/>
                </a:lnTo>
                <a:lnTo>
                  <a:pt x="62" y="120"/>
                </a:lnTo>
                <a:lnTo>
                  <a:pt x="55" y="126"/>
                </a:lnTo>
                <a:lnTo>
                  <a:pt x="48" y="130"/>
                </a:lnTo>
                <a:lnTo>
                  <a:pt x="40" y="1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683160" y="4795920"/>
            <a:ext cx="1747800" cy="1198440"/>
          </a:xfrm>
          <a:custGeom>
            <a:avLst/>
            <a:gdLst/>
            <a:ahLst/>
            <a:rect l="l" t="t" r="r" b="b"/>
            <a:pathLst>
              <a:path w="1101" h="755">
                <a:moveTo>
                  <a:pt x="1061" y="0"/>
                </a:moveTo>
                <a:lnTo>
                  <a:pt x="1022" y="1"/>
                </a:lnTo>
                <a:lnTo>
                  <a:pt x="983" y="5"/>
                </a:lnTo>
                <a:lnTo>
                  <a:pt x="945" y="12"/>
                </a:lnTo>
                <a:lnTo>
                  <a:pt x="909" y="23"/>
                </a:lnTo>
                <a:lnTo>
                  <a:pt x="873" y="38"/>
                </a:lnTo>
                <a:lnTo>
                  <a:pt x="837" y="53"/>
                </a:lnTo>
                <a:lnTo>
                  <a:pt x="803" y="73"/>
                </a:lnTo>
                <a:lnTo>
                  <a:pt x="769" y="94"/>
                </a:lnTo>
                <a:lnTo>
                  <a:pt x="735" y="117"/>
                </a:lnTo>
                <a:lnTo>
                  <a:pt x="703" y="143"/>
                </a:lnTo>
                <a:lnTo>
                  <a:pt x="670" y="170"/>
                </a:lnTo>
                <a:lnTo>
                  <a:pt x="638" y="197"/>
                </a:lnTo>
                <a:lnTo>
                  <a:pt x="606" y="226"/>
                </a:lnTo>
                <a:lnTo>
                  <a:pt x="576" y="256"/>
                </a:lnTo>
                <a:lnTo>
                  <a:pt x="545" y="286"/>
                </a:lnTo>
                <a:lnTo>
                  <a:pt x="515" y="316"/>
                </a:lnTo>
                <a:lnTo>
                  <a:pt x="485" y="346"/>
                </a:lnTo>
                <a:lnTo>
                  <a:pt x="455" y="376"/>
                </a:lnTo>
                <a:lnTo>
                  <a:pt x="425" y="406"/>
                </a:lnTo>
                <a:lnTo>
                  <a:pt x="395" y="434"/>
                </a:lnTo>
                <a:lnTo>
                  <a:pt x="366" y="462"/>
                </a:lnTo>
                <a:lnTo>
                  <a:pt x="337" y="489"/>
                </a:lnTo>
                <a:lnTo>
                  <a:pt x="307" y="513"/>
                </a:lnTo>
                <a:lnTo>
                  <a:pt x="277" y="536"/>
                </a:lnTo>
                <a:lnTo>
                  <a:pt x="248" y="557"/>
                </a:lnTo>
                <a:lnTo>
                  <a:pt x="218" y="575"/>
                </a:lnTo>
                <a:lnTo>
                  <a:pt x="188" y="591"/>
                </a:lnTo>
                <a:lnTo>
                  <a:pt x="159" y="605"/>
                </a:lnTo>
                <a:lnTo>
                  <a:pt x="128" y="615"/>
                </a:lnTo>
                <a:lnTo>
                  <a:pt x="97" y="622"/>
                </a:lnTo>
                <a:lnTo>
                  <a:pt x="66" y="625"/>
                </a:lnTo>
                <a:lnTo>
                  <a:pt x="35" y="624"/>
                </a:lnTo>
                <a:lnTo>
                  <a:pt x="15" y="641"/>
                </a:lnTo>
                <a:lnTo>
                  <a:pt x="4" y="660"/>
                </a:lnTo>
                <a:lnTo>
                  <a:pt x="0" y="683"/>
                </a:lnTo>
                <a:lnTo>
                  <a:pt x="2" y="706"/>
                </a:lnTo>
                <a:lnTo>
                  <a:pt x="9" y="726"/>
                </a:lnTo>
                <a:lnTo>
                  <a:pt x="18" y="743"/>
                </a:lnTo>
                <a:lnTo>
                  <a:pt x="28" y="753"/>
                </a:lnTo>
                <a:lnTo>
                  <a:pt x="38" y="754"/>
                </a:lnTo>
                <a:lnTo>
                  <a:pt x="74" y="753"/>
                </a:lnTo>
                <a:lnTo>
                  <a:pt x="110" y="748"/>
                </a:lnTo>
                <a:lnTo>
                  <a:pt x="145" y="739"/>
                </a:lnTo>
                <a:lnTo>
                  <a:pt x="177" y="728"/>
                </a:lnTo>
                <a:lnTo>
                  <a:pt x="210" y="714"/>
                </a:lnTo>
                <a:lnTo>
                  <a:pt x="241" y="698"/>
                </a:lnTo>
                <a:lnTo>
                  <a:pt x="272" y="678"/>
                </a:lnTo>
                <a:lnTo>
                  <a:pt x="301" y="657"/>
                </a:lnTo>
                <a:lnTo>
                  <a:pt x="331" y="635"/>
                </a:lnTo>
                <a:lnTo>
                  <a:pt x="359" y="610"/>
                </a:lnTo>
                <a:lnTo>
                  <a:pt x="387" y="584"/>
                </a:lnTo>
                <a:lnTo>
                  <a:pt x="415" y="557"/>
                </a:lnTo>
                <a:lnTo>
                  <a:pt x="443" y="529"/>
                </a:lnTo>
                <a:lnTo>
                  <a:pt x="471" y="500"/>
                </a:lnTo>
                <a:lnTo>
                  <a:pt x="498" y="472"/>
                </a:lnTo>
                <a:lnTo>
                  <a:pt x="526" y="442"/>
                </a:lnTo>
                <a:lnTo>
                  <a:pt x="554" y="413"/>
                </a:lnTo>
                <a:lnTo>
                  <a:pt x="582" y="384"/>
                </a:lnTo>
                <a:lnTo>
                  <a:pt x="610" y="355"/>
                </a:lnTo>
                <a:lnTo>
                  <a:pt x="639" y="327"/>
                </a:lnTo>
                <a:lnTo>
                  <a:pt x="669" y="300"/>
                </a:lnTo>
                <a:lnTo>
                  <a:pt x="699" y="274"/>
                </a:lnTo>
                <a:lnTo>
                  <a:pt x="729" y="250"/>
                </a:lnTo>
                <a:lnTo>
                  <a:pt x="761" y="227"/>
                </a:lnTo>
                <a:lnTo>
                  <a:pt x="794" y="205"/>
                </a:lnTo>
                <a:lnTo>
                  <a:pt x="827" y="187"/>
                </a:lnTo>
                <a:lnTo>
                  <a:pt x="862" y="170"/>
                </a:lnTo>
                <a:lnTo>
                  <a:pt x="899" y="156"/>
                </a:lnTo>
                <a:lnTo>
                  <a:pt x="936" y="145"/>
                </a:lnTo>
                <a:lnTo>
                  <a:pt x="975" y="136"/>
                </a:lnTo>
                <a:lnTo>
                  <a:pt x="1016" y="131"/>
                </a:lnTo>
                <a:lnTo>
                  <a:pt x="1057" y="130"/>
                </a:lnTo>
                <a:lnTo>
                  <a:pt x="1045" y="124"/>
                </a:lnTo>
                <a:lnTo>
                  <a:pt x="1034" y="112"/>
                </a:lnTo>
                <a:lnTo>
                  <a:pt x="1026" y="93"/>
                </a:lnTo>
                <a:lnTo>
                  <a:pt x="1022" y="71"/>
                </a:lnTo>
                <a:lnTo>
                  <a:pt x="1023" y="48"/>
                </a:lnTo>
                <a:lnTo>
                  <a:pt x="1030" y="28"/>
                </a:lnTo>
                <a:lnTo>
                  <a:pt x="1042" y="11"/>
                </a:lnTo>
                <a:lnTo>
                  <a:pt x="1061" y="0"/>
                </a:lnTo>
                <a:lnTo>
                  <a:pt x="1061" y="1"/>
                </a:lnTo>
                <a:lnTo>
                  <a:pt x="1054" y="2"/>
                </a:lnTo>
                <a:lnTo>
                  <a:pt x="1046" y="6"/>
                </a:lnTo>
                <a:lnTo>
                  <a:pt x="1041" y="12"/>
                </a:lnTo>
                <a:lnTo>
                  <a:pt x="1035" y="20"/>
                </a:lnTo>
                <a:lnTo>
                  <a:pt x="1030" y="30"/>
                </a:lnTo>
                <a:lnTo>
                  <a:pt x="1026" y="40"/>
                </a:lnTo>
                <a:lnTo>
                  <a:pt x="1024" y="52"/>
                </a:lnTo>
                <a:lnTo>
                  <a:pt x="1023" y="66"/>
                </a:lnTo>
                <a:lnTo>
                  <a:pt x="1024" y="79"/>
                </a:lnTo>
                <a:lnTo>
                  <a:pt x="1026" y="91"/>
                </a:lnTo>
                <a:lnTo>
                  <a:pt x="1030" y="102"/>
                </a:lnTo>
                <a:lnTo>
                  <a:pt x="1035" y="112"/>
                </a:lnTo>
                <a:lnTo>
                  <a:pt x="1041" y="119"/>
                </a:lnTo>
                <a:lnTo>
                  <a:pt x="1046" y="125"/>
                </a:lnTo>
                <a:lnTo>
                  <a:pt x="1054" y="129"/>
                </a:lnTo>
                <a:lnTo>
                  <a:pt x="1061" y="130"/>
                </a:lnTo>
                <a:lnTo>
                  <a:pt x="1069" y="129"/>
                </a:lnTo>
                <a:lnTo>
                  <a:pt x="1076" y="125"/>
                </a:lnTo>
                <a:lnTo>
                  <a:pt x="1083" y="119"/>
                </a:lnTo>
                <a:lnTo>
                  <a:pt x="1089" y="112"/>
                </a:lnTo>
                <a:lnTo>
                  <a:pt x="1094" y="102"/>
                </a:lnTo>
                <a:lnTo>
                  <a:pt x="1097" y="91"/>
                </a:lnTo>
                <a:lnTo>
                  <a:pt x="1099" y="79"/>
                </a:lnTo>
                <a:lnTo>
                  <a:pt x="1100" y="66"/>
                </a:lnTo>
                <a:lnTo>
                  <a:pt x="1099" y="52"/>
                </a:lnTo>
                <a:lnTo>
                  <a:pt x="1097" y="40"/>
                </a:lnTo>
                <a:lnTo>
                  <a:pt x="1094" y="30"/>
                </a:lnTo>
                <a:lnTo>
                  <a:pt x="1089" y="20"/>
                </a:lnTo>
                <a:lnTo>
                  <a:pt x="1083" y="12"/>
                </a:lnTo>
                <a:lnTo>
                  <a:pt x="1076" y="6"/>
                </a:lnTo>
                <a:lnTo>
                  <a:pt x="1069" y="2"/>
                </a:lnTo>
                <a:lnTo>
                  <a:pt x="1061" y="1"/>
                </a:lnTo>
                <a:lnTo>
                  <a:pt x="1061" y="0"/>
                </a:lnTo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683160" y="4795920"/>
            <a:ext cx="1701720" cy="1214280"/>
          </a:xfrm>
          <a:custGeom>
            <a:avLst/>
            <a:gdLst/>
            <a:ahLst/>
            <a:rect l="l" t="t" r="r" b="b"/>
            <a:pathLst>
              <a:path w="1072" h="765">
                <a:moveTo>
                  <a:pt x="1071" y="0"/>
                </a:moveTo>
                <a:lnTo>
                  <a:pt x="1031" y="1"/>
                </a:lnTo>
                <a:lnTo>
                  <a:pt x="992" y="5"/>
                </a:lnTo>
                <a:lnTo>
                  <a:pt x="954" y="12"/>
                </a:lnTo>
                <a:lnTo>
                  <a:pt x="917" y="23"/>
                </a:lnTo>
                <a:lnTo>
                  <a:pt x="881" y="38"/>
                </a:lnTo>
                <a:lnTo>
                  <a:pt x="845" y="54"/>
                </a:lnTo>
                <a:lnTo>
                  <a:pt x="810" y="74"/>
                </a:lnTo>
                <a:lnTo>
                  <a:pt x="776" y="95"/>
                </a:lnTo>
                <a:lnTo>
                  <a:pt x="742" y="119"/>
                </a:lnTo>
                <a:lnTo>
                  <a:pt x="709" y="145"/>
                </a:lnTo>
                <a:lnTo>
                  <a:pt x="676" y="172"/>
                </a:lnTo>
                <a:lnTo>
                  <a:pt x="644" y="200"/>
                </a:lnTo>
                <a:lnTo>
                  <a:pt x="612" y="229"/>
                </a:lnTo>
                <a:lnTo>
                  <a:pt x="581" y="259"/>
                </a:lnTo>
                <a:lnTo>
                  <a:pt x="550" y="290"/>
                </a:lnTo>
                <a:lnTo>
                  <a:pt x="520" y="320"/>
                </a:lnTo>
                <a:lnTo>
                  <a:pt x="489" y="351"/>
                </a:lnTo>
                <a:lnTo>
                  <a:pt x="459" y="381"/>
                </a:lnTo>
                <a:lnTo>
                  <a:pt x="429" y="411"/>
                </a:lnTo>
                <a:lnTo>
                  <a:pt x="399" y="440"/>
                </a:lnTo>
                <a:lnTo>
                  <a:pt x="369" y="468"/>
                </a:lnTo>
                <a:lnTo>
                  <a:pt x="340" y="495"/>
                </a:lnTo>
                <a:lnTo>
                  <a:pt x="310" y="520"/>
                </a:lnTo>
                <a:lnTo>
                  <a:pt x="280" y="543"/>
                </a:lnTo>
                <a:lnTo>
                  <a:pt x="250" y="564"/>
                </a:lnTo>
                <a:lnTo>
                  <a:pt x="220" y="583"/>
                </a:lnTo>
                <a:lnTo>
                  <a:pt x="190" y="599"/>
                </a:lnTo>
                <a:lnTo>
                  <a:pt x="160" y="613"/>
                </a:lnTo>
                <a:lnTo>
                  <a:pt x="129" y="623"/>
                </a:lnTo>
                <a:lnTo>
                  <a:pt x="98" y="630"/>
                </a:lnTo>
                <a:lnTo>
                  <a:pt x="67" y="633"/>
                </a:lnTo>
                <a:lnTo>
                  <a:pt x="35" y="632"/>
                </a:lnTo>
                <a:lnTo>
                  <a:pt x="15" y="649"/>
                </a:lnTo>
                <a:lnTo>
                  <a:pt x="4" y="669"/>
                </a:lnTo>
                <a:lnTo>
                  <a:pt x="0" y="692"/>
                </a:lnTo>
                <a:lnTo>
                  <a:pt x="2" y="715"/>
                </a:lnTo>
                <a:lnTo>
                  <a:pt x="9" y="736"/>
                </a:lnTo>
                <a:lnTo>
                  <a:pt x="18" y="753"/>
                </a:lnTo>
                <a:lnTo>
                  <a:pt x="28" y="763"/>
                </a:lnTo>
                <a:lnTo>
                  <a:pt x="38" y="764"/>
                </a:lnTo>
                <a:lnTo>
                  <a:pt x="75" y="763"/>
                </a:lnTo>
                <a:lnTo>
                  <a:pt x="111" y="758"/>
                </a:lnTo>
                <a:lnTo>
                  <a:pt x="146" y="749"/>
                </a:lnTo>
                <a:lnTo>
                  <a:pt x="179" y="738"/>
                </a:lnTo>
                <a:lnTo>
                  <a:pt x="212" y="723"/>
                </a:lnTo>
                <a:lnTo>
                  <a:pt x="243" y="707"/>
                </a:lnTo>
                <a:lnTo>
                  <a:pt x="274" y="687"/>
                </a:lnTo>
                <a:lnTo>
                  <a:pt x="304" y="666"/>
                </a:lnTo>
                <a:lnTo>
                  <a:pt x="334" y="643"/>
                </a:lnTo>
                <a:lnTo>
                  <a:pt x="362" y="618"/>
                </a:lnTo>
                <a:lnTo>
                  <a:pt x="391" y="592"/>
                </a:lnTo>
                <a:lnTo>
                  <a:pt x="419" y="564"/>
                </a:lnTo>
                <a:lnTo>
                  <a:pt x="447" y="536"/>
                </a:lnTo>
                <a:lnTo>
                  <a:pt x="475" y="507"/>
                </a:lnTo>
                <a:lnTo>
                  <a:pt x="503" y="478"/>
                </a:lnTo>
                <a:lnTo>
                  <a:pt x="531" y="448"/>
                </a:lnTo>
                <a:lnTo>
                  <a:pt x="559" y="418"/>
                </a:lnTo>
                <a:lnTo>
                  <a:pt x="587" y="389"/>
                </a:lnTo>
                <a:lnTo>
                  <a:pt x="616" y="360"/>
                </a:lnTo>
                <a:lnTo>
                  <a:pt x="645" y="331"/>
                </a:lnTo>
                <a:lnTo>
                  <a:pt x="675" y="304"/>
                </a:lnTo>
                <a:lnTo>
                  <a:pt x="705" y="278"/>
                </a:lnTo>
                <a:lnTo>
                  <a:pt x="736" y="253"/>
                </a:lnTo>
                <a:lnTo>
                  <a:pt x="768" y="230"/>
                </a:lnTo>
                <a:lnTo>
                  <a:pt x="801" y="208"/>
                </a:lnTo>
                <a:lnTo>
                  <a:pt x="835" y="189"/>
                </a:lnTo>
                <a:lnTo>
                  <a:pt x="870" y="172"/>
                </a:lnTo>
                <a:lnTo>
                  <a:pt x="907" y="158"/>
                </a:lnTo>
                <a:lnTo>
                  <a:pt x="945" y="147"/>
                </a:lnTo>
                <a:lnTo>
                  <a:pt x="984" y="138"/>
                </a:lnTo>
                <a:lnTo>
                  <a:pt x="1025" y="133"/>
                </a:lnTo>
                <a:lnTo>
                  <a:pt x="1067" y="132"/>
                </a:lnTo>
                <a:lnTo>
                  <a:pt x="1054" y="126"/>
                </a:lnTo>
                <a:lnTo>
                  <a:pt x="1043" y="113"/>
                </a:lnTo>
                <a:lnTo>
                  <a:pt x="1035" y="94"/>
                </a:lnTo>
                <a:lnTo>
                  <a:pt x="1031" y="72"/>
                </a:lnTo>
                <a:lnTo>
                  <a:pt x="1032" y="49"/>
                </a:lnTo>
                <a:lnTo>
                  <a:pt x="1039" y="28"/>
                </a:lnTo>
                <a:lnTo>
                  <a:pt x="1051" y="11"/>
                </a:lnTo>
                <a:lnTo>
                  <a:pt x="107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321160" y="4797360"/>
            <a:ext cx="125640" cy="209520"/>
          </a:xfrm>
          <a:custGeom>
            <a:avLst/>
            <a:gdLst/>
            <a:ahLst/>
            <a:rect l="l" t="t" r="r" b="b"/>
            <a:pathLst>
              <a:path w="79" h="132">
                <a:moveTo>
                  <a:pt x="39" y="0"/>
                </a:moveTo>
                <a:lnTo>
                  <a:pt x="32" y="1"/>
                </a:lnTo>
                <a:lnTo>
                  <a:pt x="24" y="5"/>
                </a:lnTo>
                <a:lnTo>
                  <a:pt x="18" y="11"/>
                </a:lnTo>
                <a:lnTo>
                  <a:pt x="12" y="19"/>
                </a:lnTo>
                <a:lnTo>
                  <a:pt x="7" y="29"/>
                </a:lnTo>
                <a:lnTo>
                  <a:pt x="3" y="40"/>
                </a:lnTo>
                <a:lnTo>
                  <a:pt x="1" y="52"/>
                </a:lnTo>
                <a:lnTo>
                  <a:pt x="0" y="66"/>
                </a:lnTo>
                <a:lnTo>
                  <a:pt x="1" y="79"/>
                </a:lnTo>
                <a:lnTo>
                  <a:pt x="3" y="91"/>
                </a:lnTo>
                <a:lnTo>
                  <a:pt x="7" y="102"/>
                </a:lnTo>
                <a:lnTo>
                  <a:pt x="12" y="112"/>
                </a:lnTo>
                <a:lnTo>
                  <a:pt x="18" y="120"/>
                </a:lnTo>
                <a:lnTo>
                  <a:pt x="24" y="126"/>
                </a:lnTo>
                <a:lnTo>
                  <a:pt x="32" y="130"/>
                </a:lnTo>
                <a:lnTo>
                  <a:pt x="39" y="131"/>
                </a:lnTo>
                <a:lnTo>
                  <a:pt x="47" y="130"/>
                </a:lnTo>
                <a:lnTo>
                  <a:pt x="54" y="126"/>
                </a:lnTo>
                <a:lnTo>
                  <a:pt x="61" y="120"/>
                </a:lnTo>
                <a:lnTo>
                  <a:pt x="67" y="112"/>
                </a:lnTo>
                <a:lnTo>
                  <a:pt x="72" y="102"/>
                </a:lnTo>
                <a:lnTo>
                  <a:pt x="75" y="91"/>
                </a:lnTo>
                <a:lnTo>
                  <a:pt x="77" y="79"/>
                </a:lnTo>
                <a:lnTo>
                  <a:pt x="78" y="66"/>
                </a:lnTo>
                <a:lnTo>
                  <a:pt x="77" y="52"/>
                </a:lnTo>
                <a:lnTo>
                  <a:pt x="75" y="40"/>
                </a:lnTo>
                <a:lnTo>
                  <a:pt x="72" y="29"/>
                </a:lnTo>
                <a:lnTo>
                  <a:pt x="67" y="19"/>
                </a:lnTo>
                <a:lnTo>
                  <a:pt x="61" y="11"/>
                </a:lnTo>
                <a:lnTo>
                  <a:pt x="54" y="5"/>
                </a:lnTo>
                <a:lnTo>
                  <a:pt x="47" y="1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676680" y="4834080"/>
            <a:ext cx="1762200" cy="722160"/>
          </a:xfrm>
          <a:custGeom>
            <a:avLst/>
            <a:gdLst/>
            <a:ahLst/>
            <a:rect l="l" t="t" r="r" b="b"/>
            <a:pathLst>
              <a:path w="1110" h="455">
                <a:moveTo>
                  <a:pt x="1070" y="453"/>
                </a:moveTo>
                <a:lnTo>
                  <a:pt x="1031" y="454"/>
                </a:lnTo>
                <a:lnTo>
                  <a:pt x="992" y="452"/>
                </a:lnTo>
                <a:lnTo>
                  <a:pt x="953" y="448"/>
                </a:lnTo>
                <a:lnTo>
                  <a:pt x="917" y="443"/>
                </a:lnTo>
                <a:lnTo>
                  <a:pt x="880" y="436"/>
                </a:lnTo>
                <a:lnTo>
                  <a:pt x="844" y="428"/>
                </a:lnTo>
                <a:lnTo>
                  <a:pt x="810" y="417"/>
                </a:lnTo>
                <a:lnTo>
                  <a:pt x="775" y="406"/>
                </a:lnTo>
                <a:lnTo>
                  <a:pt x="741" y="393"/>
                </a:lnTo>
                <a:lnTo>
                  <a:pt x="709" y="380"/>
                </a:lnTo>
                <a:lnTo>
                  <a:pt x="676" y="366"/>
                </a:lnTo>
                <a:lnTo>
                  <a:pt x="643" y="351"/>
                </a:lnTo>
                <a:lnTo>
                  <a:pt x="611" y="336"/>
                </a:lnTo>
                <a:lnTo>
                  <a:pt x="581" y="320"/>
                </a:lnTo>
                <a:lnTo>
                  <a:pt x="549" y="303"/>
                </a:lnTo>
                <a:lnTo>
                  <a:pt x="518" y="287"/>
                </a:lnTo>
                <a:lnTo>
                  <a:pt x="488" y="271"/>
                </a:lnTo>
                <a:lnTo>
                  <a:pt x="458" y="254"/>
                </a:lnTo>
                <a:lnTo>
                  <a:pt x="427" y="239"/>
                </a:lnTo>
                <a:lnTo>
                  <a:pt x="397" y="224"/>
                </a:lnTo>
                <a:lnTo>
                  <a:pt x="368" y="209"/>
                </a:lnTo>
                <a:lnTo>
                  <a:pt x="338" y="196"/>
                </a:lnTo>
                <a:lnTo>
                  <a:pt x="308" y="182"/>
                </a:lnTo>
                <a:lnTo>
                  <a:pt x="278" y="170"/>
                </a:lnTo>
                <a:lnTo>
                  <a:pt x="249" y="159"/>
                </a:lnTo>
                <a:lnTo>
                  <a:pt x="219" y="151"/>
                </a:lnTo>
                <a:lnTo>
                  <a:pt x="188" y="142"/>
                </a:lnTo>
                <a:lnTo>
                  <a:pt x="159" y="136"/>
                </a:lnTo>
                <a:lnTo>
                  <a:pt x="128" y="131"/>
                </a:lnTo>
                <a:lnTo>
                  <a:pt x="97" y="128"/>
                </a:lnTo>
                <a:lnTo>
                  <a:pt x="65" y="128"/>
                </a:lnTo>
                <a:lnTo>
                  <a:pt x="35" y="129"/>
                </a:lnTo>
                <a:lnTo>
                  <a:pt x="14" y="114"/>
                </a:lnTo>
                <a:lnTo>
                  <a:pt x="3" y="93"/>
                </a:lnTo>
                <a:lnTo>
                  <a:pt x="0" y="70"/>
                </a:lnTo>
                <a:lnTo>
                  <a:pt x="2" y="48"/>
                </a:lnTo>
                <a:lnTo>
                  <a:pt x="8" y="27"/>
                </a:lnTo>
                <a:lnTo>
                  <a:pt x="17" y="12"/>
                </a:lnTo>
                <a:lnTo>
                  <a:pt x="28" y="2"/>
                </a:lnTo>
                <a:lnTo>
                  <a:pt x="38" y="0"/>
                </a:lnTo>
                <a:lnTo>
                  <a:pt x="74" y="1"/>
                </a:lnTo>
                <a:lnTo>
                  <a:pt x="110" y="4"/>
                </a:lnTo>
                <a:lnTo>
                  <a:pt x="144" y="8"/>
                </a:lnTo>
                <a:lnTo>
                  <a:pt x="177" y="14"/>
                </a:lnTo>
                <a:lnTo>
                  <a:pt x="210" y="21"/>
                </a:lnTo>
                <a:lnTo>
                  <a:pt x="242" y="29"/>
                </a:lnTo>
                <a:lnTo>
                  <a:pt x="273" y="39"/>
                </a:lnTo>
                <a:lnTo>
                  <a:pt x="302" y="50"/>
                </a:lnTo>
                <a:lnTo>
                  <a:pt x="332" y="62"/>
                </a:lnTo>
                <a:lnTo>
                  <a:pt x="361" y="74"/>
                </a:lnTo>
                <a:lnTo>
                  <a:pt x="389" y="88"/>
                </a:lnTo>
                <a:lnTo>
                  <a:pt x="417" y="103"/>
                </a:lnTo>
                <a:lnTo>
                  <a:pt x="445" y="117"/>
                </a:lnTo>
                <a:lnTo>
                  <a:pt x="474" y="132"/>
                </a:lnTo>
                <a:lnTo>
                  <a:pt x="501" y="147"/>
                </a:lnTo>
                <a:lnTo>
                  <a:pt x="529" y="162"/>
                </a:lnTo>
                <a:lnTo>
                  <a:pt x="558" y="178"/>
                </a:lnTo>
                <a:lnTo>
                  <a:pt x="586" y="193"/>
                </a:lnTo>
                <a:lnTo>
                  <a:pt x="614" y="207"/>
                </a:lnTo>
                <a:lnTo>
                  <a:pt x="644" y="222"/>
                </a:lnTo>
                <a:lnTo>
                  <a:pt x="674" y="237"/>
                </a:lnTo>
                <a:lnTo>
                  <a:pt x="705" y="250"/>
                </a:lnTo>
                <a:lnTo>
                  <a:pt x="735" y="263"/>
                </a:lnTo>
                <a:lnTo>
                  <a:pt x="767" y="275"/>
                </a:lnTo>
                <a:lnTo>
                  <a:pt x="801" y="286"/>
                </a:lnTo>
                <a:lnTo>
                  <a:pt x="834" y="295"/>
                </a:lnTo>
                <a:lnTo>
                  <a:pt x="869" y="304"/>
                </a:lnTo>
                <a:lnTo>
                  <a:pt x="906" y="311"/>
                </a:lnTo>
                <a:lnTo>
                  <a:pt x="943" y="317"/>
                </a:lnTo>
                <a:lnTo>
                  <a:pt x="982" y="321"/>
                </a:lnTo>
                <a:lnTo>
                  <a:pt x="1023" y="324"/>
                </a:lnTo>
                <a:lnTo>
                  <a:pt x="1065" y="325"/>
                </a:lnTo>
                <a:lnTo>
                  <a:pt x="1052" y="330"/>
                </a:lnTo>
                <a:lnTo>
                  <a:pt x="1041" y="343"/>
                </a:lnTo>
                <a:lnTo>
                  <a:pt x="1033" y="362"/>
                </a:lnTo>
                <a:lnTo>
                  <a:pt x="1030" y="384"/>
                </a:lnTo>
                <a:lnTo>
                  <a:pt x="1031" y="406"/>
                </a:lnTo>
                <a:lnTo>
                  <a:pt x="1037" y="427"/>
                </a:lnTo>
                <a:lnTo>
                  <a:pt x="1051" y="443"/>
                </a:lnTo>
                <a:lnTo>
                  <a:pt x="1070" y="453"/>
                </a:lnTo>
                <a:lnTo>
                  <a:pt x="1069" y="453"/>
                </a:lnTo>
                <a:lnTo>
                  <a:pt x="1061" y="451"/>
                </a:lnTo>
                <a:lnTo>
                  <a:pt x="1054" y="448"/>
                </a:lnTo>
                <a:lnTo>
                  <a:pt x="1048" y="441"/>
                </a:lnTo>
                <a:lnTo>
                  <a:pt x="1042" y="433"/>
                </a:lnTo>
                <a:lnTo>
                  <a:pt x="1038" y="425"/>
                </a:lnTo>
                <a:lnTo>
                  <a:pt x="1034" y="413"/>
                </a:lnTo>
                <a:lnTo>
                  <a:pt x="1032" y="401"/>
                </a:lnTo>
                <a:lnTo>
                  <a:pt x="1031" y="388"/>
                </a:lnTo>
                <a:lnTo>
                  <a:pt x="1032" y="376"/>
                </a:lnTo>
                <a:lnTo>
                  <a:pt x="1034" y="363"/>
                </a:lnTo>
                <a:lnTo>
                  <a:pt x="1038" y="352"/>
                </a:lnTo>
                <a:lnTo>
                  <a:pt x="1042" y="342"/>
                </a:lnTo>
                <a:lnTo>
                  <a:pt x="1048" y="335"/>
                </a:lnTo>
                <a:lnTo>
                  <a:pt x="1054" y="329"/>
                </a:lnTo>
                <a:lnTo>
                  <a:pt x="1061" y="326"/>
                </a:lnTo>
                <a:lnTo>
                  <a:pt x="1069" y="324"/>
                </a:lnTo>
                <a:lnTo>
                  <a:pt x="1077" y="326"/>
                </a:lnTo>
                <a:lnTo>
                  <a:pt x="1085" y="329"/>
                </a:lnTo>
                <a:lnTo>
                  <a:pt x="1091" y="335"/>
                </a:lnTo>
                <a:lnTo>
                  <a:pt x="1097" y="342"/>
                </a:lnTo>
                <a:lnTo>
                  <a:pt x="1102" y="352"/>
                </a:lnTo>
                <a:lnTo>
                  <a:pt x="1106" y="363"/>
                </a:lnTo>
                <a:lnTo>
                  <a:pt x="1108" y="376"/>
                </a:lnTo>
                <a:lnTo>
                  <a:pt x="1109" y="388"/>
                </a:lnTo>
                <a:lnTo>
                  <a:pt x="1108" y="401"/>
                </a:lnTo>
                <a:lnTo>
                  <a:pt x="1106" y="413"/>
                </a:lnTo>
                <a:lnTo>
                  <a:pt x="1102" y="425"/>
                </a:lnTo>
                <a:lnTo>
                  <a:pt x="1097" y="433"/>
                </a:lnTo>
                <a:lnTo>
                  <a:pt x="1091" y="441"/>
                </a:lnTo>
                <a:lnTo>
                  <a:pt x="1085" y="448"/>
                </a:lnTo>
                <a:lnTo>
                  <a:pt x="1077" y="451"/>
                </a:lnTo>
                <a:lnTo>
                  <a:pt x="1069" y="453"/>
                </a:lnTo>
                <a:lnTo>
                  <a:pt x="1070" y="453"/>
                </a:lnTo>
              </a:path>
            </a:pathLst>
          </a:cu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676680" y="4834080"/>
            <a:ext cx="1716120" cy="738000"/>
          </a:xfrm>
          <a:custGeom>
            <a:avLst/>
            <a:gdLst/>
            <a:ahLst/>
            <a:rect l="l" t="t" r="r" b="b"/>
            <a:pathLst>
              <a:path w="1081" h="465">
                <a:moveTo>
                  <a:pt x="1080" y="463"/>
                </a:moveTo>
                <a:lnTo>
                  <a:pt x="1040" y="464"/>
                </a:lnTo>
                <a:lnTo>
                  <a:pt x="1001" y="462"/>
                </a:lnTo>
                <a:lnTo>
                  <a:pt x="962" y="458"/>
                </a:lnTo>
                <a:lnTo>
                  <a:pt x="925" y="453"/>
                </a:lnTo>
                <a:lnTo>
                  <a:pt x="888" y="446"/>
                </a:lnTo>
                <a:lnTo>
                  <a:pt x="852" y="437"/>
                </a:lnTo>
                <a:lnTo>
                  <a:pt x="817" y="426"/>
                </a:lnTo>
                <a:lnTo>
                  <a:pt x="782" y="415"/>
                </a:lnTo>
                <a:lnTo>
                  <a:pt x="748" y="402"/>
                </a:lnTo>
                <a:lnTo>
                  <a:pt x="715" y="388"/>
                </a:lnTo>
                <a:lnTo>
                  <a:pt x="682" y="374"/>
                </a:lnTo>
                <a:lnTo>
                  <a:pt x="649" y="359"/>
                </a:lnTo>
                <a:lnTo>
                  <a:pt x="617" y="343"/>
                </a:lnTo>
                <a:lnTo>
                  <a:pt x="586" y="327"/>
                </a:lnTo>
                <a:lnTo>
                  <a:pt x="554" y="310"/>
                </a:lnTo>
                <a:lnTo>
                  <a:pt x="523" y="293"/>
                </a:lnTo>
                <a:lnTo>
                  <a:pt x="492" y="277"/>
                </a:lnTo>
                <a:lnTo>
                  <a:pt x="462" y="260"/>
                </a:lnTo>
                <a:lnTo>
                  <a:pt x="431" y="244"/>
                </a:lnTo>
                <a:lnTo>
                  <a:pt x="401" y="229"/>
                </a:lnTo>
                <a:lnTo>
                  <a:pt x="371" y="214"/>
                </a:lnTo>
                <a:lnTo>
                  <a:pt x="341" y="200"/>
                </a:lnTo>
                <a:lnTo>
                  <a:pt x="311" y="186"/>
                </a:lnTo>
                <a:lnTo>
                  <a:pt x="281" y="174"/>
                </a:lnTo>
                <a:lnTo>
                  <a:pt x="251" y="163"/>
                </a:lnTo>
                <a:lnTo>
                  <a:pt x="221" y="154"/>
                </a:lnTo>
                <a:lnTo>
                  <a:pt x="190" y="145"/>
                </a:lnTo>
                <a:lnTo>
                  <a:pt x="160" y="139"/>
                </a:lnTo>
                <a:lnTo>
                  <a:pt x="129" y="134"/>
                </a:lnTo>
                <a:lnTo>
                  <a:pt x="98" y="131"/>
                </a:lnTo>
                <a:lnTo>
                  <a:pt x="66" y="131"/>
                </a:lnTo>
                <a:lnTo>
                  <a:pt x="35" y="132"/>
                </a:lnTo>
                <a:lnTo>
                  <a:pt x="14" y="116"/>
                </a:lnTo>
                <a:lnTo>
                  <a:pt x="3" y="95"/>
                </a:lnTo>
                <a:lnTo>
                  <a:pt x="0" y="72"/>
                </a:lnTo>
                <a:lnTo>
                  <a:pt x="2" y="49"/>
                </a:lnTo>
                <a:lnTo>
                  <a:pt x="8" y="28"/>
                </a:lnTo>
                <a:lnTo>
                  <a:pt x="17" y="12"/>
                </a:lnTo>
                <a:lnTo>
                  <a:pt x="28" y="2"/>
                </a:lnTo>
                <a:lnTo>
                  <a:pt x="38" y="0"/>
                </a:lnTo>
                <a:lnTo>
                  <a:pt x="75" y="1"/>
                </a:lnTo>
                <a:lnTo>
                  <a:pt x="111" y="4"/>
                </a:lnTo>
                <a:lnTo>
                  <a:pt x="145" y="8"/>
                </a:lnTo>
                <a:lnTo>
                  <a:pt x="179" y="14"/>
                </a:lnTo>
                <a:lnTo>
                  <a:pt x="212" y="21"/>
                </a:lnTo>
                <a:lnTo>
                  <a:pt x="244" y="30"/>
                </a:lnTo>
                <a:lnTo>
                  <a:pt x="275" y="40"/>
                </a:lnTo>
                <a:lnTo>
                  <a:pt x="305" y="51"/>
                </a:lnTo>
                <a:lnTo>
                  <a:pt x="335" y="63"/>
                </a:lnTo>
                <a:lnTo>
                  <a:pt x="364" y="76"/>
                </a:lnTo>
                <a:lnTo>
                  <a:pt x="393" y="90"/>
                </a:lnTo>
                <a:lnTo>
                  <a:pt x="421" y="105"/>
                </a:lnTo>
                <a:lnTo>
                  <a:pt x="449" y="120"/>
                </a:lnTo>
                <a:lnTo>
                  <a:pt x="478" y="135"/>
                </a:lnTo>
                <a:lnTo>
                  <a:pt x="506" y="150"/>
                </a:lnTo>
                <a:lnTo>
                  <a:pt x="534" y="166"/>
                </a:lnTo>
                <a:lnTo>
                  <a:pt x="563" y="182"/>
                </a:lnTo>
                <a:lnTo>
                  <a:pt x="591" y="197"/>
                </a:lnTo>
                <a:lnTo>
                  <a:pt x="620" y="212"/>
                </a:lnTo>
                <a:lnTo>
                  <a:pt x="650" y="227"/>
                </a:lnTo>
                <a:lnTo>
                  <a:pt x="680" y="242"/>
                </a:lnTo>
                <a:lnTo>
                  <a:pt x="711" y="256"/>
                </a:lnTo>
                <a:lnTo>
                  <a:pt x="742" y="269"/>
                </a:lnTo>
                <a:lnTo>
                  <a:pt x="774" y="281"/>
                </a:lnTo>
                <a:lnTo>
                  <a:pt x="808" y="292"/>
                </a:lnTo>
                <a:lnTo>
                  <a:pt x="842" y="302"/>
                </a:lnTo>
                <a:lnTo>
                  <a:pt x="877" y="311"/>
                </a:lnTo>
                <a:lnTo>
                  <a:pt x="914" y="318"/>
                </a:lnTo>
                <a:lnTo>
                  <a:pt x="952" y="324"/>
                </a:lnTo>
                <a:lnTo>
                  <a:pt x="991" y="328"/>
                </a:lnTo>
                <a:lnTo>
                  <a:pt x="1032" y="331"/>
                </a:lnTo>
                <a:lnTo>
                  <a:pt x="1075" y="332"/>
                </a:lnTo>
                <a:lnTo>
                  <a:pt x="1061" y="337"/>
                </a:lnTo>
                <a:lnTo>
                  <a:pt x="1050" y="351"/>
                </a:lnTo>
                <a:lnTo>
                  <a:pt x="1042" y="370"/>
                </a:lnTo>
                <a:lnTo>
                  <a:pt x="1039" y="392"/>
                </a:lnTo>
                <a:lnTo>
                  <a:pt x="1040" y="415"/>
                </a:lnTo>
                <a:lnTo>
                  <a:pt x="1046" y="436"/>
                </a:lnTo>
                <a:lnTo>
                  <a:pt x="1060" y="453"/>
                </a:lnTo>
                <a:lnTo>
                  <a:pt x="1080" y="4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327640" y="5359320"/>
            <a:ext cx="127080" cy="211320"/>
          </a:xfrm>
          <a:custGeom>
            <a:avLst/>
            <a:gdLst/>
            <a:ahLst/>
            <a:rect l="l" t="t" r="r" b="b"/>
            <a:pathLst>
              <a:path w="80" h="133">
                <a:moveTo>
                  <a:pt x="39" y="132"/>
                </a:moveTo>
                <a:lnTo>
                  <a:pt x="31" y="130"/>
                </a:lnTo>
                <a:lnTo>
                  <a:pt x="24" y="127"/>
                </a:lnTo>
                <a:lnTo>
                  <a:pt x="17" y="120"/>
                </a:lnTo>
                <a:lnTo>
                  <a:pt x="11" y="112"/>
                </a:lnTo>
                <a:lnTo>
                  <a:pt x="7" y="103"/>
                </a:lnTo>
                <a:lnTo>
                  <a:pt x="3" y="91"/>
                </a:lnTo>
                <a:lnTo>
                  <a:pt x="1" y="79"/>
                </a:lnTo>
                <a:lnTo>
                  <a:pt x="0" y="66"/>
                </a:lnTo>
                <a:lnTo>
                  <a:pt x="1" y="53"/>
                </a:lnTo>
                <a:lnTo>
                  <a:pt x="3" y="40"/>
                </a:lnTo>
                <a:lnTo>
                  <a:pt x="7" y="29"/>
                </a:lnTo>
                <a:lnTo>
                  <a:pt x="11" y="19"/>
                </a:lnTo>
                <a:lnTo>
                  <a:pt x="17" y="11"/>
                </a:lnTo>
                <a:lnTo>
                  <a:pt x="24" y="5"/>
                </a:lnTo>
                <a:lnTo>
                  <a:pt x="31" y="2"/>
                </a:lnTo>
                <a:lnTo>
                  <a:pt x="39" y="0"/>
                </a:lnTo>
                <a:lnTo>
                  <a:pt x="47" y="2"/>
                </a:lnTo>
                <a:lnTo>
                  <a:pt x="55" y="5"/>
                </a:lnTo>
                <a:lnTo>
                  <a:pt x="61" y="11"/>
                </a:lnTo>
                <a:lnTo>
                  <a:pt x="67" y="19"/>
                </a:lnTo>
                <a:lnTo>
                  <a:pt x="72" y="29"/>
                </a:lnTo>
                <a:lnTo>
                  <a:pt x="76" y="40"/>
                </a:lnTo>
                <a:lnTo>
                  <a:pt x="78" y="53"/>
                </a:lnTo>
                <a:lnTo>
                  <a:pt x="79" y="66"/>
                </a:lnTo>
                <a:lnTo>
                  <a:pt x="78" y="79"/>
                </a:lnTo>
                <a:lnTo>
                  <a:pt x="76" y="91"/>
                </a:lnTo>
                <a:lnTo>
                  <a:pt x="72" y="103"/>
                </a:lnTo>
                <a:lnTo>
                  <a:pt x="67" y="112"/>
                </a:lnTo>
                <a:lnTo>
                  <a:pt x="61" y="120"/>
                </a:lnTo>
                <a:lnTo>
                  <a:pt x="55" y="127"/>
                </a:lnTo>
                <a:lnTo>
                  <a:pt x="47" y="130"/>
                </a:lnTo>
                <a:lnTo>
                  <a:pt x="39" y="1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300640" y="4772160"/>
            <a:ext cx="0" cy="13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330880" y="5357880"/>
            <a:ext cx="1380960" cy="196920"/>
          </a:xfrm>
          <a:custGeom>
            <a:avLst/>
            <a:gdLst/>
            <a:ahLst/>
            <a:rect l="l" t="t" r="r" b="b"/>
            <a:pathLst>
              <a:path w="870" h="124">
                <a:moveTo>
                  <a:pt x="838" y="122"/>
                </a:moveTo>
                <a:lnTo>
                  <a:pt x="26" y="123"/>
                </a:lnTo>
                <a:lnTo>
                  <a:pt x="17" y="114"/>
                </a:lnTo>
                <a:lnTo>
                  <a:pt x="9" y="101"/>
                </a:lnTo>
                <a:lnTo>
                  <a:pt x="3" y="86"/>
                </a:lnTo>
                <a:lnTo>
                  <a:pt x="0" y="69"/>
                </a:lnTo>
                <a:lnTo>
                  <a:pt x="0" y="52"/>
                </a:lnTo>
                <a:lnTo>
                  <a:pt x="4" y="34"/>
                </a:lnTo>
                <a:lnTo>
                  <a:pt x="14" y="17"/>
                </a:lnTo>
                <a:lnTo>
                  <a:pt x="29" y="1"/>
                </a:lnTo>
                <a:lnTo>
                  <a:pt x="57" y="1"/>
                </a:lnTo>
                <a:lnTo>
                  <a:pt x="85" y="1"/>
                </a:lnTo>
                <a:lnTo>
                  <a:pt x="112" y="1"/>
                </a:lnTo>
                <a:lnTo>
                  <a:pt x="138" y="1"/>
                </a:lnTo>
                <a:lnTo>
                  <a:pt x="164" y="1"/>
                </a:lnTo>
                <a:lnTo>
                  <a:pt x="189" y="0"/>
                </a:lnTo>
                <a:lnTo>
                  <a:pt x="213" y="0"/>
                </a:lnTo>
                <a:lnTo>
                  <a:pt x="236" y="0"/>
                </a:lnTo>
                <a:lnTo>
                  <a:pt x="259" y="0"/>
                </a:lnTo>
                <a:lnTo>
                  <a:pt x="282" y="1"/>
                </a:lnTo>
                <a:lnTo>
                  <a:pt x="304" y="1"/>
                </a:lnTo>
                <a:lnTo>
                  <a:pt x="326" y="1"/>
                </a:lnTo>
                <a:lnTo>
                  <a:pt x="348" y="1"/>
                </a:lnTo>
                <a:lnTo>
                  <a:pt x="370" y="1"/>
                </a:lnTo>
                <a:lnTo>
                  <a:pt x="392" y="1"/>
                </a:lnTo>
                <a:lnTo>
                  <a:pt x="414" y="1"/>
                </a:lnTo>
                <a:lnTo>
                  <a:pt x="436" y="1"/>
                </a:lnTo>
                <a:lnTo>
                  <a:pt x="459" y="1"/>
                </a:lnTo>
                <a:lnTo>
                  <a:pt x="481" y="1"/>
                </a:lnTo>
                <a:lnTo>
                  <a:pt x="504" y="1"/>
                </a:lnTo>
                <a:lnTo>
                  <a:pt x="527" y="1"/>
                </a:lnTo>
                <a:lnTo>
                  <a:pt x="552" y="1"/>
                </a:lnTo>
                <a:lnTo>
                  <a:pt x="575" y="1"/>
                </a:lnTo>
                <a:lnTo>
                  <a:pt x="601" y="1"/>
                </a:lnTo>
                <a:lnTo>
                  <a:pt x="627" y="1"/>
                </a:lnTo>
                <a:lnTo>
                  <a:pt x="653" y="1"/>
                </a:lnTo>
                <a:lnTo>
                  <a:pt x="681" y="1"/>
                </a:lnTo>
                <a:lnTo>
                  <a:pt x="709" y="1"/>
                </a:lnTo>
                <a:lnTo>
                  <a:pt x="739" y="1"/>
                </a:lnTo>
                <a:lnTo>
                  <a:pt x="769" y="1"/>
                </a:lnTo>
                <a:lnTo>
                  <a:pt x="801" y="1"/>
                </a:lnTo>
                <a:lnTo>
                  <a:pt x="834" y="0"/>
                </a:lnTo>
                <a:lnTo>
                  <a:pt x="824" y="6"/>
                </a:lnTo>
                <a:lnTo>
                  <a:pt x="815" y="18"/>
                </a:lnTo>
                <a:lnTo>
                  <a:pt x="809" y="35"/>
                </a:lnTo>
                <a:lnTo>
                  <a:pt x="806" y="55"/>
                </a:lnTo>
                <a:lnTo>
                  <a:pt x="807" y="77"/>
                </a:lnTo>
                <a:lnTo>
                  <a:pt x="813" y="96"/>
                </a:lnTo>
                <a:lnTo>
                  <a:pt x="823" y="112"/>
                </a:lnTo>
                <a:lnTo>
                  <a:pt x="838" y="122"/>
                </a:lnTo>
                <a:lnTo>
                  <a:pt x="837" y="121"/>
                </a:lnTo>
                <a:lnTo>
                  <a:pt x="831" y="120"/>
                </a:lnTo>
                <a:lnTo>
                  <a:pt x="826" y="117"/>
                </a:lnTo>
                <a:lnTo>
                  <a:pt x="821" y="111"/>
                </a:lnTo>
                <a:lnTo>
                  <a:pt x="816" y="104"/>
                </a:lnTo>
                <a:lnTo>
                  <a:pt x="813" y="94"/>
                </a:lnTo>
                <a:lnTo>
                  <a:pt x="810" y="84"/>
                </a:lnTo>
                <a:lnTo>
                  <a:pt x="808" y="73"/>
                </a:lnTo>
                <a:lnTo>
                  <a:pt x="807" y="60"/>
                </a:lnTo>
                <a:lnTo>
                  <a:pt x="808" y="48"/>
                </a:lnTo>
                <a:lnTo>
                  <a:pt x="810" y="37"/>
                </a:lnTo>
                <a:lnTo>
                  <a:pt x="813" y="27"/>
                </a:lnTo>
                <a:lnTo>
                  <a:pt x="816" y="18"/>
                </a:lnTo>
                <a:lnTo>
                  <a:pt x="821" y="10"/>
                </a:lnTo>
                <a:lnTo>
                  <a:pt x="826" y="5"/>
                </a:lnTo>
                <a:lnTo>
                  <a:pt x="831" y="1"/>
                </a:lnTo>
                <a:lnTo>
                  <a:pt x="837" y="0"/>
                </a:lnTo>
                <a:lnTo>
                  <a:pt x="844" y="1"/>
                </a:lnTo>
                <a:lnTo>
                  <a:pt x="850" y="5"/>
                </a:lnTo>
                <a:lnTo>
                  <a:pt x="855" y="10"/>
                </a:lnTo>
                <a:lnTo>
                  <a:pt x="860" y="18"/>
                </a:lnTo>
                <a:lnTo>
                  <a:pt x="863" y="27"/>
                </a:lnTo>
                <a:lnTo>
                  <a:pt x="866" y="37"/>
                </a:lnTo>
                <a:lnTo>
                  <a:pt x="868" y="48"/>
                </a:lnTo>
                <a:lnTo>
                  <a:pt x="869" y="60"/>
                </a:lnTo>
                <a:lnTo>
                  <a:pt x="868" y="73"/>
                </a:lnTo>
                <a:lnTo>
                  <a:pt x="866" y="84"/>
                </a:lnTo>
                <a:lnTo>
                  <a:pt x="863" y="94"/>
                </a:lnTo>
                <a:lnTo>
                  <a:pt x="860" y="104"/>
                </a:lnTo>
                <a:lnTo>
                  <a:pt x="855" y="111"/>
                </a:lnTo>
                <a:lnTo>
                  <a:pt x="850" y="117"/>
                </a:lnTo>
                <a:lnTo>
                  <a:pt x="844" y="120"/>
                </a:lnTo>
                <a:lnTo>
                  <a:pt x="837" y="121"/>
                </a:lnTo>
                <a:lnTo>
                  <a:pt x="838" y="122"/>
                </a:lnTo>
              </a:path>
            </a:pathLst>
          </a:cu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330880" y="5357880"/>
            <a:ext cx="1347840" cy="212760"/>
          </a:xfrm>
          <a:custGeom>
            <a:avLst/>
            <a:gdLst/>
            <a:ahLst/>
            <a:rect l="l" t="t" r="r" b="b"/>
            <a:pathLst>
              <a:path w="849" h="134">
                <a:moveTo>
                  <a:pt x="848" y="132"/>
                </a:moveTo>
                <a:lnTo>
                  <a:pt x="26" y="133"/>
                </a:lnTo>
                <a:lnTo>
                  <a:pt x="17" y="123"/>
                </a:lnTo>
                <a:lnTo>
                  <a:pt x="9" y="109"/>
                </a:lnTo>
                <a:lnTo>
                  <a:pt x="3" y="93"/>
                </a:lnTo>
                <a:lnTo>
                  <a:pt x="0" y="75"/>
                </a:lnTo>
                <a:lnTo>
                  <a:pt x="0" y="56"/>
                </a:lnTo>
                <a:lnTo>
                  <a:pt x="4" y="37"/>
                </a:lnTo>
                <a:lnTo>
                  <a:pt x="14" y="18"/>
                </a:lnTo>
                <a:lnTo>
                  <a:pt x="29" y="1"/>
                </a:lnTo>
                <a:lnTo>
                  <a:pt x="58" y="1"/>
                </a:lnTo>
                <a:lnTo>
                  <a:pt x="86" y="1"/>
                </a:lnTo>
                <a:lnTo>
                  <a:pt x="113" y="1"/>
                </a:lnTo>
                <a:lnTo>
                  <a:pt x="140" y="1"/>
                </a:lnTo>
                <a:lnTo>
                  <a:pt x="166" y="1"/>
                </a:lnTo>
                <a:lnTo>
                  <a:pt x="191" y="0"/>
                </a:lnTo>
                <a:lnTo>
                  <a:pt x="215" y="0"/>
                </a:lnTo>
                <a:lnTo>
                  <a:pt x="239" y="0"/>
                </a:lnTo>
                <a:lnTo>
                  <a:pt x="262" y="0"/>
                </a:lnTo>
                <a:lnTo>
                  <a:pt x="285" y="1"/>
                </a:lnTo>
                <a:lnTo>
                  <a:pt x="308" y="1"/>
                </a:lnTo>
                <a:lnTo>
                  <a:pt x="330" y="1"/>
                </a:lnTo>
                <a:lnTo>
                  <a:pt x="352" y="1"/>
                </a:lnTo>
                <a:lnTo>
                  <a:pt x="374" y="1"/>
                </a:lnTo>
                <a:lnTo>
                  <a:pt x="397" y="1"/>
                </a:lnTo>
                <a:lnTo>
                  <a:pt x="419" y="1"/>
                </a:lnTo>
                <a:lnTo>
                  <a:pt x="441" y="1"/>
                </a:lnTo>
                <a:lnTo>
                  <a:pt x="464" y="1"/>
                </a:lnTo>
                <a:lnTo>
                  <a:pt x="487" y="1"/>
                </a:lnTo>
                <a:lnTo>
                  <a:pt x="510" y="1"/>
                </a:lnTo>
                <a:lnTo>
                  <a:pt x="533" y="1"/>
                </a:lnTo>
                <a:lnTo>
                  <a:pt x="558" y="1"/>
                </a:lnTo>
                <a:lnTo>
                  <a:pt x="582" y="1"/>
                </a:lnTo>
                <a:lnTo>
                  <a:pt x="608" y="1"/>
                </a:lnTo>
                <a:lnTo>
                  <a:pt x="634" y="1"/>
                </a:lnTo>
                <a:lnTo>
                  <a:pt x="661" y="1"/>
                </a:lnTo>
                <a:lnTo>
                  <a:pt x="689" y="1"/>
                </a:lnTo>
                <a:lnTo>
                  <a:pt x="717" y="1"/>
                </a:lnTo>
                <a:lnTo>
                  <a:pt x="747" y="1"/>
                </a:lnTo>
                <a:lnTo>
                  <a:pt x="778" y="1"/>
                </a:lnTo>
                <a:lnTo>
                  <a:pt x="810" y="1"/>
                </a:lnTo>
                <a:lnTo>
                  <a:pt x="844" y="0"/>
                </a:lnTo>
                <a:lnTo>
                  <a:pt x="833" y="6"/>
                </a:lnTo>
                <a:lnTo>
                  <a:pt x="824" y="19"/>
                </a:lnTo>
                <a:lnTo>
                  <a:pt x="818" y="38"/>
                </a:lnTo>
                <a:lnTo>
                  <a:pt x="815" y="60"/>
                </a:lnTo>
                <a:lnTo>
                  <a:pt x="816" y="83"/>
                </a:lnTo>
                <a:lnTo>
                  <a:pt x="822" y="104"/>
                </a:lnTo>
                <a:lnTo>
                  <a:pt x="832" y="121"/>
                </a:lnTo>
                <a:lnTo>
                  <a:pt x="848" y="1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26160" y="5357880"/>
            <a:ext cx="101520" cy="209520"/>
          </a:xfrm>
          <a:custGeom>
            <a:avLst/>
            <a:gdLst/>
            <a:ahLst/>
            <a:rect l="l" t="t" r="r" b="b"/>
            <a:pathLst>
              <a:path w="64" h="132">
                <a:moveTo>
                  <a:pt x="31" y="131"/>
                </a:moveTo>
                <a:lnTo>
                  <a:pt x="25" y="130"/>
                </a:lnTo>
                <a:lnTo>
                  <a:pt x="19" y="126"/>
                </a:lnTo>
                <a:lnTo>
                  <a:pt x="14" y="120"/>
                </a:lnTo>
                <a:lnTo>
                  <a:pt x="9" y="112"/>
                </a:lnTo>
                <a:lnTo>
                  <a:pt x="6" y="102"/>
                </a:lnTo>
                <a:lnTo>
                  <a:pt x="3" y="91"/>
                </a:lnTo>
                <a:lnTo>
                  <a:pt x="1" y="79"/>
                </a:lnTo>
                <a:lnTo>
                  <a:pt x="0" y="65"/>
                </a:lnTo>
                <a:lnTo>
                  <a:pt x="1" y="52"/>
                </a:lnTo>
                <a:lnTo>
                  <a:pt x="3" y="40"/>
                </a:lnTo>
                <a:lnTo>
                  <a:pt x="6" y="29"/>
                </a:lnTo>
                <a:lnTo>
                  <a:pt x="9" y="19"/>
                </a:lnTo>
                <a:lnTo>
                  <a:pt x="14" y="11"/>
                </a:lnTo>
                <a:lnTo>
                  <a:pt x="19" y="5"/>
                </a:lnTo>
                <a:lnTo>
                  <a:pt x="25" y="1"/>
                </a:lnTo>
                <a:lnTo>
                  <a:pt x="31" y="0"/>
                </a:lnTo>
                <a:lnTo>
                  <a:pt x="38" y="1"/>
                </a:lnTo>
                <a:lnTo>
                  <a:pt x="44" y="5"/>
                </a:lnTo>
                <a:lnTo>
                  <a:pt x="49" y="11"/>
                </a:lnTo>
                <a:lnTo>
                  <a:pt x="54" y="19"/>
                </a:lnTo>
                <a:lnTo>
                  <a:pt x="57" y="29"/>
                </a:lnTo>
                <a:lnTo>
                  <a:pt x="60" y="40"/>
                </a:lnTo>
                <a:lnTo>
                  <a:pt x="62" y="52"/>
                </a:lnTo>
                <a:lnTo>
                  <a:pt x="63" y="65"/>
                </a:lnTo>
                <a:lnTo>
                  <a:pt x="62" y="79"/>
                </a:lnTo>
                <a:lnTo>
                  <a:pt x="60" y="91"/>
                </a:lnTo>
                <a:lnTo>
                  <a:pt x="57" y="102"/>
                </a:lnTo>
                <a:lnTo>
                  <a:pt x="54" y="112"/>
                </a:lnTo>
                <a:lnTo>
                  <a:pt x="49" y="120"/>
                </a:lnTo>
                <a:lnTo>
                  <a:pt x="44" y="126"/>
                </a:lnTo>
                <a:lnTo>
                  <a:pt x="38" y="130"/>
                </a:lnTo>
                <a:lnTo>
                  <a:pt x="31" y="1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618240" y="4943520"/>
            <a:ext cx="581040" cy="58680"/>
          </a:xfrm>
          <a:custGeom>
            <a:avLst/>
            <a:gdLst/>
            <a:ahLst/>
            <a:rect l="l" t="t" r="r" b="b"/>
            <a:pathLst>
              <a:path w="366" h="37">
                <a:moveTo>
                  <a:pt x="0" y="36"/>
                </a:moveTo>
                <a:lnTo>
                  <a:pt x="61" y="0"/>
                </a:lnTo>
                <a:lnTo>
                  <a:pt x="365" y="0"/>
                </a:lnTo>
                <a:lnTo>
                  <a:pt x="303" y="36"/>
                </a:lnTo>
                <a:lnTo>
                  <a:pt x="0" y="36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618240" y="4943520"/>
            <a:ext cx="596880" cy="74520"/>
          </a:xfrm>
          <a:custGeom>
            <a:avLst/>
            <a:gdLst/>
            <a:ahLst/>
            <a:rect l="l" t="t" r="r" b="b"/>
            <a:pathLst>
              <a:path w="376" h="47">
                <a:moveTo>
                  <a:pt x="0" y="46"/>
                </a:moveTo>
                <a:lnTo>
                  <a:pt x="63" y="0"/>
                </a:lnTo>
                <a:lnTo>
                  <a:pt x="375" y="0"/>
                </a:lnTo>
                <a:lnTo>
                  <a:pt x="311" y="46"/>
                </a:lnTo>
                <a:lnTo>
                  <a:pt x="0" y="4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112160" y="4943520"/>
            <a:ext cx="87120" cy="809640"/>
          </a:xfrm>
          <a:custGeom>
            <a:avLst/>
            <a:gdLst/>
            <a:ahLst/>
            <a:rect l="l" t="t" r="r" b="b"/>
            <a:pathLst>
              <a:path w="55" h="510">
                <a:moveTo>
                  <a:pt x="0" y="45"/>
                </a:moveTo>
                <a:lnTo>
                  <a:pt x="54" y="0"/>
                </a:lnTo>
                <a:lnTo>
                  <a:pt x="54" y="465"/>
                </a:lnTo>
                <a:lnTo>
                  <a:pt x="0" y="509"/>
                </a:lnTo>
                <a:lnTo>
                  <a:pt x="0" y="45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112160" y="4943520"/>
            <a:ext cx="102960" cy="825480"/>
          </a:xfrm>
          <a:custGeom>
            <a:avLst/>
            <a:gdLst/>
            <a:ahLst/>
            <a:rect l="l" t="t" r="r" b="b"/>
            <a:pathLst>
              <a:path w="65" h="520">
                <a:moveTo>
                  <a:pt x="0" y="46"/>
                </a:moveTo>
                <a:lnTo>
                  <a:pt x="64" y="0"/>
                </a:lnTo>
                <a:lnTo>
                  <a:pt x="64" y="474"/>
                </a:lnTo>
                <a:lnTo>
                  <a:pt x="0" y="519"/>
                </a:lnTo>
                <a:lnTo>
                  <a:pt x="0" y="4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618240" y="5016600"/>
            <a:ext cx="479520" cy="736560"/>
          </a:xfrm>
          <a:custGeom>
            <a:avLst/>
            <a:gdLst/>
            <a:ahLst/>
            <a:rect l="l" t="t" r="r" b="b"/>
            <a:pathLst>
              <a:path w="302" h="464">
                <a:moveTo>
                  <a:pt x="0" y="0"/>
                </a:moveTo>
                <a:lnTo>
                  <a:pt x="301" y="0"/>
                </a:lnTo>
                <a:lnTo>
                  <a:pt x="301" y="463"/>
                </a:lnTo>
                <a:lnTo>
                  <a:pt x="0" y="463"/>
                </a:lnTo>
                <a:lnTo>
                  <a:pt x="0" y="0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618240" y="5016600"/>
            <a:ext cx="495360" cy="752400"/>
          </a:xfrm>
          <a:custGeom>
            <a:avLst/>
            <a:gdLst/>
            <a:ahLst/>
            <a:rect l="l" t="t" r="r" b="b"/>
            <a:pathLst>
              <a:path w="312" h="474">
                <a:moveTo>
                  <a:pt x="0" y="0"/>
                </a:moveTo>
                <a:lnTo>
                  <a:pt x="311" y="0"/>
                </a:lnTo>
                <a:lnTo>
                  <a:pt x="311" y="473"/>
                </a:lnTo>
                <a:lnTo>
                  <a:pt x="0" y="47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76520" y="4645080"/>
            <a:ext cx="236520" cy="90360"/>
          </a:xfrm>
          <a:custGeom>
            <a:avLst/>
            <a:gdLst/>
            <a:ahLst/>
            <a:rect l="l" t="t" r="r" b="b"/>
            <a:pathLst>
              <a:path w="149" h="57">
                <a:moveTo>
                  <a:pt x="147" y="52"/>
                </a:moveTo>
                <a:lnTo>
                  <a:pt x="148" y="48"/>
                </a:lnTo>
                <a:lnTo>
                  <a:pt x="3" y="0"/>
                </a:lnTo>
                <a:lnTo>
                  <a:pt x="0" y="8"/>
                </a:lnTo>
                <a:lnTo>
                  <a:pt x="145" y="56"/>
                </a:lnTo>
                <a:lnTo>
                  <a:pt x="147" y="52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668600" y="4802040"/>
            <a:ext cx="242640" cy="49320"/>
          </a:xfrm>
          <a:custGeom>
            <a:avLst/>
            <a:gdLst/>
            <a:ahLst/>
            <a:rect l="l" t="t" r="r" b="b"/>
            <a:pathLst>
              <a:path w="153" h="31">
                <a:moveTo>
                  <a:pt x="152" y="26"/>
                </a:moveTo>
                <a:lnTo>
                  <a:pt x="152" y="23"/>
                </a:lnTo>
                <a:lnTo>
                  <a:pt x="2" y="0"/>
                </a:lnTo>
                <a:lnTo>
                  <a:pt x="0" y="7"/>
                </a:lnTo>
                <a:lnTo>
                  <a:pt x="151" y="30"/>
                </a:lnTo>
                <a:lnTo>
                  <a:pt x="152" y="26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677960" y="49752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146" y="0"/>
                </a:moveTo>
                <a:lnTo>
                  <a:pt x="0" y="0"/>
                </a:lnTo>
                <a:lnTo>
                  <a:pt x="146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676520" y="5091120"/>
            <a:ext cx="236520" cy="66600"/>
          </a:xfrm>
          <a:custGeom>
            <a:avLst/>
            <a:gdLst/>
            <a:ahLst/>
            <a:rect l="l" t="t" r="r" b="b"/>
            <a:pathLst>
              <a:path w="149" h="42">
                <a:moveTo>
                  <a:pt x="147" y="4"/>
                </a:moveTo>
                <a:lnTo>
                  <a:pt x="146" y="0"/>
                </a:lnTo>
                <a:lnTo>
                  <a:pt x="0" y="34"/>
                </a:lnTo>
                <a:lnTo>
                  <a:pt x="2" y="41"/>
                </a:lnTo>
                <a:lnTo>
                  <a:pt x="148" y="7"/>
                </a:lnTo>
                <a:lnTo>
                  <a:pt x="147" y="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149960" y="5000760"/>
            <a:ext cx="297000" cy="147600"/>
          </a:xfrm>
          <a:custGeom>
            <a:avLst/>
            <a:gdLst/>
            <a:ahLst/>
            <a:rect l="l" t="t" r="r" b="b"/>
            <a:pathLst>
              <a:path w="187" h="93">
                <a:moveTo>
                  <a:pt x="184" y="4"/>
                </a:moveTo>
                <a:lnTo>
                  <a:pt x="182" y="0"/>
                </a:lnTo>
                <a:lnTo>
                  <a:pt x="0" y="85"/>
                </a:lnTo>
                <a:lnTo>
                  <a:pt x="4" y="92"/>
                </a:lnTo>
                <a:lnTo>
                  <a:pt x="186" y="7"/>
                </a:lnTo>
                <a:lnTo>
                  <a:pt x="184" y="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61120" y="5214960"/>
            <a:ext cx="274680" cy="57240"/>
          </a:xfrm>
          <a:custGeom>
            <a:avLst/>
            <a:gdLst/>
            <a:ahLst/>
            <a:rect l="l" t="t" r="r" b="b"/>
            <a:pathLst>
              <a:path w="173" h="36">
                <a:moveTo>
                  <a:pt x="172" y="4"/>
                </a:moveTo>
                <a:lnTo>
                  <a:pt x="171" y="0"/>
                </a:lnTo>
                <a:lnTo>
                  <a:pt x="0" y="28"/>
                </a:lnTo>
                <a:lnTo>
                  <a:pt x="1" y="35"/>
                </a:lnTo>
                <a:lnTo>
                  <a:pt x="172" y="7"/>
                </a:lnTo>
                <a:lnTo>
                  <a:pt x="172" y="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161120" y="5405400"/>
            <a:ext cx="266760" cy="1800"/>
          </a:xfrm>
          <a:custGeom>
            <a:avLst/>
            <a:gdLst/>
            <a:ahLst/>
            <a:rect l="l" t="t" r="r" b="b"/>
            <a:pathLst>
              <a:path w="168" h="1">
                <a:moveTo>
                  <a:pt x="167" y="0"/>
                </a:moveTo>
                <a:lnTo>
                  <a:pt x="0" y="0"/>
                </a:lnTo>
                <a:lnTo>
                  <a:pt x="167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159680" y="5537160"/>
            <a:ext cx="270000" cy="92160"/>
          </a:xfrm>
          <a:custGeom>
            <a:avLst/>
            <a:gdLst/>
            <a:ahLst/>
            <a:rect l="l" t="t" r="r" b="b"/>
            <a:pathLst>
              <a:path w="170" h="58">
                <a:moveTo>
                  <a:pt x="168" y="53"/>
                </a:moveTo>
                <a:lnTo>
                  <a:pt x="169" y="49"/>
                </a:lnTo>
                <a:lnTo>
                  <a:pt x="3" y="0"/>
                </a:lnTo>
                <a:lnTo>
                  <a:pt x="0" y="8"/>
                </a:lnTo>
                <a:lnTo>
                  <a:pt x="166" y="57"/>
                </a:lnTo>
                <a:lnTo>
                  <a:pt x="168" y="53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211480" y="4208400"/>
            <a:ext cx="1440" cy="104760"/>
          </a:xfrm>
          <a:custGeom>
            <a:avLst/>
            <a:gdLst/>
            <a:ahLst/>
            <a:rect l="l" t="t" r="r" b="b"/>
            <a:pathLst>
              <a:path w="1" h="66">
                <a:moveTo>
                  <a:pt x="0" y="65"/>
                </a:moveTo>
                <a:lnTo>
                  <a:pt x="0" y="0"/>
                </a:lnTo>
                <a:lnTo>
                  <a:pt x="0" y="65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885000" y="4199040"/>
            <a:ext cx="1440" cy="547560"/>
          </a:xfrm>
          <a:custGeom>
            <a:avLst/>
            <a:gdLst/>
            <a:ahLst/>
            <a:rect l="l" t="t" r="r" b="b"/>
            <a:pathLst>
              <a:path w="1" h="345">
                <a:moveTo>
                  <a:pt x="0" y="344"/>
                </a:moveTo>
                <a:lnTo>
                  <a:pt x="0" y="0"/>
                </a:lnTo>
                <a:lnTo>
                  <a:pt x="0" y="34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909880" y="5486400"/>
            <a:ext cx="735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909880" y="5943600"/>
            <a:ext cx="735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424480" y="4876920"/>
            <a:ext cx="735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424480" y="5943600"/>
            <a:ext cx="735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224080" y="4267080"/>
            <a:ext cx="462132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1995480" y="5322600"/>
            <a:ext cx="125280" cy="3286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7151400" y="4586400"/>
            <a:ext cx="328680" cy="353880"/>
          </a:xfrm>
          <a:prstGeom prst="line">
            <a:avLst/>
          </a:prstGeom>
          <a:ln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195880" y="2438280"/>
            <a:ext cx="21067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7405560" y="2045880"/>
            <a:ext cx="735120" cy="405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750960" y="2793960"/>
            <a:ext cx="7785000" cy="1246320"/>
          </a:xfrm>
          <a:custGeom>
            <a:avLst/>
            <a:gdLst/>
            <a:ahLst/>
            <a:rect l="l" t="t" r="r" b="b"/>
            <a:pathLst>
              <a:path w="4904" h="785">
                <a:moveTo>
                  <a:pt x="0" y="0"/>
                </a:moveTo>
                <a:lnTo>
                  <a:pt x="4903" y="0"/>
                </a:lnTo>
                <a:lnTo>
                  <a:pt x="4903" y="784"/>
                </a:lnTo>
                <a:lnTo>
                  <a:pt x="0" y="784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pas Física y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276" name=""/>
          <p:cNvSpPr/>
          <p:nvPr/>
        </p:nvSpPr>
        <p:spPr>
          <a:xfrm>
            <a:off x="7362720" y="1590840"/>
            <a:ext cx="811440" cy="811080"/>
          </a:xfrm>
          <a:custGeom>
            <a:avLst/>
            <a:gdLst/>
            <a:ahLst/>
            <a:rect l="l" t="t" r="r" b="b"/>
            <a:pathLst>
              <a:path w="511" h="511">
                <a:moveTo>
                  <a:pt x="510" y="255"/>
                </a:moveTo>
                <a:lnTo>
                  <a:pt x="509" y="230"/>
                </a:lnTo>
                <a:lnTo>
                  <a:pt x="505" y="204"/>
                </a:lnTo>
                <a:lnTo>
                  <a:pt x="499" y="179"/>
                </a:lnTo>
                <a:lnTo>
                  <a:pt x="490" y="156"/>
                </a:lnTo>
                <a:lnTo>
                  <a:pt x="480" y="133"/>
                </a:lnTo>
                <a:lnTo>
                  <a:pt x="467" y="113"/>
                </a:lnTo>
                <a:lnTo>
                  <a:pt x="452" y="93"/>
                </a:lnTo>
                <a:lnTo>
                  <a:pt x="435" y="75"/>
                </a:lnTo>
                <a:lnTo>
                  <a:pt x="418" y="59"/>
                </a:lnTo>
                <a:lnTo>
                  <a:pt x="397" y="43"/>
                </a:lnTo>
                <a:lnTo>
                  <a:pt x="377" y="30"/>
                </a:lnTo>
                <a:lnTo>
                  <a:pt x="354" y="20"/>
                </a:lnTo>
                <a:lnTo>
                  <a:pt x="332" y="12"/>
                </a:lnTo>
                <a:lnTo>
                  <a:pt x="306" y="5"/>
                </a:lnTo>
                <a:lnTo>
                  <a:pt x="281" y="1"/>
                </a:lnTo>
                <a:lnTo>
                  <a:pt x="255" y="0"/>
                </a:lnTo>
                <a:lnTo>
                  <a:pt x="230" y="1"/>
                </a:lnTo>
                <a:lnTo>
                  <a:pt x="204" y="5"/>
                </a:lnTo>
                <a:lnTo>
                  <a:pt x="179" y="12"/>
                </a:lnTo>
                <a:lnTo>
                  <a:pt x="156" y="20"/>
                </a:lnTo>
                <a:lnTo>
                  <a:pt x="133" y="30"/>
                </a:lnTo>
                <a:lnTo>
                  <a:pt x="113" y="43"/>
                </a:lnTo>
                <a:lnTo>
                  <a:pt x="92" y="59"/>
                </a:lnTo>
                <a:lnTo>
                  <a:pt x="75" y="75"/>
                </a:lnTo>
                <a:lnTo>
                  <a:pt x="58" y="93"/>
                </a:lnTo>
                <a:lnTo>
                  <a:pt x="43" y="113"/>
                </a:lnTo>
                <a:lnTo>
                  <a:pt x="30" y="133"/>
                </a:lnTo>
                <a:lnTo>
                  <a:pt x="20" y="156"/>
                </a:lnTo>
                <a:lnTo>
                  <a:pt x="11" y="179"/>
                </a:lnTo>
                <a:lnTo>
                  <a:pt x="5" y="204"/>
                </a:lnTo>
                <a:lnTo>
                  <a:pt x="1" y="230"/>
                </a:lnTo>
                <a:lnTo>
                  <a:pt x="0" y="255"/>
                </a:lnTo>
                <a:lnTo>
                  <a:pt x="1" y="281"/>
                </a:lnTo>
                <a:lnTo>
                  <a:pt x="5" y="306"/>
                </a:lnTo>
                <a:lnTo>
                  <a:pt x="11" y="332"/>
                </a:lnTo>
                <a:lnTo>
                  <a:pt x="20" y="354"/>
                </a:lnTo>
                <a:lnTo>
                  <a:pt x="30" y="377"/>
                </a:lnTo>
                <a:lnTo>
                  <a:pt x="43" y="397"/>
                </a:lnTo>
                <a:lnTo>
                  <a:pt x="58" y="418"/>
                </a:lnTo>
                <a:lnTo>
                  <a:pt x="75" y="435"/>
                </a:lnTo>
                <a:lnTo>
                  <a:pt x="92" y="452"/>
                </a:lnTo>
                <a:lnTo>
                  <a:pt x="113" y="467"/>
                </a:lnTo>
                <a:lnTo>
                  <a:pt x="133" y="480"/>
                </a:lnTo>
                <a:lnTo>
                  <a:pt x="156" y="490"/>
                </a:lnTo>
                <a:lnTo>
                  <a:pt x="179" y="499"/>
                </a:lnTo>
                <a:lnTo>
                  <a:pt x="204" y="505"/>
                </a:lnTo>
                <a:lnTo>
                  <a:pt x="230" y="509"/>
                </a:lnTo>
                <a:lnTo>
                  <a:pt x="255" y="510"/>
                </a:lnTo>
                <a:lnTo>
                  <a:pt x="281" y="509"/>
                </a:lnTo>
                <a:lnTo>
                  <a:pt x="306" y="505"/>
                </a:lnTo>
                <a:lnTo>
                  <a:pt x="332" y="499"/>
                </a:lnTo>
                <a:lnTo>
                  <a:pt x="354" y="490"/>
                </a:lnTo>
                <a:lnTo>
                  <a:pt x="377" y="480"/>
                </a:lnTo>
                <a:lnTo>
                  <a:pt x="397" y="467"/>
                </a:lnTo>
                <a:lnTo>
                  <a:pt x="418" y="452"/>
                </a:lnTo>
                <a:lnTo>
                  <a:pt x="435" y="435"/>
                </a:lnTo>
                <a:lnTo>
                  <a:pt x="452" y="418"/>
                </a:lnTo>
                <a:lnTo>
                  <a:pt x="467" y="397"/>
                </a:lnTo>
                <a:lnTo>
                  <a:pt x="480" y="377"/>
                </a:lnTo>
                <a:lnTo>
                  <a:pt x="490" y="354"/>
                </a:lnTo>
                <a:lnTo>
                  <a:pt x="499" y="332"/>
                </a:lnTo>
                <a:lnTo>
                  <a:pt x="505" y="306"/>
                </a:lnTo>
                <a:lnTo>
                  <a:pt x="509" y="281"/>
                </a:lnTo>
                <a:lnTo>
                  <a:pt x="510" y="25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50960" y="1574640"/>
            <a:ext cx="7785000" cy="1246320"/>
          </a:xfrm>
          <a:custGeom>
            <a:avLst/>
            <a:gdLst/>
            <a:ahLst/>
            <a:rect l="l" t="t" r="r" b="b"/>
            <a:pathLst>
              <a:path w="4904" h="785">
                <a:moveTo>
                  <a:pt x="0" y="0"/>
                </a:moveTo>
                <a:lnTo>
                  <a:pt x="4903" y="0"/>
                </a:lnTo>
                <a:lnTo>
                  <a:pt x="4903" y="784"/>
                </a:lnTo>
                <a:lnTo>
                  <a:pt x="0" y="784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689120" y="2089080"/>
            <a:ext cx="326880" cy="36720"/>
          </a:xfrm>
          <a:custGeom>
            <a:avLst/>
            <a:gdLst/>
            <a:ahLst/>
            <a:rect l="l" t="t" r="r" b="b"/>
            <a:pathLst>
              <a:path w="206" h="23">
                <a:moveTo>
                  <a:pt x="0" y="22"/>
                </a:moveTo>
                <a:lnTo>
                  <a:pt x="48" y="0"/>
                </a:lnTo>
                <a:lnTo>
                  <a:pt x="205" y="0"/>
                </a:lnTo>
                <a:lnTo>
                  <a:pt x="157" y="22"/>
                </a:lnTo>
                <a:lnTo>
                  <a:pt x="0" y="22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689120" y="2089080"/>
            <a:ext cx="342720" cy="52560"/>
          </a:xfrm>
          <a:custGeom>
            <a:avLst/>
            <a:gdLst/>
            <a:ahLst/>
            <a:rect l="l" t="t" r="r" b="b"/>
            <a:pathLst>
              <a:path w="216" h="33">
                <a:moveTo>
                  <a:pt x="0" y="32"/>
                </a:moveTo>
                <a:lnTo>
                  <a:pt x="50" y="0"/>
                </a:lnTo>
                <a:lnTo>
                  <a:pt x="215" y="0"/>
                </a:lnTo>
                <a:lnTo>
                  <a:pt x="165" y="32"/>
                </a:lnTo>
                <a:lnTo>
                  <a:pt x="0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951200" y="2089080"/>
            <a:ext cx="64800" cy="300240"/>
          </a:xfrm>
          <a:custGeom>
            <a:avLst/>
            <a:gdLst/>
            <a:ahLst/>
            <a:rect l="l" t="t" r="r" b="b"/>
            <a:pathLst>
              <a:path w="41" h="189">
                <a:moveTo>
                  <a:pt x="0" y="30"/>
                </a:moveTo>
                <a:lnTo>
                  <a:pt x="40" y="0"/>
                </a:lnTo>
                <a:lnTo>
                  <a:pt x="40" y="158"/>
                </a:lnTo>
                <a:lnTo>
                  <a:pt x="0" y="188"/>
                </a:lnTo>
                <a:lnTo>
                  <a:pt x="0" y="3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951200" y="2089080"/>
            <a:ext cx="80640" cy="316080"/>
          </a:xfrm>
          <a:custGeom>
            <a:avLst/>
            <a:gdLst/>
            <a:ahLst/>
            <a:rect l="l" t="t" r="r" b="b"/>
            <a:pathLst>
              <a:path w="51" h="199">
                <a:moveTo>
                  <a:pt x="0" y="32"/>
                </a:moveTo>
                <a:lnTo>
                  <a:pt x="50" y="0"/>
                </a:lnTo>
                <a:lnTo>
                  <a:pt x="50" y="166"/>
                </a:lnTo>
                <a:lnTo>
                  <a:pt x="0" y="198"/>
                </a:lnTo>
                <a:lnTo>
                  <a:pt x="0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689120" y="2139840"/>
            <a:ext cx="247680" cy="249480"/>
          </a:xfrm>
          <a:custGeom>
            <a:avLst/>
            <a:gdLst/>
            <a:ahLst/>
            <a:rect l="l" t="t" r="r" b="b"/>
            <a:pathLst>
              <a:path w="156" h="157">
                <a:moveTo>
                  <a:pt x="0" y="0"/>
                </a:moveTo>
                <a:lnTo>
                  <a:pt x="155" y="0"/>
                </a:lnTo>
                <a:lnTo>
                  <a:pt x="155" y="156"/>
                </a:lnTo>
                <a:lnTo>
                  <a:pt x="0" y="156"/>
                </a:lnTo>
                <a:lnTo>
                  <a:pt x="0" y="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89120" y="2139840"/>
            <a:ext cx="263520" cy="265320"/>
          </a:xfrm>
          <a:custGeom>
            <a:avLst/>
            <a:gdLst/>
            <a:ahLst/>
            <a:rect l="l" t="t" r="r" b="b"/>
            <a:pathLst>
              <a:path w="166" h="167">
                <a:moveTo>
                  <a:pt x="0" y="0"/>
                </a:moveTo>
                <a:lnTo>
                  <a:pt x="165" y="0"/>
                </a:lnTo>
                <a:lnTo>
                  <a:pt x="165" y="166"/>
                </a:lnTo>
                <a:lnTo>
                  <a:pt x="0" y="16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983360" y="2089080"/>
            <a:ext cx="327240" cy="36720"/>
          </a:xfrm>
          <a:custGeom>
            <a:avLst/>
            <a:gdLst/>
            <a:ahLst/>
            <a:rect l="l" t="t" r="r" b="b"/>
            <a:pathLst>
              <a:path w="206" h="23">
                <a:moveTo>
                  <a:pt x="0" y="22"/>
                </a:moveTo>
                <a:lnTo>
                  <a:pt x="49" y="0"/>
                </a:lnTo>
                <a:lnTo>
                  <a:pt x="205" y="0"/>
                </a:lnTo>
                <a:lnTo>
                  <a:pt x="157" y="22"/>
                </a:lnTo>
                <a:lnTo>
                  <a:pt x="0" y="22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983360" y="2089080"/>
            <a:ext cx="343080" cy="52560"/>
          </a:xfrm>
          <a:custGeom>
            <a:avLst/>
            <a:gdLst/>
            <a:ahLst/>
            <a:rect l="l" t="t" r="r" b="b"/>
            <a:pathLst>
              <a:path w="216" h="33">
                <a:moveTo>
                  <a:pt x="0" y="32"/>
                </a:moveTo>
                <a:lnTo>
                  <a:pt x="51" y="0"/>
                </a:lnTo>
                <a:lnTo>
                  <a:pt x="215" y="0"/>
                </a:lnTo>
                <a:lnTo>
                  <a:pt x="165" y="32"/>
                </a:lnTo>
                <a:lnTo>
                  <a:pt x="0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8245440" y="2089080"/>
            <a:ext cx="65160" cy="300240"/>
          </a:xfrm>
          <a:custGeom>
            <a:avLst/>
            <a:gdLst/>
            <a:ahLst/>
            <a:rect l="l" t="t" r="r" b="b"/>
            <a:pathLst>
              <a:path w="41" h="189">
                <a:moveTo>
                  <a:pt x="0" y="30"/>
                </a:moveTo>
                <a:lnTo>
                  <a:pt x="40" y="0"/>
                </a:lnTo>
                <a:lnTo>
                  <a:pt x="40" y="158"/>
                </a:lnTo>
                <a:lnTo>
                  <a:pt x="0" y="188"/>
                </a:lnTo>
                <a:lnTo>
                  <a:pt x="0" y="3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245440" y="2089080"/>
            <a:ext cx="81000" cy="316080"/>
          </a:xfrm>
          <a:custGeom>
            <a:avLst/>
            <a:gdLst/>
            <a:ahLst/>
            <a:rect l="l" t="t" r="r" b="b"/>
            <a:pathLst>
              <a:path w="51" h="199">
                <a:moveTo>
                  <a:pt x="0" y="32"/>
                </a:moveTo>
                <a:lnTo>
                  <a:pt x="50" y="0"/>
                </a:lnTo>
                <a:lnTo>
                  <a:pt x="50" y="166"/>
                </a:lnTo>
                <a:lnTo>
                  <a:pt x="0" y="198"/>
                </a:lnTo>
                <a:lnTo>
                  <a:pt x="0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983360" y="2139840"/>
            <a:ext cx="247680" cy="249480"/>
          </a:xfrm>
          <a:custGeom>
            <a:avLst/>
            <a:gdLst/>
            <a:ahLst/>
            <a:rect l="l" t="t" r="r" b="b"/>
            <a:pathLst>
              <a:path w="156" h="157">
                <a:moveTo>
                  <a:pt x="0" y="0"/>
                </a:moveTo>
                <a:lnTo>
                  <a:pt x="155" y="0"/>
                </a:lnTo>
                <a:lnTo>
                  <a:pt x="155" y="156"/>
                </a:lnTo>
                <a:lnTo>
                  <a:pt x="0" y="156"/>
                </a:lnTo>
                <a:lnTo>
                  <a:pt x="0" y="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983360" y="2139840"/>
            <a:ext cx="263880" cy="265320"/>
          </a:xfrm>
          <a:custGeom>
            <a:avLst/>
            <a:gdLst/>
            <a:ahLst/>
            <a:rect l="l" t="t" r="r" b="b"/>
            <a:pathLst>
              <a:path w="166" h="167">
                <a:moveTo>
                  <a:pt x="0" y="0"/>
                </a:moveTo>
                <a:lnTo>
                  <a:pt x="165" y="0"/>
                </a:lnTo>
                <a:lnTo>
                  <a:pt x="165" y="166"/>
                </a:lnTo>
                <a:lnTo>
                  <a:pt x="0" y="16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681360" y="3419640"/>
            <a:ext cx="171360" cy="15840"/>
          </a:xfrm>
          <a:custGeom>
            <a:avLst/>
            <a:gdLst/>
            <a:ahLst/>
            <a:rect l="l" t="t" r="r" b="b"/>
            <a:pathLst>
              <a:path w="108" h="10">
                <a:moveTo>
                  <a:pt x="0" y="9"/>
                </a:moveTo>
                <a:lnTo>
                  <a:pt x="25" y="0"/>
                </a:lnTo>
                <a:lnTo>
                  <a:pt x="107" y="0"/>
                </a:lnTo>
                <a:lnTo>
                  <a:pt x="82" y="9"/>
                </a:lnTo>
                <a:lnTo>
                  <a:pt x="0" y="9"/>
                </a:lnTo>
              </a:path>
            </a:pathLst>
          </a:cu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681360" y="3419640"/>
            <a:ext cx="187200" cy="31680"/>
          </a:xfrm>
          <a:custGeom>
            <a:avLst/>
            <a:gdLst/>
            <a:ahLst/>
            <a:rect l="l" t="t" r="r" b="b"/>
            <a:pathLst>
              <a:path w="118" h="20">
                <a:moveTo>
                  <a:pt x="0" y="19"/>
                </a:moveTo>
                <a:lnTo>
                  <a:pt x="27" y="0"/>
                </a:lnTo>
                <a:lnTo>
                  <a:pt x="117" y="0"/>
                </a:lnTo>
                <a:lnTo>
                  <a:pt x="90" y="19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24280" y="3419640"/>
            <a:ext cx="28440" cy="269640"/>
          </a:xfrm>
          <a:custGeom>
            <a:avLst/>
            <a:gdLst/>
            <a:ahLst/>
            <a:rect l="l" t="t" r="r" b="b"/>
            <a:pathLst>
              <a:path w="18" h="170">
                <a:moveTo>
                  <a:pt x="0" y="18"/>
                </a:moveTo>
                <a:lnTo>
                  <a:pt x="17" y="0"/>
                </a:lnTo>
                <a:lnTo>
                  <a:pt x="17" y="151"/>
                </a:lnTo>
                <a:lnTo>
                  <a:pt x="0" y="169"/>
                </a:lnTo>
                <a:lnTo>
                  <a:pt x="0" y="18"/>
                </a:lnTo>
              </a:path>
            </a:pathLst>
          </a:cu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824280" y="3419640"/>
            <a:ext cx="44280" cy="285480"/>
          </a:xfrm>
          <a:custGeom>
            <a:avLst/>
            <a:gdLst/>
            <a:ahLst/>
            <a:rect l="l" t="t" r="r" b="b"/>
            <a:pathLst>
              <a:path w="28" h="180">
                <a:moveTo>
                  <a:pt x="0" y="19"/>
                </a:moveTo>
                <a:lnTo>
                  <a:pt x="27" y="0"/>
                </a:lnTo>
                <a:lnTo>
                  <a:pt x="27" y="160"/>
                </a:lnTo>
                <a:lnTo>
                  <a:pt x="0" y="179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81360" y="3449520"/>
            <a:ext cx="128520" cy="239760"/>
          </a:xfrm>
          <a:custGeom>
            <a:avLst/>
            <a:gdLst/>
            <a:ahLst/>
            <a:rect l="l" t="t" r="r" b="b"/>
            <a:pathLst>
              <a:path w="81" h="151">
                <a:moveTo>
                  <a:pt x="0" y="0"/>
                </a:moveTo>
                <a:lnTo>
                  <a:pt x="80" y="0"/>
                </a:lnTo>
                <a:lnTo>
                  <a:pt x="80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681360" y="3449520"/>
            <a:ext cx="144360" cy="255600"/>
          </a:xfrm>
          <a:custGeom>
            <a:avLst/>
            <a:gdLst/>
            <a:ahLst/>
            <a:rect l="l" t="t" r="r" b="b"/>
            <a:pathLst>
              <a:path w="91" h="161">
                <a:moveTo>
                  <a:pt x="0" y="0"/>
                </a:moveTo>
                <a:lnTo>
                  <a:pt x="90" y="0"/>
                </a:lnTo>
                <a:lnTo>
                  <a:pt x="90" y="160"/>
                </a:lnTo>
                <a:lnTo>
                  <a:pt x="0" y="16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275520" y="3419640"/>
            <a:ext cx="171360" cy="15840"/>
          </a:xfrm>
          <a:custGeom>
            <a:avLst/>
            <a:gdLst/>
            <a:ahLst/>
            <a:rect l="l" t="t" r="r" b="b"/>
            <a:pathLst>
              <a:path w="108" h="10">
                <a:moveTo>
                  <a:pt x="0" y="9"/>
                </a:moveTo>
                <a:lnTo>
                  <a:pt x="25" y="0"/>
                </a:lnTo>
                <a:lnTo>
                  <a:pt x="107" y="0"/>
                </a:lnTo>
                <a:lnTo>
                  <a:pt x="83" y="9"/>
                </a:lnTo>
                <a:lnTo>
                  <a:pt x="0" y="9"/>
                </a:lnTo>
              </a:path>
            </a:pathLst>
          </a:cu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275520" y="3419640"/>
            <a:ext cx="187200" cy="31680"/>
          </a:xfrm>
          <a:custGeom>
            <a:avLst/>
            <a:gdLst/>
            <a:ahLst/>
            <a:rect l="l" t="t" r="r" b="b"/>
            <a:pathLst>
              <a:path w="118" h="20">
                <a:moveTo>
                  <a:pt x="0" y="19"/>
                </a:moveTo>
                <a:lnTo>
                  <a:pt x="27" y="0"/>
                </a:lnTo>
                <a:lnTo>
                  <a:pt x="117" y="0"/>
                </a:lnTo>
                <a:lnTo>
                  <a:pt x="91" y="19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419880" y="3419640"/>
            <a:ext cx="27000" cy="269640"/>
          </a:xfrm>
          <a:custGeom>
            <a:avLst/>
            <a:gdLst/>
            <a:ahLst/>
            <a:rect l="l" t="t" r="r" b="b"/>
            <a:pathLst>
              <a:path w="17" h="170">
                <a:moveTo>
                  <a:pt x="0" y="18"/>
                </a:moveTo>
                <a:lnTo>
                  <a:pt x="16" y="0"/>
                </a:lnTo>
                <a:lnTo>
                  <a:pt x="16" y="151"/>
                </a:lnTo>
                <a:lnTo>
                  <a:pt x="0" y="169"/>
                </a:lnTo>
                <a:lnTo>
                  <a:pt x="0" y="18"/>
                </a:lnTo>
              </a:path>
            </a:pathLst>
          </a:cu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419880" y="3419640"/>
            <a:ext cx="42840" cy="285480"/>
          </a:xfrm>
          <a:custGeom>
            <a:avLst/>
            <a:gdLst/>
            <a:ahLst/>
            <a:rect l="l" t="t" r="r" b="b"/>
            <a:pathLst>
              <a:path w="27" h="180">
                <a:moveTo>
                  <a:pt x="0" y="19"/>
                </a:moveTo>
                <a:lnTo>
                  <a:pt x="26" y="0"/>
                </a:lnTo>
                <a:lnTo>
                  <a:pt x="26" y="160"/>
                </a:lnTo>
                <a:lnTo>
                  <a:pt x="0" y="179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275520" y="3449520"/>
            <a:ext cx="129960" cy="239760"/>
          </a:xfrm>
          <a:custGeom>
            <a:avLst/>
            <a:gdLst/>
            <a:ahLst/>
            <a:rect l="l" t="t" r="r" b="b"/>
            <a:pathLst>
              <a:path w="82" h="151">
                <a:moveTo>
                  <a:pt x="0" y="0"/>
                </a:moveTo>
                <a:lnTo>
                  <a:pt x="81" y="0"/>
                </a:lnTo>
                <a:lnTo>
                  <a:pt x="81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275520" y="3449520"/>
            <a:ext cx="145800" cy="255600"/>
          </a:xfrm>
          <a:custGeom>
            <a:avLst/>
            <a:gdLst/>
            <a:ahLst/>
            <a:rect l="l" t="t" r="r" b="b"/>
            <a:pathLst>
              <a:path w="92" h="161">
                <a:moveTo>
                  <a:pt x="0" y="0"/>
                </a:moveTo>
                <a:lnTo>
                  <a:pt x="91" y="0"/>
                </a:lnTo>
                <a:lnTo>
                  <a:pt x="91" y="160"/>
                </a:lnTo>
                <a:lnTo>
                  <a:pt x="0" y="16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543040" y="1984320"/>
            <a:ext cx="325440" cy="44640"/>
          </a:xfrm>
          <a:custGeom>
            <a:avLst/>
            <a:gdLst/>
            <a:ahLst/>
            <a:rect l="l" t="t" r="r" b="b"/>
            <a:pathLst>
              <a:path w="205" h="28">
                <a:moveTo>
                  <a:pt x="0" y="27"/>
                </a:moveTo>
                <a:lnTo>
                  <a:pt x="47" y="0"/>
                </a:lnTo>
                <a:lnTo>
                  <a:pt x="204" y="0"/>
                </a:lnTo>
                <a:lnTo>
                  <a:pt x="157" y="27"/>
                </a:lnTo>
                <a:lnTo>
                  <a:pt x="0" y="27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43040" y="1984320"/>
            <a:ext cx="341280" cy="60480"/>
          </a:xfrm>
          <a:custGeom>
            <a:avLst/>
            <a:gdLst/>
            <a:ahLst/>
            <a:rect l="l" t="t" r="r" b="b"/>
            <a:pathLst>
              <a:path w="215" h="38">
                <a:moveTo>
                  <a:pt x="0" y="37"/>
                </a:moveTo>
                <a:lnTo>
                  <a:pt x="49" y="0"/>
                </a:lnTo>
                <a:lnTo>
                  <a:pt x="214" y="0"/>
                </a:lnTo>
                <a:lnTo>
                  <a:pt x="165" y="37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805120" y="1984320"/>
            <a:ext cx="63360" cy="511200"/>
          </a:xfrm>
          <a:custGeom>
            <a:avLst/>
            <a:gdLst/>
            <a:ahLst/>
            <a:rect l="l" t="t" r="r" b="b"/>
            <a:pathLst>
              <a:path w="40" h="322">
                <a:moveTo>
                  <a:pt x="0" y="36"/>
                </a:moveTo>
                <a:lnTo>
                  <a:pt x="39" y="0"/>
                </a:lnTo>
                <a:lnTo>
                  <a:pt x="39" y="285"/>
                </a:lnTo>
                <a:lnTo>
                  <a:pt x="0" y="321"/>
                </a:lnTo>
                <a:lnTo>
                  <a:pt x="0" y="36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805120" y="1984320"/>
            <a:ext cx="79200" cy="527040"/>
          </a:xfrm>
          <a:custGeom>
            <a:avLst/>
            <a:gdLst/>
            <a:ahLst/>
            <a:rect l="l" t="t" r="r" b="b"/>
            <a:pathLst>
              <a:path w="50" h="332">
                <a:moveTo>
                  <a:pt x="0" y="37"/>
                </a:moveTo>
                <a:lnTo>
                  <a:pt x="49" y="0"/>
                </a:lnTo>
                <a:lnTo>
                  <a:pt x="49" y="294"/>
                </a:lnTo>
                <a:lnTo>
                  <a:pt x="0" y="331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543040" y="2043000"/>
            <a:ext cx="247680" cy="452520"/>
          </a:xfrm>
          <a:custGeom>
            <a:avLst/>
            <a:gdLst/>
            <a:ahLst/>
            <a:rect l="l" t="t" r="r" b="b"/>
            <a:pathLst>
              <a:path w="156" h="285">
                <a:moveTo>
                  <a:pt x="0" y="0"/>
                </a:moveTo>
                <a:lnTo>
                  <a:pt x="155" y="0"/>
                </a:lnTo>
                <a:lnTo>
                  <a:pt x="155" y="284"/>
                </a:lnTo>
                <a:lnTo>
                  <a:pt x="0" y="284"/>
                </a:lnTo>
                <a:lnTo>
                  <a:pt x="0" y="0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543040" y="2043000"/>
            <a:ext cx="263520" cy="468360"/>
          </a:xfrm>
          <a:custGeom>
            <a:avLst/>
            <a:gdLst/>
            <a:ahLst/>
            <a:rect l="l" t="t" r="r" b="b"/>
            <a:pathLst>
              <a:path w="166" h="295">
                <a:moveTo>
                  <a:pt x="0" y="0"/>
                </a:moveTo>
                <a:lnTo>
                  <a:pt x="165" y="0"/>
                </a:lnTo>
                <a:lnTo>
                  <a:pt x="165" y="294"/>
                </a:lnTo>
                <a:lnTo>
                  <a:pt x="0" y="29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142040" y="1984320"/>
            <a:ext cx="325440" cy="44640"/>
          </a:xfrm>
          <a:custGeom>
            <a:avLst/>
            <a:gdLst/>
            <a:ahLst/>
            <a:rect l="l" t="t" r="r" b="b"/>
            <a:pathLst>
              <a:path w="205" h="28">
                <a:moveTo>
                  <a:pt x="0" y="27"/>
                </a:moveTo>
                <a:lnTo>
                  <a:pt x="47" y="0"/>
                </a:lnTo>
                <a:lnTo>
                  <a:pt x="204" y="0"/>
                </a:lnTo>
                <a:lnTo>
                  <a:pt x="156" y="27"/>
                </a:lnTo>
                <a:lnTo>
                  <a:pt x="0" y="27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142040" y="1984320"/>
            <a:ext cx="341280" cy="60480"/>
          </a:xfrm>
          <a:custGeom>
            <a:avLst/>
            <a:gdLst/>
            <a:ahLst/>
            <a:rect l="l" t="t" r="r" b="b"/>
            <a:pathLst>
              <a:path w="215" h="38">
                <a:moveTo>
                  <a:pt x="0" y="37"/>
                </a:moveTo>
                <a:lnTo>
                  <a:pt x="49" y="0"/>
                </a:lnTo>
                <a:lnTo>
                  <a:pt x="214" y="0"/>
                </a:lnTo>
                <a:lnTo>
                  <a:pt x="164" y="37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402680" y="1984320"/>
            <a:ext cx="64800" cy="511200"/>
          </a:xfrm>
          <a:custGeom>
            <a:avLst/>
            <a:gdLst/>
            <a:ahLst/>
            <a:rect l="l" t="t" r="r" b="b"/>
            <a:pathLst>
              <a:path w="41" h="322">
                <a:moveTo>
                  <a:pt x="0" y="36"/>
                </a:moveTo>
                <a:lnTo>
                  <a:pt x="40" y="0"/>
                </a:lnTo>
                <a:lnTo>
                  <a:pt x="40" y="285"/>
                </a:lnTo>
                <a:lnTo>
                  <a:pt x="0" y="321"/>
                </a:lnTo>
                <a:lnTo>
                  <a:pt x="0" y="36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402680" y="1984320"/>
            <a:ext cx="80640" cy="527040"/>
          </a:xfrm>
          <a:custGeom>
            <a:avLst/>
            <a:gdLst/>
            <a:ahLst/>
            <a:rect l="l" t="t" r="r" b="b"/>
            <a:pathLst>
              <a:path w="51" h="332">
                <a:moveTo>
                  <a:pt x="0" y="37"/>
                </a:moveTo>
                <a:lnTo>
                  <a:pt x="50" y="0"/>
                </a:lnTo>
                <a:lnTo>
                  <a:pt x="50" y="294"/>
                </a:lnTo>
                <a:lnTo>
                  <a:pt x="0" y="331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142040" y="2043000"/>
            <a:ext cx="246240" cy="452520"/>
          </a:xfrm>
          <a:custGeom>
            <a:avLst/>
            <a:gdLst/>
            <a:ahLst/>
            <a:rect l="l" t="t" r="r" b="b"/>
            <a:pathLst>
              <a:path w="155" h="285">
                <a:moveTo>
                  <a:pt x="0" y="0"/>
                </a:moveTo>
                <a:lnTo>
                  <a:pt x="154" y="0"/>
                </a:lnTo>
                <a:lnTo>
                  <a:pt x="154" y="284"/>
                </a:lnTo>
                <a:lnTo>
                  <a:pt x="0" y="284"/>
                </a:lnTo>
                <a:lnTo>
                  <a:pt x="0" y="0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42040" y="2043000"/>
            <a:ext cx="262080" cy="468360"/>
          </a:xfrm>
          <a:custGeom>
            <a:avLst/>
            <a:gdLst/>
            <a:ahLst/>
            <a:rect l="l" t="t" r="r" b="b"/>
            <a:pathLst>
              <a:path w="165" h="295">
                <a:moveTo>
                  <a:pt x="0" y="0"/>
                </a:moveTo>
                <a:lnTo>
                  <a:pt x="164" y="0"/>
                </a:lnTo>
                <a:lnTo>
                  <a:pt x="164" y="294"/>
                </a:lnTo>
                <a:lnTo>
                  <a:pt x="0" y="29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000160" y="2259000"/>
            <a:ext cx="53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560600" y="1589040"/>
            <a:ext cx="0" cy="24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824120" y="1704960"/>
            <a:ext cx="7920" cy="398520"/>
          </a:xfrm>
          <a:custGeom>
            <a:avLst/>
            <a:gdLst/>
            <a:ahLst/>
            <a:rect l="l" t="t" r="r" b="b"/>
            <a:pathLst>
              <a:path w="5" h="251">
                <a:moveTo>
                  <a:pt x="2" y="0"/>
                </a:moveTo>
                <a:lnTo>
                  <a:pt x="4" y="0"/>
                </a:lnTo>
                <a:lnTo>
                  <a:pt x="4" y="250"/>
                </a:lnTo>
                <a:lnTo>
                  <a:pt x="0" y="250"/>
                </a:lnTo>
                <a:lnTo>
                  <a:pt x="0" y="0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8142120" y="1704960"/>
            <a:ext cx="8280" cy="398520"/>
          </a:xfrm>
          <a:custGeom>
            <a:avLst/>
            <a:gdLst/>
            <a:ahLst/>
            <a:rect l="l" t="t" r="r" b="b"/>
            <a:pathLst>
              <a:path w="5" h="251">
                <a:moveTo>
                  <a:pt x="2" y="0"/>
                </a:moveTo>
                <a:lnTo>
                  <a:pt x="4" y="0"/>
                </a:lnTo>
                <a:lnTo>
                  <a:pt x="4" y="250"/>
                </a:lnTo>
                <a:lnTo>
                  <a:pt x="0" y="250"/>
                </a:lnTo>
                <a:lnTo>
                  <a:pt x="0" y="0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708280" y="1876320"/>
            <a:ext cx="6480" cy="130320"/>
          </a:xfrm>
          <a:custGeom>
            <a:avLst/>
            <a:gdLst/>
            <a:ahLst/>
            <a:rect l="l" t="t" r="r" b="b"/>
            <a:pathLst>
              <a:path w="4" h="82">
                <a:moveTo>
                  <a:pt x="1" y="0"/>
                </a:moveTo>
                <a:lnTo>
                  <a:pt x="3" y="0"/>
                </a:lnTo>
                <a:lnTo>
                  <a:pt x="3" y="81"/>
                </a:lnTo>
                <a:lnTo>
                  <a:pt x="0" y="81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296120" y="1876320"/>
            <a:ext cx="6480" cy="130320"/>
          </a:xfrm>
          <a:custGeom>
            <a:avLst/>
            <a:gdLst/>
            <a:ahLst/>
            <a:rect l="l" t="t" r="r" b="b"/>
            <a:pathLst>
              <a:path w="4" h="82">
                <a:moveTo>
                  <a:pt x="1" y="0"/>
                </a:moveTo>
                <a:lnTo>
                  <a:pt x="3" y="0"/>
                </a:lnTo>
                <a:lnTo>
                  <a:pt x="3" y="81"/>
                </a:lnTo>
                <a:lnTo>
                  <a:pt x="0" y="81"/>
                </a:lnTo>
                <a:lnTo>
                  <a:pt x="0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35280" y="1709640"/>
            <a:ext cx="52200" cy="76320"/>
          </a:xfrm>
          <a:custGeom>
            <a:avLst/>
            <a:gdLst/>
            <a:ahLst/>
            <a:rect l="l" t="t" r="r" b="b"/>
            <a:pathLst>
              <a:path w="33" h="48">
                <a:moveTo>
                  <a:pt x="32" y="47"/>
                </a:moveTo>
                <a:lnTo>
                  <a:pt x="0" y="23"/>
                </a:lnTo>
                <a:lnTo>
                  <a:pt x="32" y="0"/>
                </a:lnTo>
                <a:lnTo>
                  <a:pt x="32" y="4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900080" y="1743120"/>
            <a:ext cx="6177240" cy="7920"/>
          </a:xfrm>
          <a:custGeom>
            <a:avLst/>
            <a:gdLst/>
            <a:ahLst/>
            <a:rect l="l" t="t" r="r" b="b"/>
            <a:pathLst>
              <a:path w="3891" h="5">
                <a:moveTo>
                  <a:pt x="3890" y="2"/>
                </a:moveTo>
                <a:lnTo>
                  <a:pt x="3890" y="4"/>
                </a:lnTo>
                <a:lnTo>
                  <a:pt x="0" y="4"/>
                </a:lnTo>
                <a:lnTo>
                  <a:pt x="0" y="0"/>
                </a:lnTo>
                <a:lnTo>
                  <a:pt x="3890" y="0"/>
                </a:lnTo>
                <a:lnTo>
                  <a:pt x="3890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8089920" y="170964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0" y="47"/>
                </a:moveTo>
                <a:lnTo>
                  <a:pt x="31" y="23"/>
                </a:lnTo>
                <a:lnTo>
                  <a:pt x="0" y="0"/>
                </a:lnTo>
                <a:lnTo>
                  <a:pt x="0" y="4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240680" y="1878120"/>
            <a:ext cx="52200" cy="77760"/>
          </a:xfrm>
          <a:custGeom>
            <a:avLst/>
            <a:gdLst/>
            <a:ahLst/>
            <a:rect l="l" t="t" r="r" b="b"/>
            <a:pathLst>
              <a:path w="33" h="49">
                <a:moveTo>
                  <a:pt x="0" y="0"/>
                </a:moveTo>
                <a:lnTo>
                  <a:pt x="32" y="24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82800" y="1913040"/>
            <a:ext cx="4444920" cy="7920"/>
          </a:xfrm>
          <a:custGeom>
            <a:avLst/>
            <a:gdLst/>
            <a:ahLst/>
            <a:rect l="l" t="t" r="r" b="b"/>
            <a:pathLst>
              <a:path w="2800" h="5">
                <a:moveTo>
                  <a:pt x="0" y="2"/>
                </a:moveTo>
                <a:lnTo>
                  <a:pt x="0" y="0"/>
                </a:lnTo>
                <a:lnTo>
                  <a:pt x="2799" y="0"/>
                </a:lnTo>
                <a:lnTo>
                  <a:pt x="2799" y="4"/>
                </a:lnTo>
                <a:lnTo>
                  <a:pt x="0" y="4"/>
                </a:lnTo>
                <a:lnTo>
                  <a:pt x="0" y="2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717640" y="1878120"/>
            <a:ext cx="52560" cy="77760"/>
          </a:xfrm>
          <a:custGeom>
            <a:avLst/>
            <a:gdLst/>
            <a:ahLst/>
            <a:rect l="l" t="t" r="r" b="b"/>
            <a:pathLst>
              <a:path w="33" h="49">
                <a:moveTo>
                  <a:pt x="32" y="0"/>
                </a:moveTo>
                <a:lnTo>
                  <a:pt x="0" y="24"/>
                </a:lnTo>
                <a:lnTo>
                  <a:pt x="32" y="48"/>
                </a:lnTo>
                <a:lnTo>
                  <a:pt x="32" y="0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760920" y="3149640"/>
            <a:ext cx="7920" cy="264960"/>
          </a:xfrm>
          <a:custGeom>
            <a:avLst/>
            <a:gdLst/>
            <a:ahLst/>
            <a:rect l="l" t="t" r="r" b="b"/>
            <a:pathLst>
              <a:path w="5" h="167">
                <a:moveTo>
                  <a:pt x="2" y="0"/>
                </a:moveTo>
                <a:lnTo>
                  <a:pt x="4" y="0"/>
                </a:lnTo>
                <a:lnTo>
                  <a:pt x="4" y="166"/>
                </a:lnTo>
                <a:lnTo>
                  <a:pt x="0" y="166"/>
                </a:lnTo>
                <a:lnTo>
                  <a:pt x="0" y="0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351480" y="3149640"/>
            <a:ext cx="6480" cy="264960"/>
          </a:xfrm>
          <a:custGeom>
            <a:avLst/>
            <a:gdLst/>
            <a:ahLst/>
            <a:rect l="l" t="t" r="r" b="b"/>
            <a:pathLst>
              <a:path w="4" h="167">
                <a:moveTo>
                  <a:pt x="2" y="0"/>
                </a:moveTo>
                <a:lnTo>
                  <a:pt x="3" y="0"/>
                </a:lnTo>
                <a:lnTo>
                  <a:pt x="3" y="166"/>
                </a:lnTo>
                <a:lnTo>
                  <a:pt x="0" y="166"/>
                </a:lnTo>
                <a:lnTo>
                  <a:pt x="0" y="0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473960" y="2252520"/>
            <a:ext cx="484200" cy="7920"/>
          </a:xfrm>
          <a:custGeom>
            <a:avLst/>
            <a:gdLst/>
            <a:ahLst/>
            <a:rect l="l" t="t" r="r" b="b"/>
            <a:pathLst>
              <a:path w="305" h="5">
                <a:moveTo>
                  <a:pt x="304" y="2"/>
                </a:moveTo>
                <a:lnTo>
                  <a:pt x="304" y="4"/>
                </a:lnTo>
                <a:lnTo>
                  <a:pt x="0" y="4"/>
                </a:lnTo>
                <a:lnTo>
                  <a:pt x="0" y="0"/>
                </a:lnTo>
                <a:lnTo>
                  <a:pt x="304" y="0"/>
                </a:lnTo>
                <a:lnTo>
                  <a:pt x="304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52640" y="2252520"/>
            <a:ext cx="328680" cy="7920"/>
          </a:xfrm>
          <a:custGeom>
            <a:avLst/>
            <a:gdLst/>
            <a:ahLst/>
            <a:rect l="l" t="t" r="r" b="b"/>
            <a:pathLst>
              <a:path w="207" h="5">
                <a:moveTo>
                  <a:pt x="206" y="2"/>
                </a:moveTo>
                <a:lnTo>
                  <a:pt x="203" y="4"/>
                </a:lnTo>
                <a:lnTo>
                  <a:pt x="0" y="4"/>
                </a:lnTo>
                <a:lnTo>
                  <a:pt x="0" y="0"/>
                </a:lnTo>
                <a:lnTo>
                  <a:pt x="203" y="0"/>
                </a:lnTo>
                <a:lnTo>
                  <a:pt x="200" y="2"/>
                </a:lnTo>
                <a:lnTo>
                  <a:pt x="206" y="2"/>
                </a:lnTo>
                <a:lnTo>
                  <a:pt x="206" y="4"/>
                </a:lnTo>
                <a:lnTo>
                  <a:pt x="203" y="4"/>
                </a:lnTo>
                <a:lnTo>
                  <a:pt x="206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179880" y="2263680"/>
            <a:ext cx="7920" cy="1301760"/>
          </a:xfrm>
          <a:custGeom>
            <a:avLst/>
            <a:gdLst/>
            <a:ahLst/>
            <a:rect l="l" t="t" r="r" b="b"/>
            <a:pathLst>
              <a:path w="5" h="820">
                <a:moveTo>
                  <a:pt x="2" y="812"/>
                </a:moveTo>
                <a:lnTo>
                  <a:pt x="0" y="815"/>
                </a:lnTo>
                <a:lnTo>
                  <a:pt x="0" y="0"/>
                </a:lnTo>
                <a:lnTo>
                  <a:pt x="4" y="0"/>
                </a:lnTo>
                <a:lnTo>
                  <a:pt x="4" y="815"/>
                </a:lnTo>
                <a:lnTo>
                  <a:pt x="2" y="819"/>
                </a:lnTo>
                <a:lnTo>
                  <a:pt x="4" y="815"/>
                </a:lnTo>
                <a:lnTo>
                  <a:pt x="4" y="819"/>
                </a:lnTo>
                <a:lnTo>
                  <a:pt x="2" y="819"/>
                </a:lnTo>
                <a:lnTo>
                  <a:pt x="2" y="81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191040" y="3564000"/>
            <a:ext cx="469800" cy="6120"/>
          </a:xfrm>
          <a:custGeom>
            <a:avLst/>
            <a:gdLst/>
            <a:ahLst/>
            <a:rect l="l" t="t" r="r" b="b"/>
            <a:pathLst>
              <a:path w="296" h="4">
                <a:moveTo>
                  <a:pt x="295" y="2"/>
                </a:moveTo>
                <a:lnTo>
                  <a:pt x="295" y="3"/>
                </a:lnTo>
                <a:lnTo>
                  <a:pt x="0" y="3"/>
                </a:lnTo>
                <a:lnTo>
                  <a:pt x="0" y="0"/>
                </a:lnTo>
                <a:lnTo>
                  <a:pt x="295" y="0"/>
                </a:lnTo>
                <a:lnTo>
                  <a:pt x="295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435720" y="356400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46" y="2"/>
                </a:moveTo>
                <a:lnTo>
                  <a:pt x="249" y="3"/>
                </a:lnTo>
                <a:lnTo>
                  <a:pt x="0" y="3"/>
                </a:lnTo>
                <a:lnTo>
                  <a:pt x="0" y="0"/>
                </a:lnTo>
                <a:lnTo>
                  <a:pt x="249" y="0"/>
                </a:lnTo>
                <a:lnTo>
                  <a:pt x="252" y="2"/>
                </a:lnTo>
                <a:lnTo>
                  <a:pt x="249" y="0"/>
                </a:lnTo>
                <a:lnTo>
                  <a:pt x="252" y="0"/>
                </a:lnTo>
                <a:lnTo>
                  <a:pt x="252" y="2"/>
                </a:lnTo>
                <a:lnTo>
                  <a:pt x="246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35680" y="2259000"/>
            <a:ext cx="7920" cy="1300320"/>
          </a:xfrm>
          <a:custGeom>
            <a:avLst/>
            <a:gdLst/>
            <a:ahLst/>
            <a:rect l="l" t="t" r="r" b="b"/>
            <a:pathLst>
              <a:path w="5" h="819">
                <a:moveTo>
                  <a:pt x="2" y="0"/>
                </a:moveTo>
                <a:lnTo>
                  <a:pt x="4" y="3"/>
                </a:lnTo>
                <a:lnTo>
                  <a:pt x="4" y="818"/>
                </a:lnTo>
                <a:lnTo>
                  <a:pt x="0" y="818"/>
                </a:lnTo>
                <a:lnTo>
                  <a:pt x="0" y="3"/>
                </a:lnTo>
                <a:lnTo>
                  <a:pt x="2" y="6"/>
                </a:lnTo>
                <a:lnTo>
                  <a:pt x="2" y="0"/>
                </a:lnTo>
                <a:lnTo>
                  <a:pt x="4" y="0"/>
                </a:lnTo>
                <a:lnTo>
                  <a:pt x="4" y="3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846840" y="2252520"/>
            <a:ext cx="274680" cy="7920"/>
          </a:xfrm>
          <a:custGeom>
            <a:avLst/>
            <a:gdLst/>
            <a:ahLst/>
            <a:rect l="l" t="t" r="r" b="b"/>
            <a:pathLst>
              <a:path w="173" h="5">
                <a:moveTo>
                  <a:pt x="172" y="2"/>
                </a:moveTo>
                <a:lnTo>
                  <a:pt x="172" y="4"/>
                </a:lnTo>
                <a:lnTo>
                  <a:pt x="0" y="4"/>
                </a:lnTo>
                <a:lnTo>
                  <a:pt x="0" y="0"/>
                </a:lnTo>
                <a:lnTo>
                  <a:pt x="172" y="0"/>
                </a:lnTo>
                <a:lnTo>
                  <a:pt x="17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770280" y="3274920"/>
            <a:ext cx="54000" cy="74880"/>
          </a:xfrm>
          <a:custGeom>
            <a:avLst/>
            <a:gdLst/>
            <a:ahLst/>
            <a:rect l="l" t="t" r="r" b="b"/>
            <a:pathLst>
              <a:path w="34" h="47">
                <a:moveTo>
                  <a:pt x="33" y="46"/>
                </a:moveTo>
                <a:lnTo>
                  <a:pt x="0" y="23"/>
                </a:lnTo>
                <a:lnTo>
                  <a:pt x="33" y="0"/>
                </a:lnTo>
                <a:lnTo>
                  <a:pt x="33" y="46"/>
                </a:lnTo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836880" y="3308400"/>
            <a:ext cx="2446560" cy="7920"/>
          </a:xfrm>
          <a:custGeom>
            <a:avLst/>
            <a:gdLst/>
            <a:ahLst/>
            <a:rect l="l" t="t" r="r" b="b"/>
            <a:pathLst>
              <a:path w="1541" h="5">
                <a:moveTo>
                  <a:pt x="1540" y="2"/>
                </a:moveTo>
                <a:lnTo>
                  <a:pt x="1540" y="4"/>
                </a:lnTo>
                <a:lnTo>
                  <a:pt x="0" y="4"/>
                </a:lnTo>
                <a:lnTo>
                  <a:pt x="0" y="0"/>
                </a:lnTo>
                <a:lnTo>
                  <a:pt x="1540" y="0"/>
                </a:lnTo>
                <a:lnTo>
                  <a:pt x="1540" y="2"/>
                </a:lnTo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296040" y="3274920"/>
            <a:ext cx="50760" cy="74880"/>
          </a:xfrm>
          <a:custGeom>
            <a:avLst/>
            <a:gdLst/>
            <a:ahLst/>
            <a:rect l="l" t="t" r="r" b="b"/>
            <a:pathLst>
              <a:path w="32" h="47">
                <a:moveTo>
                  <a:pt x="0" y="46"/>
                </a:moveTo>
                <a:lnTo>
                  <a:pt x="31" y="23"/>
                </a:lnTo>
                <a:lnTo>
                  <a:pt x="0" y="0"/>
                </a:lnTo>
                <a:lnTo>
                  <a:pt x="0" y="46"/>
                </a:lnTo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296040" y="3152880"/>
            <a:ext cx="50760" cy="75960"/>
          </a:xfrm>
          <a:custGeom>
            <a:avLst/>
            <a:gdLst/>
            <a:ahLst/>
            <a:rect l="l" t="t" r="r" b="b"/>
            <a:pathLst>
              <a:path w="32" h="48">
                <a:moveTo>
                  <a:pt x="0" y="0"/>
                </a:moveTo>
                <a:lnTo>
                  <a:pt x="31" y="24"/>
                </a:lnTo>
                <a:lnTo>
                  <a:pt x="0" y="4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36880" y="3187800"/>
            <a:ext cx="2446560" cy="6120"/>
          </a:xfrm>
          <a:custGeom>
            <a:avLst/>
            <a:gdLst/>
            <a:ahLst/>
            <a:rect l="l" t="t" r="r" b="b"/>
            <a:pathLst>
              <a:path w="1541" h="4">
                <a:moveTo>
                  <a:pt x="0" y="1"/>
                </a:moveTo>
                <a:lnTo>
                  <a:pt x="0" y="0"/>
                </a:lnTo>
                <a:lnTo>
                  <a:pt x="1540" y="0"/>
                </a:lnTo>
                <a:lnTo>
                  <a:pt x="1540" y="3"/>
                </a:lnTo>
                <a:lnTo>
                  <a:pt x="0" y="3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770280" y="3152880"/>
            <a:ext cx="54000" cy="75960"/>
          </a:xfrm>
          <a:custGeom>
            <a:avLst/>
            <a:gdLst/>
            <a:ahLst/>
            <a:rect l="l" t="t" r="r" b="b"/>
            <a:pathLst>
              <a:path w="34" h="48">
                <a:moveTo>
                  <a:pt x="33" y="0"/>
                </a:moveTo>
                <a:lnTo>
                  <a:pt x="0" y="24"/>
                </a:lnTo>
                <a:lnTo>
                  <a:pt x="33" y="47"/>
                </a:lnTo>
                <a:lnTo>
                  <a:pt x="3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652840" y="1878120"/>
            <a:ext cx="52200" cy="77760"/>
          </a:xfrm>
          <a:custGeom>
            <a:avLst/>
            <a:gdLst/>
            <a:ahLst/>
            <a:rect l="l" t="t" r="r" b="b"/>
            <a:pathLst>
              <a:path w="33" h="49">
                <a:moveTo>
                  <a:pt x="0" y="0"/>
                </a:moveTo>
                <a:lnTo>
                  <a:pt x="32" y="24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900080" y="1913040"/>
            <a:ext cx="739800" cy="7920"/>
          </a:xfrm>
          <a:custGeom>
            <a:avLst/>
            <a:gdLst/>
            <a:ahLst/>
            <a:rect l="l" t="t" r="r" b="b"/>
            <a:pathLst>
              <a:path w="466" h="5">
                <a:moveTo>
                  <a:pt x="0" y="2"/>
                </a:moveTo>
                <a:lnTo>
                  <a:pt x="0" y="0"/>
                </a:lnTo>
                <a:lnTo>
                  <a:pt x="465" y="0"/>
                </a:lnTo>
                <a:lnTo>
                  <a:pt x="465" y="4"/>
                </a:lnTo>
                <a:lnTo>
                  <a:pt x="0" y="4"/>
                </a:lnTo>
                <a:lnTo>
                  <a:pt x="0" y="2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835280" y="1878120"/>
            <a:ext cx="52200" cy="77760"/>
          </a:xfrm>
          <a:custGeom>
            <a:avLst/>
            <a:gdLst/>
            <a:ahLst/>
            <a:rect l="l" t="t" r="r" b="b"/>
            <a:pathLst>
              <a:path w="33" h="49">
                <a:moveTo>
                  <a:pt x="32" y="0"/>
                </a:moveTo>
                <a:lnTo>
                  <a:pt x="0" y="24"/>
                </a:lnTo>
                <a:lnTo>
                  <a:pt x="32" y="48"/>
                </a:lnTo>
                <a:lnTo>
                  <a:pt x="32" y="0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305840" y="1879560"/>
            <a:ext cx="52200" cy="76320"/>
          </a:xfrm>
          <a:custGeom>
            <a:avLst/>
            <a:gdLst/>
            <a:ahLst/>
            <a:rect l="l" t="t" r="r" b="b"/>
            <a:pathLst>
              <a:path w="33" h="48">
                <a:moveTo>
                  <a:pt x="32" y="47"/>
                </a:moveTo>
                <a:lnTo>
                  <a:pt x="0" y="23"/>
                </a:lnTo>
                <a:lnTo>
                  <a:pt x="32" y="0"/>
                </a:lnTo>
                <a:lnTo>
                  <a:pt x="32" y="47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370640" y="1913040"/>
            <a:ext cx="704880" cy="7920"/>
          </a:xfrm>
          <a:custGeom>
            <a:avLst/>
            <a:gdLst/>
            <a:ahLst/>
            <a:rect l="l" t="t" r="r" b="b"/>
            <a:pathLst>
              <a:path w="444" h="5">
                <a:moveTo>
                  <a:pt x="443" y="2"/>
                </a:moveTo>
                <a:lnTo>
                  <a:pt x="443" y="4"/>
                </a:lnTo>
                <a:lnTo>
                  <a:pt x="0" y="4"/>
                </a:lnTo>
                <a:lnTo>
                  <a:pt x="0" y="0"/>
                </a:lnTo>
                <a:lnTo>
                  <a:pt x="443" y="0"/>
                </a:lnTo>
                <a:lnTo>
                  <a:pt x="443" y="2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089920" y="187956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0" y="47"/>
                </a:moveTo>
                <a:lnTo>
                  <a:pt x="31" y="23"/>
                </a:lnTo>
                <a:lnTo>
                  <a:pt x="0" y="0"/>
                </a:lnTo>
                <a:lnTo>
                  <a:pt x="0" y="47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739880" y="2449440"/>
            <a:ext cx="155520" cy="103320"/>
          </a:xfrm>
          <a:custGeom>
            <a:avLst/>
            <a:gdLst/>
            <a:ahLst/>
            <a:rect l="l" t="t" r="r" b="b"/>
            <a:pathLst>
              <a:path w="98" h="65">
                <a:moveTo>
                  <a:pt x="0" y="64"/>
                </a:moveTo>
                <a:lnTo>
                  <a:pt x="0" y="0"/>
                </a:lnTo>
                <a:lnTo>
                  <a:pt x="13" y="0"/>
                </a:lnTo>
                <a:lnTo>
                  <a:pt x="35" y="43"/>
                </a:lnTo>
                <a:lnTo>
                  <a:pt x="35" y="0"/>
                </a:lnTo>
                <a:lnTo>
                  <a:pt x="47" y="0"/>
                </a:lnTo>
                <a:lnTo>
                  <a:pt x="47" y="64"/>
                </a:lnTo>
                <a:lnTo>
                  <a:pt x="35" y="64"/>
                </a:lnTo>
                <a:lnTo>
                  <a:pt x="13" y="19"/>
                </a:lnTo>
                <a:lnTo>
                  <a:pt x="13" y="64"/>
                </a:lnTo>
                <a:lnTo>
                  <a:pt x="0" y="64"/>
                </a:lnTo>
                <a:lnTo>
                  <a:pt x="69" y="64"/>
                </a:lnTo>
                <a:lnTo>
                  <a:pt x="69" y="11"/>
                </a:lnTo>
                <a:lnTo>
                  <a:pt x="53" y="11"/>
                </a:lnTo>
                <a:lnTo>
                  <a:pt x="53" y="0"/>
                </a:lnTo>
                <a:lnTo>
                  <a:pt x="97" y="0"/>
                </a:lnTo>
                <a:lnTo>
                  <a:pt x="97" y="11"/>
                </a:lnTo>
                <a:lnTo>
                  <a:pt x="81" y="11"/>
                </a:lnTo>
                <a:lnTo>
                  <a:pt x="81" y="64"/>
                </a:lnTo>
                <a:lnTo>
                  <a:pt x="69" y="64"/>
                </a:lnTo>
                <a:lnTo>
                  <a:pt x="0" y="6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565360" y="2541600"/>
            <a:ext cx="196920" cy="111240"/>
          </a:xfrm>
          <a:custGeom>
            <a:avLst/>
            <a:gdLst/>
            <a:ahLst/>
            <a:rect l="l" t="t" r="r" b="b"/>
            <a:pathLst>
              <a:path w="124" h="70">
                <a:moveTo>
                  <a:pt x="0" y="47"/>
                </a:moveTo>
                <a:lnTo>
                  <a:pt x="12" y="47"/>
                </a:lnTo>
                <a:lnTo>
                  <a:pt x="12" y="50"/>
                </a:lnTo>
                <a:lnTo>
                  <a:pt x="14" y="52"/>
                </a:lnTo>
                <a:lnTo>
                  <a:pt x="14" y="54"/>
                </a:lnTo>
                <a:lnTo>
                  <a:pt x="16" y="55"/>
                </a:lnTo>
                <a:lnTo>
                  <a:pt x="18" y="57"/>
                </a:lnTo>
                <a:lnTo>
                  <a:pt x="19" y="58"/>
                </a:lnTo>
                <a:lnTo>
                  <a:pt x="22" y="59"/>
                </a:lnTo>
                <a:lnTo>
                  <a:pt x="24" y="59"/>
                </a:lnTo>
                <a:lnTo>
                  <a:pt x="27" y="59"/>
                </a:lnTo>
                <a:lnTo>
                  <a:pt x="31" y="58"/>
                </a:lnTo>
                <a:lnTo>
                  <a:pt x="31" y="57"/>
                </a:lnTo>
                <a:lnTo>
                  <a:pt x="33" y="56"/>
                </a:lnTo>
                <a:lnTo>
                  <a:pt x="34" y="55"/>
                </a:lnTo>
                <a:lnTo>
                  <a:pt x="36" y="53"/>
                </a:lnTo>
                <a:lnTo>
                  <a:pt x="36" y="52"/>
                </a:lnTo>
                <a:lnTo>
                  <a:pt x="37" y="50"/>
                </a:lnTo>
                <a:lnTo>
                  <a:pt x="37" y="48"/>
                </a:lnTo>
                <a:lnTo>
                  <a:pt x="36" y="47"/>
                </a:lnTo>
                <a:lnTo>
                  <a:pt x="36" y="46"/>
                </a:lnTo>
                <a:lnTo>
                  <a:pt x="35" y="45"/>
                </a:lnTo>
                <a:lnTo>
                  <a:pt x="34" y="45"/>
                </a:lnTo>
                <a:lnTo>
                  <a:pt x="33" y="44"/>
                </a:lnTo>
                <a:lnTo>
                  <a:pt x="31" y="43"/>
                </a:lnTo>
                <a:lnTo>
                  <a:pt x="30" y="42"/>
                </a:lnTo>
                <a:lnTo>
                  <a:pt x="28" y="41"/>
                </a:lnTo>
                <a:lnTo>
                  <a:pt x="26" y="41"/>
                </a:lnTo>
                <a:lnTo>
                  <a:pt x="23" y="40"/>
                </a:lnTo>
                <a:lnTo>
                  <a:pt x="21" y="40"/>
                </a:lnTo>
                <a:lnTo>
                  <a:pt x="19" y="39"/>
                </a:lnTo>
                <a:lnTo>
                  <a:pt x="18" y="38"/>
                </a:lnTo>
                <a:lnTo>
                  <a:pt x="17" y="38"/>
                </a:lnTo>
                <a:lnTo>
                  <a:pt x="15" y="38"/>
                </a:lnTo>
                <a:lnTo>
                  <a:pt x="12" y="37"/>
                </a:lnTo>
                <a:lnTo>
                  <a:pt x="9" y="36"/>
                </a:lnTo>
                <a:lnTo>
                  <a:pt x="8" y="34"/>
                </a:lnTo>
                <a:lnTo>
                  <a:pt x="6" y="33"/>
                </a:lnTo>
                <a:lnTo>
                  <a:pt x="5" y="31"/>
                </a:lnTo>
                <a:lnTo>
                  <a:pt x="4" y="30"/>
                </a:lnTo>
                <a:lnTo>
                  <a:pt x="3" y="28"/>
                </a:lnTo>
                <a:lnTo>
                  <a:pt x="2" y="26"/>
                </a:lnTo>
                <a:lnTo>
                  <a:pt x="1" y="24"/>
                </a:lnTo>
                <a:lnTo>
                  <a:pt x="1" y="23"/>
                </a:lnTo>
                <a:lnTo>
                  <a:pt x="1" y="20"/>
                </a:lnTo>
                <a:lnTo>
                  <a:pt x="1" y="18"/>
                </a:lnTo>
                <a:lnTo>
                  <a:pt x="2" y="17"/>
                </a:lnTo>
                <a:lnTo>
                  <a:pt x="2" y="15"/>
                </a:lnTo>
                <a:lnTo>
                  <a:pt x="2" y="12"/>
                </a:lnTo>
                <a:lnTo>
                  <a:pt x="4" y="10"/>
                </a:lnTo>
                <a:lnTo>
                  <a:pt x="5" y="10"/>
                </a:lnTo>
                <a:lnTo>
                  <a:pt x="6" y="8"/>
                </a:lnTo>
                <a:lnTo>
                  <a:pt x="6" y="6"/>
                </a:lnTo>
                <a:lnTo>
                  <a:pt x="8" y="5"/>
                </a:lnTo>
                <a:lnTo>
                  <a:pt x="10" y="3"/>
                </a:lnTo>
                <a:lnTo>
                  <a:pt x="12" y="3"/>
                </a:lnTo>
                <a:lnTo>
                  <a:pt x="14" y="2"/>
                </a:lnTo>
                <a:lnTo>
                  <a:pt x="17" y="1"/>
                </a:lnTo>
                <a:lnTo>
                  <a:pt x="18" y="1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1"/>
                </a:lnTo>
                <a:lnTo>
                  <a:pt x="32" y="1"/>
                </a:lnTo>
                <a:lnTo>
                  <a:pt x="34" y="2"/>
                </a:lnTo>
                <a:lnTo>
                  <a:pt x="37" y="3"/>
                </a:lnTo>
                <a:lnTo>
                  <a:pt x="39" y="3"/>
                </a:lnTo>
                <a:lnTo>
                  <a:pt x="41" y="5"/>
                </a:lnTo>
                <a:lnTo>
                  <a:pt x="42" y="6"/>
                </a:lnTo>
                <a:lnTo>
                  <a:pt x="43" y="10"/>
                </a:lnTo>
                <a:lnTo>
                  <a:pt x="45" y="13"/>
                </a:lnTo>
                <a:lnTo>
                  <a:pt x="45" y="17"/>
                </a:lnTo>
                <a:lnTo>
                  <a:pt x="46" y="22"/>
                </a:lnTo>
                <a:lnTo>
                  <a:pt x="34" y="22"/>
                </a:lnTo>
                <a:lnTo>
                  <a:pt x="34" y="19"/>
                </a:lnTo>
                <a:lnTo>
                  <a:pt x="34" y="17"/>
                </a:lnTo>
                <a:lnTo>
                  <a:pt x="33" y="15"/>
                </a:lnTo>
                <a:lnTo>
                  <a:pt x="31" y="14"/>
                </a:lnTo>
                <a:lnTo>
                  <a:pt x="30" y="13"/>
                </a:lnTo>
                <a:lnTo>
                  <a:pt x="27" y="12"/>
                </a:lnTo>
                <a:lnTo>
                  <a:pt x="25" y="11"/>
                </a:lnTo>
                <a:lnTo>
                  <a:pt x="23" y="11"/>
                </a:lnTo>
                <a:lnTo>
                  <a:pt x="18" y="12"/>
                </a:lnTo>
                <a:lnTo>
                  <a:pt x="16" y="13"/>
                </a:lnTo>
                <a:lnTo>
                  <a:pt x="14" y="15"/>
                </a:lnTo>
                <a:lnTo>
                  <a:pt x="12" y="17"/>
                </a:lnTo>
                <a:lnTo>
                  <a:pt x="12" y="19"/>
                </a:lnTo>
                <a:lnTo>
                  <a:pt x="13" y="20"/>
                </a:lnTo>
                <a:lnTo>
                  <a:pt x="14" y="22"/>
                </a:lnTo>
                <a:lnTo>
                  <a:pt x="16" y="24"/>
                </a:lnTo>
                <a:lnTo>
                  <a:pt x="17" y="24"/>
                </a:lnTo>
                <a:lnTo>
                  <a:pt x="18" y="25"/>
                </a:lnTo>
                <a:lnTo>
                  <a:pt x="20" y="26"/>
                </a:lnTo>
                <a:lnTo>
                  <a:pt x="23" y="27"/>
                </a:lnTo>
                <a:lnTo>
                  <a:pt x="27" y="28"/>
                </a:lnTo>
                <a:lnTo>
                  <a:pt x="31" y="30"/>
                </a:lnTo>
                <a:lnTo>
                  <a:pt x="34" y="31"/>
                </a:lnTo>
                <a:lnTo>
                  <a:pt x="38" y="32"/>
                </a:lnTo>
                <a:lnTo>
                  <a:pt x="40" y="34"/>
                </a:lnTo>
                <a:lnTo>
                  <a:pt x="42" y="36"/>
                </a:lnTo>
                <a:lnTo>
                  <a:pt x="43" y="38"/>
                </a:lnTo>
                <a:lnTo>
                  <a:pt x="45" y="39"/>
                </a:lnTo>
                <a:lnTo>
                  <a:pt x="46" y="41"/>
                </a:lnTo>
                <a:lnTo>
                  <a:pt x="48" y="45"/>
                </a:lnTo>
                <a:lnTo>
                  <a:pt x="48" y="47"/>
                </a:lnTo>
                <a:lnTo>
                  <a:pt x="48" y="50"/>
                </a:lnTo>
                <a:lnTo>
                  <a:pt x="48" y="52"/>
                </a:lnTo>
                <a:lnTo>
                  <a:pt x="48" y="55"/>
                </a:lnTo>
                <a:lnTo>
                  <a:pt x="46" y="58"/>
                </a:lnTo>
                <a:lnTo>
                  <a:pt x="45" y="59"/>
                </a:lnTo>
                <a:lnTo>
                  <a:pt x="43" y="62"/>
                </a:lnTo>
                <a:lnTo>
                  <a:pt x="42" y="64"/>
                </a:lnTo>
                <a:lnTo>
                  <a:pt x="40" y="66"/>
                </a:lnTo>
                <a:lnTo>
                  <a:pt x="37" y="66"/>
                </a:lnTo>
                <a:lnTo>
                  <a:pt x="34" y="68"/>
                </a:lnTo>
                <a:lnTo>
                  <a:pt x="31" y="68"/>
                </a:lnTo>
                <a:lnTo>
                  <a:pt x="28" y="69"/>
                </a:lnTo>
                <a:lnTo>
                  <a:pt x="24" y="69"/>
                </a:lnTo>
                <a:lnTo>
                  <a:pt x="21" y="69"/>
                </a:lnTo>
                <a:lnTo>
                  <a:pt x="19" y="69"/>
                </a:lnTo>
                <a:lnTo>
                  <a:pt x="18" y="68"/>
                </a:lnTo>
                <a:lnTo>
                  <a:pt x="16" y="68"/>
                </a:lnTo>
                <a:lnTo>
                  <a:pt x="14" y="67"/>
                </a:lnTo>
                <a:lnTo>
                  <a:pt x="12" y="66"/>
                </a:lnTo>
                <a:lnTo>
                  <a:pt x="10" y="66"/>
                </a:lnTo>
                <a:lnTo>
                  <a:pt x="8" y="65"/>
                </a:lnTo>
                <a:lnTo>
                  <a:pt x="6" y="63"/>
                </a:lnTo>
                <a:lnTo>
                  <a:pt x="5" y="61"/>
                </a:lnTo>
                <a:lnTo>
                  <a:pt x="4" y="59"/>
                </a:lnTo>
                <a:lnTo>
                  <a:pt x="2" y="57"/>
                </a:lnTo>
                <a:lnTo>
                  <a:pt x="2" y="55"/>
                </a:lnTo>
                <a:lnTo>
                  <a:pt x="1" y="52"/>
                </a:lnTo>
                <a:lnTo>
                  <a:pt x="0" y="50"/>
                </a:lnTo>
                <a:lnTo>
                  <a:pt x="0" y="47"/>
                </a:lnTo>
                <a:lnTo>
                  <a:pt x="68" y="67"/>
                </a:lnTo>
                <a:lnTo>
                  <a:pt x="51" y="3"/>
                </a:lnTo>
                <a:lnTo>
                  <a:pt x="64" y="3"/>
                </a:lnTo>
                <a:lnTo>
                  <a:pt x="73" y="50"/>
                </a:lnTo>
                <a:lnTo>
                  <a:pt x="81" y="3"/>
                </a:lnTo>
                <a:lnTo>
                  <a:pt x="93" y="3"/>
                </a:lnTo>
                <a:lnTo>
                  <a:pt x="102" y="51"/>
                </a:lnTo>
                <a:lnTo>
                  <a:pt x="110" y="3"/>
                </a:lnTo>
                <a:lnTo>
                  <a:pt x="123" y="3"/>
                </a:lnTo>
                <a:lnTo>
                  <a:pt x="107" y="67"/>
                </a:lnTo>
                <a:lnTo>
                  <a:pt x="97" y="67"/>
                </a:lnTo>
                <a:lnTo>
                  <a:pt x="87" y="19"/>
                </a:lnTo>
                <a:lnTo>
                  <a:pt x="78" y="67"/>
                </a:lnTo>
                <a:lnTo>
                  <a:pt x="68" y="67"/>
                </a:lnTo>
                <a:lnTo>
                  <a:pt x="0" y="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164360" y="2541600"/>
            <a:ext cx="196920" cy="111240"/>
          </a:xfrm>
          <a:custGeom>
            <a:avLst/>
            <a:gdLst/>
            <a:ahLst/>
            <a:rect l="l" t="t" r="r" b="b"/>
            <a:pathLst>
              <a:path w="124" h="70">
                <a:moveTo>
                  <a:pt x="0" y="47"/>
                </a:moveTo>
                <a:lnTo>
                  <a:pt x="13" y="47"/>
                </a:lnTo>
                <a:lnTo>
                  <a:pt x="13" y="50"/>
                </a:lnTo>
                <a:lnTo>
                  <a:pt x="14" y="52"/>
                </a:lnTo>
                <a:lnTo>
                  <a:pt x="15" y="54"/>
                </a:lnTo>
                <a:lnTo>
                  <a:pt x="17" y="55"/>
                </a:lnTo>
                <a:lnTo>
                  <a:pt x="18" y="57"/>
                </a:lnTo>
                <a:lnTo>
                  <a:pt x="20" y="58"/>
                </a:lnTo>
                <a:lnTo>
                  <a:pt x="22" y="59"/>
                </a:lnTo>
                <a:lnTo>
                  <a:pt x="25" y="59"/>
                </a:lnTo>
                <a:lnTo>
                  <a:pt x="28" y="59"/>
                </a:lnTo>
                <a:lnTo>
                  <a:pt x="31" y="58"/>
                </a:lnTo>
                <a:lnTo>
                  <a:pt x="32" y="57"/>
                </a:lnTo>
                <a:lnTo>
                  <a:pt x="34" y="56"/>
                </a:lnTo>
                <a:lnTo>
                  <a:pt x="35" y="55"/>
                </a:lnTo>
                <a:lnTo>
                  <a:pt x="36" y="53"/>
                </a:lnTo>
                <a:lnTo>
                  <a:pt x="37" y="52"/>
                </a:lnTo>
                <a:lnTo>
                  <a:pt x="37" y="50"/>
                </a:lnTo>
                <a:lnTo>
                  <a:pt x="37" y="48"/>
                </a:lnTo>
                <a:lnTo>
                  <a:pt x="37" y="47"/>
                </a:lnTo>
                <a:lnTo>
                  <a:pt x="36" y="46"/>
                </a:lnTo>
                <a:lnTo>
                  <a:pt x="35" y="45"/>
                </a:lnTo>
                <a:lnTo>
                  <a:pt x="34" y="45"/>
                </a:lnTo>
                <a:lnTo>
                  <a:pt x="33" y="44"/>
                </a:lnTo>
                <a:lnTo>
                  <a:pt x="32" y="43"/>
                </a:lnTo>
                <a:lnTo>
                  <a:pt x="31" y="43"/>
                </a:lnTo>
                <a:lnTo>
                  <a:pt x="30" y="42"/>
                </a:lnTo>
                <a:lnTo>
                  <a:pt x="28" y="41"/>
                </a:lnTo>
                <a:lnTo>
                  <a:pt x="26" y="41"/>
                </a:lnTo>
                <a:lnTo>
                  <a:pt x="24" y="40"/>
                </a:lnTo>
                <a:lnTo>
                  <a:pt x="21" y="40"/>
                </a:lnTo>
                <a:lnTo>
                  <a:pt x="19" y="39"/>
                </a:lnTo>
                <a:lnTo>
                  <a:pt x="18" y="38"/>
                </a:lnTo>
                <a:lnTo>
                  <a:pt x="15" y="38"/>
                </a:lnTo>
                <a:lnTo>
                  <a:pt x="12" y="37"/>
                </a:lnTo>
                <a:lnTo>
                  <a:pt x="10" y="36"/>
                </a:lnTo>
                <a:lnTo>
                  <a:pt x="8" y="34"/>
                </a:lnTo>
                <a:lnTo>
                  <a:pt x="6" y="33"/>
                </a:lnTo>
                <a:lnTo>
                  <a:pt x="6" y="31"/>
                </a:lnTo>
                <a:lnTo>
                  <a:pt x="5" y="30"/>
                </a:lnTo>
                <a:lnTo>
                  <a:pt x="3" y="28"/>
                </a:lnTo>
                <a:lnTo>
                  <a:pt x="2" y="26"/>
                </a:lnTo>
                <a:lnTo>
                  <a:pt x="2" y="24"/>
                </a:lnTo>
                <a:lnTo>
                  <a:pt x="1" y="23"/>
                </a:lnTo>
                <a:lnTo>
                  <a:pt x="1" y="20"/>
                </a:lnTo>
                <a:lnTo>
                  <a:pt x="2" y="18"/>
                </a:lnTo>
                <a:lnTo>
                  <a:pt x="2" y="17"/>
                </a:lnTo>
                <a:lnTo>
                  <a:pt x="2" y="15"/>
                </a:lnTo>
                <a:lnTo>
                  <a:pt x="3" y="12"/>
                </a:lnTo>
                <a:lnTo>
                  <a:pt x="4" y="10"/>
                </a:lnTo>
                <a:lnTo>
                  <a:pt x="5" y="10"/>
                </a:lnTo>
                <a:lnTo>
                  <a:pt x="6" y="8"/>
                </a:lnTo>
                <a:lnTo>
                  <a:pt x="7" y="6"/>
                </a:lnTo>
                <a:lnTo>
                  <a:pt x="9" y="5"/>
                </a:lnTo>
                <a:lnTo>
                  <a:pt x="10" y="3"/>
                </a:lnTo>
                <a:lnTo>
                  <a:pt x="12" y="3"/>
                </a:lnTo>
                <a:lnTo>
                  <a:pt x="15" y="2"/>
                </a:lnTo>
                <a:lnTo>
                  <a:pt x="17" y="1"/>
                </a:lnTo>
                <a:lnTo>
                  <a:pt x="19" y="1"/>
                </a:lnTo>
                <a:lnTo>
                  <a:pt x="22" y="0"/>
                </a:lnTo>
                <a:lnTo>
                  <a:pt x="25" y="0"/>
                </a:lnTo>
                <a:lnTo>
                  <a:pt x="28" y="0"/>
                </a:lnTo>
                <a:lnTo>
                  <a:pt x="31" y="1"/>
                </a:lnTo>
                <a:lnTo>
                  <a:pt x="32" y="1"/>
                </a:lnTo>
                <a:lnTo>
                  <a:pt x="35" y="2"/>
                </a:lnTo>
                <a:lnTo>
                  <a:pt x="37" y="3"/>
                </a:lnTo>
                <a:lnTo>
                  <a:pt x="39" y="3"/>
                </a:lnTo>
                <a:lnTo>
                  <a:pt x="41" y="5"/>
                </a:lnTo>
                <a:lnTo>
                  <a:pt x="42" y="6"/>
                </a:lnTo>
                <a:lnTo>
                  <a:pt x="43" y="10"/>
                </a:lnTo>
                <a:lnTo>
                  <a:pt x="45" y="13"/>
                </a:lnTo>
                <a:lnTo>
                  <a:pt x="46" y="17"/>
                </a:lnTo>
                <a:lnTo>
                  <a:pt x="46" y="22"/>
                </a:lnTo>
                <a:lnTo>
                  <a:pt x="35" y="22"/>
                </a:lnTo>
                <a:lnTo>
                  <a:pt x="35" y="19"/>
                </a:lnTo>
                <a:lnTo>
                  <a:pt x="34" y="17"/>
                </a:lnTo>
                <a:lnTo>
                  <a:pt x="33" y="15"/>
                </a:lnTo>
                <a:lnTo>
                  <a:pt x="31" y="14"/>
                </a:lnTo>
                <a:lnTo>
                  <a:pt x="30" y="13"/>
                </a:lnTo>
                <a:lnTo>
                  <a:pt x="28" y="12"/>
                </a:lnTo>
                <a:lnTo>
                  <a:pt x="25" y="11"/>
                </a:lnTo>
                <a:lnTo>
                  <a:pt x="23" y="11"/>
                </a:lnTo>
                <a:lnTo>
                  <a:pt x="19" y="12"/>
                </a:lnTo>
                <a:lnTo>
                  <a:pt x="16" y="13"/>
                </a:lnTo>
                <a:lnTo>
                  <a:pt x="14" y="15"/>
                </a:lnTo>
                <a:lnTo>
                  <a:pt x="13" y="17"/>
                </a:lnTo>
                <a:lnTo>
                  <a:pt x="13" y="19"/>
                </a:lnTo>
                <a:lnTo>
                  <a:pt x="13" y="20"/>
                </a:lnTo>
                <a:lnTo>
                  <a:pt x="15" y="22"/>
                </a:lnTo>
                <a:lnTo>
                  <a:pt x="16" y="24"/>
                </a:lnTo>
                <a:lnTo>
                  <a:pt x="17" y="24"/>
                </a:lnTo>
                <a:lnTo>
                  <a:pt x="19" y="25"/>
                </a:lnTo>
                <a:lnTo>
                  <a:pt x="20" y="26"/>
                </a:lnTo>
                <a:lnTo>
                  <a:pt x="24" y="27"/>
                </a:lnTo>
                <a:lnTo>
                  <a:pt x="28" y="28"/>
                </a:lnTo>
                <a:lnTo>
                  <a:pt x="31" y="30"/>
                </a:lnTo>
                <a:lnTo>
                  <a:pt x="35" y="31"/>
                </a:lnTo>
                <a:lnTo>
                  <a:pt x="38" y="32"/>
                </a:lnTo>
                <a:lnTo>
                  <a:pt x="40" y="34"/>
                </a:lnTo>
                <a:lnTo>
                  <a:pt x="43" y="36"/>
                </a:lnTo>
                <a:lnTo>
                  <a:pt x="44" y="38"/>
                </a:lnTo>
                <a:lnTo>
                  <a:pt x="46" y="39"/>
                </a:lnTo>
                <a:lnTo>
                  <a:pt x="47" y="41"/>
                </a:lnTo>
                <a:lnTo>
                  <a:pt x="48" y="45"/>
                </a:lnTo>
                <a:lnTo>
                  <a:pt x="49" y="47"/>
                </a:lnTo>
                <a:lnTo>
                  <a:pt x="49" y="50"/>
                </a:lnTo>
                <a:lnTo>
                  <a:pt x="49" y="52"/>
                </a:lnTo>
                <a:lnTo>
                  <a:pt x="48" y="55"/>
                </a:lnTo>
                <a:lnTo>
                  <a:pt x="47" y="58"/>
                </a:lnTo>
                <a:lnTo>
                  <a:pt x="46" y="59"/>
                </a:lnTo>
                <a:lnTo>
                  <a:pt x="44" y="62"/>
                </a:lnTo>
                <a:lnTo>
                  <a:pt x="43" y="64"/>
                </a:lnTo>
                <a:lnTo>
                  <a:pt x="40" y="66"/>
                </a:lnTo>
                <a:lnTo>
                  <a:pt x="37" y="66"/>
                </a:lnTo>
                <a:lnTo>
                  <a:pt x="34" y="68"/>
                </a:lnTo>
                <a:lnTo>
                  <a:pt x="31" y="68"/>
                </a:lnTo>
                <a:lnTo>
                  <a:pt x="28" y="69"/>
                </a:lnTo>
                <a:lnTo>
                  <a:pt x="24" y="69"/>
                </a:lnTo>
                <a:lnTo>
                  <a:pt x="22" y="69"/>
                </a:lnTo>
                <a:lnTo>
                  <a:pt x="20" y="69"/>
                </a:lnTo>
                <a:lnTo>
                  <a:pt x="18" y="68"/>
                </a:lnTo>
                <a:lnTo>
                  <a:pt x="17" y="68"/>
                </a:lnTo>
                <a:lnTo>
                  <a:pt x="14" y="67"/>
                </a:lnTo>
                <a:lnTo>
                  <a:pt x="12" y="66"/>
                </a:lnTo>
                <a:lnTo>
                  <a:pt x="10" y="66"/>
                </a:lnTo>
                <a:lnTo>
                  <a:pt x="8" y="65"/>
                </a:lnTo>
                <a:lnTo>
                  <a:pt x="6" y="63"/>
                </a:lnTo>
                <a:lnTo>
                  <a:pt x="6" y="61"/>
                </a:lnTo>
                <a:lnTo>
                  <a:pt x="4" y="59"/>
                </a:lnTo>
                <a:lnTo>
                  <a:pt x="3" y="57"/>
                </a:lnTo>
                <a:lnTo>
                  <a:pt x="2" y="55"/>
                </a:lnTo>
                <a:lnTo>
                  <a:pt x="1" y="52"/>
                </a:lnTo>
                <a:lnTo>
                  <a:pt x="0" y="50"/>
                </a:lnTo>
                <a:lnTo>
                  <a:pt x="0" y="47"/>
                </a:lnTo>
                <a:lnTo>
                  <a:pt x="68" y="67"/>
                </a:lnTo>
                <a:lnTo>
                  <a:pt x="52" y="3"/>
                </a:lnTo>
                <a:lnTo>
                  <a:pt x="64" y="3"/>
                </a:lnTo>
                <a:lnTo>
                  <a:pt x="73" y="50"/>
                </a:lnTo>
                <a:lnTo>
                  <a:pt x="81" y="3"/>
                </a:lnTo>
                <a:lnTo>
                  <a:pt x="94" y="3"/>
                </a:lnTo>
                <a:lnTo>
                  <a:pt x="102" y="51"/>
                </a:lnTo>
                <a:lnTo>
                  <a:pt x="111" y="3"/>
                </a:lnTo>
                <a:lnTo>
                  <a:pt x="123" y="3"/>
                </a:lnTo>
                <a:lnTo>
                  <a:pt x="108" y="67"/>
                </a:lnTo>
                <a:lnTo>
                  <a:pt x="97" y="67"/>
                </a:lnTo>
                <a:lnTo>
                  <a:pt x="87" y="19"/>
                </a:lnTo>
                <a:lnTo>
                  <a:pt x="79" y="67"/>
                </a:lnTo>
                <a:lnTo>
                  <a:pt x="68" y="67"/>
                </a:lnTo>
                <a:lnTo>
                  <a:pt x="0" y="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059680" y="2449440"/>
            <a:ext cx="155520" cy="103320"/>
          </a:xfrm>
          <a:custGeom>
            <a:avLst/>
            <a:gdLst/>
            <a:ahLst/>
            <a:rect l="l" t="t" r="r" b="b"/>
            <a:pathLst>
              <a:path w="98" h="65">
                <a:moveTo>
                  <a:pt x="0" y="64"/>
                </a:moveTo>
                <a:lnTo>
                  <a:pt x="0" y="0"/>
                </a:lnTo>
                <a:lnTo>
                  <a:pt x="13" y="0"/>
                </a:lnTo>
                <a:lnTo>
                  <a:pt x="34" y="43"/>
                </a:lnTo>
                <a:lnTo>
                  <a:pt x="34" y="0"/>
                </a:lnTo>
                <a:lnTo>
                  <a:pt x="46" y="0"/>
                </a:lnTo>
                <a:lnTo>
                  <a:pt x="46" y="64"/>
                </a:lnTo>
                <a:lnTo>
                  <a:pt x="34" y="64"/>
                </a:lnTo>
                <a:lnTo>
                  <a:pt x="13" y="19"/>
                </a:lnTo>
                <a:lnTo>
                  <a:pt x="13" y="64"/>
                </a:lnTo>
                <a:lnTo>
                  <a:pt x="0" y="64"/>
                </a:lnTo>
                <a:lnTo>
                  <a:pt x="69" y="64"/>
                </a:lnTo>
                <a:lnTo>
                  <a:pt x="69" y="11"/>
                </a:lnTo>
                <a:lnTo>
                  <a:pt x="52" y="11"/>
                </a:lnTo>
                <a:lnTo>
                  <a:pt x="52" y="0"/>
                </a:lnTo>
                <a:lnTo>
                  <a:pt x="97" y="0"/>
                </a:lnTo>
                <a:lnTo>
                  <a:pt x="97" y="11"/>
                </a:lnTo>
                <a:lnTo>
                  <a:pt x="81" y="11"/>
                </a:lnTo>
                <a:lnTo>
                  <a:pt x="81" y="64"/>
                </a:lnTo>
                <a:lnTo>
                  <a:pt x="69" y="64"/>
                </a:lnTo>
                <a:lnTo>
                  <a:pt x="0" y="6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558600" y="3673440"/>
            <a:ext cx="394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54200" y="3673440"/>
            <a:ext cx="394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65720" y="1800360"/>
            <a:ext cx="783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Nive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164040" y="4857840"/>
            <a:ext cx="5486400" cy="12096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871080" y="1515960"/>
            <a:ext cx="2246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conexión a nivel de canal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235760" y="1868400"/>
            <a:ext cx="163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enlace de canal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903320" y="1712880"/>
            <a:ext cx="7315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en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de ca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76280" y="3298680"/>
            <a:ext cx="1802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enlace de trayecto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43400" y="3089160"/>
            <a:ext cx="783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Nive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tra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394080" y="512136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0" y="0"/>
                </a:moveTo>
                <a:lnTo>
                  <a:pt x="0" y="0"/>
                </a:lnTo>
                <a:lnTo>
                  <a:pt x="0" y="20"/>
                </a:lnTo>
                <a:lnTo>
                  <a:pt x="20" y="20"/>
                </a:lnTo>
                <a:lnTo>
                  <a:pt x="20" y="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394080" y="5121360"/>
            <a:ext cx="49320" cy="48960"/>
          </a:xfrm>
          <a:custGeom>
            <a:avLst/>
            <a:gdLst/>
            <a:ahLst/>
            <a:rect l="l" t="t" r="r" b="b"/>
            <a:pathLst>
              <a:path w="31" h="31">
                <a:moveTo>
                  <a:pt x="30" y="0"/>
                </a:moveTo>
                <a:lnTo>
                  <a:pt x="0" y="0"/>
                </a:lnTo>
                <a:lnTo>
                  <a:pt x="0" y="30"/>
                </a:lnTo>
                <a:lnTo>
                  <a:pt x="30" y="30"/>
                </a:lnTo>
                <a:lnTo>
                  <a:pt x="3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446640" y="513540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449520" y="513720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91040" y="5059440"/>
            <a:ext cx="119160" cy="7920"/>
          </a:xfrm>
          <a:custGeom>
            <a:avLst/>
            <a:gdLst/>
            <a:ahLst/>
            <a:rect l="l" t="t" r="r" b="b"/>
            <a:pathLst>
              <a:path w="75" h="5">
                <a:moveTo>
                  <a:pt x="0" y="4"/>
                </a:moveTo>
                <a:lnTo>
                  <a:pt x="17" y="0"/>
                </a:lnTo>
                <a:lnTo>
                  <a:pt x="74" y="0"/>
                </a:lnTo>
                <a:lnTo>
                  <a:pt x="57" y="4"/>
                </a:lnTo>
                <a:lnTo>
                  <a:pt x="0" y="4"/>
                </a:lnTo>
              </a:path>
            </a:pathLst>
          </a:cu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891040" y="5059440"/>
            <a:ext cx="135000" cy="23760"/>
          </a:xfrm>
          <a:custGeom>
            <a:avLst/>
            <a:gdLst/>
            <a:ahLst/>
            <a:rect l="l" t="t" r="r" b="b"/>
            <a:pathLst>
              <a:path w="85" h="15">
                <a:moveTo>
                  <a:pt x="0" y="14"/>
                </a:moveTo>
                <a:lnTo>
                  <a:pt x="19" y="0"/>
                </a:lnTo>
                <a:lnTo>
                  <a:pt x="84" y="0"/>
                </a:lnTo>
                <a:lnTo>
                  <a:pt x="65" y="14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994360" y="5059440"/>
            <a:ext cx="15840" cy="191880"/>
          </a:xfrm>
          <a:custGeom>
            <a:avLst/>
            <a:gdLst/>
            <a:ahLst/>
            <a:rect l="l" t="t" r="r" b="b"/>
            <a:pathLst>
              <a:path w="10" h="121">
                <a:moveTo>
                  <a:pt x="0" y="13"/>
                </a:moveTo>
                <a:lnTo>
                  <a:pt x="9" y="0"/>
                </a:lnTo>
                <a:lnTo>
                  <a:pt x="9" y="106"/>
                </a:lnTo>
                <a:lnTo>
                  <a:pt x="0" y="120"/>
                </a:lnTo>
                <a:lnTo>
                  <a:pt x="0" y="13"/>
                </a:lnTo>
              </a:path>
            </a:pathLst>
          </a:cu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994360" y="5059440"/>
            <a:ext cx="31680" cy="207720"/>
          </a:xfrm>
          <a:custGeom>
            <a:avLst/>
            <a:gdLst/>
            <a:ahLst/>
            <a:rect l="l" t="t" r="r" b="b"/>
            <a:pathLst>
              <a:path w="20" h="131">
                <a:moveTo>
                  <a:pt x="0" y="14"/>
                </a:moveTo>
                <a:lnTo>
                  <a:pt x="19" y="0"/>
                </a:lnTo>
                <a:lnTo>
                  <a:pt x="19" y="115"/>
                </a:lnTo>
                <a:lnTo>
                  <a:pt x="0" y="130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891040" y="5081760"/>
            <a:ext cx="88920" cy="169560"/>
          </a:xfrm>
          <a:custGeom>
            <a:avLst/>
            <a:gdLst/>
            <a:ahLst/>
            <a:rect l="l" t="t" r="r" b="b"/>
            <a:pathLst>
              <a:path w="56" h="107">
                <a:moveTo>
                  <a:pt x="0" y="0"/>
                </a:moveTo>
                <a:lnTo>
                  <a:pt x="55" y="0"/>
                </a:lnTo>
                <a:lnTo>
                  <a:pt x="55" y="106"/>
                </a:lnTo>
                <a:lnTo>
                  <a:pt x="0" y="106"/>
                </a:lnTo>
                <a:lnTo>
                  <a:pt x="0" y="0"/>
                </a:lnTo>
              </a:path>
            </a:pathLst>
          </a:cu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891040" y="5081760"/>
            <a:ext cx="105120" cy="185400"/>
          </a:xfrm>
          <a:custGeom>
            <a:avLst/>
            <a:gdLst/>
            <a:ahLst/>
            <a:rect l="l" t="t" r="r" b="b"/>
            <a:pathLst>
              <a:path w="66" h="117">
                <a:moveTo>
                  <a:pt x="0" y="0"/>
                </a:moveTo>
                <a:lnTo>
                  <a:pt x="65" y="0"/>
                </a:lnTo>
                <a:lnTo>
                  <a:pt x="65" y="116"/>
                </a:lnTo>
                <a:lnTo>
                  <a:pt x="0" y="1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344760" y="5505480"/>
            <a:ext cx="230400" cy="27000"/>
          </a:xfrm>
          <a:custGeom>
            <a:avLst/>
            <a:gdLst/>
            <a:ahLst/>
            <a:rect l="l" t="t" r="r" b="b"/>
            <a:pathLst>
              <a:path w="145" h="17">
                <a:moveTo>
                  <a:pt x="0" y="16"/>
                </a:moveTo>
                <a:lnTo>
                  <a:pt x="34" y="0"/>
                </a:lnTo>
                <a:lnTo>
                  <a:pt x="144" y="0"/>
                </a:lnTo>
                <a:lnTo>
                  <a:pt x="111" y="16"/>
                </a:lnTo>
                <a:lnTo>
                  <a:pt x="0" y="16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344760" y="5505480"/>
            <a:ext cx="246240" cy="42840"/>
          </a:xfrm>
          <a:custGeom>
            <a:avLst/>
            <a:gdLst/>
            <a:ahLst/>
            <a:rect l="l" t="t" r="r" b="b"/>
            <a:pathLst>
              <a:path w="155" h="27">
                <a:moveTo>
                  <a:pt x="0" y="26"/>
                </a:moveTo>
                <a:lnTo>
                  <a:pt x="36" y="0"/>
                </a:lnTo>
                <a:lnTo>
                  <a:pt x="154" y="0"/>
                </a:lnTo>
                <a:lnTo>
                  <a:pt x="119" y="26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533760" y="5505480"/>
            <a:ext cx="41400" cy="363600"/>
          </a:xfrm>
          <a:custGeom>
            <a:avLst/>
            <a:gdLst/>
            <a:ahLst/>
            <a:rect l="l" t="t" r="r" b="b"/>
            <a:pathLst>
              <a:path w="26" h="229">
                <a:moveTo>
                  <a:pt x="0" y="25"/>
                </a:moveTo>
                <a:lnTo>
                  <a:pt x="25" y="0"/>
                </a:lnTo>
                <a:lnTo>
                  <a:pt x="25" y="203"/>
                </a:lnTo>
                <a:lnTo>
                  <a:pt x="0" y="228"/>
                </a:lnTo>
                <a:lnTo>
                  <a:pt x="0" y="25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533760" y="5505480"/>
            <a:ext cx="57240" cy="379440"/>
          </a:xfrm>
          <a:custGeom>
            <a:avLst/>
            <a:gdLst/>
            <a:ahLst/>
            <a:rect l="l" t="t" r="r" b="b"/>
            <a:pathLst>
              <a:path w="36" h="239">
                <a:moveTo>
                  <a:pt x="0" y="26"/>
                </a:moveTo>
                <a:lnTo>
                  <a:pt x="35" y="0"/>
                </a:lnTo>
                <a:lnTo>
                  <a:pt x="35" y="212"/>
                </a:lnTo>
                <a:lnTo>
                  <a:pt x="0" y="238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344760" y="5546880"/>
            <a:ext cx="174600" cy="322200"/>
          </a:xfrm>
          <a:custGeom>
            <a:avLst/>
            <a:gdLst/>
            <a:ahLst/>
            <a:rect l="l" t="t" r="r" b="b"/>
            <a:pathLst>
              <a:path w="110" h="203">
                <a:moveTo>
                  <a:pt x="0" y="0"/>
                </a:moveTo>
                <a:lnTo>
                  <a:pt x="109" y="0"/>
                </a:lnTo>
                <a:lnTo>
                  <a:pt x="109" y="202"/>
                </a:lnTo>
                <a:lnTo>
                  <a:pt x="0" y="202"/>
                </a:lnTo>
                <a:lnTo>
                  <a:pt x="0" y="0"/>
                </a:lnTo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44760" y="5546880"/>
            <a:ext cx="190440" cy="338040"/>
          </a:xfrm>
          <a:custGeom>
            <a:avLst/>
            <a:gdLst/>
            <a:ahLst/>
            <a:rect l="l" t="t" r="r" b="b"/>
            <a:pathLst>
              <a:path w="120" h="213">
                <a:moveTo>
                  <a:pt x="0" y="0"/>
                </a:moveTo>
                <a:lnTo>
                  <a:pt x="119" y="0"/>
                </a:lnTo>
                <a:lnTo>
                  <a:pt x="119" y="212"/>
                </a:lnTo>
                <a:lnTo>
                  <a:pt x="0" y="21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338640" y="5038560"/>
            <a:ext cx="231480" cy="22320"/>
          </a:xfrm>
          <a:custGeom>
            <a:avLst/>
            <a:gdLst/>
            <a:ahLst/>
            <a:rect l="l" t="t" r="r" b="b"/>
            <a:pathLst>
              <a:path w="146" h="14">
                <a:moveTo>
                  <a:pt x="0" y="13"/>
                </a:moveTo>
                <a:lnTo>
                  <a:pt x="34" y="0"/>
                </a:lnTo>
                <a:lnTo>
                  <a:pt x="145" y="0"/>
                </a:lnTo>
                <a:lnTo>
                  <a:pt x="111" y="13"/>
                </a:lnTo>
                <a:lnTo>
                  <a:pt x="0" y="13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338640" y="5038560"/>
            <a:ext cx="247680" cy="38160"/>
          </a:xfrm>
          <a:custGeom>
            <a:avLst/>
            <a:gdLst/>
            <a:ahLst/>
            <a:rect l="l" t="t" r="r" b="b"/>
            <a:pathLst>
              <a:path w="156" h="24">
                <a:moveTo>
                  <a:pt x="0" y="23"/>
                </a:moveTo>
                <a:lnTo>
                  <a:pt x="36" y="0"/>
                </a:lnTo>
                <a:lnTo>
                  <a:pt x="155" y="0"/>
                </a:lnTo>
                <a:lnTo>
                  <a:pt x="119" y="23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527280" y="5038560"/>
            <a:ext cx="42840" cy="212760"/>
          </a:xfrm>
          <a:custGeom>
            <a:avLst/>
            <a:gdLst/>
            <a:ahLst/>
            <a:rect l="l" t="t" r="r" b="b"/>
            <a:pathLst>
              <a:path w="27" h="134">
                <a:moveTo>
                  <a:pt x="0" y="21"/>
                </a:moveTo>
                <a:lnTo>
                  <a:pt x="26" y="0"/>
                </a:lnTo>
                <a:lnTo>
                  <a:pt x="26" y="111"/>
                </a:lnTo>
                <a:lnTo>
                  <a:pt x="0" y="133"/>
                </a:lnTo>
                <a:lnTo>
                  <a:pt x="0" y="21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527280" y="5038560"/>
            <a:ext cx="59040" cy="228600"/>
          </a:xfrm>
          <a:custGeom>
            <a:avLst/>
            <a:gdLst/>
            <a:ahLst/>
            <a:rect l="l" t="t" r="r" b="b"/>
            <a:pathLst>
              <a:path w="37" h="144">
                <a:moveTo>
                  <a:pt x="0" y="23"/>
                </a:moveTo>
                <a:lnTo>
                  <a:pt x="36" y="0"/>
                </a:lnTo>
                <a:lnTo>
                  <a:pt x="36" y="119"/>
                </a:lnTo>
                <a:lnTo>
                  <a:pt x="0" y="143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338640" y="5075280"/>
            <a:ext cx="174600" cy="176040"/>
          </a:xfrm>
          <a:custGeom>
            <a:avLst/>
            <a:gdLst/>
            <a:ahLst/>
            <a:rect l="l" t="t" r="r" b="b"/>
            <a:pathLst>
              <a:path w="110" h="111">
                <a:moveTo>
                  <a:pt x="0" y="0"/>
                </a:moveTo>
                <a:lnTo>
                  <a:pt x="109" y="0"/>
                </a:lnTo>
                <a:lnTo>
                  <a:pt x="109" y="110"/>
                </a:lnTo>
                <a:lnTo>
                  <a:pt x="0" y="110"/>
                </a:lnTo>
                <a:lnTo>
                  <a:pt x="0" y="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38640" y="5075280"/>
            <a:ext cx="190440" cy="191880"/>
          </a:xfrm>
          <a:custGeom>
            <a:avLst/>
            <a:gdLst/>
            <a:ahLst/>
            <a:rect l="l" t="t" r="r" b="b"/>
            <a:pathLst>
              <a:path w="120" h="121">
                <a:moveTo>
                  <a:pt x="0" y="0"/>
                </a:moveTo>
                <a:lnTo>
                  <a:pt x="119" y="0"/>
                </a:lnTo>
                <a:lnTo>
                  <a:pt x="119" y="120"/>
                </a:lnTo>
                <a:lnTo>
                  <a:pt x="0" y="1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412040" y="1712880"/>
            <a:ext cx="7315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en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de ca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871440" y="2967120"/>
            <a:ext cx="2418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conexión a nivel de trayecto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559680" y="4992840"/>
            <a:ext cx="199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NT: terminación d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557520" y="5551560"/>
            <a:ext cx="231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SW: conmutador de cel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971680" y="5003640"/>
            <a:ext cx="237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T: terminación de tra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 txBox="1"/>
          <p:nvPr/>
        </p:nvSpPr>
        <p:spPr>
          <a:xfrm>
            <a:off x="727560" y="2327400"/>
            <a:ext cx="7688880" cy="105948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Parámetros de Tráfico y Negociación de la Qo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Parámetros de Tráfico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omo la red ATM tiene por objetivo transportar tráfico estadístico, el usuario debe informar a la red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s características de su tráfic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calidad de servicio (QoS) exigida por su tráfic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os servidores (conmutadores de celdas y multiplexores de aceso) de la red deben soportar varias clases de servici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gestión de la red acepta o deja de aceptar nuevas conexiones según la disponibilidad momentanea de capacidad en la parte de interconex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Parámetros de Desempeño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 calidad de servicio se basa en varios parámetros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Tasa de celdas erradas (precisión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Tasa de celdas severamente erradas (precisión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Tasa de celdas perdidas (confiabilidad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Tasa de celdas mal insertadas (precisión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Retardo de transferencia de celdas (velocidad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Retardo medio de transferencia de celdas (velocidad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Variación del retardo de celdas (velocidad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Descripción del Tráfico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 descripción del tráfico es utilizada por la red para saber que tanto de la capacidad de la red cada nueva conexión irá ocupar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279f"/>
                </a:solidFill>
                <a:latin typeface="Arial Narrow"/>
              </a:rPr>
              <a:t>la velocidad de acceso (llamada AR) representa la tasa máxima de emisión en una puerta de entrada de la red</a:t>
            </a:r>
            <a:endParaRPr b="1" lang="en-US" sz="30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omo el usuario irá generar un tráfico estadístico, es necesario informar a la red los parámetros individuales de cada conexión en particular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Descripción del Tráfico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uando se establece una conexión de velocidad binaria variable, es necesario informar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densidad máxima de las ráfagas (en celdas/seg -- llamada </a:t>
            </a: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PC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, 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peak cell rat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tamaño máximo de cada ráfaga enviada a la máxima densidad (en celdas totales -- llamada </a:t>
            </a: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MB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, 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maximum burst siz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y la duración máxima de las ráfagas (en segundos -- llamada </a:t>
            </a: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Tb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mínimo intervalo entre ráfagas (en ms -- llamado </a:t>
            </a: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Ti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tasa media de transmisión (en celdas/segundo -- llamada tasa máxima sostenible (</a:t>
            </a: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SC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, 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sustainable cell rat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o que cada usuario de datos quisiera sería utilizar </a:t>
            </a:r>
            <a:r>
              <a:rPr b="1" lang="es-ES_tradnl" sz="2800" spc="-1" strike="noStrike" u="sng">
                <a:solidFill>
                  <a:srgbClr val="00279f"/>
                </a:solidFill>
                <a:uFillTx/>
                <a:latin typeface="Arial Narrow"/>
              </a:rPr>
              <a:t>todo el ancho de banda de la linea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para enviar una ráfaga, y luego liberar la linea para ráfagas de los demás usuari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parece complicado, pero hay tecnologías comprobadas para ell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información es transportada en </a:t>
            </a:r>
            <a:r>
              <a:rPr b="1" lang="es-ES_tradnl" sz="2600" spc="-1" strike="noStrike" u="sng">
                <a:solidFill>
                  <a:srgbClr val="00279f"/>
                </a:solidFill>
                <a:uFillTx/>
                <a:latin typeface="Arial Narrow"/>
              </a:rPr>
              <a:t>unidades de datos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(según el caso, llamadas </a:t>
            </a:r>
            <a:r>
              <a:rPr b="1" lang="es-ES_tradnl" sz="2600" spc="-1" strike="noStrike" u="sng">
                <a:solidFill>
                  <a:srgbClr val="037c03"/>
                </a:solidFill>
                <a:uFillTx/>
                <a:latin typeface="Arial Narrow"/>
              </a:rPr>
              <a:t>paquete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, </a:t>
            </a:r>
            <a:r>
              <a:rPr b="1" lang="es-ES_tradnl" sz="2600" spc="-1" strike="noStrike" u="sng">
                <a:solidFill>
                  <a:srgbClr val="037c03"/>
                </a:solidFill>
                <a:uFillTx/>
                <a:latin typeface="Arial Narrow"/>
              </a:rPr>
              <a:t>trama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o </a:t>
            </a:r>
            <a:r>
              <a:rPr b="1" lang="es-ES_tradnl" sz="2600" spc="-1" strike="noStrike" u="sng">
                <a:solidFill>
                  <a:srgbClr val="037c03"/>
                </a:solidFill>
                <a:uFillTx/>
                <a:latin typeface="Arial Narrow"/>
              </a:rPr>
              <a:t>celda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, cada una de las cuales posee un </a:t>
            </a:r>
            <a:r>
              <a:rPr b="1" lang="es-ES_tradnl" sz="2600" spc="-1" strike="noStrike" u="sng">
                <a:solidFill>
                  <a:srgbClr val="fc0128"/>
                </a:solidFill>
                <a:uFillTx/>
                <a:latin typeface="Arial Narrow"/>
              </a:rPr>
              <a:t>encabezad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ese encabezado </a:t>
            </a:r>
            <a:r>
              <a:rPr b="1" lang="es-ES_tradnl" sz="2400" spc="-1" strike="noStrike" u="sng">
                <a:solidFill>
                  <a:srgbClr val="00279f"/>
                </a:solidFill>
                <a:uFillTx/>
                <a:latin typeface="Arial Narrow"/>
              </a:rPr>
              <a:t>identifica el usuario 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al cual pertenece la información contenida en la unidad de dato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el encabezado permite la </a:t>
            </a:r>
            <a:r>
              <a:rPr b="1" lang="es-ES_tradnl" sz="2400" spc="-1" strike="noStrike" u="sng">
                <a:solidFill>
                  <a:srgbClr val="00279f"/>
                </a:solidFill>
                <a:uFillTx/>
                <a:latin typeface="Arial Narrow"/>
              </a:rPr>
              <a:t>demultiplexación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 y el </a:t>
            </a:r>
            <a:r>
              <a:rPr b="1" lang="es-ES_tradnl" sz="2400" spc="-1" strike="noStrike" u="sng">
                <a:solidFill>
                  <a:srgbClr val="00279f"/>
                </a:solidFill>
                <a:uFillTx/>
                <a:latin typeface="Arial Narrow"/>
              </a:rPr>
              <a:t>enrutamiento</a:t>
            </a: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 individual de cada unidad de dato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TDM: Multiplexación de Dato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Negociación de la Conexión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negociación, por lo tanto, incluye los factores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PC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(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peak cell rat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1/T en unidades de celdas/segundo; T es el mínimo espacio entre celdas, en segundo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SC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(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sustainable cell rat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máxima tasa media que una fuente que genera tráfico en ráfagas puede enviar a la tasa máxima de pico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MB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(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maximum burst siz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número máximo de celdas que pueden ser enviadas a la tasa máxima de pico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Tb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(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maximum burst duration at PC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Ti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(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minimum burst interval tim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Negociación de la Conexión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5000"/>
              </a:lnSpc>
              <a:spcBef>
                <a:spcPts val="1049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negociación incluye también el retardo absoluto solicitado y su variac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975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Retardo máximo de transferencia de células (</a:t>
            </a: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max. CTD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, 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maximum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cell transfer delay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975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Tolerancia a CDV (</a:t>
            </a: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CDVT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,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cell delay variation toleranc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115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en segundos; no es especificada por el usuario, sino por la red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l Parámetro QoS (Calidad de Servicio)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Al establecer una conexión virtual, el usuario irá contar con una cierta QoS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Una clase de QoS es definida por lo menos por los siguientes parámetros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tasa de celdas perdidas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(</a:t>
            </a: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CL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, 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cell loss rat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para el flujo CLP=0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tasa de celdas perdidas para el flujo CLP=1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variación del retardo de celdas (</a:t>
            </a:r>
            <a:r>
              <a:rPr b="1" lang="es-ES_tradnl" sz="2800" spc="-1" strike="noStrike">
                <a:solidFill>
                  <a:srgbClr val="fc0128"/>
                </a:solidFill>
                <a:latin typeface="Arial Narrow"/>
              </a:rPr>
              <a:t>CDV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, </a:t>
            </a:r>
            <a:r>
              <a:rPr b="1" i="1" lang="es-ES_tradnl" sz="2800" spc="-1" strike="noStrike">
                <a:solidFill>
                  <a:srgbClr val="438e00"/>
                </a:solidFill>
                <a:latin typeface="Arial Narrow"/>
              </a:rPr>
              <a:t>cell delay variation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 para el flujo agregado CLP=0+1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retardo medio de celdas (</a:t>
            </a:r>
            <a:r>
              <a:rPr b="1" lang="es-ES_tradnl" sz="2800" spc="-1" strike="noStrike">
                <a:solidFill>
                  <a:srgbClr val="fc0128"/>
                </a:solidFill>
                <a:latin typeface="Arial Narrow"/>
              </a:rPr>
              <a:t>mean CTD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, </a:t>
            </a:r>
            <a:r>
              <a:rPr b="1" i="1" lang="es-ES_tradnl" sz="2800" spc="-1" strike="noStrike">
                <a:solidFill>
                  <a:srgbClr val="438e00"/>
                </a:solidFill>
                <a:latin typeface="Arial Narrow"/>
              </a:rPr>
              <a:t>mean cell transfer delay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 para el flujo agregado CLP=0+1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l Parámetro QoS (Calidad de Servicio)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5000"/>
              </a:lnSpc>
              <a:spcBef>
                <a:spcPts val="1800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Hay cinco clases de QoS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1576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lase 0: no especificada, UBR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1576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lase 1: CBR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1576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lase 2: video/audio, VBR-RT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1576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lase 3: datos orientados a conexión, VBR-NRT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1576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lase 4: datos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connectionless,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VBR-NRT tambié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jemplos de Asignación de Qo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05" name=""/>
          <p:cNvSpPr/>
          <p:nvPr/>
        </p:nvSpPr>
        <p:spPr>
          <a:xfrm>
            <a:off x="1847880" y="1652760"/>
            <a:ext cx="0" cy="372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900080" y="5429160"/>
            <a:ext cx="6221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577960" y="5283360"/>
            <a:ext cx="71136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025880" y="5283360"/>
            <a:ext cx="71136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473800" y="5283360"/>
            <a:ext cx="71100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921360" y="5245200"/>
            <a:ext cx="711360" cy="291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712520" y="5568840"/>
            <a:ext cx="470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0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322000" y="5568840"/>
            <a:ext cx="470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0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046320" y="5568840"/>
            <a:ext cx="297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770280" y="5568840"/>
            <a:ext cx="297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494240" y="5568840"/>
            <a:ext cx="41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256360" y="5568840"/>
            <a:ext cx="41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942160" y="5568840"/>
            <a:ext cx="52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665760" y="5568840"/>
            <a:ext cx="52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427880" y="5568840"/>
            <a:ext cx="64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82640" y="3568680"/>
            <a:ext cx="36828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606680" y="4178160"/>
            <a:ext cx="36828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720800" y="2959200"/>
            <a:ext cx="36828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720800" y="2349360"/>
            <a:ext cx="36828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720800" y="1739880"/>
            <a:ext cx="36828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148040" y="5187960"/>
            <a:ext cx="58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 Narrow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144440" y="3968640"/>
            <a:ext cx="51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 Narrow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144440" y="4578480"/>
            <a:ext cx="51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 Narrow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144440" y="3435480"/>
            <a:ext cx="51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 Narrow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144440" y="2787480"/>
            <a:ext cx="51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 Narrow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144440" y="2216160"/>
            <a:ext cx="51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 Narrow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144440" y="1606680"/>
            <a:ext cx="51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 Narrow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511440" y="1720800"/>
            <a:ext cx="4102200" cy="3645000"/>
          </a:xfrm>
          <a:prstGeom prst="roundRect">
            <a:avLst>
              <a:gd name="adj" fmla="val 12486"/>
            </a:avLst>
          </a:prstGeom>
          <a:solidFill>
            <a:srgbClr val="7144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321000" y="1720800"/>
            <a:ext cx="2844720" cy="3645000"/>
          </a:xfrm>
          <a:custGeom>
            <a:avLst/>
            <a:gdLst>
              <a:gd name="textAreaLeft" fmla="*/ 104040 w 2844720"/>
              <a:gd name="textAreaRight" fmla="*/ 2740680 w 2844720"/>
              <a:gd name="textAreaTop" fmla="*/ 104040 h 3645000"/>
              <a:gd name="textAreaBottom" fmla="*/ 3540960 h 3645000"/>
            </a:gdLst>
            <a:ahLst/>
            <a:rect l="textAreaLeft" t="textAreaTop" r="textAreaRight" b="textAreaBottom"/>
            <a:pathLst>
              <a:path w="21600" h="27676">
                <a:moveTo>
                  <a:pt x="2697" y="0"/>
                </a:moveTo>
                <a:arcTo wR="2697" hR="2697" stAng="16200000" swAng="-5400000"/>
                <a:lnTo>
                  <a:pt x="0" y="24979"/>
                </a:lnTo>
                <a:arcTo wR="2697" hR="2697" stAng="10800000" swAng="-5400000"/>
                <a:lnTo>
                  <a:pt x="18903" y="27676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282840" y="3549600"/>
            <a:ext cx="1473480" cy="1778040"/>
          </a:xfrm>
          <a:custGeom>
            <a:avLst/>
            <a:gdLst>
              <a:gd name="textAreaLeft" fmla="*/ 53640 w 1473480"/>
              <a:gd name="textAreaRight" fmla="*/ 1419840 w 1473480"/>
              <a:gd name="textAreaTop" fmla="*/ 53640 h 1778040"/>
              <a:gd name="textAreaBottom" fmla="*/ 1724400 h 1778040"/>
            </a:gdLst>
            <a:ahLst/>
            <a:rect l="textAreaLeft" t="textAreaTop" r="textAreaRight" b="textAreaBottom"/>
            <a:pathLst>
              <a:path w="21600" h="26064">
                <a:moveTo>
                  <a:pt x="2697" y="0"/>
                </a:moveTo>
                <a:arcTo wR="2697" hR="2697" stAng="16200000" swAng="-5400000"/>
                <a:lnTo>
                  <a:pt x="0" y="23367"/>
                </a:lnTo>
                <a:arcTo wR="2697" hR="2697" stAng="10800000" swAng="-5400000"/>
                <a:lnTo>
                  <a:pt x="18903" y="26064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037c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video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paqu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l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968480" y="4197240"/>
            <a:ext cx="1549440" cy="1130400"/>
          </a:xfrm>
          <a:prstGeom prst="roundRect">
            <a:avLst>
              <a:gd name="adj" fmla="val 12486"/>
            </a:avLst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emul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ircu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00680" y="2171880"/>
            <a:ext cx="1523880" cy="106668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 Narrow"/>
              </a:rPr>
              <a:t>connection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las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305400" y="2762280"/>
            <a:ext cx="1067040" cy="1905120"/>
          </a:xfrm>
          <a:prstGeom prst="rect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orien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 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las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353680" y="5854680"/>
            <a:ext cx="374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variación del retardo de celdas (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137240" y="1206360"/>
            <a:ext cx="2536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asa de celdas per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(CLP=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oporte a QoS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s QoS basicamente definidas son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CB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(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continuous bit rat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: tipicamente para emulación de circuitos, en donde la velocidad binaria es constante y la temporización entre extremos tiene que ser mantenid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VBR (RT)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(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variable bit rate - real tim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: para señales de velocidad binaria variable con temporización mantenida, como en compresión de video con velocidad variabl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VBR (NRT)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(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variable bit rate - non-real tim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: para señales que no requieren que la temporización sea mantenida, pero que exigen una QoS garantizada (basada en la </a:t>
            </a:r>
            <a:r>
              <a:rPr b="1" lang="es-ES_tradnl" sz="2600" spc="-1" strike="noStrike" u="sng">
                <a:solidFill>
                  <a:srgbClr val="00279f"/>
                </a:solidFill>
                <a:uFillTx/>
                <a:latin typeface="Arial Narrow"/>
              </a:rPr>
              <a:t>latencia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o en el </a:t>
            </a:r>
            <a:r>
              <a:rPr b="1" lang="es-ES_tradnl" sz="2600" spc="-1" strike="noStrike" u="sng">
                <a:solidFill>
                  <a:srgbClr val="00279f"/>
                </a:solidFill>
                <a:uFillTx/>
                <a:latin typeface="Arial Narrow"/>
              </a:rPr>
              <a:t>ancho de banda digital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, como, por ejemplo, tráfico de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frame relay 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n el cual la CIR es mapeada en la red ATM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oporte a QoS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 gestión de los recursos de las redes que soporten a varias QoS se vuelve, por lo tanto, extremadamente complicada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ara el usuario, será inicialmente difícil poder describir exactamente las características de su tráfic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ara las redes, gestionar los recursos será aún más difíci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es necesario dimensionar cuidadosamente memorias de entrada y memorias de salida a lo largo del camino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también es necesario administrar el ancho de banda de la red de interconexión y prioridades de tráficos distinto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oporte a QoS (3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Debido a la dificultad de gestionar los recursos de la red para garantizar la QoS en conexiones VBR, fueron creados nuevos conceptos de calidad de servicio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279f"/>
                </a:solidFill>
                <a:latin typeface="Arial Narrow"/>
              </a:rPr>
              <a:t>muchas redes inicialmente soportarán solamente una UBR (</a:t>
            </a:r>
            <a:r>
              <a:rPr b="1" i="1" lang="es-ES_tradnl" sz="3000" spc="-1" strike="noStrike">
                <a:solidFill>
                  <a:srgbClr val="00279f"/>
                </a:solidFill>
                <a:latin typeface="Arial Narrow"/>
              </a:rPr>
              <a:t>unspecified bit rate</a:t>
            </a:r>
            <a:r>
              <a:rPr b="1" lang="es-ES_tradnl" sz="3000" spc="-1" strike="noStrike">
                <a:solidFill>
                  <a:srgbClr val="00279f"/>
                </a:solidFill>
                <a:latin typeface="Arial Narrow"/>
              </a:rPr>
              <a:t>), además de la emulación de circuitos (CBR, </a:t>
            </a:r>
            <a:r>
              <a:rPr b="1" i="1" lang="es-ES_tradnl" sz="3000" spc="-1" strike="noStrike">
                <a:solidFill>
                  <a:srgbClr val="00279f"/>
                </a:solidFill>
                <a:latin typeface="Arial Narrow"/>
              </a:rPr>
              <a:t>constant bit rate</a:t>
            </a:r>
            <a:r>
              <a:rPr b="1" lang="es-ES_tradnl" sz="30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30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n ciertos casos, las redes soportarán una ABR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available bit rate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oporte a QoS (4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definición de la señalización para la UNI versión 4.0 el ATM Forum está especificando también las QoS para </a:t>
            </a:r>
            <a:r>
              <a:rPr b="1" lang="es-ES_tradnl" sz="2800" spc="-1" strike="noStrike">
                <a:solidFill>
                  <a:srgbClr val="ad6900"/>
                </a:solidFill>
                <a:latin typeface="Arial Narrow"/>
              </a:rPr>
              <a:t>ABR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y </a:t>
            </a:r>
            <a:r>
              <a:rPr b="1" lang="es-ES_tradnl" sz="2800" spc="-1" strike="noStrike">
                <a:solidFill>
                  <a:srgbClr val="ad6900"/>
                </a:solidFill>
                <a:latin typeface="Arial Narrow"/>
              </a:rPr>
              <a:t>UBR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c0128"/>
                </a:solidFill>
                <a:latin typeface="Arial Narrow"/>
              </a:rPr>
              <a:t>ABR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(</a:t>
            </a:r>
            <a:r>
              <a:rPr b="1" i="1" lang="es-ES_tradnl" sz="2800" spc="-1" strike="noStrike">
                <a:solidFill>
                  <a:srgbClr val="438e00"/>
                </a:solidFill>
                <a:latin typeface="Arial Narrow"/>
              </a:rPr>
              <a:t>available bit rate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: parecida a la VBR (NRT), pero sin garantizar un ancho de banda determinado al usuari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implementa un mecanismo de control de flujo para informar al usuario sobre la disponibilidad momentanea de capacidad en la red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on base en esa información, el usuario debe limitar su tasa de emisión de células para no correr el riesgo de tener parte de su tráfico descartado por la red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oporte a QoS (5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UBR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uspecified bit rate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: servicio que no ofrece garantía de cualquier tipo; el usuario puede enviar cualquier cantidad de datos hasta un cierto límite, pero no puede contar con una calidad específica en lo relativo a la tasa de celdas perdidas, retardo o variación del retard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omo la especificación del servicio ABR solo debe estar ampliamente disponible en 1996, la UBR sigue siendo la opción más difundida para la interconexión de LAN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TDM: Multiplexación Estadística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ultiplexación estadística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s unidades de datos pueden ser, según la tecnología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transmitidos continuamente o solo si hay dato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tener longitud fija (ranuras de </a:t>
            </a:r>
            <a:r>
              <a:rPr b="1" i="1" lang="es-ES_tradnl" sz="2600" spc="-1" strike="noStrike" u="sng">
                <a:solidFill>
                  <a:srgbClr val="00279f"/>
                </a:solidFill>
                <a:uFillTx/>
                <a:latin typeface="Arial Narrow"/>
              </a:rPr>
              <a:t>n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bytes) o variabl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tar metidos en una trama síncrona de linea</a:t>
            </a:r>
            <a:br>
              <a:rPr sz="2600"/>
            </a:b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o n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1606680" y="1911240"/>
            <a:ext cx="1282680" cy="151128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2b2b2b"/>
              </a:gs>
              <a:gs pos="100000">
                <a:srgbClr val="91919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2120400" y="2496960"/>
            <a:ext cx="977760" cy="343080"/>
          </a:xfrm>
          <a:prstGeom prst="triangle">
            <a:avLst>
              <a:gd name="adj" fmla="val 49986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81080" y="2133720"/>
            <a:ext cx="506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1080" y="2438280"/>
            <a:ext cx="506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81080" y="2743200"/>
            <a:ext cx="506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81080" y="3276720"/>
            <a:ext cx="506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0080" y="189864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tri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0080" y="220356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tri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0080" y="250812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tri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" y="3041640"/>
            <a:ext cx="64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trib.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948040"/>
            <a:ext cx="0" cy="201600"/>
          </a:xfrm>
          <a:prstGeom prst="line">
            <a:avLst/>
          </a:prstGeom>
          <a:ln w="507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01960" y="2597040"/>
            <a:ext cx="3797280" cy="13968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92680" y="2063880"/>
            <a:ext cx="151128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8280" y="2063880"/>
            <a:ext cx="901440" cy="29196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1960" y="2749680"/>
            <a:ext cx="5778360" cy="15112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90015"/>
                </a:solidFill>
                <a:latin typeface="Arial Narrow"/>
              </a:rPr>
              <a:t>la transmisión puede ser síncrona o asíncr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790015"/>
                </a:solidFill>
                <a:latin typeface="Arial Narrow"/>
              </a:rPr>
              <a:t>la velocidad del agregado puede ser inferior a la suma de las</a:t>
            </a:r>
            <a:br>
              <a:rPr sz="1800"/>
            </a:br>
            <a:r>
              <a:rPr b="1" lang="es-ES_tradnl" sz="1800" spc="-1" strike="noStrike">
                <a:solidFill>
                  <a:srgbClr val="790015"/>
                </a:solidFill>
                <a:latin typeface="Arial Narrow"/>
              </a:rPr>
              <a:t>  velocidades de las tributarias, pues la premisa es de que cada</a:t>
            </a:r>
            <a:br>
              <a:rPr sz="1800"/>
            </a:br>
            <a:r>
              <a:rPr b="1" lang="es-ES_tradnl" sz="1800" spc="-1" strike="noStrike">
                <a:solidFill>
                  <a:srgbClr val="790015"/>
                </a:solidFill>
                <a:latin typeface="Arial Narrow"/>
              </a:rPr>
              <a:t>  tributaria transmite por ráfagas, con un porcentaje bajo de</a:t>
            </a:r>
            <a:br>
              <a:rPr sz="1800"/>
            </a:br>
            <a:r>
              <a:rPr b="1" lang="es-ES_tradnl" sz="1800" spc="-1" strike="noStrike">
                <a:solidFill>
                  <a:srgbClr val="790015"/>
                </a:solidFill>
                <a:latin typeface="Arial Narrow"/>
              </a:rPr>
              <a:t>  ocupación del tiemp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5280" y="1987560"/>
            <a:ext cx="52056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 Narrow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2292480"/>
            <a:ext cx="52056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 Narrow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2597040"/>
            <a:ext cx="5205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 Narrow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35280" y="3054240"/>
            <a:ext cx="5205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 Narrow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30960" y="2063880"/>
            <a:ext cx="151128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6560" y="2063880"/>
            <a:ext cx="901800" cy="29196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66000" y="1914480"/>
            <a:ext cx="423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90015"/>
                </a:solidFill>
                <a:latin typeface="Arial Narro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8400" y="1389240"/>
            <a:ext cx="355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37c03"/>
                </a:solidFill>
                <a:latin typeface="Arial Narrow"/>
              </a:rPr>
              <a:t>cada paquete trae su propio </a:t>
            </a:r>
            <a:r>
              <a:rPr b="1" i="1" lang="es-ES_tradnl" sz="1800" spc="-1" strike="noStrike">
                <a:solidFill>
                  <a:srgbClr val="037c03"/>
                </a:solidFill>
                <a:latin typeface="Arial Narrow"/>
              </a:rPr>
              <a:t>over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443400" y="1740960"/>
            <a:ext cx="1877760" cy="328680"/>
          </a:xfrm>
          <a:prstGeom prst="line">
            <a:avLst/>
          </a:prstGeom>
          <a:ln w="12600">
            <a:solidFill>
              <a:srgbClr val="037c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805360" y="1740960"/>
            <a:ext cx="887400" cy="328680"/>
          </a:xfrm>
          <a:prstGeom prst="line">
            <a:avLst/>
          </a:prstGeom>
          <a:ln w="12600">
            <a:solidFill>
              <a:srgbClr val="037c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l Servicio ABR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n el servicio ABR (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available bit rate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, por lo tanto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red no garantiza un ancho de banda definid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red implementa un método de “mejor esfuerzo” (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best effort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para el transporte de las celdas de una conexión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red retroalimenta el usuario con informaciones (mecanismos de control de flujo) que permiten aumentar el ancho de banda disponible al usuario (llamada </a:t>
            </a: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AC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-- 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allowed cell rat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cuando la red está libre de congestión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a través de esos mecanismos, la red puede controlar el flujo de celdas y disminuir a un mínimo el número de celdas perdidas debido a congestión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El Servicio ABR (2) 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ervicio ABR (cont.) 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mecanismo de control de flujo usará celdas de gestión de recursos (RM,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resource management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o el bit EFCI (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explicit forward congestion indication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os protocolos de las LANs usarán las redes de manera oportunística, retrayéndose o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buffer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izando según</a:t>
            </a:r>
            <a:br>
              <a:rPr sz="2600"/>
            </a:b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necesidad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eñalización en la UNI y la QoS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Las versiones actualmente implementadas (3.0 y 3.1 del ATM Forum) no especifican explicitamente la QoS requerida para cada sentido de la conexión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279f"/>
                </a:solidFill>
                <a:latin typeface="Arial Narrow"/>
              </a:rPr>
              <a:t>la red ofrece un cierto número de QoS soportadas, las cuales corresponden a los diversos tipos de tráfico</a:t>
            </a:r>
            <a:endParaRPr b="1" lang="en-US" sz="30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entidad que opera las redes debe asegurar que las mismas sean configuradas de manera que puedan soportar esas Q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Señalización en la UNI y la QoS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En la versión 4.0, esa ambiguedad desaparece, y cada conexión debe tener definidos 4 parámetros principales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variación extremo a extremo del retardo de celdas (</a:t>
            </a:r>
            <a:r>
              <a:rPr b="1" i="1" lang="es-ES_tradnl" sz="2800" spc="-1" strike="noStrike">
                <a:solidFill>
                  <a:srgbClr val="438e00"/>
                </a:solidFill>
                <a:latin typeface="Arial Narrow"/>
              </a:rPr>
              <a:t>CDV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retardo máximo de transferencia de celdas (</a:t>
            </a:r>
            <a:r>
              <a:rPr b="1" i="1" lang="es-ES_tradnl" sz="2800" spc="-1" strike="noStrike">
                <a:solidFill>
                  <a:srgbClr val="438e00"/>
                </a:solidFill>
                <a:latin typeface="Arial Narrow"/>
              </a:rPr>
              <a:t>max. CTD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retardo medio de transferencia de celdas (</a:t>
            </a:r>
            <a:r>
              <a:rPr b="1" i="1" lang="es-ES_tradnl" sz="2800" spc="-1" strike="noStrike">
                <a:solidFill>
                  <a:srgbClr val="438e00"/>
                </a:solidFill>
                <a:latin typeface="Arial Narrow"/>
              </a:rPr>
              <a:t>mean CTD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78600" indent="-226080">
              <a:lnSpc>
                <a:spcPct val="90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tasa de pérdida de celdas (</a:t>
            </a:r>
            <a:r>
              <a:rPr b="1" i="1" lang="es-ES_tradnl" sz="2800" spc="-1" strike="noStrike">
                <a:solidFill>
                  <a:srgbClr val="438e00"/>
                </a:solidFill>
                <a:latin typeface="Arial Narrow"/>
              </a:rPr>
              <a:t>CLR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2" marL="1131480" indent="-226080">
              <a:lnSpc>
                <a:spcPct val="90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ste último será un atributo fijo de los enlaces y nod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Verificación del Contrato de Tráfico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ada conexión cuyos descriptores de tráfico fueron especificados es considerada como un </a:t>
            </a:r>
            <a:r>
              <a:rPr b="1" lang="es-ES_tradnl" sz="2800" spc="-1" strike="noStrike" u="sng">
                <a:solidFill>
                  <a:srgbClr val="438e00"/>
                </a:solidFill>
                <a:uFillTx/>
                <a:latin typeface="Arial Narrow"/>
              </a:rPr>
              <a:t>contrato de tráfic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red ofrece una garantía de cumplimiento de la QoS, siempre y cuando el usuario cumpla con las características de su tráfic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red obliga al usuario a cumplir con el contrato a través de un control de parámetros de uso llamado </a:t>
            </a: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UPC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(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usage parameter control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, más conocido como </a:t>
            </a:r>
            <a:r>
              <a:rPr b="1" lang="es-ES_tradnl" sz="2600" spc="-1" strike="noStrike" u="sng">
                <a:solidFill>
                  <a:srgbClr val="ad6900"/>
                </a:solidFill>
                <a:uFillTx/>
                <a:latin typeface="Arial Narrow"/>
              </a:rPr>
              <a:t>función de policí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Verificación del Contrato de Tráfico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5000"/>
              </a:lnSpc>
              <a:spcBef>
                <a:spcPts val="876"/>
              </a:spcBef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</a:t>
            </a:r>
            <a:r>
              <a:rPr b="1" lang="es-ES_tradnl" sz="2800" spc="-1" strike="noStrike">
                <a:solidFill>
                  <a:srgbClr val="ad6900"/>
                </a:solidFill>
                <a:latin typeface="Arial Narrow"/>
              </a:rPr>
              <a:t>función de policía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ide el tráfico de cada conexión al llegar al nodo de la red a través de la UNI pública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814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mecanismo de control sugerido es el “</a:t>
            </a:r>
            <a:r>
              <a:rPr b="1" lang="es-ES_tradnl" sz="2600" spc="-1" strike="noStrike">
                <a:solidFill>
                  <a:srgbClr val="438e00"/>
                </a:solidFill>
                <a:latin typeface="Arial Narrow"/>
              </a:rPr>
              <a:t>doble </a:t>
            </a:r>
            <a:r>
              <a:rPr b="1" i="1" lang="es-ES_tradnl" sz="2600" spc="-1" strike="noStrike">
                <a:solidFill>
                  <a:srgbClr val="438e00"/>
                </a:solidFill>
                <a:latin typeface="Arial Narrow"/>
              </a:rPr>
              <a:t>leaky bucket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”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115000"/>
              </a:lnSpc>
              <a:spcBef>
                <a:spcPts val="814"/>
              </a:spcBef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 red puede marcar como siendo de baja prioridad (CLP=1) las celdas que no se encuadran en la “envoltura de tráfico” contratado, o descartarlas directamente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/>
          <p:nvPr/>
        </p:nvSpPr>
        <p:spPr>
          <a:xfrm>
            <a:off x="685800" y="1371600"/>
            <a:ext cx="7469280" cy="3963960"/>
          </a:xfrm>
          <a:custGeom>
            <a:avLst/>
            <a:gdLst/>
            <a:ahLst/>
            <a:rect l="l" t="t" r="r" b="b"/>
            <a:pathLst>
              <a:path w="4705" h="2497">
                <a:moveTo>
                  <a:pt x="0" y="2496"/>
                </a:moveTo>
                <a:lnTo>
                  <a:pt x="480" y="1584"/>
                </a:lnTo>
                <a:lnTo>
                  <a:pt x="720" y="1584"/>
                </a:lnTo>
                <a:lnTo>
                  <a:pt x="1008" y="1056"/>
                </a:lnTo>
                <a:lnTo>
                  <a:pt x="1248" y="1056"/>
                </a:lnTo>
                <a:lnTo>
                  <a:pt x="1248" y="2256"/>
                </a:lnTo>
                <a:lnTo>
                  <a:pt x="1440" y="2256"/>
                </a:lnTo>
                <a:lnTo>
                  <a:pt x="1920" y="1344"/>
                </a:lnTo>
                <a:lnTo>
                  <a:pt x="2112" y="1344"/>
                </a:lnTo>
                <a:lnTo>
                  <a:pt x="2544" y="432"/>
                </a:lnTo>
                <a:lnTo>
                  <a:pt x="2544" y="1632"/>
                </a:lnTo>
                <a:lnTo>
                  <a:pt x="2880" y="1632"/>
                </a:lnTo>
                <a:lnTo>
                  <a:pt x="3312" y="720"/>
                </a:lnTo>
                <a:lnTo>
                  <a:pt x="3552" y="720"/>
                </a:lnTo>
                <a:lnTo>
                  <a:pt x="3792" y="192"/>
                </a:lnTo>
                <a:lnTo>
                  <a:pt x="3792" y="1440"/>
                </a:lnTo>
                <a:lnTo>
                  <a:pt x="3984" y="1440"/>
                </a:lnTo>
                <a:lnTo>
                  <a:pt x="470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52600" y="324000"/>
            <a:ext cx="5162400" cy="68580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Mecanismo de </a:t>
            </a:r>
            <a:r>
              <a:rPr b="1" i="1" lang="es-ES_tradnl" sz="3200" spc="-1" strike="noStrike">
                <a:solidFill>
                  <a:srgbClr val="fafd00"/>
                </a:solidFill>
                <a:latin typeface="Arial Narrow"/>
              </a:rPr>
              <a:t>Leaky Bu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5800" y="1157400"/>
            <a:ext cx="0" cy="41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00200" y="533412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rot="16200000">
            <a:off x="-91080" y="2740320"/>
            <a:ext cx="1391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tráfico ofrec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407760" y="5784840"/>
            <a:ext cx="72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666880" y="5195880"/>
            <a:ext cx="0" cy="27792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648320" y="5195880"/>
            <a:ext cx="0" cy="27792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629400" y="5195880"/>
            <a:ext cx="0" cy="27792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610480" y="5195880"/>
            <a:ext cx="0" cy="27792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493720" y="55562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474440" y="5556240"/>
            <a:ext cx="37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2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455520" y="5556240"/>
            <a:ext cx="37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3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436600" y="5556240"/>
            <a:ext cx="37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4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00200" y="1371600"/>
            <a:ext cx="8126280" cy="0"/>
          </a:xfrm>
          <a:prstGeom prst="line">
            <a:avLst/>
          </a:prstGeom>
          <a:ln w="12600">
            <a:solidFill>
              <a:srgbClr val="037c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8147160" y="520560"/>
            <a:ext cx="403200" cy="87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8610480" y="446040"/>
            <a:ext cx="0" cy="4748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rot="10800000">
            <a:off x="2086200" y="2010240"/>
            <a:ext cx="134604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71"/>
                </a:moveTo>
                <a:arcTo wR="10800" hR="10800" stAng="-10790857" swAng="5382749"/>
                <a:lnTo>
                  <a:pt x="10800" y="10800"/>
                </a:lnTo>
                <a:close/>
              </a:path>
              <a:path fill="none" w="21600" h="21600">
                <a:moveTo>
                  <a:pt x="0" y="10771"/>
                </a:moveTo>
                <a:arcTo wR="10800" hR="10800" stAng="-10790857" swAng="5382749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rot="10800000">
            <a:off x="7620480" y="943200"/>
            <a:ext cx="10404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7" y="0"/>
                </a:moveTo>
                <a:arcTo wR="10800" hR="10800" stAng="-5410481" swAng="5410481"/>
                <a:lnTo>
                  <a:pt x="10800" y="10800"/>
                </a:lnTo>
                <a:close/>
              </a:path>
              <a:path fill="none" w="21600" h="21600">
                <a:moveTo>
                  <a:pt x="10767" y="0"/>
                </a:moveTo>
                <a:arcTo wR="10800" hR="10800" stAng="-5410481" swAng="5410481"/>
              </a:path>
            </a:pathLst>
          </a:custGeom>
          <a:noFill/>
          <a:ln cap="rnd"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rot="10800000">
            <a:off x="990720" y="3305160"/>
            <a:ext cx="583200" cy="73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1" y="0"/>
                </a:moveTo>
                <a:arcTo wR="10800" hR="10800" stAng="-5418683" swAng="5418683"/>
                <a:lnTo>
                  <a:pt x="10800" y="10800"/>
                </a:lnTo>
                <a:close/>
              </a:path>
              <a:path fill="none" w="21600" h="21600">
                <a:moveTo>
                  <a:pt x="10741" y="0"/>
                </a:moveTo>
                <a:arcTo wR="10800" hR="10800" stAng="-5418683" swAng="5418683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850000" y="200160"/>
            <a:ext cx="1984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 Narrow"/>
              </a:rPr>
              <a:t>tráfico que pu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 Narrow"/>
              </a:rPr>
              <a:t>ser descartado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 Narrow"/>
              </a:rPr>
              <a:t>marcado con CLP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955600" y="1495440"/>
            <a:ext cx="1540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decréscim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contador </a:t>
            </a:r>
            <a:r>
              <a:rPr b="1" i="1" lang="es-ES_tradnl" sz="1800" spc="-1" strike="noStrike">
                <a:solidFill>
                  <a:srgbClr val="500093"/>
                </a:solidFill>
                <a:latin typeface="Arial Narrow"/>
              </a:rPr>
              <a:t>lea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500093"/>
                </a:solidFill>
                <a:latin typeface="Arial Narrow"/>
              </a:rPr>
              <a:t>bucket</a:t>
            </a: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 a 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intervalo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507040" y="1038240"/>
            <a:ext cx="46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ae00"/>
                </a:solidFill>
                <a:latin typeface="Arial Narrow"/>
              </a:rPr>
              <a:t>valor máximo admisible del contador </a:t>
            </a:r>
            <a:r>
              <a:rPr b="1" i="1" lang="es-ES_tradnl" sz="1800" spc="-1" strike="noStrike">
                <a:solidFill>
                  <a:srgbClr val="00ae00"/>
                </a:solidFill>
                <a:latin typeface="Arial Narrow"/>
              </a:rPr>
              <a:t>leaky bu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67800" y="3095640"/>
            <a:ext cx="111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ráfag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t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20340000">
            <a:off x="1519920" y="3913560"/>
            <a:ext cx="583560" cy="73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3"/>
                </a:moveTo>
                <a:arcTo wR="10800" hR="10800" stAng="-10785182" swAng="5366499"/>
                <a:lnTo>
                  <a:pt x="10800" y="10800"/>
                </a:lnTo>
                <a:close/>
              </a:path>
              <a:path fill="none" w="21600" h="21600">
                <a:moveTo>
                  <a:pt x="0" y="10753"/>
                </a:moveTo>
                <a:arcTo wR="10800" hR="10800" stAng="-10785182" swAng="5366499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352520" y="4390920"/>
            <a:ext cx="1303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tiempo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00093"/>
                </a:solidFill>
                <a:latin typeface="Arial Narrow"/>
              </a:rPr>
              <a:t>ráfa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609480" y="1512720"/>
            <a:ext cx="0" cy="70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243320" y="598176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/>
          <p:nvPr/>
        </p:nvSpPr>
        <p:spPr>
          <a:xfrm>
            <a:off x="5479920" y="920880"/>
            <a:ext cx="3416400" cy="2501640"/>
          </a:xfrm>
          <a:prstGeom prst="roundRect">
            <a:avLst>
              <a:gd name="adj" fmla="val 12486"/>
            </a:avLst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03360" y="3359160"/>
            <a:ext cx="3644640" cy="2730600"/>
          </a:xfrm>
          <a:prstGeom prst="roundRect">
            <a:avLst>
              <a:gd name="adj" fmla="val 12486"/>
            </a:avLst>
          </a:prstGeom>
          <a:solidFill>
            <a:srgbClr val="ffc5c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55640" y="1149480"/>
            <a:ext cx="3263760" cy="2120760"/>
          </a:xfrm>
          <a:prstGeom prst="roundRect">
            <a:avLst>
              <a:gd name="adj" fmla="val 12486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09480" y="324000"/>
            <a:ext cx="4800600" cy="68580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unción de Polí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4" name=""/>
          <p:cNvGraphicFramePr/>
          <p:nvPr/>
        </p:nvGraphicFramePr>
        <p:xfrm>
          <a:off x="4354560" y="1131840"/>
          <a:ext cx="1017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4560" y="1131840"/>
                    <a:ext cx="1017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6" name=""/>
          <p:cNvSpPr/>
          <p:nvPr/>
        </p:nvSpPr>
        <p:spPr>
          <a:xfrm flipH="1" flipV="1" rot="10800000">
            <a:off x="6126840" y="1767240"/>
            <a:ext cx="1098360" cy="443160"/>
          </a:xfrm>
          <a:custGeom>
            <a:avLst/>
            <a:gdLst>
              <a:gd name="textAreaLeft" fmla="*/ 241200 w 1098360"/>
              <a:gd name="textAreaRight" fmla="*/ 857160 w 1098360"/>
              <a:gd name="textAreaTop" fmla="*/ 97200 h 443160"/>
              <a:gd name="textAreaBottom" fmla="*/ 345960 h 4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 flipV="1" rot="10800000">
            <a:off x="7237440" y="1968480"/>
            <a:ext cx="1100160" cy="442800"/>
          </a:xfrm>
          <a:custGeom>
            <a:avLst/>
            <a:gdLst>
              <a:gd name="textAreaLeft" fmla="*/ 241920 w 1100160"/>
              <a:gd name="textAreaRight" fmla="*/ 858240 w 1100160"/>
              <a:gd name="textAreaTop" fmla="*/ 97200 h 442800"/>
              <a:gd name="textAreaBottom" fmla="*/ 345600 h 44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480000">
            <a:off x="6624000" y="1385640"/>
            <a:ext cx="897480" cy="95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85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8539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rot="480000">
            <a:off x="5554800" y="1293840"/>
            <a:ext cx="124272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rot="480000">
            <a:off x="6418080" y="1340280"/>
            <a:ext cx="596880" cy="39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3" y="0"/>
                </a:moveTo>
                <a:arcTo wR="10800" hR="10800" stAng="-5418286" swAng="5390857"/>
                <a:lnTo>
                  <a:pt x="10800" y="10800"/>
                </a:lnTo>
                <a:close/>
              </a:path>
              <a:path fill="none" w="21600" h="21600">
                <a:moveTo>
                  <a:pt x="10743" y="0"/>
                </a:moveTo>
                <a:arcTo wR="10800" hR="10800" stAng="-5418286" swAng="539085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973480" y="1209600"/>
            <a:ext cx="1222200" cy="19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 flipV="1" rot="10800000">
            <a:off x="6762600" y="2184840"/>
            <a:ext cx="98640" cy="128520"/>
          </a:xfrm>
          <a:custGeom>
            <a:avLst/>
            <a:gdLst>
              <a:gd name="textAreaLeft" fmla="*/ 21600 w 98640"/>
              <a:gd name="textAreaRight" fmla="*/ 77040 w 98640"/>
              <a:gd name="textAreaTop" fmla="*/ 28080 h 128520"/>
              <a:gd name="textAreaBottom" fmla="*/ 10044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 flipV="1" rot="10800000">
            <a:off x="7925400" y="2358000"/>
            <a:ext cx="96840" cy="127080"/>
          </a:xfrm>
          <a:custGeom>
            <a:avLst/>
            <a:gdLst>
              <a:gd name="textAreaLeft" fmla="*/ 21240 w 96840"/>
              <a:gd name="textAreaRight" fmla="*/ 75600 w 96840"/>
              <a:gd name="textAreaTop" fmla="*/ 27720 h 127080"/>
              <a:gd name="textAreaBottom" fmla="*/ 993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811920" y="2373480"/>
            <a:ext cx="0" cy="44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975440" y="25430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248600" y="1973160"/>
            <a:ext cx="1116000" cy="222480"/>
          </a:xfrm>
          <a:custGeom>
            <a:avLst/>
            <a:gdLst/>
            <a:ahLst/>
            <a:rect l="l" t="t" r="r" b="b"/>
            <a:pathLst>
              <a:path w="703" h="140">
                <a:moveTo>
                  <a:pt x="64" y="108"/>
                </a:moveTo>
                <a:lnTo>
                  <a:pt x="84" y="98"/>
                </a:lnTo>
                <a:lnTo>
                  <a:pt x="99" y="95"/>
                </a:lnTo>
                <a:lnTo>
                  <a:pt x="118" y="91"/>
                </a:lnTo>
                <a:lnTo>
                  <a:pt x="132" y="91"/>
                </a:lnTo>
                <a:lnTo>
                  <a:pt x="166" y="102"/>
                </a:lnTo>
                <a:lnTo>
                  <a:pt x="185" y="111"/>
                </a:lnTo>
                <a:lnTo>
                  <a:pt x="199" y="111"/>
                </a:lnTo>
                <a:lnTo>
                  <a:pt x="219" y="106"/>
                </a:lnTo>
                <a:lnTo>
                  <a:pt x="237" y="102"/>
                </a:lnTo>
                <a:lnTo>
                  <a:pt x="252" y="102"/>
                </a:lnTo>
                <a:lnTo>
                  <a:pt x="271" y="106"/>
                </a:lnTo>
                <a:lnTo>
                  <a:pt x="291" y="98"/>
                </a:lnTo>
                <a:lnTo>
                  <a:pt x="309" y="98"/>
                </a:lnTo>
                <a:lnTo>
                  <a:pt x="324" y="98"/>
                </a:lnTo>
                <a:lnTo>
                  <a:pt x="343" y="102"/>
                </a:lnTo>
                <a:lnTo>
                  <a:pt x="376" y="123"/>
                </a:lnTo>
                <a:lnTo>
                  <a:pt x="391" y="123"/>
                </a:lnTo>
                <a:lnTo>
                  <a:pt x="410" y="127"/>
                </a:lnTo>
                <a:lnTo>
                  <a:pt x="429" y="115"/>
                </a:lnTo>
                <a:lnTo>
                  <a:pt x="448" y="115"/>
                </a:lnTo>
                <a:lnTo>
                  <a:pt x="467" y="115"/>
                </a:lnTo>
                <a:lnTo>
                  <a:pt x="491" y="115"/>
                </a:lnTo>
                <a:lnTo>
                  <a:pt x="506" y="115"/>
                </a:lnTo>
                <a:lnTo>
                  <a:pt x="515" y="135"/>
                </a:lnTo>
                <a:lnTo>
                  <a:pt x="530" y="139"/>
                </a:lnTo>
                <a:lnTo>
                  <a:pt x="539" y="127"/>
                </a:lnTo>
                <a:lnTo>
                  <a:pt x="554" y="123"/>
                </a:lnTo>
                <a:lnTo>
                  <a:pt x="573" y="123"/>
                </a:lnTo>
                <a:lnTo>
                  <a:pt x="592" y="119"/>
                </a:lnTo>
                <a:lnTo>
                  <a:pt x="611" y="119"/>
                </a:lnTo>
                <a:lnTo>
                  <a:pt x="630" y="123"/>
                </a:lnTo>
                <a:lnTo>
                  <a:pt x="702" y="0"/>
                </a:lnTo>
                <a:lnTo>
                  <a:pt x="0" y="0"/>
                </a:lnTo>
                <a:lnTo>
                  <a:pt x="64" y="10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7904160" y="1920960"/>
            <a:ext cx="761760" cy="740520"/>
            <a:chOff x="7904160" y="1920960"/>
            <a:chExt cx="761760" cy="740520"/>
          </a:xfrm>
        </p:grpSpPr>
        <p:sp>
          <p:nvSpPr>
            <p:cNvPr id="1508" name=""/>
            <p:cNvSpPr/>
            <p:nvPr/>
          </p:nvSpPr>
          <p:spPr>
            <a:xfrm>
              <a:off x="7904160" y="1928880"/>
              <a:ext cx="761760" cy="73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045280" y="1920960"/>
              <a:ext cx="51084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523"/>
                  </a:moveTo>
                  <a:arcTo wR="10800" hR="10800" stAng="-10711872" swAng="5290520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523"/>
                  </a:moveTo>
                  <a:arcTo wR="10800" hR="10800" stAng="-10711872" swAng="529052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6134040" y="1757520"/>
            <a:ext cx="1116000" cy="223560"/>
          </a:xfrm>
          <a:custGeom>
            <a:avLst/>
            <a:gdLst/>
            <a:ahLst/>
            <a:rect l="l" t="t" r="r" b="b"/>
            <a:pathLst>
              <a:path w="703" h="141">
                <a:moveTo>
                  <a:pt x="638" y="109"/>
                </a:moveTo>
                <a:lnTo>
                  <a:pt x="618" y="99"/>
                </a:lnTo>
                <a:lnTo>
                  <a:pt x="603" y="95"/>
                </a:lnTo>
                <a:lnTo>
                  <a:pt x="584" y="91"/>
                </a:lnTo>
                <a:lnTo>
                  <a:pt x="570" y="91"/>
                </a:lnTo>
                <a:lnTo>
                  <a:pt x="536" y="103"/>
                </a:lnTo>
                <a:lnTo>
                  <a:pt x="517" y="112"/>
                </a:lnTo>
                <a:lnTo>
                  <a:pt x="503" y="112"/>
                </a:lnTo>
                <a:lnTo>
                  <a:pt x="483" y="107"/>
                </a:lnTo>
                <a:lnTo>
                  <a:pt x="465" y="103"/>
                </a:lnTo>
                <a:lnTo>
                  <a:pt x="450" y="103"/>
                </a:lnTo>
                <a:lnTo>
                  <a:pt x="431" y="107"/>
                </a:lnTo>
                <a:lnTo>
                  <a:pt x="411" y="99"/>
                </a:lnTo>
                <a:lnTo>
                  <a:pt x="393" y="99"/>
                </a:lnTo>
                <a:lnTo>
                  <a:pt x="378" y="99"/>
                </a:lnTo>
                <a:lnTo>
                  <a:pt x="359" y="103"/>
                </a:lnTo>
                <a:lnTo>
                  <a:pt x="326" y="124"/>
                </a:lnTo>
                <a:lnTo>
                  <a:pt x="311" y="124"/>
                </a:lnTo>
                <a:lnTo>
                  <a:pt x="292" y="128"/>
                </a:lnTo>
                <a:lnTo>
                  <a:pt x="273" y="116"/>
                </a:lnTo>
                <a:lnTo>
                  <a:pt x="254" y="116"/>
                </a:lnTo>
                <a:lnTo>
                  <a:pt x="235" y="116"/>
                </a:lnTo>
                <a:lnTo>
                  <a:pt x="211" y="116"/>
                </a:lnTo>
                <a:lnTo>
                  <a:pt x="196" y="116"/>
                </a:lnTo>
                <a:lnTo>
                  <a:pt x="187" y="136"/>
                </a:lnTo>
                <a:lnTo>
                  <a:pt x="172" y="140"/>
                </a:lnTo>
                <a:lnTo>
                  <a:pt x="163" y="128"/>
                </a:lnTo>
                <a:lnTo>
                  <a:pt x="148" y="124"/>
                </a:lnTo>
                <a:lnTo>
                  <a:pt x="129" y="124"/>
                </a:lnTo>
                <a:lnTo>
                  <a:pt x="110" y="120"/>
                </a:lnTo>
                <a:lnTo>
                  <a:pt x="91" y="120"/>
                </a:lnTo>
                <a:lnTo>
                  <a:pt x="72" y="124"/>
                </a:lnTo>
                <a:lnTo>
                  <a:pt x="0" y="0"/>
                </a:lnTo>
                <a:lnTo>
                  <a:pt x="702" y="0"/>
                </a:lnTo>
                <a:lnTo>
                  <a:pt x="638" y="109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5859360" y="1701720"/>
            <a:ext cx="762120" cy="733320"/>
            <a:chOff x="5859360" y="1701720"/>
            <a:chExt cx="762120" cy="733320"/>
          </a:xfrm>
        </p:grpSpPr>
        <p:sp>
          <p:nvSpPr>
            <p:cNvPr id="1512" name=""/>
            <p:cNvSpPr/>
            <p:nvPr/>
          </p:nvSpPr>
          <p:spPr>
            <a:xfrm>
              <a:off x="5859360" y="1701720"/>
              <a:ext cx="76212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3"/>
                  </a:moveTo>
                  <a:arcTo wR="10800" hR="10800" stAng="-10785118" swAng="537079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3"/>
                  </a:moveTo>
                  <a:arcTo wR="10800" hR="10800" stAng="-10785118" swAng="537079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942160" y="1708200"/>
              <a:ext cx="51696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4" y="0"/>
                  </a:moveTo>
                  <a:arcTo wR="10800" hR="10800" stAng="-5421090" swAng="54210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4" y="0"/>
                  </a:moveTo>
                  <a:arcTo wR="10800" hR="10800" stAng="-5421090" swAng="54210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4" name=""/>
          <p:cNvSpPr/>
          <p:nvPr/>
        </p:nvSpPr>
        <p:spPr>
          <a:xfrm>
            <a:off x="6132960" y="960480"/>
            <a:ext cx="107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CLP = 0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flipV="1" rot="10800000">
            <a:off x="2360520" y="2197080"/>
            <a:ext cx="1100160" cy="442800"/>
          </a:xfrm>
          <a:custGeom>
            <a:avLst/>
            <a:gdLst>
              <a:gd name="textAreaLeft" fmla="*/ 241920 w 1100160"/>
              <a:gd name="textAreaRight" fmla="*/ 858240 w 1100160"/>
              <a:gd name="textAreaTop" fmla="*/ 97200 h 442800"/>
              <a:gd name="textAreaBottom" fmla="*/ 345600 h 44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rot="480000">
            <a:off x="1746720" y="1613880"/>
            <a:ext cx="898200" cy="95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85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8539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1096920" y="1438200"/>
            <a:ext cx="1222560" cy="19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 flipV="1" rot="10800000">
            <a:off x="3048480" y="2586600"/>
            <a:ext cx="96840" cy="127080"/>
          </a:xfrm>
          <a:custGeom>
            <a:avLst/>
            <a:gdLst>
              <a:gd name="textAreaLeft" fmla="*/ 21240 w 96840"/>
              <a:gd name="textAreaRight" fmla="*/ 75600 w 96840"/>
              <a:gd name="textAreaTop" fmla="*/ 27720 h 127080"/>
              <a:gd name="textAreaBottom" fmla="*/ 993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098880" y="27716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2371680" y="2201760"/>
            <a:ext cx="1116000" cy="222480"/>
          </a:xfrm>
          <a:custGeom>
            <a:avLst/>
            <a:gdLst/>
            <a:ahLst/>
            <a:rect l="l" t="t" r="r" b="b"/>
            <a:pathLst>
              <a:path w="703" h="140">
                <a:moveTo>
                  <a:pt x="64" y="108"/>
                </a:moveTo>
                <a:lnTo>
                  <a:pt x="84" y="98"/>
                </a:lnTo>
                <a:lnTo>
                  <a:pt x="99" y="95"/>
                </a:lnTo>
                <a:lnTo>
                  <a:pt x="118" y="91"/>
                </a:lnTo>
                <a:lnTo>
                  <a:pt x="132" y="91"/>
                </a:lnTo>
                <a:lnTo>
                  <a:pt x="166" y="102"/>
                </a:lnTo>
                <a:lnTo>
                  <a:pt x="185" y="111"/>
                </a:lnTo>
                <a:lnTo>
                  <a:pt x="199" y="111"/>
                </a:lnTo>
                <a:lnTo>
                  <a:pt x="219" y="106"/>
                </a:lnTo>
                <a:lnTo>
                  <a:pt x="237" y="102"/>
                </a:lnTo>
                <a:lnTo>
                  <a:pt x="252" y="102"/>
                </a:lnTo>
                <a:lnTo>
                  <a:pt x="271" y="106"/>
                </a:lnTo>
                <a:lnTo>
                  <a:pt x="291" y="98"/>
                </a:lnTo>
                <a:lnTo>
                  <a:pt x="309" y="98"/>
                </a:lnTo>
                <a:lnTo>
                  <a:pt x="324" y="98"/>
                </a:lnTo>
                <a:lnTo>
                  <a:pt x="343" y="102"/>
                </a:lnTo>
                <a:lnTo>
                  <a:pt x="376" y="123"/>
                </a:lnTo>
                <a:lnTo>
                  <a:pt x="391" y="123"/>
                </a:lnTo>
                <a:lnTo>
                  <a:pt x="410" y="127"/>
                </a:lnTo>
                <a:lnTo>
                  <a:pt x="429" y="115"/>
                </a:lnTo>
                <a:lnTo>
                  <a:pt x="448" y="115"/>
                </a:lnTo>
                <a:lnTo>
                  <a:pt x="467" y="115"/>
                </a:lnTo>
                <a:lnTo>
                  <a:pt x="491" y="115"/>
                </a:lnTo>
                <a:lnTo>
                  <a:pt x="506" y="115"/>
                </a:lnTo>
                <a:lnTo>
                  <a:pt x="515" y="135"/>
                </a:lnTo>
                <a:lnTo>
                  <a:pt x="530" y="139"/>
                </a:lnTo>
                <a:lnTo>
                  <a:pt x="539" y="127"/>
                </a:lnTo>
                <a:lnTo>
                  <a:pt x="554" y="123"/>
                </a:lnTo>
                <a:lnTo>
                  <a:pt x="573" y="123"/>
                </a:lnTo>
                <a:lnTo>
                  <a:pt x="592" y="119"/>
                </a:lnTo>
                <a:lnTo>
                  <a:pt x="611" y="119"/>
                </a:lnTo>
                <a:lnTo>
                  <a:pt x="630" y="123"/>
                </a:lnTo>
                <a:lnTo>
                  <a:pt x="702" y="0"/>
                </a:lnTo>
                <a:lnTo>
                  <a:pt x="0" y="0"/>
                </a:lnTo>
                <a:lnTo>
                  <a:pt x="64" y="10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3027240" y="2149560"/>
            <a:ext cx="761760" cy="740520"/>
            <a:chOff x="3027240" y="2149560"/>
            <a:chExt cx="761760" cy="740520"/>
          </a:xfrm>
        </p:grpSpPr>
        <p:sp>
          <p:nvSpPr>
            <p:cNvPr id="1522" name=""/>
            <p:cNvSpPr/>
            <p:nvPr/>
          </p:nvSpPr>
          <p:spPr>
            <a:xfrm>
              <a:off x="3027240" y="2157480"/>
              <a:ext cx="761760" cy="73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168720" y="2149560"/>
              <a:ext cx="51084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523"/>
                  </a:moveTo>
                  <a:arcTo wR="10800" hR="10800" stAng="-10711872" swAng="5290520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523"/>
                  </a:moveTo>
                  <a:arcTo wR="10800" hR="10800" stAng="-10711872" swAng="529052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1256400" y="1189080"/>
            <a:ext cx="1124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CLP =  0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 flipV="1" rot="10800000">
            <a:off x="1326240" y="4359240"/>
            <a:ext cx="1098360" cy="442800"/>
          </a:xfrm>
          <a:custGeom>
            <a:avLst/>
            <a:gdLst>
              <a:gd name="textAreaLeft" fmla="*/ 241200 w 1098360"/>
              <a:gd name="textAreaRight" fmla="*/ 857160 w 1098360"/>
              <a:gd name="textAreaTop" fmla="*/ 97200 h 442800"/>
              <a:gd name="textAreaBottom" fmla="*/ 345600 h 44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H="1" flipV="1" rot="10800000">
            <a:off x="2436840" y="4559400"/>
            <a:ext cx="1100160" cy="442800"/>
          </a:xfrm>
          <a:custGeom>
            <a:avLst/>
            <a:gdLst>
              <a:gd name="textAreaLeft" fmla="*/ 241920 w 1100160"/>
              <a:gd name="textAreaRight" fmla="*/ 858240 w 1100160"/>
              <a:gd name="textAreaTop" fmla="*/ 97200 h 442800"/>
              <a:gd name="textAreaBottom" fmla="*/ 345600 h 44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rot="480000">
            <a:off x="1823400" y="3976200"/>
            <a:ext cx="897480" cy="95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85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8539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rot="480000">
            <a:off x="754200" y="3884760"/>
            <a:ext cx="124272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rot="480000">
            <a:off x="1617480" y="3930840"/>
            <a:ext cx="59688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3" y="0"/>
                </a:moveTo>
                <a:arcTo wR="10800" hR="10800" stAng="-5418286" swAng="5390857"/>
                <a:lnTo>
                  <a:pt x="10800" y="10800"/>
                </a:lnTo>
                <a:close/>
              </a:path>
              <a:path fill="none" w="21600" h="21600">
                <a:moveTo>
                  <a:pt x="10743" y="0"/>
                </a:moveTo>
                <a:arcTo wR="10800" hR="10800" stAng="-5418286" swAng="539085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 flipV="1">
            <a:off x="1172880" y="3800520"/>
            <a:ext cx="1222200" cy="19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 flipV="1" rot="10800000">
            <a:off x="1962000" y="4775760"/>
            <a:ext cx="98640" cy="128520"/>
          </a:xfrm>
          <a:custGeom>
            <a:avLst/>
            <a:gdLst>
              <a:gd name="textAreaLeft" fmla="*/ 21600 w 98640"/>
              <a:gd name="textAreaRight" fmla="*/ 77040 w 98640"/>
              <a:gd name="textAreaTop" fmla="*/ 28080 h 128520"/>
              <a:gd name="textAreaBottom" fmla="*/ 10044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 flipV="1" rot="10800000">
            <a:off x="3124800" y="4950000"/>
            <a:ext cx="96840" cy="126720"/>
          </a:xfrm>
          <a:custGeom>
            <a:avLst/>
            <a:gdLst>
              <a:gd name="textAreaLeft" fmla="*/ 21240 w 96840"/>
              <a:gd name="textAreaRight" fmla="*/ 75600 w 96840"/>
              <a:gd name="textAreaTop" fmla="*/ 27720 h 126720"/>
              <a:gd name="textAreaBottom" fmla="*/ 99000 h 12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011320" y="4964040"/>
            <a:ext cx="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81320" y="5133960"/>
            <a:ext cx="0" cy="26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448000" y="4564080"/>
            <a:ext cx="1116000" cy="222120"/>
          </a:xfrm>
          <a:custGeom>
            <a:avLst/>
            <a:gdLst/>
            <a:ahLst/>
            <a:rect l="l" t="t" r="r" b="b"/>
            <a:pathLst>
              <a:path w="703" h="140">
                <a:moveTo>
                  <a:pt x="64" y="108"/>
                </a:moveTo>
                <a:lnTo>
                  <a:pt x="84" y="98"/>
                </a:lnTo>
                <a:lnTo>
                  <a:pt x="99" y="95"/>
                </a:lnTo>
                <a:lnTo>
                  <a:pt x="118" y="91"/>
                </a:lnTo>
                <a:lnTo>
                  <a:pt x="132" y="91"/>
                </a:lnTo>
                <a:lnTo>
                  <a:pt x="166" y="102"/>
                </a:lnTo>
                <a:lnTo>
                  <a:pt x="185" y="111"/>
                </a:lnTo>
                <a:lnTo>
                  <a:pt x="199" y="111"/>
                </a:lnTo>
                <a:lnTo>
                  <a:pt x="219" y="106"/>
                </a:lnTo>
                <a:lnTo>
                  <a:pt x="237" y="102"/>
                </a:lnTo>
                <a:lnTo>
                  <a:pt x="252" y="102"/>
                </a:lnTo>
                <a:lnTo>
                  <a:pt x="271" y="106"/>
                </a:lnTo>
                <a:lnTo>
                  <a:pt x="291" y="98"/>
                </a:lnTo>
                <a:lnTo>
                  <a:pt x="309" y="98"/>
                </a:lnTo>
                <a:lnTo>
                  <a:pt x="324" y="98"/>
                </a:lnTo>
                <a:lnTo>
                  <a:pt x="343" y="102"/>
                </a:lnTo>
                <a:lnTo>
                  <a:pt x="376" y="123"/>
                </a:lnTo>
                <a:lnTo>
                  <a:pt x="391" y="123"/>
                </a:lnTo>
                <a:lnTo>
                  <a:pt x="410" y="127"/>
                </a:lnTo>
                <a:lnTo>
                  <a:pt x="429" y="115"/>
                </a:lnTo>
                <a:lnTo>
                  <a:pt x="448" y="115"/>
                </a:lnTo>
                <a:lnTo>
                  <a:pt x="467" y="115"/>
                </a:lnTo>
                <a:lnTo>
                  <a:pt x="491" y="115"/>
                </a:lnTo>
                <a:lnTo>
                  <a:pt x="506" y="115"/>
                </a:lnTo>
                <a:lnTo>
                  <a:pt x="515" y="135"/>
                </a:lnTo>
                <a:lnTo>
                  <a:pt x="530" y="139"/>
                </a:lnTo>
                <a:lnTo>
                  <a:pt x="539" y="127"/>
                </a:lnTo>
                <a:lnTo>
                  <a:pt x="554" y="123"/>
                </a:lnTo>
                <a:lnTo>
                  <a:pt x="573" y="123"/>
                </a:lnTo>
                <a:lnTo>
                  <a:pt x="592" y="119"/>
                </a:lnTo>
                <a:lnTo>
                  <a:pt x="611" y="119"/>
                </a:lnTo>
                <a:lnTo>
                  <a:pt x="630" y="123"/>
                </a:lnTo>
                <a:lnTo>
                  <a:pt x="702" y="0"/>
                </a:lnTo>
                <a:lnTo>
                  <a:pt x="0" y="0"/>
                </a:lnTo>
                <a:lnTo>
                  <a:pt x="64" y="10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3103560" y="4511520"/>
            <a:ext cx="761760" cy="741240"/>
            <a:chOff x="3103560" y="4511520"/>
            <a:chExt cx="761760" cy="741240"/>
          </a:xfrm>
        </p:grpSpPr>
        <p:sp>
          <p:nvSpPr>
            <p:cNvPr id="1537" name=""/>
            <p:cNvSpPr/>
            <p:nvPr/>
          </p:nvSpPr>
          <p:spPr>
            <a:xfrm>
              <a:off x="3103560" y="4519440"/>
              <a:ext cx="76176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244680" y="4511520"/>
              <a:ext cx="51084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523"/>
                  </a:moveTo>
                  <a:arcTo wR="10800" hR="10800" stAng="-10711872" swAng="5290520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523"/>
                  </a:moveTo>
                  <a:arcTo wR="10800" hR="10800" stAng="-10711872" swAng="529052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"/>
          <p:cNvSpPr/>
          <p:nvPr/>
        </p:nvSpPr>
        <p:spPr>
          <a:xfrm>
            <a:off x="1333440" y="4348080"/>
            <a:ext cx="1116000" cy="223920"/>
          </a:xfrm>
          <a:custGeom>
            <a:avLst/>
            <a:gdLst/>
            <a:ahLst/>
            <a:rect l="l" t="t" r="r" b="b"/>
            <a:pathLst>
              <a:path w="703" h="141">
                <a:moveTo>
                  <a:pt x="638" y="109"/>
                </a:moveTo>
                <a:lnTo>
                  <a:pt x="618" y="99"/>
                </a:lnTo>
                <a:lnTo>
                  <a:pt x="603" y="95"/>
                </a:lnTo>
                <a:lnTo>
                  <a:pt x="584" y="91"/>
                </a:lnTo>
                <a:lnTo>
                  <a:pt x="570" y="91"/>
                </a:lnTo>
                <a:lnTo>
                  <a:pt x="536" y="103"/>
                </a:lnTo>
                <a:lnTo>
                  <a:pt x="517" y="112"/>
                </a:lnTo>
                <a:lnTo>
                  <a:pt x="503" y="112"/>
                </a:lnTo>
                <a:lnTo>
                  <a:pt x="483" y="107"/>
                </a:lnTo>
                <a:lnTo>
                  <a:pt x="465" y="103"/>
                </a:lnTo>
                <a:lnTo>
                  <a:pt x="450" y="103"/>
                </a:lnTo>
                <a:lnTo>
                  <a:pt x="431" y="107"/>
                </a:lnTo>
                <a:lnTo>
                  <a:pt x="411" y="99"/>
                </a:lnTo>
                <a:lnTo>
                  <a:pt x="393" y="99"/>
                </a:lnTo>
                <a:lnTo>
                  <a:pt x="378" y="99"/>
                </a:lnTo>
                <a:lnTo>
                  <a:pt x="359" y="103"/>
                </a:lnTo>
                <a:lnTo>
                  <a:pt x="326" y="124"/>
                </a:lnTo>
                <a:lnTo>
                  <a:pt x="311" y="124"/>
                </a:lnTo>
                <a:lnTo>
                  <a:pt x="292" y="128"/>
                </a:lnTo>
                <a:lnTo>
                  <a:pt x="273" y="116"/>
                </a:lnTo>
                <a:lnTo>
                  <a:pt x="254" y="116"/>
                </a:lnTo>
                <a:lnTo>
                  <a:pt x="235" y="116"/>
                </a:lnTo>
                <a:lnTo>
                  <a:pt x="211" y="116"/>
                </a:lnTo>
                <a:lnTo>
                  <a:pt x="196" y="116"/>
                </a:lnTo>
                <a:lnTo>
                  <a:pt x="187" y="136"/>
                </a:lnTo>
                <a:lnTo>
                  <a:pt x="172" y="140"/>
                </a:lnTo>
                <a:lnTo>
                  <a:pt x="163" y="128"/>
                </a:lnTo>
                <a:lnTo>
                  <a:pt x="148" y="124"/>
                </a:lnTo>
                <a:lnTo>
                  <a:pt x="129" y="124"/>
                </a:lnTo>
                <a:lnTo>
                  <a:pt x="110" y="120"/>
                </a:lnTo>
                <a:lnTo>
                  <a:pt x="91" y="120"/>
                </a:lnTo>
                <a:lnTo>
                  <a:pt x="72" y="124"/>
                </a:lnTo>
                <a:lnTo>
                  <a:pt x="0" y="0"/>
                </a:lnTo>
                <a:lnTo>
                  <a:pt x="702" y="0"/>
                </a:lnTo>
                <a:lnTo>
                  <a:pt x="638" y="109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1058760" y="4292640"/>
            <a:ext cx="762120" cy="733320"/>
            <a:chOff x="1058760" y="4292640"/>
            <a:chExt cx="762120" cy="733320"/>
          </a:xfrm>
        </p:grpSpPr>
        <p:sp>
          <p:nvSpPr>
            <p:cNvPr id="1541" name=""/>
            <p:cNvSpPr/>
            <p:nvPr/>
          </p:nvSpPr>
          <p:spPr>
            <a:xfrm>
              <a:off x="1058760" y="4292640"/>
              <a:ext cx="76212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3"/>
                  </a:moveTo>
                  <a:arcTo wR="10800" hR="10800" stAng="-10785118" swAng="537079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3"/>
                  </a:moveTo>
                  <a:arcTo wR="10800" hR="10800" stAng="-10785118" swAng="537079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141560" y="4299120"/>
              <a:ext cx="51696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4" y="0"/>
                  </a:moveTo>
                  <a:arcTo wR="10800" hR="10800" stAng="-5421090" swAng="54210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4" y="0"/>
                  </a:moveTo>
                  <a:arcTo wR="10800" hR="10800" stAng="-5421090" swAng="54210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3" name=""/>
          <p:cNvSpPr/>
          <p:nvPr/>
        </p:nvSpPr>
        <p:spPr>
          <a:xfrm>
            <a:off x="1332720" y="3551400"/>
            <a:ext cx="79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CLP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3116160" y="4064040"/>
            <a:ext cx="762120" cy="733320"/>
            <a:chOff x="3116160" y="4064040"/>
            <a:chExt cx="762120" cy="733320"/>
          </a:xfrm>
        </p:grpSpPr>
        <p:sp>
          <p:nvSpPr>
            <p:cNvPr id="1545" name=""/>
            <p:cNvSpPr/>
            <p:nvPr/>
          </p:nvSpPr>
          <p:spPr>
            <a:xfrm>
              <a:off x="3116160" y="4064040"/>
              <a:ext cx="76212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3"/>
                  </a:moveTo>
                  <a:arcTo wR="10800" hR="10800" stAng="-10785118" swAng="537079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3"/>
                  </a:moveTo>
                  <a:arcTo wR="10800" hR="10800" stAng="-10785118" swAng="537079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198960" y="4070520"/>
              <a:ext cx="51696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4" y="0"/>
                  </a:moveTo>
                  <a:arcTo wR="10800" hR="10800" stAng="-5421090" swAng="54210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4" y="0"/>
                  </a:moveTo>
                  <a:arcTo wR="10800" hR="10800" stAng="-5421090" swAng="54210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7" name=""/>
          <p:cNvSpPr/>
          <p:nvPr/>
        </p:nvSpPr>
        <p:spPr>
          <a:xfrm>
            <a:off x="2932920" y="3703680"/>
            <a:ext cx="79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CLP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23000" y="2050920"/>
            <a:ext cx="1836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b50069"/>
                </a:solidFill>
                <a:latin typeface="Arial Narrow"/>
              </a:rPr>
              <a:t>Peak Cell Rate </a:t>
            </a:r>
            <a:r>
              <a:rPr b="1" lang="es-ES_tradnl" sz="1600" spc="-1" strike="noStrike">
                <a:solidFill>
                  <a:srgbClr val="b50069"/>
                </a:solidFill>
                <a:latin typeface="Arial Narrow"/>
              </a:rPr>
              <a:t>(PC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7440" y="4870440"/>
            <a:ext cx="125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b50069"/>
                </a:solidFill>
                <a:latin typeface="Arial Narrow"/>
              </a:rPr>
              <a:t>Cell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b50069"/>
                </a:solidFill>
                <a:latin typeface="Arial Narrow"/>
              </a:rPr>
              <a:t>Priority </a:t>
            </a:r>
            <a:r>
              <a:rPr b="1" lang="es-ES_tradnl" sz="1600" spc="-1" strike="noStrike">
                <a:solidFill>
                  <a:srgbClr val="b50069"/>
                </a:solidFill>
                <a:latin typeface="Arial Narrow"/>
              </a:rPr>
              <a:t>(CL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232880" y="2584440"/>
            <a:ext cx="2382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b50069"/>
                </a:solidFill>
                <a:latin typeface="Arial Narrow"/>
              </a:rPr>
              <a:t>Sustainable Cell Rate </a:t>
            </a:r>
            <a:r>
              <a:rPr b="1" lang="es-ES_tradnl" sz="1600" spc="-1" strike="noStrike">
                <a:solidFill>
                  <a:srgbClr val="b50069"/>
                </a:solidFill>
                <a:latin typeface="Arial Narrow"/>
              </a:rPr>
              <a:t>(SC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719360" y="2936880"/>
            <a:ext cx="1198080" cy="27144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CR en CLP=0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957600" y="5451480"/>
            <a:ext cx="2881800" cy="27144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CR en CLP=0 sin marcar y PCR en CLP=0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958320" y="5756400"/>
            <a:ext cx="3267720" cy="27144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SCR+MBS en CLP=0 sin marcar y PCR en CLP=0+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378040" y="2936880"/>
            <a:ext cx="3375720" cy="27144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SCR+MBS en CLP=0+1 sin marcar y PCR en CLP=0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489560" y="3206880"/>
            <a:ext cx="3187440" cy="2882880"/>
          </a:xfrm>
          <a:prstGeom prst="roundRect">
            <a:avLst>
              <a:gd name="adj" fmla="val 12486"/>
            </a:avLst>
          </a:prstGeom>
          <a:solidFill>
            <a:srgbClr val="dbffb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 flipV="1" rot="10800000">
            <a:off x="5060880" y="4281840"/>
            <a:ext cx="1098720" cy="443160"/>
          </a:xfrm>
          <a:custGeom>
            <a:avLst/>
            <a:gdLst>
              <a:gd name="textAreaLeft" fmla="*/ 241560 w 1098720"/>
              <a:gd name="textAreaRight" fmla="*/ 857160 w 1098720"/>
              <a:gd name="textAreaTop" fmla="*/ 97200 h 443160"/>
              <a:gd name="textAreaBottom" fmla="*/ 345960 h 4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 flipV="1" rot="10800000">
            <a:off x="6170760" y="4483080"/>
            <a:ext cx="1100160" cy="442800"/>
          </a:xfrm>
          <a:custGeom>
            <a:avLst/>
            <a:gdLst>
              <a:gd name="textAreaLeft" fmla="*/ 241920 w 1100160"/>
              <a:gd name="textAreaRight" fmla="*/ 858240 w 1100160"/>
              <a:gd name="textAreaTop" fmla="*/ 97200 h 442800"/>
              <a:gd name="textAreaBottom" fmla="*/ 345600 h 44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rot="480000">
            <a:off x="5556600" y="3747600"/>
            <a:ext cx="898200" cy="95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85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8539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rot="480000">
            <a:off x="4487760" y="3656160"/>
            <a:ext cx="124308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rot="480000">
            <a:off x="5351400" y="3702240"/>
            <a:ext cx="596880" cy="39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3" y="0"/>
                </a:moveTo>
                <a:arcTo wR="10800" hR="10800" stAng="-5418286" swAng="5390857"/>
                <a:lnTo>
                  <a:pt x="10800" y="10800"/>
                </a:lnTo>
                <a:close/>
              </a:path>
              <a:path fill="none" w="21600" h="21600">
                <a:moveTo>
                  <a:pt x="10743" y="0"/>
                </a:moveTo>
                <a:arcTo wR="10800" hR="10800" stAng="-5418286" swAng="539085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 flipV="1">
            <a:off x="4906800" y="3571920"/>
            <a:ext cx="1222560" cy="19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 flipV="1" rot="10800000">
            <a:off x="5694840" y="4699440"/>
            <a:ext cx="98280" cy="128520"/>
          </a:xfrm>
          <a:custGeom>
            <a:avLst/>
            <a:gdLst>
              <a:gd name="textAreaLeft" fmla="*/ 21600 w 98280"/>
              <a:gd name="textAreaRight" fmla="*/ 76680 w 98280"/>
              <a:gd name="textAreaTop" fmla="*/ 28080 h 128520"/>
              <a:gd name="textAreaBottom" fmla="*/ 10044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H="1" flipV="1" rot="10800000">
            <a:off x="6858360" y="4872600"/>
            <a:ext cx="96840" cy="127080"/>
          </a:xfrm>
          <a:custGeom>
            <a:avLst/>
            <a:gdLst>
              <a:gd name="textAreaLeft" fmla="*/ 21240 w 96840"/>
              <a:gd name="textAreaRight" fmla="*/ 75600 w 96840"/>
              <a:gd name="textAreaTop" fmla="*/ 27720 h 127080"/>
              <a:gd name="textAreaBottom" fmla="*/ 993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3" y="21600"/>
                </a:lnTo>
                <a:lnTo>
                  <a:pt x="5397" y="2160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745240" y="4888080"/>
            <a:ext cx="0" cy="44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908760" y="50576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181560" y="4487760"/>
            <a:ext cx="1116000" cy="222480"/>
          </a:xfrm>
          <a:custGeom>
            <a:avLst/>
            <a:gdLst/>
            <a:ahLst/>
            <a:rect l="l" t="t" r="r" b="b"/>
            <a:pathLst>
              <a:path w="703" h="140">
                <a:moveTo>
                  <a:pt x="64" y="108"/>
                </a:moveTo>
                <a:lnTo>
                  <a:pt x="84" y="98"/>
                </a:lnTo>
                <a:lnTo>
                  <a:pt x="99" y="95"/>
                </a:lnTo>
                <a:lnTo>
                  <a:pt x="118" y="91"/>
                </a:lnTo>
                <a:lnTo>
                  <a:pt x="132" y="91"/>
                </a:lnTo>
                <a:lnTo>
                  <a:pt x="166" y="102"/>
                </a:lnTo>
                <a:lnTo>
                  <a:pt x="185" y="111"/>
                </a:lnTo>
                <a:lnTo>
                  <a:pt x="199" y="111"/>
                </a:lnTo>
                <a:lnTo>
                  <a:pt x="219" y="106"/>
                </a:lnTo>
                <a:lnTo>
                  <a:pt x="237" y="102"/>
                </a:lnTo>
                <a:lnTo>
                  <a:pt x="252" y="102"/>
                </a:lnTo>
                <a:lnTo>
                  <a:pt x="271" y="106"/>
                </a:lnTo>
                <a:lnTo>
                  <a:pt x="291" y="98"/>
                </a:lnTo>
                <a:lnTo>
                  <a:pt x="309" y="98"/>
                </a:lnTo>
                <a:lnTo>
                  <a:pt x="324" y="98"/>
                </a:lnTo>
                <a:lnTo>
                  <a:pt x="343" y="102"/>
                </a:lnTo>
                <a:lnTo>
                  <a:pt x="376" y="123"/>
                </a:lnTo>
                <a:lnTo>
                  <a:pt x="391" y="123"/>
                </a:lnTo>
                <a:lnTo>
                  <a:pt x="410" y="127"/>
                </a:lnTo>
                <a:lnTo>
                  <a:pt x="429" y="115"/>
                </a:lnTo>
                <a:lnTo>
                  <a:pt x="448" y="115"/>
                </a:lnTo>
                <a:lnTo>
                  <a:pt x="467" y="115"/>
                </a:lnTo>
                <a:lnTo>
                  <a:pt x="491" y="115"/>
                </a:lnTo>
                <a:lnTo>
                  <a:pt x="506" y="115"/>
                </a:lnTo>
                <a:lnTo>
                  <a:pt x="515" y="135"/>
                </a:lnTo>
                <a:lnTo>
                  <a:pt x="530" y="139"/>
                </a:lnTo>
                <a:lnTo>
                  <a:pt x="539" y="127"/>
                </a:lnTo>
                <a:lnTo>
                  <a:pt x="554" y="123"/>
                </a:lnTo>
                <a:lnTo>
                  <a:pt x="573" y="123"/>
                </a:lnTo>
                <a:lnTo>
                  <a:pt x="592" y="119"/>
                </a:lnTo>
                <a:lnTo>
                  <a:pt x="611" y="119"/>
                </a:lnTo>
                <a:lnTo>
                  <a:pt x="630" y="123"/>
                </a:lnTo>
                <a:lnTo>
                  <a:pt x="702" y="0"/>
                </a:lnTo>
                <a:lnTo>
                  <a:pt x="0" y="0"/>
                </a:lnTo>
                <a:lnTo>
                  <a:pt x="64" y="108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6837840" y="4435560"/>
            <a:ext cx="761040" cy="740520"/>
            <a:chOff x="6837840" y="4435560"/>
            <a:chExt cx="761040" cy="740520"/>
          </a:xfrm>
        </p:grpSpPr>
        <p:sp>
          <p:nvSpPr>
            <p:cNvPr id="1568" name=""/>
            <p:cNvSpPr/>
            <p:nvPr/>
          </p:nvSpPr>
          <p:spPr>
            <a:xfrm>
              <a:off x="6837840" y="4443480"/>
              <a:ext cx="761040" cy="73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978600" y="4435560"/>
              <a:ext cx="510840" cy="24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523"/>
                  </a:moveTo>
                  <a:arcTo wR="10800" hR="10800" stAng="-10711872" swAng="5290520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523"/>
                  </a:moveTo>
                  <a:arcTo wR="10800" hR="10800" stAng="-10711872" swAng="529052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0" name=""/>
          <p:cNvSpPr/>
          <p:nvPr/>
        </p:nvSpPr>
        <p:spPr>
          <a:xfrm>
            <a:off x="5067360" y="4272120"/>
            <a:ext cx="1116000" cy="223560"/>
          </a:xfrm>
          <a:custGeom>
            <a:avLst/>
            <a:gdLst/>
            <a:ahLst/>
            <a:rect l="l" t="t" r="r" b="b"/>
            <a:pathLst>
              <a:path w="703" h="141">
                <a:moveTo>
                  <a:pt x="638" y="109"/>
                </a:moveTo>
                <a:lnTo>
                  <a:pt x="618" y="99"/>
                </a:lnTo>
                <a:lnTo>
                  <a:pt x="603" y="95"/>
                </a:lnTo>
                <a:lnTo>
                  <a:pt x="584" y="91"/>
                </a:lnTo>
                <a:lnTo>
                  <a:pt x="570" y="91"/>
                </a:lnTo>
                <a:lnTo>
                  <a:pt x="536" y="103"/>
                </a:lnTo>
                <a:lnTo>
                  <a:pt x="517" y="112"/>
                </a:lnTo>
                <a:lnTo>
                  <a:pt x="503" y="112"/>
                </a:lnTo>
                <a:lnTo>
                  <a:pt x="483" y="107"/>
                </a:lnTo>
                <a:lnTo>
                  <a:pt x="465" y="103"/>
                </a:lnTo>
                <a:lnTo>
                  <a:pt x="450" y="103"/>
                </a:lnTo>
                <a:lnTo>
                  <a:pt x="431" y="107"/>
                </a:lnTo>
                <a:lnTo>
                  <a:pt x="411" y="99"/>
                </a:lnTo>
                <a:lnTo>
                  <a:pt x="393" y="99"/>
                </a:lnTo>
                <a:lnTo>
                  <a:pt x="378" y="99"/>
                </a:lnTo>
                <a:lnTo>
                  <a:pt x="359" y="103"/>
                </a:lnTo>
                <a:lnTo>
                  <a:pt x="326" y="124"/>
                </a:lnTo>
                <a:lnTo>
                  <a:pt x="311" y="124"/>
                </a:lnTo>
                <a:lnTo>
                  <a:pt x="292" y="128"/>
                </a:lnTo>
                <a:lnTo>
                  <a:pt x="273" y="116"/>
                </a:lnTo>
                <a:lnTo>
                  <a:pt x="254" y="116"/>
                </a:lnTo>
                <a:lnTo>
                  <a:pt x="235" y="116"/>
                </a:lnTo>
                <a:lnTo>
                  <a:pt x="211" y="116"/>
                </a:lnTo>
                <a:lnTo>
                  <a:pt x="196" y="116"/>
                </a:lnTo>
                <a:lnTo>
                  <a:pt x="187" y="136"/>
                </a:lnTo>
                <a:lnTo>
                  <a:pt x="172" y="140"/>
                </a:lnTo>
                <a:lnTo>
                  <a:pt x="163" y="128"/>
                </a:lnTo>
                <a:lnTo>
                  <a:pt x="148" y="124"/>
                </a:lnTo>
                <a:lnTo>
                  <a:pt x="129" y="124"/>
                </a:lnTo>
                <a:lnTo>
                  <a:pt x="110" y="120"/>
                </a:lnTo>
                <a:lnTo>
                  <a:pt x="91" y="120"/>
                </a:lnTo>
                <a:lnTo>
                  <a:pt x="72" y="124"/>
                </a:lnTo>
                <a:lnTo>
                  <a:pt x="0" y="0"/>
                </a:lnTo>
                <a:lnTo>
                  <a:pt x="702" y="0"/>
                </a:lnTo>
                <a:lnTo>
                  <a:pt x="638" y="109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066640" y="3322800"/>
            <a:ext cx="79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CLP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6926400" y="4064040"/>
            <a:ext cx="761400" cy="733320"/>
            <a:chOff x="6926400" y="4064040"/>
            <a:chExt cx="761400" cy="733320"/>
          </a:xfrm>
        </p:grpSpPr>
        <p:sp>
          <p:nvSpPr>
            <p:cNvPr id="1573" name=""/>
            <p:cNvSpPr/>
            <p:nvPr/>
          </p:nvSpPr>
          <p:spPr>
            <a:xfrm>
              <a:off x="6926400" y="4064040"/>
              <a:ext cx="76140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3"/>
                  </a:moveTo>
                  <a:arcTo wR="10800" hR="10800" stAng="-10785118" swAng="537079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3"/>
                  </a:moveTo>
                  <a:arcTo wR="10800" hR="10800" stAng="-10785118" swAng="537079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08840" y="4070520"/>
              <a:ext cx="51696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4" y="0"/>
                  </a:moveTo>
                  <a:arcTo wR="10800" hR="10800" stAng="-5421090" swAng="54210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4" y="0"/>
                  </a:moveTo>
                  <a:arcTo wR="10800" hR="10800" stAng="-5421090" swAng="542109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6743160" y="3703680"/>
            <a:ext cx="79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279f"/>
                </a:solidFill>
                <a:latin typeface="Arial Narrow"/>
              </a:rPr>
              <a:t>CLP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5864400" y="4132440"/>
            <a:ext cx="437760" cy="575280"/>
            <a:chOff x="5864400" y="4132440"/>
            <a:chExt cx="437760" cy="575280"/>
          </a:xfrm>
        </p:grpSpPr>
        <p:sp>
          <p:nvSpPr>
            <p:cNvPr id="1577" name=""/>
            <p:cNvSpPr/>
            <p:nvPr/>
          </p:nvSpPr>
          <p:spPr>
            <a:xfrm>
              <a:off x="5864400" y="4137120"/>
              <a:ext cx="437760" cy="57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11" swAng="54249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11" swAng="5424911"/>
                </a:path>
              </a:pathLst>
            </a:custGeom>
            <a:noFill/>
            <a:ln cap="rnd"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946840" y="4132440"/>
              <a:ext cx="291960" cy="18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46146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46146"/>
                </a:path>
              </a:pathLst>
            </a:custGeom>
            <a:noFill/>
            <a:ln cap="rnd"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5302800" y="3875040"/>
            <a:ext cx="10972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marcar co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CL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538880" y="5451480"/>
            <a:ext cx="2880360" cy="27144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CR en CLP=0 y PCR en CLP=0+1 marc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539960" y="5832360"/>
            <a:ext cx="3231000" cy="27144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SCR+MBS en CLP=0 y PCR en CLP=0+1 marc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126920" y="4870440"/>
            <a:ext cx="1671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b50069"/>
                </a:solidFill>
                <a:latin typeface="Arial Narrow"/>
              </a:rPr>
              <a:t>Marcación de CL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Implementación en las Redes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79f"/>
                </a:solidFill>
                <a:latin typeface="Arial Narrow"/>
              </a:rPr>
              <a:t>Para implementar las diversas QoS en las redes, los nodos tendrán que:</a:t>
            </a:r>
            <a:endParaRPr b="1" lang="en-US" sz="32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ontrolar la admisión de nuevas conexiones que podrían afectar la garantía de los parámetros negociados en el contrato de tráfic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eparar los flujos correspondientes a las diversas QoS (por ejemplo, asignando distintos niveles de prioridad según el tipo de tráfico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de esta forma, podrían disminuir la latencia y el </a:t>
            </a:r>
            <a:r>
              <a:rPr b="1" i="1" lang="es-ES_tradnl" sz="3000" spc="-1" strike="noStrike">
                <a:solidFill>
                  <a:srgbClr val="00279f"/>
                </a:solidFill>
                <a:latin typeface="Arial Narrow"/>
              </a:rPr>
              <a:t>jitter</a:t>
            </a:r>
            <a:r>
              <a:rPr b="1" lang="es-ES_tradnl" sz="3000" spc="-1" strike="noStrike">
                <a:solidFill>
                  <a:srgbClr val="00279f"/>
                </a:solidFill>
                <a:latin typeface="Arial Narrow"/>
              </a:rPr>
              <a:t> de conexiones del tipo CBR</a:t>
            </a:r>
            <a:endParaRPr b="1" lang="en-US" sz="30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tegorías de Servicios de la Capa ATM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586" name=""/>
          <p:cNvSpPr/>
          <p:nvPr/>
        </p:nvSpPr>
        <p:spPr>
          <a:xfrm>
            <a:off x="692280" y="1301760"/>
            <a:ext cx="2958840" cy="52056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atrib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92280" y="1835280"/>
            <a:ext cx="2958840" cy="52056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LR (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cell loss ratio</a:t>
            </a: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92280" y="2368440"/>
            <a:ext cx="2958840" cy="52092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CDT </a:t>
            </a: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cell delay tolerance</a:t>
            </a: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 y CDV </a:t>
            </a: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cell delay variation</a:t>
            </a: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92280" y="2901960"/>
            <a:ext cx="2958840" cy="52056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PCR (peak cell rate) y CDVT (cell delay variation toler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92280" y="3435480"/>
            <a:ext cx="2958840" cy="52056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SCR (sustainable cell rate) y BT (burst toler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92280" y="3968640"/>
            <a:ext cx="2958840" cy="52092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 Narrow"/>
              </a:rPr>
              <a:t>MCR (minimum cell rate) -- solo A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92280" y="4502160"/>
            <a:ext cx="2958840" cy="520560"/>
          </a:xfrm>
          <a:prstGeom prst="rect">
            <a:avLst/>
          </a:prstGeom>
          <a:solidFill>
            <a:srgbClr val="438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ontrol de con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664080" y="1301760"/>
            <a:ext cx="3644640" cy="21600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ategoría de servicios de la capa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664080" y="1530360"/>
            <a:ext cx="120636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C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883040" y="1530360"/>
            <a:ext cx="120672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VBR (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102360" y="1530360"/>
            <a:ext cx="1206360" cy="2919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VBR (N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334280" y="1301760"/>
            <a:ext cx="1193760" cy="52056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paráme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664080" y="18352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(opc. solo CLP 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883040" y="18352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(opc. solo CLP 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102360" y="18352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(opc. solo CLP 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321680" y="18352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664080" y="23684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DV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máx. C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883040" y="23684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DV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máx. C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102360" y="23684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sol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TD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321680" y="23684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664080" y="29019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883040" y="29019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102360" y="29019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321680" y="29019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664080" y="34354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spon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83040" y="34354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102360" y="34354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321680" y="34354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664080" y="39686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spon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883040" y="39686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spon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102360" y="39686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spon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321680" y="39686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664080" y="45021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883040" y="45021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102360" y="45021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321680" y="45021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8240" y="5111640"/>
            <a:ext cx="4102200" cy="9781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79f"/>
                </a:solidFill>
                <a:latin typeface="Arial Narrow"/>
              </a:rPr>
              <a:t>CBR - </a:t>
            </a:r>
            <a:r>
              <a:rPr b="1" i="1" lang="es-ES_tradnl" sz="1800" spc="-1" strike="noStrike">
                <a:solidFill>
                  <a:srgbClr val="00279f"/>
                </a:solidFill>
                <a:latin typeface="Arial Narrow"/>
              </a:rPr>
              <a:t>constant bi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79f"/>
                </a:solidFill>
                <a:latin typeface="Arial Narrow"/>
              </a:rPr>
              <a:t>VBR (RT) - </a:t>
            </a:r>
            <a:r>
              <a:rPr b="1" i="1" lang="es-ES_tradnl" sz="1800" spc="-1" strike="noStrike">
                <a:solidFill>
                  <a:srgbClr val="00279f"/>
                </a:solidFill>
                <a:latin typeface="Arial Narrow"/>
              </a:rPr>
              <a:t>variable bit rate (real ti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79f"/>
                </a:solidFill>
                <a:latin typeface="Arial Narrow"/>
              </a:rPr>
              <a:t>VBR (NRT) - </a:t>
            </a:r>
            <a:r>
              <a:rPr b="1" i="1" lang="es-ES_tradnl" sz="1800" spc="-1" strike="noStrike">
                <a:solidFill>
                  <a:srgbClr val="00279f"/>
                </a:solidFill>
                <a:latin typeface="Arial Narrow"/>
              </a:rPr>
              <a:t>variable bit rate (non-real ti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79f"/>
                </a:solidFill>
                <a:latin typeface="Arial Narrow"/>
              </a:rPr>
              <a:t>QoS - </a:t>
            </a:r>
            <a:r>
              <a:rPr b="1" i="1" lang="es-ES_tradnl" sz="1800" spc="-1" strike="noStrike">
                <a:solidFill>
                  <a:srgbClr val="00279f"/>
                </a:solidFill>
                <a:latin typeface="Arial Narrow"/>
              </a:rPr>
              <a:t>quality of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TDM: Multiplexación Estadística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ara la transmisión de datos (</a:t>
            </a:r>
            <a:r>
              <a:rPr b="1" lang="es-ES_tradnl" sz="2800" spc="-1" strike="noStrike">
                <a:solidFill>
                  <a:srgbClr val="fc0128"/>
                </a:solidFill>
                <a:latin typeface="Arial Narrow"/>
              </a:rPr>
              <a:t>anisócrona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y de </a:t>
            </a:r>
            <a:r>
              <a:rPr b="1" lang="es-ES_tradnl" sz="2800" spc="-1" strike="noStrike">
                <a:solidFill>
                  <a:srgbClr val="fc0128"/>
                </a:solidFill>
                <a:latin typeface="Arial Narrow"/>
              </a:rPr>
              <a:t>velocidad binaria variable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), la multiplexación estadística es más eficiente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ada tributaria ocupa del agregado estrictamente la capacidad necesaria para transportar los datos que presenta en cada moment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uando una tributaria no tiene datos que transmitir, queda libre la capacidad del agregado para los datos de otros usuario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/>
          <p:nvPr/>
        </p:nvSpPr>
        <p:spPr>
          <a:xfrm>
            <a:off x="3892680" y="1682640"/>
            <a:ext cx="2349360" cy="21600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ategoría de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Categorías de Servicios de la Capa ATM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625" name=""/>
          <p:cNvSpPr/>
          <p:nvPr/>
        </p:nvSpPr>
        <p:spPr>
          <a:xfrm>
            <a:off x="3892680" y="1911240"/>
            <a:ext cx="113004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A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035680" y="1911240"/>
            <a:ext cx="1206360" cy="2923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 Narrow"/>
              </a:rPr>
              <a:t>U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267600" y="1682640"/>
            <a:ext cx="1193760" cy="52092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paráme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892680" y="22161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035680" y="22161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254640" y="22161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892680" y="27496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035680" y="27496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254640" y="27496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892680" y="32828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035680" y="32828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254640" y="32828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892680" y="38163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spon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035680" y="38163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spon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254640" y="381636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892680" y="43498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pec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035680" y="43498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spon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254640" y="4349880"/>
            <a:ext cx="1193760" cy="5205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892680" y="48830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035680" y="48830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254640" y="4883040"/>
            <a:ext cx="1193760" cy="5209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788160" y="311040"/>
            <a:ext cx="1816200" cy="12067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minimizada para fuentes que responden al control de fluj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968720" y="1311120"/>
            <a:ext cx="3632040" cy="210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4"/>
                </a:moveTo>
                <a:arcTo wR="10800" hR="10800" stAng="-10794823" swAng="5391818"/>
                <a:lnTo>
                  <a:pt x="10800" y="10800"/>
                </a:lnTo>
                <a:close/>
              </a:path>
              <a:path fill="none" w="21600" h="21600">
                <a:moveTo>
                  <a:pt x="0" y="10784"/>
                </a:moveTo>
                <a:arcTo wR="10800" hR="10800" stAng="-10794823" swAng="5391818"/>
              </a:path>
            </a:pathLst>
          </a:custGeom>
          <a:noFill/>
          <a:ln cap="rnd" w="1260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5486400"/>
            <a:ext cx="3733920" cy="6094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79f"/>
                </a:solidFill>
                <a:latin typeface="Arial Narrow"/>
              </a:rPr>
              <a:t>ABR - </a:t>
            </a:r>
            <a:r>
              <a:rPr b="1" i="1" lang="es-ES_tradnl" sz="1800" spc="-1" strike="noStrike">
                <a:solidFill>
                  <a:srgbClr val="00279f"/>
                </a:solidFill>
                <a:latin typeface="Arial Narrow"/>
              </a:rPr>
              <a:t>available bit 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79f"/>
                </a:solidFill>
                <a:latin typeface="Arial Narrow"/>
              </a:rPr>
              <a:t>UBR - </a:t>
            </a:r>
            <a:r>
              <a:rPr b="1" i="1" lang="es-ES_tradnl" sz="1800" spc="-1" strike="noStrike">
                <a:solidFill>
                  <a:srgbClr val="00279f"/>
                </a:solidFill>
                <a:latin typeface="Arial Narrow"/>
              </a:rPr>
              <a:t>unspecified bit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79f"/>
                </a:solidFill>
                <a:latin typeface="Arial Narrow"/>
              </a:rPr>
              <a:t>QoS - </a:t>
            </a:r>
            <a:r>
              <a:rPr b="1" i="1" lang="es-ES_tradnl" sz="1800" spc="-1" strike="noStrike">
                <a:solidFill>
                  <a:srgbClr val="00279f"/>
                </a:solidFill>
                <a:latin typeface="Arial Narrow"/>
              </a:rPr>
              <a:t>quality of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920880" y="1682640"/>
            <a:ext cx="2958840" cy="3721320"/>
            <a:chOff x="920880" y="1682640"/>
            <a:chExt cx="2958840" cy="3721320"/>
          </a:xfrm>
        </p:grpSpPr>
        <p:sp>
          <p:nvSpPr>
            <p:cNvPr id="1650" name=""/>
            <p:cNvSpPr/>
            <p:nvPr/>
          </p:nvSpPr>
          <p:spPr>
            <a:xfrm>
              <a:off x="920880" y="1682640"/>
              <a:ext cx="2958840" cy="52092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trib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920880" y="2216160"/>
              <a:ext cx="2958840" cy="520560"/>
            </a:xfrm>
            <a:prstGeom prst="rect">
              <a:avLst/>
            </a:prstGeom>
            <a:solidFill>
              <a:srgbClr val="438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CLR (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Arial Narrow"/>
                </a:rPr>
                <a:t>cell loss ratio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920880" y="2749680"/>
              <a:ext cx="2958840" cy="520560"/>
            </a:xfrm>
            <a:prstGeom prst="rect">
              <a:avLst/>
            </a:prstGeom>
            <a:solidFill>
              <a:srgbClr val="438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Arial Narrow"/>
                </a:rPr>
                <a:t>CDT 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(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Arial Narrow"/>
                </a:rPr>
                <a:t>cell delay tolerance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)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Arial Narrow"/>
                </a:rPr>
                <a:t> y CDV 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(</a:t>
              </a:r>
              <a:r>
                <a:rPr b="1" i="1" lang="es-ES_tradnl" sz="1800" spc="-1" strike="noStrike">
                  <a:solidFill>
                    <a:srgbClr val="ffffff"/>
                  </a:solidFill>
                  <a:latin typeface="Arial Narrow"/>
                </a:rPr>
                <a:t>cell delay variation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920880" y="3282840"/>
              <a:ext cx="2958840" cy="520920"/>
            </a:xfrm>
            <a:prstGeom prst="rect">
              <a:avLst/>
            </a:prstGeom>
            <a:solidFill>
              <a:srgbClr val="438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Arial Narrow"/>
                </a:rPr>
                <a:t>PCR (peak cell rate) y CDVT (cell delay variation toleranc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920880" y="3816360"/>
              <a:ext cx="2958840" cy="520560"/>
            </a:xfrm>
            <a:prstGeom prst="rect">
              <a:avLst/>
            </a:prstGeom>
            <a:solidFill>
              <a:srgbClr val="438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Arial Narrow"/>
                </a:rPr>
                <a:t>SCR (sustainable cell rate) y BT (burst toleranc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20880" y="4349880"/>
              <a:ext cx="2958840" cy="520560"/>
            </a:xfrm>
            <a:prstGeom prst="rect">
              <a:avLst/>
            </a:prstGeom>
            <a:solidFill>
              <a:srgbClr val="438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ffff"/>
                  </a:solidFill>
                  <a:latin typeface="Arial Narrow"/>
                </a:rPr>
                <a:t>MCR (minimum cell rate) -- solo A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920880" y="4883040"/>
              <a:ext cx="2958840" cy="520920"/>
            </a:xfrm>
            <a:prstGeom prst="rect">
              <a:avLst/>
            </a:prstGeom>
            <a:solidFill>
              <a:srgbClr val="438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control de congest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685800" y="2286000"/>
            <a:ext cx="7772400" cy="114300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lujos de Celdas de O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lujos de Celdas OAM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Como cualquier sistema de transmisión moderno, también las redes basadas en ATM requieren canales de servici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No siempre se pueden designar bytes específicos de un canal, de un trayecto o de la señal de linea, pués a ciertos niveles la red solo transporta celdas completa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Por esto, fué creado un concepto de “canales de servicio” usando </a:t>
            </a:r>
            <a:r>
              <a:rPr b="1" lang="es-ES_tradnl" sz="2600" spc="-1" strike="noStrike">
                <a:solidFill>
                  <a:srgbClr val="fc0128"/>
                </a:solidFill>
                <a:latin typeface="Arial Narrow"/>
              </a:rPr>
              <a:t>flujos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de celdas especiales de OAM (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operations, administration and maintenance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) que unen los distintos elementos de red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lujos de Celdas OAM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s posible comparar los flujos OAM con los </a:t>
            </a:r>
            <a:r>
              <a:rPr b="1" lang="es-ES_tradnl" sz="2800" spc="-1" strike="noStrike">
                <a:solidFill>
                  <a:srgbClr val="ad6900"/>
                </a:solidFill>
                <a:latin typeface="Arial Narrow"/>
              </a:rPr>
              <a:t>canales de servicio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resentes en el </a:t>
            </a:r>
            <a:r>
              <a:rPr b="1" i="1" lang="es-ES_tradnl" sz="2800" spc="-1" strike="noStrike">
                <a:solidFill>
                  <a:srgbClr val="00279f"/>
                </a:solidFill>
                <a:latin typeface="Arial Narrow"/>
              </a:rPr>
              <a:t>overhead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 de las tramas de la SDH (encabezados de sección de regeneradores, de sección de multiplexación, de trayecto alto y de trayecto bajo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solo que, en el caso del ATM, además de los flujos </a:t>
            </a:r>
            <a:r>
              <a:rPr b="1" lang="es-ES_tradnl" sz="2800" spc="-1" strike="noStrike">
                <a:solidFill>
                  <a:srgbClr val="438e00"/>
                </a:solidFill>
                <a:latin typeface="Arial Narrow"/>
              </a:rPr>
              <a:t>extremo a extremo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n un trayecto o canal virtual, adicionalmente, hay flujos </a:t>
            </a:r>
            <a:r>
              <a:rPr b="1" lang="es-ES_tradnl" sz="2800" spc="-1" strike="noStrike">
                <a:solidFill>
                  <a:srgbClr val="fc0128"/>
                </a:solidFill>
                <a:latin typeface="Arial Narrow"/>
              </a:rPr>
              <a:t>por segmento 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(de trayecto vitual y de canal virtual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Tipos de Flujos de Celdas de OA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38e00"/>
                </a:solidFill>
                <a:latin typeface="Arial Narrow"/>
              </a:rPr>
              <a:t>F1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: nivel de sección de regeneradores (comparable al nivel de sección de regeneradores en SDH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38e00"/>
                </a:solidFill>
                <a:latin typeface="Arial Narrow"/>
              </a:rPr>
              <a:t>F2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: nivel de sección digital (llamado nivel de linea o de sección de multiplexación en SDH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38e00"/>
                </a:solidFill>
                <a:latin typeface="Arial Narrow"/>
              </a:rPr>
              <a:t>F3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: nivel de trayecto de transmisión (llamado nivel de trayecto en SDH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38e00"/>
                </a:solidFill>
                <a:latin typeface="Arial Narrow"/>
              </a:rPr>
              <a:t>F4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: nivel de trayecto virtual (incluso los sub-flujos por segmento): reservados los canales virtuales 3 y 4 de cada VP para esta funció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38e00"/>
                </a:solidFill>
                <a:latin typeface="Arial Narrow"/>
              </a:rPr>
              <a:t>F5</a:t>
            </a: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: nivel de canal virtual (incluso los sub-flujos por segmento): el PTI indica tratarse de celdas de OAM, y no de usuari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"/>
          <p:cNvSpPr/>
          <p:nvPr/>
        </p:nvSpPr>
        <p:spPr>
          <a:xfrm>
            <a:off x="569880" y="5111640"/>
            <a:ext cx="444600" cy="1054080"/>
          </a:xfrm>
          <a:prstGeom prst="rect">
            <a:avLst/>
          </a:prstGeom>
          <a:solidFill>
            <a:srgbClr val="7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1027080" y="5111640"/>
            <a:ext cx="2319480" cy="1054080"/>
          </a:xfrm>
          <a:prstGeom prst="rect">
            <a:avLst/>
          </a:prstGeom>
          <a:solidFill>
            <a:srgbClr val="7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punto de conexión del ni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correspo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punto terminal del ni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s-ES_tradnl" sz="1200" spc="-1" strike="noStrike">
                <a:solidFill>
                  <a:srgbClr val="000000"/>
                </a:solidFill>
                <a:latin typeface="Arial Narrow"/>
              </a:rPr>
              <a:t>correspond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154320" y="2604960"/>
            <a:ext cx="0" cy="201600"/>
          </a:xfrm>
          <a:prstGeom prst="line">
            <a:avLst/>
          </a:prstGeom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154320" y="1690560"/>
            <a:ext cx="0" cy="277920"/>
          </a:xfrm>
          <a:prstGeom prst="line">
            <a:avLst/>
          </a:prstGeom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782720" y="1233360"/>
            <a:ext cx="0" cy="317340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192800" y="1233360"/>
            <a:ext cx="0" cy="3173400"/>
          </a:xfrm>
          <a:prstGeom prst="line">
            <a:avLst/>
          </a:prstGeom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49400" y="2057400"/>
            <a:ext cx="507852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82480" y="324000"/>
            <a:ext cx="5334120" cy="68580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lujos de Celdas de O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3008160" y="5264280"/>
            <a:ext cx="292320" cy="291960"/>
            <a:chOff x="3008160" y="5264280"/>
            <a:chExt cx="292320" cy="291960"/>
          </a:xfrm>
        </p:grpSpPr>
        <p:sp>
          <p:nvSpPr>
            <p:cNvPr id="1673" name=""/>
            <p:cNvSpPr/>
            <p:nvPr/>
          </p:nvSpPr>
          <p:spPr>
            <a:xfrm>
              <a:off x="3008160" y="5264280"/>
              <a:ext cx="292320" cy="2919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084480" y="5340240"/>
              <a:ext cx="13968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5446800" y="5264280"/>
            <a:ext cx="291960" cy="291960"/>
            <a:chOff x="5446800" y="5264280"/>
            <a:chExt cx="291960" cy="291960"/>
          </a:xfrm>
        </p:grpSpPr>
        <p:sp>
          <p:nvSpPr>
            <p:cNvPr id="1676" name=""/>
            <p:cNvSpPr/>
            <p:nvPr/>
          </p:nvSpPr>
          <p:spPr>
            <a:xfrm>
              <a:off x="5446800" y="5264280"/>
              <a:ext cx="291960" cy="2919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22760" y="5340240"/>
              <a:ext cx="13968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8" name=""/>
          <p:cNvSpPr/>
          <p:nvPr/>
        </p:nvSpPr>
        <p:spPr>
          <a:xfrm>
            <a:off x="3008160" y="4349880"/>
            <a:ext cx="292320" cy="29196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446800" y="4349880"/>
            <a:ext cx="291960" cy="29196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008160" y="3511440"/>
            <a:ext cx="292320" cy="2923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446800" y="3511440"/>
            <a:ext cx="291960" cy="2923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008160" y="2749680"/>
            <a:ext cx="292320" cy="29196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446800" y="2749680"/>
            <a:ext cx="291960" cy="29196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008160" y="1911240"/>
            <a:ext cx="292320" cy="2923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446800" y="1911240"/>
            <a:ext cx="291960" cy="29232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1636560" y="1911240"/>
            <a:ext cx="292320" cy="292320"/>
            <a:chOff x="1636560" y="1911240"/>
            <a:chExt cx="292320" cy="292320"/>
          </a:xfrm>
        </p:grpSpPr>
        <p:sp>
          <p:nvSpPr>
            <p:cNvPr id="1687" name=""/>
            <p:cNvSpPr/>
            <p:nvPr/>
          </p:nvSpPr>
          <p:spPr>
            <a:xfrm>
              <a:off x="1636560" y="1911240"/>
              <a:ext cx="292320" cy="29232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712880" y="1987560"/>
              <a:ext cx="13968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7047000" y="1911240"/>
            <a:ext cx="291960" cy="292320"/>
            <a:chOff x="7047000" y="1911240"/>
            <a:chExt cx="291960" cy="292320"/>
          </a:xfrm>
        </p:grpSpPr>
        <p:sp>
          <p:nvSpPr>
            <p:cNvPr id="1690" name=""/>
            <p:cNvSpPr/>
            <p:nvPr/>
          </p:nvSpPr>
          <p:spPr>
            <a:xfrm>
              <a:off x="7047000" y="1911240"/>
              <a:ext cx="291960" cy="29232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122960" y="1987560"/>
              <a:ext cx="13968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1636560" y="2749680"/>
            <a:ext cx="292320" cy="291960"/>
            <a:chOff x="1636560" y="2749680"/>
            <a:chExt cx="292320" cy="291960"/>
          </a:xfrm>
        </p:grpSpPr>
        <p:sp>
          <p:nvSpPr>
            <p:cNvPr id="1693" name=""/>
            <p:cNvSpPr/>
            <p:nvPr/>
          </p:nvSpPr>
          <p:spPr>
            <a:xfrm>
              <a:off x="1636560" y="2749680"/>
              <a:ext cx="292320" cy="2919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712880" y="2825640"/>
              <a:ext cx="13968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7047000" y="2749680"/>
            <a:ext cx="291960" cy="291960"/>
            <a:chOff x="7047000" y="2749680"/>
            <a:chExt cx="291960" cy="291960"/>
          </a:xfrm>
        </p:grpSpPr>
        <p:sp>
          <p:nvSpPr>
            <p:cNvPr id="1696" name=""/>
            <p:cNvSpPr/>
            <p:nvPr/>
          </p:nvSpPr>
          <p:spPr>
            <a:xfrm>
              <a:off x="7047000" y="2749680"/>
              <a:ext cx="291960" cy="2919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122960" y="2825640"/>
              <a:ext cx="13968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1636560" y="3511440"/>
            <a:ext cx="292320" cy="292320"/>
            <a:chOff x="1636560" y="3511440"/>
            <a:chExt cx="292320" cy="292320"/>
          </a:xfrm>
        </p:grpSpPr>
        <p:sp>
          <p:nvSpPr>
            <p:cNvPr id="1699" name=""/>
            <p:cNvSpPr/>
            <p:nvPr/>
          </p:nvSpPr>
          <p:spPr>
            <a:xfrm>
              <a:off x="1636560" y="3511440"/>
              <a:ext cx="292320" cy="29232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12880" y="3587760"/>
              <a:ext cx="13968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7047000" y="3511440"/>
            <a:ext cx="291960" cy="292320"/>
            <a:chOff x="7047000" y="3511440"/>
            <a:chExt cx="291960" cy="292320"/>
          </a:xfrm>
        </p:grpSpPr>
        <p:sp>
          <p:nvSpPr>
            <p:cNvPr id="1702" name=""/>
            <p:cNvSpPr/>
            <p:nvPr/>
          </p:nvSpPr>
          <p:spPr>
            <a:xfrm>
              <a:off x="7047000" y="3511440"/>
              <a:ext cx="291960" cy="29232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122960" y="3587760"/>
              <a:ext cx="13968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1636560" y="4349880"/>
            <a:ext cx="292320" cy="291960"/>
            <a:chOff x="1636560" y="4349880"/>
            <a:chExt cx="292320" cy="291960"/>
          </a:xfrm>
        </p:grpSpPr>
        <p:sp>
          <p:nvSpPr>
            <p:cNvPr id="1705" name=""/>
            <p:cNvSpPr/>
            <p:nvPr/>
          </p:nvSpPr>
          <p:spPr>
            <a:xfrm>
              <a:off x="1636560" y="4349880"/>
              <a:ext cx="292320" cy="2919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712880" y="4425840"/>
              <a:ext cx="13968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7" name=""/>
          <p:cNvGrpSpPr/>
          <p:nvPr/>
        </p:nvGrpSpPr>
        <p:grpSpPr>
          <a:xfrm>
            <a:off x="7047000" y="4349880"/>
            <a:ext cx="291960" cy="291960"/>
            <a:chOff x="7047000" y="4349880"/>
            <a:chExt cx="291960" cy="291960"/>
          </a:xfrm>
        </p:grpSpPr>
        <p:sp>
          <p:nvSpPr>
            <p:cNvPr id="1708" name=""/>
            <p:cNvSpPr/>
            <p:nvPr/>
          </p:nvSpPr>
          <p:spPr>
            <a:xfrm>
              <a:off x="7047000" y="4349880"/>
              <a:ext cx="291960" cy="2919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122960" y="4425840"/>
              <a:ext cx="13968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0" name=""/>
          <p:cNvSpPr/>
          <p:nvPr/>
        </p:nvSpPr>
        <p:spPr>
          <a:xfrm>
            <a:off x="1949400" y="2895480"/>
            <a:ext cx="507852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949400" y="3657600"/>
            <a:ext cx="507852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949400" y="4495680"/>
            <a:ext cx="507852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321000" y="5410080"/>
            <a:ext cx="210672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592600" y="4662360"/>
            <a:ext cx="0" cy="582840"/>
          </a:xfrm>
          <a:prstGeom prst="line">
            <a:avLst/>
          </a:prstGeom>
          <a:ln w="12600">
            <a:solidFill>
              <a:srgbClr val="9234d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154320" y="4662360"/>
            <a:ext cx="0" cy="582840"/>
          </a:xfrm>
          <a:prstGeom prst="line">
            <a:avLst/>
          </a:prstGeom>
          <a:ln w="12600">
            <a:solidFill>
              <a:srgbClr val="9234d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1873080" y="3722400"/>
            <a:ext cx="1192320" cy="63324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 flipV="1">
            <a:off x="5734080" y="3722400"/>
            <a:ext cx="1319040" cy="70956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1873080" y="2960640"/>
            <a:ext cx="1192320" cy="63360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 flipV="1">
            <a:off x="5734080" y="2960280"/>
            <a:ext cx="1319040" cy="70956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1873080" y="2122200"/>
            <a:ext cx="1192320" cy="63324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34080" y="2122200"/>
            <a:ext cx="1319040" cy="70956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82720" y="3124080"/>
            <a:ext cx="7897680" cy="0"/>
          </a:xfrm>
          <a:prstGeom prst="line">
            <a:avLst/>
          </a:prstGeom>
          <a:ln w="12600">
            <a:solidFill>
              <a:srgbClr val="f57b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868320" y="1208160"/>
            <a:ext cx="0" cy="1928880"/>
          </a:xfrm>
          <a:prstGeom prst="line">
            <a:avLst/>
          </a:prstGeom>
          <a:ln w="12600">
            <a:solidFill>
              <a:srgbClr val="f57b4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868320" y="3112920"/>
            <a:ext cx="0" cy="1928880"/>
          </a:xfrm>
          <a:prstGeom prst="line">
            <a:avLst/>
          </a:prstGeom>
          <a:ln w="12600">
            <a:solidFill>
              <a:srgbClr val="f57b4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rot="16200000">
            <a:off x="147960" y="3897720"/>
            <a:ext cx="103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57b49"/>
                </a:solidFill>
                <a:latin typeface="Arial Narrow"/>
              </a:rPr>
              <a:t>capa fí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rot="16200000">
            <a:off x="176760" y="1994040"/>
            <a:ext cx="96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57b49"/>
                </a:solidFill>
                <a:latin typeface="Arial Narrow"/>
              </a:rPr>
              <a:t>capa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3143160" y="5067360"/>
            <a:ext cx="2462400" cy="0"/>
          </a:xfrm>
          <a:prstGeom prst="line">
            <a:avLst/>
          </a:prstGeom>
          <a:ln w="1260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422880" y="4665600"/>
            <a:ext cx="1991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sección de regene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1771560" y="1790640"/>
            <a:ext cx="139536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050200" y="1457280"/>
            <a:ext cx="78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18ffd"/>
                </a:solidFill>
                <a:latin typeface="Arial Narrow"/>
              </a:rPr>
              <a:t>segmento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18ffd"/>
                </a:solidFill>
                <a:latin typeface="Arial Narrow"/>
              </a:rPr>
              <a:t>canal vir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1771560" y="2705040"/>
            <a:ext cx="1395360" cy="0"/>
          </a:xfrm>
          <a:prstGeom prst="line">
            <a:avLst/>
          </a:prstGeom>
          <a:ln w="1260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051640" y="2371680"/>
            <a:ext cx="85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18ffd"/>
                </a:solidFill>
                <a:latin typeface="Arial Narrow"/>
              </a:rPr>
              <a:t>segmento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18ffd"/>
                </a:solidFill>
                <a:latin typeface="Arial Narrow"/>
              </a:rPr>
              <a:t>trayecto vir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1771200" y="1486080"/>
            <a:ext cx="5434200" cy="0"/>
          </a:xfrm>
          <a:prstGeom prst="line">
            <a:avLst/>
          </a:prstGeom>
          <a:ln w="1260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1771200" y="2400480"/>
            <a:ext cx="5434200" cy="0"/>
          </a:xfrm>
          <a:prstGeom prst="line">
            <a:avLst/>
          </a:prstGeom>
          <a:ln w="1260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H="1">
            <a:off x="1771200" y="4305240"/>
            <a:ext cx="5434200" cy="0"/>
          </a:xfrm>
          <a:prstGeom prst="line">
            <a:avLst/>
          </a:prstGeom>
          <a:ln w="1260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1771200" y="3467160"/>
            <a:ext cx="5434200" cy="0"/>
          </a:xfrm>
          <a:prstGeom prst="line">
            <a:avLst/>
          </a:prstGeom>
          <a:ln w="1260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910320" y="3979800"/>
            <a:ext cx="119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sección 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337200" y="3141720"/>
            <a:ext cx="2302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trayecto de transmisión (lin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469320" y="2075040"/>
            <a:ext cx="2124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conexión de trayecto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504960" y="1236600"/>
            <a:ext cx="193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conexión de canal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324560" y="1846440"/>
            <a:ext cx="12466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flujo F5</a:t>
            </a: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: ni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de canal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7324920" y="2608200"/>
            <a:ext cx="14403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flujo F4</a:t>
            </a: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: ni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de trayecto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323120" y="4208400"/>
            <a:ext cx="1411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flujo F2</a:t>
            </a: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: ni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de sección 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324560" y="3294000"/>
            <a:ext cx="1342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flujo F3</a:t>
            </a: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: ni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de trayecto de t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799240" y="5046840"/>
            <a:ext cx="1458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Arial Narrow"/>
              </a:rPr>
              <a:t>flujo F1</a:t>
            </a: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: ni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ae00"/>
                </a:solidFill>
                <a:latin typeface="Arial Narrow"/>
              </a:rPr>
              <a:t>de sección de re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46200" y="5187960"/>
            <a:ext cx="291960" cy="29196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646200" y="5721480"/>
            <a:ext cx="291960" cy="291960"/>
            <a:chOff x="646200" y="5721480"/>
            <a:chExt cx="291960" cy="291960"/>
          </a:xfrm>
        </p:grpSpPr>
        <p:sp>
          <p:nvSpPr>
            <p:cNvPr id="1748" name=""/>
            <p:cNvSpPr/>
            <p:nvPr/>
          </p:nvSpPr>
          <p:spPr>
            <a:xfrm>
              <a:off x="646200" y="5721480"/>
              <a:ext cx="291960" cy="29196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22160" y="5797440"/>
              <a:ext cx="139680" cy="1396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lujos OAM - Capa Física (1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n los sistemas basados en celdas, los flujos F1 y F3 consisten en celdas con una configuración específica en el encabezad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os sistemas no poseen un flujo F2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stá definido un espacio máximo entre las celdas de los flujos F1 y F3; caso excedido, un alarma es generada (LOM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lujos OAM - Capa Física (2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n los sistemas SDH, los flujos F1 y F2 son configurados por bytes del SOH, y el flujo F3 por bytes del POH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n los sistemas PDH, las funciones de mantenimiento de la capa física son realizadas por bits del encabezado (errores de CRC, etc.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 capacidad de transportar algo más que mensajes de OAM orientadas a bit es muy limitada, excepto en sistemas que utilizan las nuevas tramas ya vista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. ej., la trama de 34 Mbit/s con ATM posee 5 bytes de OAM (que se repiten 8000 veces por segundo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Tipos y Funciones de Celdas de OA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Las celdas del flujo F4 declaran en el encabezado el VPI a que se refieren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VCI declara si el flujo es extremo a extremo (VCI=4) o del segmento (VCI=3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n las celdas del flujo F5, el VPI y VCI son declarados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campo PT indica si son del segmento (101)</a:t>
            </a:r>
            <a:br>
              <a:rPr sz="2600"/>
            </a:b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o extremo a extremo (PT=100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El tipo y la función de las celdas de OAM es codificado en los dos semi-octetos del primer byte del campo de carga útil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Tipos y Funciones de Celdas OA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Hay 2 tipos de funciones de OAM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funciones soportadas apenas por los flujos F1, F2 y F3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funciones dedicadas a la detección e indicación de indisponibilidad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funciones que requieren el transporte de informaciones sobre fallas en tiempo real a los extremos afectados para protección del sistema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funciones relativas a la gestión del sistema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dedicadas a la monitorización y reportes del desempeño o a la localización de fallas de equipos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  <a:p>
            <a:pPr lvl="2" marL="1143000" indent="-228600">
              <a:lnSpc>
                <a:spcPct val="95000"/>
              </a:lnSpc>
              <a:buClr>
                <a:srgbClr val="fc0128"/>
              </a:buClr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 Narrow"/>
              </a:rPr>
              <a:t>pueden ser soportadas por los flujos F1 a F3 o por otros medios, como, por ejemplo, por una TMN a través de interfaces Q</a:t>
            </a:r>
            <a:endParaRPr b="1" lang="en-US" sz="24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TDM: Multiplexación Estadística (3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Desventajas de la multiplexación estadística: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control y la demultiplexación son muy complejo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cuando hay mucho tráfico simultaneamente, puede haber congestión, causando retardos e incluso pérdida de datos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el </a:t>
            </a:r>
            <a:r>
              <a:rPr b="1" i="1" lang="es-ES_tradnl" sz="2600" spc="-1" strike="noStrike">
                <a:solidFill>
                  <a:srgbClr val="00279f"/>
                </a:solidFill>
                <a:latin typeface="Arial Narrow"/>
              </a:rPr>
              <a:t>overhead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es muy grande, lo que es anti-económico cuando lo que se transmite son datos isócronos de velocidad binaria constante (voz, video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/>
          <p:nvPr/>
        </p:nvSpPr>
        <p:spPr>
          <a:xfrm>
            <a:off x="628560" y="324000"/>
            <a:ext cx="7372440" cy="68580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lujos de PL (</a:t>
            </a:r>
            <a:r>
              <a:rPr b="1" i="1" lang="es-ES_tradnl" sz="3200" spc="-1" strike="noStrike">
                <a:solidFill>
                  <a:srgbClr val="fafd00"/>
                </a:solidFill>
                <a:latin typeface="Arial Narrow"/>
              </a:rPr>
              <a:t>Physical Layer</a:t>
            </a: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)-OAM: F1 a F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9" name=""/>
          <p:cNvGrpSpPr/>
          <p:nvPr/>
        </p:nvGrpSpPr>
        <p:grpSpPr>
          <a:xfrm>
            <a:off x="445320" y="1108080"/>
            <a:ext cx="8241480" cy="4835520"/>
            <a:chOff x="445320" y="1108080"/>
            <a:chExt cx="8241480" cy="4835520"/>
          </a:xfrm>
        </p:grpSpPr>
        <p:sp>
          <p:nvSpPr>
            <p:cNvPr id="1760" name=""/>
            <p:cNvSpPr/>
            <p:nvPr/>
          </p:nvSpPr>
          <p:spPr>
            <a:xfrm>
              <a:off x="5659560" y="4794120"/>
              <a:ext cx="260964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98320" y="4794120"/>
              <a:ext cx="503244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419960" y="3220920"/>
              <a:ext cx="84924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98320" y="3220920"/>
              <a:ext cx="363888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734080" y="3435480"/>
              <a:ext cx="150804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121280" y="3435480"/>
              <a:ext cx="150948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98320" y="1719360"/>
              <a:ext cx="363888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340160" y="1719360"/>
              <a:ext cx="363708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68240" y="1362240"/>
              <a:ext cx="658800" cy="64440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-N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95320" y="1362240"/>
              <a:ext cx="658800" cy="64440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-N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195960" y="1362240"/>
              <a:ext cx="658800" cy="64440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028000" y="1362240"/>
              <a:ext cx="658800" cy="6444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68240" y="2863800"/>
              <a:ext cx="658800" cy="64296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-N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795320" y="2863800"/>
              <a:ext cx="658800" cy="64296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-N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265800" y="3078000"/>
              <a:ext cx="658800" cy="64476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028000" y="2863800"/>
              <a:ext cx="658800" cy="642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68240" y="4508640"/>
              <a:ext cx="658800" cy="64440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-N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795320" y="4508640"/>
              <a:ext cx="658800" cy="64440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-N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342120" y="4508640"/>
              <a:ext cx="658800" cy="64440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028000" y="4508640"/>
              <a:ext cx="658800" cy="6444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747880" y="2863800"/>
              <a:ext cx="658800" cy="64296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33760" y="3078000"/>
              <a:ext cx="658800" cy="64476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481560" y="2863800"/>
              <a:ext cx="879480" cy="858960"/>
            </a:xfrm>
            <a:prstGeom prst="rect">
              <a:avLst/>
            </a:prstGeom>
            <a:solidFill>
              <a:srgbClr val="f57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S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000920" y="2863800"/>
              <a:ext cx="880920" cy="858960"/>
            </a:xfrm>
            <a:prstGeom prst="rect">
              <a:avLst/>
            </a:prstGeom>
            <a:solidFill>
              <a:srgbClr val="f57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S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481560" y="4437000"/>
              <a:ext cx="879480" cy="85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 Narrow"/>
                </a:rPr>
                <a:t>cros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 Narrow"/>
                </a:rPr>
                <a:t>conn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747880" y="4508640"/>
              <a:ext cx="658800" cy="64440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433760" y="4508640"/>
              <a:ext cx="658800" cy="64440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22440" y="1233360"/>
              <a:ext cx="0" cy="4192560"/>
            </a:xfrm>
            <a:prstGeom prst="line">
              <a:avLst/>
            </a:prstGeom>
            <a:ln w="12600">
              <a:solidFill>
                <a:srgbClr val="91919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649520" y="1233360"/>
              <a:ext cx="0" cy="4192560"/>
            </a:xfrm>
            <a:prstGeom prst="line">
              <a:avLst/>
            </a:prstGeom>
            <a:ln w="12600">
              <a:solidFill>
                <a:srgbClr val="91919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951680" y="1233360"/>
              <a:ext cx="0" cy="4192560"/>
            </a:xfrm>
            <a:prstGeom prst="line">
              <a:avLst/>
            </a:prstGeom>
            <a:ln w="12600">
              <a:solidFill>
                <a:srgbClr val="91919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935520" y="2149560"/>
              <a:ext cx="2539800" cy="0"/>
            </a:xfrm>
            <a:prstGeom prst="line">
              <a:avLst/>
            </a:prstGeom>
            <a:ln w="12600">
              <a:solidFill>
                <a:srgbClr val="b50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101680" y="2149560"/>
              <a:ext cx="1879920" cy="0"/>
            </a:xfrm>
            <a:prstGeom prst="line">
              <a:avLst/>
            </a:prstGeom>
            <a:ln w="12600">
              <a:solidFill>
                <a:srgbClr val="b50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074600" y="2577960"/>
              <a:ext cx="7307280" cy="0"/>
            </a:xfrm>
            <a:prstGeom prst="line">
              <a:avLst/>
            </a:prstGeom>
            <a:ln w="12600">
              <a:solidFill>
                <a:srgbClr val="9234d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074600" y="2363760"/>
              <a:ext cx="1000440" cy="0"/>
            </a:xfrm>
            <a:prstGeom prst="line">
              <a:avLst/>
            </a:prstGeom>
            <a:ln w="12600">
              <a:solidFill>
                <a:srgbClr val="438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01680" y="2363760"/>
              <a:ext cx="4373640" cy="0"/>
            </a:xfrm>
            <a:prstGeom prst="line">
              <a:avLst/>
            </a:prstGeom>
            <a:ln w="12600">
              <a:solidFill>
                <a:srgbClr val="438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695920" y="3865680"/>
              <a:ext cx="924120" cy="0"/>
            </a:xfrm>
            <a:prstGeom prst="line">
              <a:avLst/>
            </a:prstGeom>
            <a:ln w="12600">
              <a:solidFill>
                <a:srgbClr val="b50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741920" y="3865680"/>
              <a:ext cx="927000" cy="0"/>
            </a:xfrm>
            <a:prstGeom prst="line">
              <a:avLst/>
            </a:prstGeom>
            <a:ln w="12600">
              <a:solidFill>
                <a:srgbClr val="b50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074600" y="4294080"/>
              <a:ext cx="7307280" cy="0"/>
            </a:xfrm>
            <a:prstGeom prst="line">
              <a:avLst/>
            </a:prstGeom>
            <a:ln w="12600">
              <a:solidFill>
                <a:srgbClr val="9234d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074600" y="4079880"/>
              <a:ext cx="1000440" cy="0"/>
            </a:xfrm>
            <a:prstGeom prst="line">
              <a:avLst/>
            </a:prstGeom>
            <a:ln w="12600">
              <a:solidFill>
                <a:srgbClr val="438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741920" y="4079880"/>
              <a:ext cx="1878120" cy="0"/>
            </a:xfrm>
            <a:prstGeom prst="line">
              <a:avLst/>
            </a:prstGeom>
            <a:ln w="12600">
              <a:solidFill>
                <a:srgbClr val="438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95920" y="5438880"/>
              <a:ext cx="906480" cy="0"/>
            </a:xfrm>
            <a:prstGeom prst="line">
              <a:avLst/>
            </a:prstGeom>
            <a:ln w="12600">
              <a:solidFill>
                <a:srgbClr val="b50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741920" y="5438880"/>
              <a:ext cx="927000" cy="0"/>
            </a:xfrm>
            <a:prstGeom prst="line">
              <a:avLst/>
            </a:prstGeom>
            <a:ln w="12600">
              <a:solidFill>
                <a:srgbClr val="b50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074600" y="5867280"/>
              <a:ext cx="7307280" cy="0"/>
            </a:xfrm>
            <a:prstGeom prst="line">
              <a:avLst/>
            </a:prstGeom>
            <a:ln w="12600">
              <a:solidFill>
                <a:srgbClr val="9234d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074600" y="5653080"/>
              <a:ext cx="1000440" cy="0"/>
            </a:xfrm>
            <a:prstGeom prst="line">
              <a:avLst/>
            </a:prstGeom>
            <a:ln w="12600">
              <a:solidFill>
                <a:srgbClr val="438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01680" y="5653080"/>
              <a:ext cx="998640" cy="0"/>
            </a:xfrm>
            <a:prstGeom prst="line">
              <a:avLst/>
            </a:prstGeom>
            <a:ln w="12600">
              <a:solidFill>
                <a:srgbClr val="438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01680" y="4079880"/>
              <a:ext cx="998640" cy="0"/>
            </a:xfrm>
            <a:prstGeom prst="line">
              <a:avLst/>
            </a:prstGeom>
            <a:ln w="12600">
              <a:solidFill>
                <a:srgbClr val="438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916360" y="2057400"/>
              <a:ext cx="147600" cy="152280"/>
            </a:xfrm>
            <a:prstGeom prst="rect">
              <a:avLst/>
            </a:pr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098960" y="2286000"/>
              <a:ext cx="147600" cy="15228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582560" y="2286000"/>
              <a:ext cx="149400" cy="15228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098960" y="2514600"/>
              <a:ext cx="147600" cy="15228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062680" y="2057400"/>
              <a:ext cx="147600" cy="152280"/>
            </a:xfrm>
            <a:prstGeom prst="rect">
              <a:avLst/>
            </a:pr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098960" y="4191120"/>
              <a:ext cx="147600" cy="15228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098960" y="5791320"/>
              <a:ext cx="147600" cy="15228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35400" y="3809880"/>
              <a:ext cx="147960" cy="152640"/>
            </a:xfrm>
            <a:prstGeom prst="rect">
              <a:avLst/>
            </a:pr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024600" y="3809880"/>
              <a:ext cx="147600" cy="152640"/>
            </a:xfrm>
            <a:prstGeom prst="rect">
              <a:avLst/>
            </a:pr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35400" y="5334120"/>
              <a:ext cx="147960" cy="152280"/>
            </a:xfrm>
            <a:prstGeom prst="rect">
              <a:avLst/>
            </a:pr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024600" y="5334120"/>
              <a:ext cx="147600" cy="152280"/>
            </a:xfrm>
            <a:prstGeom prst="rect">
              <a:avLst/>
            </a:pr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511280" y="3962520"/>
              <a:ext cx="147600" cy="15228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471760" y="3962520"/>
              <a:ext cx="147600" cy="15228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511280" y="5562720"/>
              <a:ext cx="147600" cy="15228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471760" y="5562720"/>
              <a:ext cx="147600" cy="15228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580000" y="3962520"/>
              <a:ext cx="147600" cy="15228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47120" y="3573360"/>
              <a:ext cx="317016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c0128"/>
                  </a:solidFill>
                  <a:latin typeface="Arial Narrow"/>
                </a:rPr>
                <a:t>en el caso de sistemas de tx basados en celda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c0128"/>
                  </a:solidFill>
                  <a:latin typeface="Arial Narrow"/>
                </a:rPr>
                <a:t>las funciones de F2 son soportadas por el flujo F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45320" y="5173560"/>
              <a:ext cx="30938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c0128"/>
                  </a:solidFill>
                  <a:latin typeface="Arial Narrow"/>
                </a:rPr>
                <a:t>en el caso de sistemas de tx basados en celdas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c0128"/>
                  </a:solidFill>
                  <a:latin typeface="Arial Narrow"/>
                </a:rPr>
                <a:t>está disponible un flujo F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113440" y="2585880"/>
              <a:ext cx="1228680" cy="8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c0128"/>
                  </a:solidFill>
                  <a:latin typeface="Arial Narrow"/>
                </a:rPr>
                <a:t>los flujos podrían estar implementados aún si no son despleg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006640" y="1108080"/>
              <a:ext cx="3186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234db"/>
                  </a:solidFill>
                  <a:latin typeface="Arial Narrow"/>
                </a:rPr>
                <a:t>T</a:t>
              </a:r>
              <a:r>
                <a:rPr b="1" lang="es-ES_tradnl" sz="1400" spc="-1" strike="noStrike" baseline="-25000">
                  <a:solidFill>
                    <a:srgbClr val="9234db"/>
                  </a:solidFill>
                  <a:latin typeface="Arial Narrow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972000" y="1108080"/>
              <a:ext cx="3261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38e00"/>
                  </a:solidFill>
                  <a:latin typeface="Arial Narrow"/>
                </a:rPr>
                <a:t>S</a:t>
              </a:r>
              <a:r>
                <a:rPr b="1" lang="es-ES_tradnl" sz="1400" spc="-1" strike="noStrike" baseline="-25000">
                  <a:solidFill>
                    <a:srgbClr val="438e00"/>
                  </a:solidFill>
                  <a:latin typeface="Arial Narrow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/>
          <p:nvPr/>
        </p:nvSpPr>
        <p:spPr>
          <a:xfrm>
            <a:off x="538200" y="255600"/>
            <a:ext cx="8134200" cy="68580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unciones OAM de Capa Física - Sistemas S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96800" y="1095480"/>
            <a:ext cx="965160" cy="11300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i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96800" y="2238480"/>
            <a:ext cx="965160" cy="11300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sec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regen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96800" y="3381480"/>
            <a:ext cx="965160" cy="11300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s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96800" y="4524480"/>
            <a:ext cx="965160" cy="14349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ayect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ansm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474920" y="1095480"/>
            <a:ext cx="1422360" cy="11300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u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474920" y="2238480"/>
            <a:ext cx="1422360" cy="11300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tec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señ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alinea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474920" y="3381480"/>
            <a:ext cx="1422360" cy="11300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monitor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 errores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la sección (B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474920" y="4524480"/>
            <a:ext cx="1422360" cy="14349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desacople de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tasa de cel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alineación de cel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monitorización 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estado de 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oper. del punt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de 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2909880" y="1095480"/>
            <a:ext cx="1422360" cy="11300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t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909880" y="2238480"/>
            <a:ext cx="1422360" cy="11300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érdida de señal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érdida de t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entrante en B-N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érdida de señal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érdida de t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entrante en B-N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909880" y="3381480"/>
            <a:ext cx="1422360" cy="11300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desempeño insuf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ciente de erro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entrante en B-N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desempeño insuf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ciente de erro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entrante en B-N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909880" y="4524480"/>
            <a:ext cx="1422360" cy="14349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falla de inserción / su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presión de celd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vacías en B-N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pérdida de sincronis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de celdas en B-N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CN no dispon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pérdida del puntero de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AU o AIS de tray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en B-N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344840" y="1552680"/>
            <a:ext cx="1422720" cy="67284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2 en la s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B-NT2&lt;-&gt;B-N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344840" y="2238480"/>
            <a:ext cx="1422720" cy="11300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MS-FERF para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B-N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MS-FERF para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B-N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344840" y="3381480"/>
            <a:ext cx="1422720" cy="11300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MS-FERF para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B-N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MS-FERF para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B-N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344840" y="4524480"/>
            <a:ext cx="1422720" cy="14349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780160" y="1552680"/>
            <a:ext cx="1422360" cy="67284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s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B-NT1&lt;-&gt;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780160" y="2238480"/>
            <a:ext cx="1422360" cy="11300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la capacidad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reportar falla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unto de referencia T</a:t>
            </a:r>
            <a:r>
              <a:rPr b="1" lang="es-ES_tradnl" sz="1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a la interfaz Q debe 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soportada por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equ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5780160" y="3381480"/>
            <a:ext cx="1422360" cy="11300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la capacidad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reportar falla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unto de referencia T</a:t>
            </a:r>
            <a:r>
              <a:rPr b="1" lang="es-ES_tradnl" sz="1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a la interfaz Q debe 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soportada por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equ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5780160" y="4524480"/>
            <a:ext cx="1422360" cy="14349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la capacidad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reportar falla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unto de referencia T</a:t>
            </a:r>
            <a:r>
              <a:rPr b="1" lang="es-ES_tradnl" sz="1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a la interfaz Q debe 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soportada por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equ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215120" y="1552680"/>
            <a:ext cx="1498680" cy="67284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 Narrow"/>
              </a:rPr>
              <a:t>F3 en el tramo ent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 Narrow"/>
              </a:rPr>
              <a:t>la B-NT2 y la termina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 Narrow"/>
              </a:rPr>
              <a:t>del  trayecto de t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215120" y="2238480"/>
            <a:ext cx="1498680" cy="11300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AIS de trayecto h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la terminación de t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de tx (de la B-NT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AIS de trayecto h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la terminación de t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de tx (de la B-NT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215120" y="3381480"/>
            <a:ext cx="1498680" cy="1130040"/>
          </a:xfrm>
          <a:prstGeom prst="rect">
            <a:avLst/>
          </a:prstGeom>
          <a:solidFill>
            <a:srgbClr val="cf0e3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AIS de trayecto h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la terminación de t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de tx (de la B-NT1)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uede ser desactiv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215120" y="4524480"/>
            <a:ext cx="1498680" cy="143496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para estudios pos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FERF de tray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AIS de tray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AIS de tray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AIS de trayecto  hacia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terminación de t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de 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344840" y="1095480"/>
            <a:ext cx="4368960" cy="44424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ormaciones de fallas y protección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ansmitidas en el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698400" y="324000"/>
            <a:ext cx="7905960" cy="685800"/>
          </a:xfrm>
          <a:prstGeom prst="roundRect">
            <a:avLst>
              <a:gd name="adj" fmla="val 12486"/>
            </a:avLst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unciones OAM - Sistemas Baseados en Cel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85640" y="1187280"/>
            <a:ext cx="965160" cy="113040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i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85640" y="2330280"/>
            <a:ext cx="965160" cy="18162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sec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regen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85640" y="4159080"/>
            <a:ext cx="965160" cy="18925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ayect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ansm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463760" y="1187280"/>
            <a:ext cx="1422360" cy="113040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u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463760" y="2330280"/>
            <a:ext cx="1422360" cy="18162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detecció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señal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recono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de cel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PL-O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monitorizació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rr. de s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463760" y="4159080"/>
            <a:ext cx="1422360" cy="18925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desacople de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tasa de cel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recon. de cel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PL-O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alineación de cel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monitorización d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de 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898720" y="1187280"/>
            <a:ext cx="1422360" cy="113040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t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898720" y="2330280"/>
            <a:ext cx="1422360" cy="18162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pérdida de señal 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pérdida de reconocim.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celdas de F1 PL-O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entrantes en B-N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pérdida de señal 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pérdida de reconocim.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celdas de F1 PL-O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entrantes en B-N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desempeño de err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inaceptable en B-N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desempeño de err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inaceptable en B-N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898720" y="4159080"/>
            <a:ext cx="1422360" cy="18925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falla de inserción / su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presión de celd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vazias en B-N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pérdida de reconocim.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celdas de F3 PL-O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entrantes en B-NT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pérdida de alineación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celdas en B-NT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CN no dispon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334040" y="1644480"/>
            <a:ext cx="1422360" cy="67320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2 en la s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B-NT2&lt;-&gt;B-N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334040" y="2330280"/>
            <a:ext cx="1422360" cy="18162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FERF de sección para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B-N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FERF de sección para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B-N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FERF de sección para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B-N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FERF de sección para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B-N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334040" y="4159080"/>
            <a:ext cx="1422360" cy="18925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769000" y="1644480"/>
            <a:ext cx="1422360" cy="67320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s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B-NT1&lt;-&gt;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5769000" y="2330280"/>
            <a:ext cx="1422360" cy="18162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la capacidad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reportar falla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unto de referencia T</a:t>
            </a:r>
            <a:r>
              <a:rPr b="1" lang="es-ES_tradnl" sz="1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a la interfaz Q debe 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soportada por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equ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769000" y="4159080"/>
            <a:ext cx="1422360" cy="18925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la capacidad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reportar fallas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punto de referencia T</a:t>
            </a:r>
            <a:r>
              <a:rPr b="1" lang="es-ES_tradnl" sz="1400" spc="-1" strike="noStrike" baseline="-25000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a la interfaz Q debe 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soportada por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equ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03960" y="1644480"/>
            <a:ext cx="1498680" cy="67320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 Narrow"/>
              </a:rPr>
              <a:t>F3 en el  tramo ent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 Narrow"/>
              </a:rPr>
              <a:t>la B-NT2 y la termina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Arial Narrow"/>
              </a:rPr>
              <a:t>del trayecto de t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203960" y="2330280"/>
            <a:ext cx="1498680" cy="18162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AIS de trayecto h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la terminación de t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de tx (de la B-NT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FERF de trayecto hac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la terminación de tr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de tx (de la B-NT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AIS de trayecto h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la terminación de t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de tx (de la B-NT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1" lang="es-ES_tradnl" sz="1200" spc="-1" strike="noStrike">
                <a:solidFill>
                  <a:srgbClr val="ffffff"/>
                </a:solidFill>
                <a:latin typeface="Arial Narrow"/>
              </a:rPr>
              <a:t>----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203960" y="4159080"/>
            <a:ext cx="1498680" cy="189252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para estudios pos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FERF de tray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FERF de tray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 Narrow"/>
              </a:rPr>
              <a:t>AIS de tray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334040" y="1187280"/>
            <a:ext cx="4368600" cy="44460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informaciones de fallas y protección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ansmitidas en el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"/>
          <p:cNvSpPr txBox="1"/>
          <p:nvPr/>
        </p:nvSpPr>
        <p:spPr>
          <a:xfrm>
            <a:off x="684000" y="338040"/>
            <a:ext cx="626616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lujos de OAM de Capa ATM: F4 y F5 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493560" y="1469880"/>
            <a:ext cx="8158320" cy="4481640"/>
            <a:chOff x="493560" y="1469880"/>
            <a:chExt cx="8158320" cy="4481640"/>
          </a:xfrm>
        </p:grpSpPr>
        <p:sp>
          <p:nvSpPr>
            <p:cNvPr id="1875" name=""/>
            <p:cNvSpPr/>
            <p:nvPr/>
          </p:nvSpPr>
          <p:spPr>
            <a:xfrm>
              <a:off x="5541840" y="5030640"/>
              <a:ext cx="250668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74640" y="5030640"/>
              <a:ext cx="483408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236000" y="3457440"/>
              <a:ext cx="8125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74640" y="3457440"/>
              <a:ext cx="34909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611680" y="3672000"/>
              <a:ext cx="14479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057560" y="3672000"/>
              <a:ext cx="145116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74640" y="1955880"/>
              <a:ext cx="34909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268880" y="1955880"/>
              <a:ext cx="349560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33400" y="1598760"/>
              <a:ext cx="636480" cy="64440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-N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20880" y="1598760"/>
              <a:ext cx="636480" cy="64440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-N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054840" y="1598760"/>
              <a:ext cx="631800" cy="64440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815240" y="1598760"/>
              <a:ext cx="635040" cy="6444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33400" y="3100320"/>
              <a:ext cx="636480" cy="64296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-N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820880" y="3100320"/>
              <a:ext cx="636480" cy="64296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-N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122880" y="3314880"/>
              <a:ext cx="633600" cy="64440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815240" y="3100320"/>
              <a:ext cx="635040" cy="642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33400" y="4745160"/>
              <a:ext cx="636480" cy="64440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-N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820880" y="4745160"/>
              <a:ext cx="636480" cy="64440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-N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122880" y="4745160"/>
              <a:ext cx="633600" cy="64440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815240" y="4745160"/>
              <a:ext cx="635040" cy="6444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36720" y="3100320"/>
              <a:ext cx="633600" cy="64296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359240" y="3314880"/>
              <a:ext cx="635040" cy="64440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441600" y="3100320"/>
              <a:ext cx="846360" cy="858960"/>
            </a:xfrm>
            <a:prstGeom prst="rect">
              <a:avLst/>
            </a:prstGeom>
            <a:solidFill>
              <a:srgbClr val="f57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899400" y="3100320"/>
              <a:ext cx="847440" cy="858960"/>
            </a:xfrm>
            <a:prstGeom prst="rect">
              <a:avLst/>
            </a:prstGeom>
            <a:solidFill>
              <a:srgbClr val="f57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441600" y="4673520"/>
              <a:ext cx="846360" cy="85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 Narrow"/>
                </a:rPr>
                <a:t>cros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 Narrow"/>
                </a:rPr>
                <a:t>conn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V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736720" y="4745160"/>
              <a:ext cx="633600" cy="64440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359240" y="4745160"/>
              <a:ext cx="635040" cy="644400"/>
            </a:xfrm>
            <a:prstGeom prst="rect">
              <a:avLst/>
            </a:pr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93720" y="1469880"/>
              <a:ext cx="0" cy="4192560"/>
            </a:xfrm>
            <a:prstGeom prst="line">
              <a:avLst/>
            </a:prstGeom>
            <a:ln w="12600">
              <a:solidFill>
                <a:srgbClr val="91919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679400" y="1469880"/>
              <a:ext cx="0" cy="4192560"/>
            </a:xfrm>
            <a:prstGeom prst="line">
              <a:avLst/>
            </a:prstGeom>
            <a:ln w="12600">
              <a:solidFill>
                <a:srgbClr val="91919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819840" y="1469880"/>
              <a:ext cx="0" cy="4192560"/>
            </a:xfrm>
            <a:prstGeom prst="line">
              <a:avLst/>
            </a:prstGeom>
            <a:ln w="12600">
              <a:solidFill>
                <a:srgbClr val="919191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135080" y="2386080"/>
              <a:ext cx="7020000" cy="0"/>
            </a:xfrm>
            <a:prstGeom prst="line">
              <a:avLst/>
            </a:prstGeom>
            <a:ln w="12600">
              <a:solidFill>
                <a:srgbClr val="b50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93560" y="2600280"/>
              <a:ext cx="757440" cy="0"/>
            </a:xfrm>
            <a:prstGeom prst="line">
              <a:avLst/>
            </a:prstGeom>
            <a:ln w="12600">
              <a:solidFill>
                <a:srgbClr val="438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78000" y="2600280"/>
              <a:ext cx="7373880" cy="0"/>
            </a:xfrm>
            <a:prstGeom prst="line">
              <a:avLst/>
            </a:prstGeom>
            <a:ln w="12600">
              <a:solidFill>
                <a:srgbClr val="438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135080" y="4102200"/>
              <a:ext cx="7020000" cy="0"/>
            </a:xfrm>
            <a:prstGeom prst="line">
              <a:avLst/>
            </a:prstGeom>
            <a:ln w="12600">
              <a:solidFill>
                <a:srgbClr val="b50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93560" y="4316400"/>
              <a:ext cx="8158320" cy="0"/>
            </a:xfrm>
            <a:prstGeom prst="line">
              <a:avLst/>
            </a:prstGeom>
            <a:ln w="12600">
              <a:solidFill>
                <a:srgbClr val="438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206360" y="5675400"/>
              <a:ext cx="6877080" cy="0"/>
            </a:xfrm>
            <a:prstGeom prst="line">
              <a:avLst/>
            </a:prstGeom>
            <a:ln w="12600">
              <a:solidFill>
                <a:srgbClr val="b50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93560" y="5889600"/>
              <a:ext cx="828720" cy="0"/>
            </a:xfrm>
            <a:prstGeom prst="line">
              <a:avLst/>
            </a:prstGeom>
            <a:ln w="12600">
              <a:solidFill>
                <a:srgbClr val="438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349280" y="5889600"/>
              <a:ext cx="7302600" cy="0"/>
            </a:xfrm>
            <a:prstGeom prst="line">
              <a:avLst/>
            </a:prstGeom>
            <a:ln w="12600">
              <a:solidFill>
                <a:srgbClr val="438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110120" y="2293920"/>
              <a:ext cx="139680" cy="152280"/>
            </a:xfrm>
            <a:prstGeom prst="rect">
              <a:avLst/>
            </a:pr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038480" y="2522520"/>
              <a:ext cx="142920" cy="15228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462640" y="4046400"/>
              <a:ext cx="139680" cy="152640"/>
            </a:xfrm>
            <a:prstGeom prst="rect">
              <a:avLst/>
            </a:pr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462640" y="5570640"/>
              <a:ext cx="139680" cy="152280"/>
            </a:xfrm>
            <a:prstGeom prst="rect">
              <a:avLst/>
            </a:pr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464000" y="4199040"/>
              <a:ext cx="144360" cy="15228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464000" y="5799240"/>
              <a:ext cx="144360" cy="15228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F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654440" y="2819520"/>
              <a:ext cx="2089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c0128"/>
                  </a:solidFill>
                  <a:latin typeface="Arial Narrow"/>
                </a:rPr>
                <a:t>mux ATM sin terminación de V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4335480" y="2968560"/>
              <a:ext cx="330120" cy="1764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 flipV="1">
              <a:off x="6587640" y="2968560"/>
              <a:ext cx="381240" cy="1764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unciones de OAM de la Capa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923" name=""/>
          <p:cNvSpPr/>
          <p:nvPr/>
        </p:nvSpPr>
        <p:spPr>
          <a:xfrm>
            <a:off x="598320" y="1442880"/>
            <a:ext cx="935280" cy="98748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n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598320" y="2443320"/>
            <a:ext cx="935280" cy="15872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a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598320" y="4043520"/>
            <a:ext cx="935280" cy="165384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v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546200" y="1442880"/>
            <a:ext cx="2286000" cy="98748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546200" y="2443320"/>
            <a:ext cx="2286000" cy="15872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monitorización 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sponibilidad del tra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monitoriza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semp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546200" y="4043520"/>
            <a:ext cx="2286000" cy="165384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monitorización 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sponibilidad del ca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monitoriza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semp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44800" y="1442880"/>
            <a:ext cx="719280" cy="98748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844800" y="2443320"/>
            <a:ext cx="719280" cy="15872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844800" y="4043520"/>
            <a:ext cx="719280" cy="165384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F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565520" y="1442880"/>
            <a:ext cx="2235240" cy="98748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etec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alla / def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565520" y="2443320"/>
            <a:ext cx="2235240" cy="15872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trayecto indispon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sempeño degrad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565520" y="4043520"/>
            <a:ext cx="2235240" cy="165384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anal indispon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sempeño degrad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813720" y="1442880"/>
            <a:ext cx="1815840" cy="98748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informacion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protección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istema y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813720" y="2443320"/>
            <a:ext cx="1815840" cy="15872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tud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posteri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13720" y="4043520"/>
            <a:ext cx="1815840" cy="1653840"/>
          </a:xfrm>
          <a:prstGeom prst="rect">
            <a:avLst/>
          </a:prstGeom>
          <a:solidFill>
            <a:srgbClr val="b500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stud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posteri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Funciones Especiales de OAM de la Capa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Prueba de continuidad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as celdas de verificación de continuidad son enviadas de una terminación de trayecto o canal cuando no se ha recibido celdas de usuario en un periodo </a:t>
            </a:r>
            <a:r>
              <a:rPr b="1" lang="es-ES_tradnl" sz="2600" spc="-1" strike="noStrike" u="sng">
                <a:solidFill>
                  <a:srgbClr val="00279f"/>
                </a:solidFill>
                <a:uFillTx/>
                <a:latin typeface="Arial Narrow"/>
              </a:rPr>
              <a:t>t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y no hay indicación de falla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Monitorización de desempeño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realizada a través de la inserción de celdas especiales de monitorización, trás </a:t>
            </a:r>
            <a:r>
              <a:rPr b="1" lang="es-ES_tradnl" sz="2600" spc="-1" strike="noStrike" u="sng">
                <a:solidFill>
                  <a:srgbClr val="00279f"/>
                </a:solidFill>
                <a:uFillTx/>
                <a:latin typeface="Arial Narrow"/>
              </a:rPr>
              <a:t>N</a:t>
            </a: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 (N = 128, 256, 512 o 1024 celdas) celdas de usuario o trás una solicitud (no tardando en emitirse más que N/2 celdas trás la solicitud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los resultados son recibidos en celdas de reporte para trás, enviadas por el extremo opuesto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afd00"/>
                </a:solidFill>
                <a:latin typeface="Arial Narrow"/>
              </a:rPr>
              <a:t>Formato Genérico de Celdas de OAM de la Capa ATM</a:t>
            </a:r>
            <a:endParaRPr b="1" lang="en-US" sz="30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941" name=""/>
          <p:cNvSpPr/>
          <p:nvPr/>
        </p:nvSpPr>
        <p:spPr>
          <a:xfrm>
            <a:off x="539640" y="2216160"/>
            <a:ext cx="993960" cy="1054080"/>
          </a:xfrm>
          <a:prstGeom prst="rect">
            <a:avLst/>
          </a:prstGeom>
          <a:gradFill rotWithShape="0">
            <a:gsLst>
              <a:gs pos="0">
                <a:srgbClr val="8f0921"/>
              </a:gs>
              <a:gs pos="50000">
                <a:srgbClr val="cf0e30"/>
              </a:gs>
              <a:gs pos="100000">
                <a:srgbClr val="8f092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ncabe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e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774800" y="2216160"/>
            <a:ext cx="6067440" cy="10540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8dba65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mpo específico de la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546200" y="2216160"/>
            <a:ext cx="216000" cy="1054080"/>
          </a:xfrm>
          <a:prstGeom prst="rect">
            <a:avLst/>
          </a:prstGeom>
          <a:gradFill rotWithShape="0">
            <a:gsLst>
              <a:gs pos="0">
                <a:srgbClr val="98b17f"/>
              </a:gs>
              <a:gs pos="50000">
                <a:srgbClr val="dbffb8"/>
              </a:gs>
              <a:gs pos="100000">
                <a:srgbClr val="98b17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8099280" y="2216160"/>
            <a:ext cx="216000" cy="1054080"/>
          </a:xfrm>
          <a:prstGeom prst="rect">
            <a:avLst/>
          </a:prstGeom>
          <a:gradFill rotWithShape="0">
            <a:gsLst>
              <a:gs pos="0">
                <a:srgbClr val="98b17f"/>
              </a:gs>
              <a:gs pos="50000">
                <a:srgbClr val="dbffb8"/>
              </a:gs>
              <a:gs pos="100000">
                <a:srgbClr val="98b17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7870680" y="2216160"/>
            <a:ext cx="216000" cy="1054080"/>
          </a:xfrm>
          <a:prstGeom prst="rect">
            <a:avLst/>
          </a:prstGeom>
          <a:gradFill rotWithShape="0">
            <a:gsLst>
              <a:gs pos="0">
                <a:srgbClr val="98b17f"/>
              </a:gs>
              <a:gs pos="50000">
                <a:srgbClr val="dbffb8"/>
              </a:gs>
              <a:gs pos="100000">
                <a:srgbClr val="98b17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860400" y="4121280"/>
            <a:ext cx="749160" cy="1054080"/>
          </a:xfrm>
          <a:prstGeom prst="rect">
            <a:avLst/>
          </a:prstGeom>
          <a:gradFill rotWithShape="0">
            <a:gsLst>
              <a:gs pos="0">
                <a:srgbClr val="98b17f"/>
              </a:gs>
              <a:gs pos="50000">
                <a:srgbClr val="dbffb8"/>
              </a:gs>
              <a:gs pos="100000">
                <a:srgbClr val="98b17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38e00"/>
                </a:solidFill>
                <a:latin typeface="Arial Narrow"/>
              </a:rPr>
              <a:t>tip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38e00"/>
                </a:solidFill>
                <a:latin typeface="Arial Narrow"/>
              </a:rPr>
              <a:t>O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622520" y="4121280"/>
            <a:ext cx="749160" cy="1054080"/>
          </a:xfrm>
          <a:prstGeom prst="rect">
            <a:avLst/>
          </a:prstGeom>
          <a:gradFill rotWithShape="0">
            <a:gsLst>
              <a:gs pos="0">
                <a:srgbClr val="98b17f"/>
              </a:gs>
              <a:gs pos="50000">
                <a:srgbClr val="dbffb8"/>
              </a:gs>
              <a:gs pos="100000">
                <a:srgbClr val="98b17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38e00"/>
                </a:solidFill>
                <a:latin typeface="Arial Narrow"/>
              </a:rPr>
              <a:t>tip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38e00"/>
                </a:solidFill>
                <a:latin typeface="Arial Narrow"/>
              </a:rPr>
              <a:t>fu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804000" y="4273560"/>
            <a:ext cx="1892160" cy="1054080"/>
          </a:xfrm>
          <a:prstGeom prst="rect">
            <a:avLst/>
          </a:prstGeom>
          <a:gradFill rotWithShape="0">
            <a:gsLst>
              <a:gs pos="0">
                <a:srgbClr val="98b17f"/>
              </a:gs>
              <a:gs pos="50000">
                <a:srgbClr val="dbffb8"/>
              </a:gs>
              <a:gs pos="100000">
                <a:srgbClr val="98b17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38e00"/>
                </a:solidFill>
                <a:latin typeface="Arial Narrow"/>
              </a:rPr>
              <a:t>EDC (</a:t>
            </a:r>
            <a:r>
              <a:rPr b="1" i="1" lang="es-ES_tradnl" sz="1600" spc="-1" strike="noStrike">
                <a:solidFill>
                  <a:srgbClr val="438e00"/>
                </a:solidFill>
                <a:latin typeface="Arial Narrow"/>
              </a:rPr>
              <a:t>error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438e00"/>
                </a:solidFill>
                <a:latin typeface="Arial Narrow"/>
              </a:rPr>
              <a:t>code</a:t>
            </a:r>
            <a:r>
              <a:rPr b="1" lang="es-ES_tradnl" sz="1600" spc="-1" strike="noStrike">
                <a:solidFill>
                  <a:srgbClr val="438e00"/>
                </a:solidFill>
                <a:latin typeface="Arial Narrow"/>
              </a:rPr>
              <a:t>) de CRC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661000" y="4273560"/>
            <a:ext cx="1130400" cy="1054080"/>
          </a:xfrm>
          <a:prstGeom prst="rect">
            <a:avLst/>
          </a:prstGeom>
          <a:gradFill rotWithShape="0">
            <a:gsLst>
              <a:gs pos="0">
                <a:srgbClr val="98b17f"/>
              </a:gs>
              <a:gs pos="50000">
                <a:srgbClr val="dbffb8"/>
              </a:gs>
              <a:gs pos="100000">
                <a:srgbClr val="98b17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38e00"/>
                </a:solidFill>
                <a:latin typeface="Arial Narrow"/>
              </a:rPr>
              <a:t>reser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38e00"/>
                </a:solidFill>
                <a:latin typeface="Arial Narrow"/>
              </a:rPr>
              <a:t>para u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38e00"/>
                </a:solidFill>
                <a:latin typeface="Arial Narrow"/>
              </a:rPr>
              <a:t>futu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842760" y="3290760"/>
            <a:ext cx="556920" cy="811440"/>
          </a:xfrm>
          <a:prstGeom prst="line">
            <a:avLst/>
          </a:prstGeom>
          <a:ln w="12600">
            <a:solidFill>
              <a:srgbClr val="438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630440" y="3290760"/>
            <a:ext cx="734760" cy="811440"/>
          </a:xfrm>
          <a:prstGeom prst="line">
            <a:avLst/>
          </a:prstGeom>
          <a:ln w="12600">
            <a:solidFill>
              <a:srgbClr val="438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5729400" y="3265560"/>
            <a:ext cx="2106360" cy="1014480"/>
          </a:xfrm>
          <a:prstGeom prst="line">
            <a:avLst/>
          </a:prstGeom>
          <a:ln w="12600">
            <a:solidFill>
              <a:srgbClr val="438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8319960" y="3290760"/>
            <a:ext cx="354240" cy="963720"/>
          </a:xfrm>
          <a:prstGeom prst="line">
            <a:avLst/>
          </a:prstGeom>
          <a:ln w="12600">
            <a:solidFill>
              <a:srgbClr val="438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869720" y="1898640"/>
            <a:ext cx="848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45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55640" y="189864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5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 rot="16200000">
            <a:off x="1291680" y="2585880"/>
            <a:ext cx="66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234db"/>
                </a:solidFill>
                <a:latin typeface="Arial Narrow"/>
              </a:rPr>
              <a:t>1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rot="16200000">
            <a:off x="7692120" y="258588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234db"/>
                </a:solidFill>
                <a:latin typeface="Arial Narrow"/>
              </a:rPr>
              <a:t>2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984960" y="5175360"/>
            <a:ext cx="61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4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670760" y="5175360"/>
            <a:ext cx="61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4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938200" y="5327640"/>
            <a:ext cx="61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6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309440" y="5327640"/>
            <a:ext cx="708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00093"/>
                </a:solidFill>
                <a:latin typeface="Arial Narrow"/>
              </a:rPr>
              <a:t>10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Tipos y Funciones de las Celdas OAM (cont.)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96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Gestión de fallas (tipo 0001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AIS (0000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RDI / FERF (0001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verificación de continuidad (0100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bucle (1000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Gestión de desempeño (tipo 0010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onitorización hacia adelante (0000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reporte hacia atrás (0001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onitoreo y reporte (0010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marL="285840" indent="-285840">
              <a:lnSpc>
                <a:spcPct val="95000"/>
              </a:lnSpc>
              <a:buClr>
                <a:srgbClr val="dc0081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79f"/>
                </a:solidFill>
                <a:latin typeface="Arial Narrow"/>
              </a:rPr>
              <a:t>Activación / desactivación (1000)</a:t>
            </a:r>
            <a:endParaRPr b="1" lang="en-US" sz="28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monitorización de desempeño (0000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  <a:p>
            <a:pPr lvl="1" marL="685800" indent="-228600">
              <a:lnSpc>
                <a:spcPct val="95000"/>
              </a:lnSpc>
              <a:buClr>
                <a:srgbClr val="438e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279f"/>
                </a:solidFill>
                <a:latin typeface="Arial Narrow"/>
              </a:rPr>
              <a:t>verificación de continuidad (0001)</a:t>
            </a:r>
            <a:endParaRPr b="1" lang="en-US" sz="2600" spc="-1" strike="noStrike">
              <a:solidFill>
                <a:srgbClr val="00279f"/>
              </a:solidFill>
              <a:latin typeface="Arial Narrow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"/>
          <p:cNvSpPr txBox="1"/>
          <p:nvPr/>
        </p:nvSpPr>
        <p:spPr>
          <a:xfrm>
            <a:off x="681120" y="335520"/>
            <a:ext cx="5993640" cy="77688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afd00"/>
                </a:solidFill>
                <a:latin typeface="Arial Narrow"/>
              </a:rPr>
              <a:t>Formato Genérico de Celdas de OAM de la Capa ATM</a:t>
            </a:r>
            <a:endParaRPr b="1" lang="en-US" sz="30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965" name=""/>
          <p:cNvSpPr/>
          <p:nvPr/>
        </p:nvSpPr>
        <p:spPr>
          <a:xfrm>
            <a:off x="539640" y="2978280"/>
            <a:ext cx="69876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tip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(op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522360" y="2071800"/>
            <a:ext cx="877680" cy="963360"/>
          </a:xfrm>
          <a:prstGeom prst="line">
            <a:avLst/>
          </a:prstGeom>
          <a:ln w="12600">
            <a:solidFill>
              <a:srgbClr val="438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567480" y="2071800"/>
            <a:ext cx="2106720" cy="887400"/>
          </a:xfrm>
          <a:prstGeom prst="line">
            <a:avLst/>
          </a:prstGeom>
          <a:ln w="12600">
            <a:solidFill>
              <a:srgbClr val="438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55480" y="1351080"/>
            <a:ext cx="627120" cy="699840"/>
          </a:xfrm>
          <a:prstGeom prst="rect">
            <a:avLst/>
          </a:prstGeom>
          <a:gradFill rotWithShape="0">
            <a:gsLst>
              <a:gs pos="0">
                <a:srgbClr val="8f0921"/>
              </a:gs>
              <a:gs pos="50000">
                <a:srgbClr val="cf0e30"/>
              </a:gs>
              <a:gs pos="100000">
                <a:srgbClr val="8f0921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enca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ce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355760" y="1351080"/>
            <a:ext cx="5164200" cy="69984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mpo específico de la fu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195560" y="1351080"/>
            <a:ext cx="147600" cy="699840"/>
          </a:xfrm>
          <a:prstGeom prst="rect">
            <a:avLst/>
          </a:prstGeom>
          <a:gradFill rotWithShape="0">
            <a:gsLst>
              <a:gs pos="0">
                <a:srgbClr val="98b17f"/>
              </a:gs>
              <a:gs pos="50000">
                <a:srgbClr val="dbffb8"/>
              </a:gs>
              <a:gs pos="100000">
                <a:srgbClr val="98b17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691320" y="1351080"/>
            <a:ext cx="147600" cy="699840"/>
          </a:xfrm>
          <a:prstGeom prst="rect">
            <a:avLst/>
          </a:prstGeom>
          <a:gradFill rotWithShape="0">
            <a:gsLst>
              <a:gs pos="0">
                <a:srgbClr val="98b17f"/>
              </a:gs>
              <a:gs pos="50000">
                <a:srgbClr val="dbffb8"/>
              </a:gs>
              <a:gs pos="100000">
                <a:srgbClr val="98b17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532560" y="1351080"/>
            <a:ext cx="146160" cy="699840"/>
          </a:xfrm>
          <a:prstGeom prst="rect">
            <a:avLst/>
          </a:prstGeom>
          <a:gradFill rotWithShape="0">
            <a:gsLst>
              <a:gs pos="0">
                <a:srgbClr val="98b17f"/>
              </a:gs>
              <a:gs pos="50000">
                <a:srgbClr val="dbffb8"/>
              </a:gs>
              <a:gs pos="100000">
                <a:srgbClr val="98b17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494160" y="11430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500093"/>
                </a:solidFill>
                <a:latin typeface="Arial Narrow"/>
              </a:rPr>
              <a:t>45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60440" y="1143000"/>
            <a:ext cx="68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500093"/>
                </a:solidFill>
                <a:latin typeface="Arial Narrow"/>
              </a:rPr>
              <a:t>5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rot="16200000">
            <a:off x="990720" y="1578240"/>
            <a:ext cx="54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234db"/>
                </a:solidFill>
                <a:latin typeface="Arial Narrow"/>
              </a:rPr>
              <a:t>1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rot="16200000">
            <a:off x="6380280" y="1578240"/>
            <a:ext cx="61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234db"/>
                </a:solidFill>
                <a:latin typeface="Arial Narrow"/>
              </a:rPr>
              <a:t>2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1225440" y="2978280"/>
            <a:ext cx="204336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localización de la 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(opc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206880" y="2978280"/>
            <a:ext cx="549108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octetos no utilizados (6A 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39640" y="3968640"/>
            <a:ext cx="67320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MC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(módu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25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597040" y="3968640"/>
            <a:ext cx="120672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BIP-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39640" y="4959360"/>
            <a:ext cx="52092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ID 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me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1073160" y="4959360"/>
            <a:ext cx="13968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444760" y="4959360"/>
            <a:ext cx="623556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octetos no utilizados (6A 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225440" y="3968640"/>
            <a:ext cx="135900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TU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i="1" lang="es-ES_tradnl" sz="1400" spc="-1" strike="noStrike">
                <a:solidFill>
                  <a:srgbClr val="ffffff"/>
                </a:solidFill>
                <a:latin typeface="Arial Narrow"/>
              </a:rPr>
              <a:t>total user cell no.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816360" y="3968640"/>
            <a:ext cx="196848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TS (</a:t>
            </a:r>
            <a:r>
              <a:rPr b="1" i="1" lang="es-ES_tradnl" sz="1400" spc="-1" strike="noStrike">
                <a:solidFill>
                  <a:srgbClr val="ffffff"/>
                </a:solidFill>
                <a:latin typeface="Arial Narrow"/>
              </a:rPr>
              <a:t>time stamp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(opc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6026040" y="3968640"/>
            <a:ext cx="59688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resul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de er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blo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635880" y="3968640"/>
            <a:ext cx="204444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conteo de celdas perdidas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mal insert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8229600" y="2971800"/>
            <a:ext cx="160200" cy="611280"/>
          </a:xfrm>
          <a:custGeom>
            <a:avLst/>
            <a:gdLst/>
            <a:ahLst/>
            <a:rect l="l" t="t" r="r" b="b"/>
            <a:pathLst>
              <a:path w="101" h="385">
                <a:moveTo>
                  <a:pt x="0" y="0"/>
                </a:moveTo>
                <a:lnTo>
                  <a:pt x="50" y="48"/>
                </a:lnTo>
                <a:lnTo>
                  <a:pt x="0" y="96"/>
                </a:lnTo>
                <a:lnTo>
                  <a:pt x="50" y="192"/>
                </a:lnTo>
                <a:lnTo>
                  <a:pt x="0" y="240"/>
                </a:lnTo>
                <a:lnTo>
                  <a:pt x="100" y="33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5797440" y="3968640"/>
            <a:ext cx="21600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867280" y="3962520"/>
            <a:ext cx="160560" cy="610920"/>
          </a:xfrm>
          <a:custGeom>
            <a:avLst/>
            <a:gdLst/>
            <a:ahLst/>
            <a:rect l="l" t="t" r="r" b="b"/>
            <a:pathLst>
              <a:path w="101" h="385">
                <a:moveTo>
                  <a:pt x="0" y="0"/>
                </a:moveTo>
                <a:lnTo>
                  <a:pt x="50" y="48"/>
                </a:lnTo>
                <a:lnTo>
                  <a:pt x="0" y="96"/>
                </a:lnTo>
                <a:lnTo>
                  <a:pt x="50" y="192"/>
                </a:lnTo>
                <a:lnTo>
                  <a:pt x="0" y="240"/>
                </a:lnTo>
                <a:lnTo>
                  <a:pt x="100" y="33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149520" y="3598920"/>
            <a:ext cx="2110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38e00"/>
                </a:solidFill>
                <a:latin typeface="Arial Narrow"/>
              </a:rPr>
              <a:t>octetos no utilizados (6A 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rot="5400000">
            <a:off x="5960160" y="3657240"/>
            <a:ext cx="430920" cy="58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438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576800" y="2760840"/>
            <a:ext cx="282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500093"/>
                </a:solidFill>
                <a:latin typeface="Arial Narrow"/>
              </a:rPr>
              <a:t>celdas de gestión de fallas AIS / FE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1576080" y="3751200"/>
            <a:ext cx="2996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500093"/>
                </a:solidFill>
                <a:latin typeface="Arial Narrow"/>
              </a:rPr>
              <a:t>celdas de monitorización de desemp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576080" y="4741920"/>
            <a:ext cx="3858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500093"/>
                </a:solidFill>
                <a:latin typeface="Arial Narrow"/>
              </a:rPr>
              <a:t>celdas de activación / desactivación de función O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225440" y="4959360"/>
            <a:ext cx="59688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tiqu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de co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re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835280" y="4959360"/>
            <a:ext cx="29196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2139840" y="4959360"/>
            <a:ext cx="292320" cy="596880"/>
          </a:xfrm>
          <a:prstGeom prst="rect">
            <a:avLst/>
          </a:prstGeom>
          <a:gradFill rotWithShape="0">
            <a:gsLst>
              <a:gs pos="0">
                <a:srgbClr val="438e00"/>
              </a:gs>
              <a:gs pos="50000">
                <a:srgbClr val="68a332"/>
              </a:gs>
              <a:gs pos="100000">
                <a:srgbClr val="438e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12640" y="5786280"/>
            <a:ext cx="17812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38e00"/>
                </a:solidFill>
                <a:latin typeface="Arial Narrow"/>
              </a:rPr>
              <a:t>sentidos de 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38e00"/>
                </a:solidFill>
                <a:latin typeface="Arial Narrow"/>
              </a:rPr>
              <a:t>(donde activar/desac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490480" y="5732640"/>
            <a:ext cx="4363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38e00"/>
                </a:solidFill>
                <a:latin typeface="Arial Narrow"/>
              </a:rPr>
              <a:t>tamaños de bloques de la PM (</a:t>
            </a:r>
            <a:r>
              <a:rPr b="1" i="1" lang="es-ES_tradnl" sz="1400" spc="-1" strike="noStrike">
                <a:solidFill>
                  <a:srgbClr val="438e00"/>
                </a:solidFill>
                <a:latin typeface="Arial Narrow"/>
              </a:rPr>
              <a:t>performance monitoring</a:t>
            </a:r>
            <a:r>
              <a:rPr b="1" lang="es-ES_tradnl" sz="1400" spc="-1" strike="noStrike">
                <a:solidFill>
                  <a:srgbClr val="438e00"/>
                </a:solidFill>
                <a:latin typeface="Arial Narrow"/>
              </a:rPr>
              <a:t>) B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262600" y="5961240"/>
            <a:ext cx="2532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38e00"/>
                </a:solidFill>
                <a:latin typeface="Arial Narrow"/>
              </a:rPr>
              <a:t>tamaños de bloques de la PM A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rot="10800000">
            <a:off x="876600" y="5524560"/>
            <a:ext cx="431640" cy="58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38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rot="5400000">
            <a:off x="1771920" y="5232240"/>
            <a:ext cx="1002600" cy="62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38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rot="5400000">
            <a:off x="2210400" y="5232240"/>
            <a:ext cx="659880" cy="58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438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8229600" y="4952880"/>
            <a:ext cx="160200" cy="611280"/>
          </a:xfrm>
          <a:custGeom>
            <a:avLst/>
            <a:gdLst/>
            <a:ahLst/>
            <a:rect l="l" t="t" r="r" b="b"/>
            <a:pathLst>
              <a:path w="101" h="385">
                <a:moveTo>
                  <a:pt x="0" y="0"/>
                </a:moveTo>
                <a:lnTo>
                  <a:pt x="50" y="48"/>
                </a:lnTo>
                <a:lnTo>
                  <a:pt x="0" y="96"/>
                </a:lnTo>
                <a:lnTo>
                  <a:pt x="50" y="192"/>
                </a:lnTo>
                <a:lnTo>
                  <a:pt x="0" y="240"/>
                </a:lnTo>
                <a:lnTo>
                  <a:pt x="100" y="33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741240" y="3522600"/>
            <a:ext cx="26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2112840" y="3522600"/>
            <a:ext cx="506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9 x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542200" y="3522600"/>
            <a:ext cx="586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35 x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008680" y="4513320"/>
            <a:ext cx="482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741240" y="4535640"/>
            <a:ext cx="27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808280" y="4535640"/>
            <a:ext cx="482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027240" y="4535640"/>
            <a:ext cx="482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227640" y="4535640"/>
            <a:ext cx="27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751880" y="4535640"/>
            <a:ext cx="482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694480" y="4513320"/>
            <a:ext cx="42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2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741240" y="5526000"/>
            <a:ext cx="27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046160" y="5526000"/>
            <a:ext cx="27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351080" y="5526000"/>
            <a:ext cx="27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1731960" y="5526000"/>
            <a:ext cx="27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036880" y="5526000"/>
            <a:ext cx="27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618160" y="5526000"/>
            <a:ext cx="558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Arial Narrow"/>
              </a:rPr>
              <a:t>3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/>
          <p:nvPr/>
        </p:nvSpPr>
        <p:spPr>
          <a:xfrm>
            <a:off x="1995480" y="5638680"/>
            <a:ext cx="81108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1690560" y="2057400"/>
            <a:ext cx="66024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 txBox="1"/>
          <p:nvPr/>
        </p:nvSpPr>
        <p:spPr>
          <a:xfrm>
            <a:off x="683640" y="338040"/>
            <a:ext cx="5988600" cy="848160"/>
          </a:xfrm>
          <a:prstGeom prst="rect">
            <a:avLst/>
          </a:prstGeom>
          <a:gradFill rotWithShape="0">
            <a:gsLst>
              <a:gs pos="0">
                <a:srgbClr val="794900"/>
              </a:gs>
              <a:gs pos="50000">
                <a:srgbClr val="885200"/>
              </a:gs>
              <a:gs pos="100000">
                <a:srgbClr val="794900"/>
              </a:gs>
            </a:gsLst>
            <a:lin ang="135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Posibilidades de </a:t>
            </a:r>
            <a:r>
              <a:rPr b="1" i="1" lang="es-ES_tradnl" sz="3200" spc="-1" strike="noStrike">
                <a:solidFill>
                  <a:srgbClr val="fafd00"/>
                </a:solidFill>
                <a:latin typeface="Arial Narrow"/>
              </a:rPr>
              <a:t>Loopback </a:t>
            </a:r>
            <a:r>
              <a:rPr b="1" lang="es-ES_tradnl" sz="3200" spc="-1" strike="noStrike">
                <a:solidFill>
                  <a:srgbClr val="fafd00"/>
                </a:solidFill>
                <a:latin typeface="Arial Narrow"/>
              </a:rPr>
              <a:t>de la Capa ATM</a:t>
            </a:r>
            <a:endParaRPr b="1" lang="en-US" sz="3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025" name=""/>
          <p:cNvSpPr/>
          <p:nvPr/>
        </p:nvSpPr>
        <p:spPr>
          <a:xfrm>
            <a:off x="1606680" y="198756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758960" y="19875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435480" y="19875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587760" y="19875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730760" y="19875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883040" y="19875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026040" y="19875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6178680" y="19875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8083440" y="19875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8236080" y="198756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590920" y="1309680"/>
            <a:ext cx="0" cy="3935520"/>
          </a:xfrm>
          <a:prstGeom prst="line">
            <a:avLst/>
          </a:prstGeom>
          <a:ln w="12600">
            <a:solidFill>
              <a:srgbClr val="618f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162920" y="1309680"/>
            <a:ext cx="0" cy="3935520"/>
          </a:xfrm>
          <a:prstGeom prst="line">
            <a:avLst/>
          </a:prstGeom>
          <a:ln w="12600">
            <a:solidFill>
              <a:srgbClr val="618f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690560" y="2971800"/>
            <a:ext cx="66024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606680" y="290196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758960" y="29019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435480" y="29019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587760" y="29019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730760" y="29019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883040" y="29019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6026040" y="29019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178680" y="29019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8083440" y="29019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8236080" y="290196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690560" y="3886200"/>
            <a:ext cx="66024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606680" y="381636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758960" y="38163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435480" y="38163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587760" y="38163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730760" y="38163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883040" y="38163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026040" y="38163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178680" y="38163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8083440" y="38163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8236080" y="381636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690560" y="4800600"/>
            <a:ext cx="66024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606680" y="473076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758960" y="47307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435480" y="47307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587760" y="47307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730760" y="47307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883040" y="47307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6026040" y="47307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178680" y="47307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8083440" y="473076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8236080" y="473076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64920" y="1846440"/>
            <a:ext cx="63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500093"/>
                </a:solidFill>
                <a:latin typeface="Arial Narrow"/>
              </a:rPr>
              <a:t>cas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64920" y="2836800"/>
            <a:ext cx="63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500093"/>
                </a:solidFill>
                <a:latin typeface="Arial Narrow"/>
              </a:rPr>
              <a:t>cas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664920" y="3751200"/>
            <a:ext cx="63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500093"/>
                </a:solidFill>
                <a:latin typeface="Arial Narrow"/>
              </a:rPr>
              <a:t>cas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64920" y="4665600"/>
            <a:ext cx="63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500093"/>
                </a:solidFill>
                <a:latin typeface="Arial Narrow"/>
              </a:rPr>
              <a:t>caso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911240" y="556884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749680" y="5568840"/>
            <a:ext cx="139680" cy="139680"/>
          </a:xfrm>
          <a:prstGeom prst="ellipse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995480" y="6019920"/>
            <a:ext cx="81108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911240" y="595008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2749680" y="5950080"/>
            <a:ext cx="139680" cy="13968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803160" y="5504040"/>
            <a:ext cx="1115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500093"/>
                </a:solidFill>
                <a:latin typeface="Arial Narrow"/>
              </a:rPr>
              <a:t>enlace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63840" y="588492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500093"/>
                </a:solidFill>
                <a:latin typeface="Arial Narrow"/>
              </a:rPr>
              <a:t>conexión 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731960" y="1236600"/>
            <a:ext cx="530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38e00"/>
                </a:solidFill>
                <a:latin typeface="Arial Narrow"/>
              </a:rPr>
              <a:t>red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4398840" y="1236600"/>
            <a:ext cx="530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38e00"/>
                </a:solidFill>
                <a:latin typeface="Arial Narrow"/>
              </a:rPr>
              <a:t>re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7446960" y="1236600"/>
            <a:ext cx="530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38e00"/>
                </a:solidFill>
                <a:latin typeface="Arial Narrow"/>
              </a:rPr>
              <a:t>red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4" name=""/>
          <p:cNvGrpSpPr/>
          <p:nvPr/>
        </p:nvGrpSpPr>
        <p:grpSpPr>
          <a:xfrm>
            <a:off x="1613160" y="1768320"/>
            <a:ext cx="4561920" cy="596520"/>
            <a:chOff x="1613160" y="1768320"/>
            <a:chExt cx="4561920" cy="596520"/>
          </a:xfrm>
        </p:grpSpPr>
        <p:sp>
          <p:nvSpPr>
            <p:cNvPr id="2085" name=""/>
            <p:cNvSpPr/>
            <p:nvPr/>
          </p:nvSpPr>
          <p:spPr>
            <a:xfrm>
              <a:off x="1613160" y="1768320"/>
              <a:ext cx="4546080" cy="58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8" y="0"/>
                  </a:moveTo>
                  <a:arcTo wR="10800" hR="10800" stAng="-5397599" swAng="539759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8" y="0"/>
                  </a:moveTo>
                  <a:arcTo wR="10800" hR="10800" stAng="-5397599" swAng="5397599"/>
                </a:path>
              </a:pathLst>
            </a:custGeom>
            <a:noFill/>
            <a:ln cap="rnd" w="1260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rot="10800000">
              <a:off x="1628640" y="1780920"/>
              <a:ext cx="4546440" cy="58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1"/>
                  </a:moveTo>
                  <a:arcTo wR="10800" hR="10800" stAng="-10781317" swAng="53789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1"/>
                  </a:moveTo>
                  <a:arcTo wR="10800" hR="10800" stAng="-10781317" swAng="5378916"/>
                </a:path>
              </a:pathLst>
            </a:custGeom>
            <a:noFill/>
            <a:ln cap="rnd" w="1260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-4559040" y="2759040"/>
            <a:ext cx="12791520" cy="444600"/>
            <a:chOff x="-4559040" y="2759040"/>
            <a:chExt cx="12791520" cy="444600"/>
          </a:xfrm>
        </p:grpSpPr>
        <p:sp>
          <p:nvSpPr>
            <p:cNvPr id="2088" name=""/>
            <p:cNvSpPr/>
            <p:nvPr/>
          </p:nvSpPr>
          <p:spPr>
            <a:xfrm>
              <a:off x="-4559040" y="2759040"/>
              <a:ext cx="12775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1" y="0"/>
                  </a:moveTo>
                  <a:arcTo wR="10800" hR="10800" stAng="-5396582" swAng="53965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1" y="0"/>
                  </a:moveTo>
                  <a:arcTo wR="10800" hR="10800" stAng="-5396582" swAng="5396582"/>
                </a:path>
              </a:pathLst>
            </a:custGeom>
            <a:noFill/>
            <a:ln cap="rnd" w="1260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10800000">
              <a:off x="-4543560" y="2771640"/>
              <a:ext cx="12776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1"/>
                  </a:moveTo>
                  <a:arcTo wR="10800" hR="10800" stAng="-10774723" swAng="53738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1"/>
                  </a:moveTo>
                  <a:arcTo wR="10800" hR="10800" stAng="-10774723" swAng="5373869"/>
                </a:path>
              </a:pathLst>
            </a:custGeom>
            <a:noFill/>
            <a:ln cap="rnd" w="1260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4889520" y="3673440"/>
            <a:ext cx="3343320" cy="444600"/>
            <a:chOff x="4889520" y="3673440"/>
            <a:chExt cx="3343320" cy="444600"/>
          </a:xfrm>
        </p:grpSpPr>
        <p:sp>
          <p:nvSpPr>
            <p:cNvPr id="2091" name=""/>
            <p:cNvSpPr/>
            <p:nvPr/>
          </p:nvSpPr>
          <p:spPr>
            <a:xfrm>
              <a:off x="4889520" y="3673440"/>
              <a:ext cx="3327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2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20" swAng="5396720"/>
                </a:path>
              </a:pathLst>
            </a:custGeom>
            <a:noFill/>
            <a:ln cap="rnd" w="1260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10800000">
              <a:off x="4905360" y="3686400"/>
              <a:ext cx="3327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1"/>
                  </a:moveTo>
                  <a:arcTo wR="10800" hR="10800" stAng="-10774723" swAng="53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1"/>
                  </a:moveTo>
                  <a:arcTo wR="10800" hR="10800" stAng="-10774723" swAng="5371443"/>
                </a:path>
              </a:pathLst>
            </a:custGeom>
            <a:noFill/>
            <a:ln cap="rnd" w="1260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1537200" y="4587840"/>
            <a:ext cx="6695640" cy="444600"/>
            <a:chOff x="1537200" y="4587840"/>
            <a:chExt cx="6695640" cy="444600"/>
          </a:xfrm>
        </p:grpSpPr>
        <p:sp>
          <p:nvSpPr>
            <p:cNvPr id="2094" name=""/>
            <p:cNvSpPr/>
            <p:nvPr/>
          </p:nvSpPr>
          <p:spPr>
            <a:xfrm>
              <a:off x="1537200" y="4587840"/>
              <a:ext cx="6679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32" swAng="5396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32" swAng="5396732"/>
                </a:path>
              </a:pathLst>
            </a:custGeom>
            <a:noFill/>
            <a:ln cap="rnd" w="1260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rot="10800000">
              <a:off x="1553040" y="4600440"/>
              <a:ext cx="66798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1"/>
                  </a:moveTo>
                  <a:arcTo wR="10800" hR="10800" stAng="-10774723" swAng="537308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1"/>
                  </a:moveTo>
                  <a:arcTo wR="10800" hR="10800" stAng="-10774723" swAng="5373089"/>
                </a:path>
              </a:pathLst>
            </a:custGeom>
            <a:noFill/>
            <a:ln cap="rnd" w="1260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1752840" y="4587840"/>
            <a:ext cx="6695280" cy="444600"/>
            <a:chOff x="1752840" y="4587840"/>
            <a:chExt cx="6695280" cy="444600"/>
          </a:xfrm>
        </p:grpSpPr>
        <p:sp>
          <p:nvSpPr>
            <p:cNvPr id="2097" name=""/>
            <p:cNvSpPr/>
            <p:nvPr/>
          </p:nvSpPr>
          <p:spPr>
            <a:xfrm>
              <a:off x="1768320" y="4587840"/>
              <a:ext cx="66798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1"/>
                  </a:moveTo>
                  <a:arcTo wR="10800" hR="10800" stAng="-10774723" swAng="537308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1"/>
                  </a:moveTo>
                  <a:arcTo wR="10800" hR="10800" stAng="-10774723" swAng="5373089"/>
                </a:path>
              </a:pathLst>
            </a:custGeom>
            <a:noFill/>
            <a:ln cap="rnd" w="1260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rot="10800000">
              <a:off x="1752840" y="4600440"/>
              <a:ext cx="6679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32" swAng="5396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32" swAng="5396732"/>
                </a:path>
              </a:pathLst>
            </a:custGeom>
            <a:noFill/>
            <a:ln cap="rnd" w="1260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"/>
          <p:cNvSpPr/>
          <p:nvPr/>
        </p:nvSpPr>
        <p:spPr>
          <a:xfrm flipH="1">
            <a:off x="3494160" y="1752480"/>
            <a:ext cx="480960" cy="0"/>
          </a:xfrm>
          <a:prstGeom prst="line">
            <a:avLst/>
          </a:prstGeom>
          <a:ln w="12600">
            <a:solidFill>
              <a:srgbClr val="60c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3494160" y="2362320"/>
            <a:ext cx="480960" cy="0"/>
          </a:xfrm>
          <a:prstGeom prst="line">
            <a:avLst/>
          </a:prstGeom>
          <a:ln w="12600">
            <a:solidFill>
              <a:srgbClr val="60c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512360" y="2743200"/>
            <a:ext cx="481320" cy="0"/>
          </a:xfrm>
          <a:prstGeom prst="line">
            <a:avLst/>
          </a:prstGeom>
          <a:ln w="12600">
            <a:solidFill>
              <a:srgbClr val="60c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H="1">
            <a:off x="1436760" y="3200400"/>
            <a:ext cx="480960" cy="0"/>
          </a:xfrm>
          <a:prstGeom prst="line">
            <a:avLst/>
          </a:prstGeom>
          <a:ln w="12600">
            <a:solidFill>
              <a:srgbClr val="60c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6161040" y="3657600"/>
            <a:ext cx="480960" cy="0"/>
          </a:xfrm>
          <a:prstGeom prst="line">
            <a:avLst/>
          </a:prstGeom>
          <a:ln w="12600">
            <a:solidFill>
              <a:srgbClr val="60c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6084360" y="4114800"/>
            <a:ext cx="481320" cy="0"/>
          </a:xfrm>
          <a:prstGeom prst="line">
            <a:avLst/>
          </a:prstGeom>
          <a:ln w="12600">
            <a:solidFill>
              <a:srgbClr val="60c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648320" y="4495680"/>
            <a:ext cx="609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 rot="16200000">
            <a:off x="5044680" y="3991320"/>
            <a:ext cx="584280" cy="58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1"/>
                </a:moveTo>
                <a:arcTo wR="10800" hR="10800" stAng="-10781317" swAng="5362634"/>
                <a:lnTo>
                  <a:pt x="10800" y="10800"/>
                </a:lnTo>
                <a:close/>
              </a:path>
              <a:path fill="none" w="21600" h="21600">
                <a:moveTo>
                  <a:pt x="0" y="10741"/>
                </a:moveTo>
                <a:arcTo wR="10800" hR="10800" stAng="-10781317" swAng="5362634"/>
              </a:path>
            </a:pathLst>
          </a:custGeom>
          <a:noFill/>
          <a:ln cap="rnd" w="12600">
            <a:solidFill>
              <a:srgbClr val="60c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 rot="10800000">
            <a:off x="4372200" y="3990960"/>
            <a:ext cx="583560" cy="58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1"/>
                </a:moveTo>
                <a:arcTo wR="10800" hR="10800" stAng="-10781317" swAng="5362634"/>
                <a:lnTo>
                  <a:pt x="10800" y="10800"/>
                </a:lnTo>
                <a:close/>
              </a:path>
              <a:path fill="none" w="21600" h="21600">
                <a:moveTo>
                  <a:pt x="0" y="10741"/>
                </a:moveTo>
                <a:arcTo wR="10800" hR="10800" stAng="-10781317" swAng="5362634"/>
              </a:path>
            </a:pathLst>
          </a:custGeom>
          <a:noFill/>
          <a:ln cap="rnd" w="12600">
            <a:solidFill>
              <a:srgbClr val="60c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646000" y="1565280"/>
            <a:ext cx="89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ae00"/>
                </a:solidFill>
                <a:latin typeface="Arial Narrow"/>
              </a:rPr>
              <a:t>celdas O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646000" y="2251080"/>
            <a:ext cx="89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ae00"/>
                </a:solidFill>
                <a:latin typeface="Arial Narrow"/>
              </a:rPr>
              <a:t>celdas O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64920" y="2556000"/>
            <a:ext cx="89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ae00"/>
                </a:solidFill>
                <a:latin typeface="Arial Narrow"/>
              </a:rPr>
              <a:t>celdas O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64920" y="3089160"/>
            <a:ext cx="89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ae00"/>
                </a:solidFill>
                <a:latin typeface="Arial Narrow"/>
              </a:rPr>
              <a:t>celdas O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236920" y="3470400"/>
            <a:ext cx="89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ae00"/>
                </a:solidFill>
                <a:latin typeface="Arial Narrow"/>
              </a:rPr>
              <a:t>celdas O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236920" y="4003560"/>
            <a:ext cx="89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ae00"/>
                </a:solidFill>
                <a:latin typeface="Arial Narrow"/>
              </a:rPr>
              <a:t>celdas O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474800" y="4079880"/>
            <a:ext cx="899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ae00"/>
                </a:solidFill>
                <a:latin typeface="Arial Narrow"/>
              </a:rPr>
              <a:t>celdas O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5:43:20Z</dcterms:created>
  <dc:creator>Cristiano Ferraz</dc:creator>
  <dc:description>versión para España, mayo 96</dc:description>
  <cp:keywords>ATM SMDS</cp:keywords>
  <dc:language>en-US</dc:language>
  <cp:lastModifiedBy>Mario Arturo Rossell</cp:lastModifiedBy>
  <cp:lastPrinted>1996-05-20T18:59:40Z</cp:lastPrinted>
  <dcterms:modified xsi:type="dcterms:W3CDTF">1998-03-26T15:33:13Z</dcterms:modified>
  <cp:revision>1</cp:revision>
  <dc:subject>ATM</dc:subject>
  <dc:title>actualización ATM</dc:title>
</cp:coreProperties>
</file>